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3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428760" y="1054080"/>
            <a:ext cx="6863760" cy="5400720"/>
            <a:chOff x="428760" y="1054080"/>
            <a:chExt cx="6863760" cy="5400720"/>
          </a:xfrm>
        </p:grpSpPr>
        <p:sp>
          <p:nvSpPr>
            <p:cNvPr id="39" name=""/>
            <p:cNvSpPr/>
            <p:nvPr/>
          </p:nvSpPr>
          <p:spPr>
            <a:xfrm>
              <a:off x="428760" y="1054080"/>
              <a:ext cx="6863760" cy="5400720"/>
            </a:xfrm>
            <a:prstGeom prst="roundRect">
              <a:avLst>
                <a:gd name="adj" fmla="val 151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07600" y="1198440"/>
              <a:ext cx="6705720" cy="52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416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30112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6064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198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97968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0" y="263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00" y="407844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7600" y="551808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7600" y="119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93680" y="551808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31960" y="5446800"/>
            <a:ext cx="668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  <a:ea typeface="メイリオ"/>
              </a:rPr>
              <a:t>ファーストビュ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1240" y="981000"/>
            <a:ext cx="623916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5880" y="76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メイリオ"/>
              </a:rPr>
              <a:t>1000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800" y="404640"/>
            <a:ext cx="9245880" cy="36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タイト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90120" y="1890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メイリオ"/>
              </a:rPr>
              <a:t>201x/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5640" y="455760"/>
            <a:ext cx="10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素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05640" y="1028880"/>
            <a:ext cx="220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28760" y="1054080"/>
            <a:ext cx="6863760" cy="5400720"/>
            <a:chOff x="428760" y="1054080"/>
            <a:chExt cx="6863760" cy="5400720"/>
          </a:xfrm>
        </p:grpSpPr>
        <p:sp>
          <p:nvSpPr>
            <p:cNvPr id="59" name=""/>
            <p:cNvSpPr/>
            <p:nvPr/>
          </p:nvSpPr>
          <p:spPr>
            <a:xfrm>
              <a:off x="428760" y="1054080"/>
              <a:ext cx="6863760" cy="5400720"/>
            </a:xfrm>
            <a:prstGeom prst="roundRect">
              <a:avLst>
                <a:gd name="adj" fmla="val 151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600" y="1198440"/>
              <a:ext cx="6705720" cy="52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16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112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6064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98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7968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600" y="263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600" y="407844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7600" y="551808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600" y="119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41240" y="1198440"/>
            <a:ext cx="6239160" cy="5749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124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7560" y="1773360"/>
            <a:ext cx="124920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676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ニュ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83080" y="1773360"/>
            <a:ext cx="124956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入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3408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1240" y="2062080"/>
            <a:ext cx="6239160" cy="2160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パンくずリ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4880" y="2422440"/>
            <a:ext cx="5771880" cy="12240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メインビジュア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1240" y="3862440"/>
            <a:ext cx="4680000" cy="1368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ニュ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76760" y="3862440"/>
            <a:ext cx="1403640" cy="1368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トピック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3680" y="551808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1960" y="5446800"/>
            <a:ext cx="668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  <a:ea typeface="メイリオ"/>
              </a:rPr>
              <a:t>ファーストビュ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1240" y="981000"/>
            <a:ext cx="623916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75880" y="76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メイリオ"/>
              </a:rPr>
              <a:t>1000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6520" y="127008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内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5950080"/>
            <a:ext cx="6239160" cy="288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フッタメニュ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1240" y="6238800"/>
            <a:ext cx="6239160" cy="289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コピーライ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45120" y="1270080"/>
            <a:ext cx="85896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マッ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64280" y="580716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ホーム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22880" y="5807160"/>
            <a:ext cx="85752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ージトップ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800" y="404640"/>
            <a:ext cx="9245880" cy="36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トップ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90120" y="1890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メイリオ"/>
              </a:rPr>
              <a:t>201x/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5640" y="1028880"/>
            <a:ext cx="220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幅は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00px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程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メインビジュアルは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で制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5640" y="455760"/>
            <a:ext cx="10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素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28760" y="1054080"/>
            <a:ext cx="6863760" cy="5400720"/>
            <a:chOff x="428760" y="1054080"/>
            <a:chExt cx="6863760" cy="5400720"/>
          </a:xfrm>
        </p:grpSpPr>
        <p:sp>
          <p:nvSpPr>
            <p:cNvPr id="95" name=""/>
            <p:cNvSpPr/>
            <p:nvPr/>
          </p:nvSpPr>
          <p:spPr>
            <a:xfrm>
              <a:off x="428760" y="1054080"/>
              <a:ext cx="6863760" cy="5400720"/>
            </a:xfrm>
            <a:prstGeom prst="roundRect">
              <a:avLst>
                <a:gd name="adj" fmla="val 151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7600" y="1198440"/>
              <a:ext cx="6705720" cy="52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16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112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6064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98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7968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600" y="263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600" y="407844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7600" y="551808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7600" y="119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41240" y="1198440"/>
            <a:ext cx="6239160" cy="5749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240" y="1773360"/>
            <a:ext cx="1246320" cy="2872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7560" y="1773360"/>
            <a:ext cx="124920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676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ニュ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83080" y="1773360"/>
            <a:ext cx="124956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入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3408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1240" y="2062080"/>
            <a:ext cx="6239160" cy="2160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パンくずリ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4520" y="242100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社長メッセ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3680" y="551808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1960" y="5446800"/>
            <a:ext cx="668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  <a:ea typeface="メイリオ"/>
              </a:rPr>
              <a:t>ファーストビュ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1240" y="981000"/>
            <a:ext cx="623916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75880" y="76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メイリオ"/>
              </a:rPr>
              <a:t>1000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6520" y="127008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内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1240" y="5950080"/>
            <a:ext cx="6239160" cy="288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フッタメニュ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240" y="6238800"/>
            <a:ext cx="6239160" cy="289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コピーライ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45120" y="1270080"/>
            <a:ext cx="85896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マッ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64280" y="580716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ホーム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22880" y="5807160"/>
            <a:ext cx="85752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ージトップ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04640"/>
            <a:ext cx="9245880" cy="36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90120" y="1890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メイリオ"/>
              </a:rPr>
              <a:t>201x/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05640" y="1028880"/>
            <a:ext cx="220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社長の写真は上半身笑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地図ページは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Google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マップ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5640" y="455760"/>
            <a:ext cx="10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素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4520" y="278136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5320" y="2421000"/>
            <a:ext cx="460548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4520" y="314172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沿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4520" y="350028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地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5320" y="3068640"/>
            <a:ext cx="4605480" cy="2232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社長メッセ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94280" y="3068640"/>
            <a:ext cx="1403280" cy="12970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社長写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8760" y="1054080"/>
            <a:ext cx="6863760" cy="5400720"/>
            <a:chOff x="428760" y="1054080"/>
            <a:chExt cx="6863760" cy="5400720"/>
          </a:xfrm>
        </p:grpSpPr>
        <p:sp>
          <p:nvSpPr>
            <p:cNvPr id="135" name=""/>
            <p:cNvSpPr/>
            <p:nvPr/>
          </p:nvSpPr>
          <p:spPr>
            <a:xfrm>
              <a:off x="428760" y="1054080"/>
              <a:ext cx="6863760" cy="5400720"/>
            </a:xfrm>
            <a:prstGeom prst="roundRect">
              <a:avLst>
                <a:gd name="adj" fmla="val 151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600" y="1198440"/>
              <a:ext cx="6705720" cy="52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6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0112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6064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198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968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600" y="263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7600" y="407844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600" y="551808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600" y="119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41240" y="1198440"/>
            <a:ext cx="6239160" cy="5749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124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7560" y="1773360"/>
            <a:ext cx="1249200" cy="2872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3676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ニュ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773360"/>
            <a:ext cx="124956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入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3408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1240" y="2062080"/>
            <a:ext cx="6239160" cy="2160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パンくずリ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4520" y="242100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3680" y="551808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31960" y="5446800"/>
            <a:ext cx="668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  <a:ea typeface="メイリオ"/>
              </a:rPr>
              <a:t>ファーストビュ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1240" y="981000"/>
            <a:ext cx="623916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75880" y="76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メイリオ"/>
              </a:rPr>
              <a:t>1000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6520" y="127008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内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1240" y="5950080"/>
            <a:ext cx="6239160" cy="288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フッタメニュ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1240" y="6238800"/>
            <a:ext cx="6239160" cy="289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コピーライ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45120" y="1270080"/>
            <a:ext cx="85896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マッ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64280" y="580716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ホーム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22880" y="5807160"/>
            <a:ext cx="85752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ージトップ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800" y="404640"/>
            <a:ext cx="9245880" cy="36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90120" y="1890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メイリオ"/>
              </a:rPr>
              <a:t>201x/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028880"/>
            <a:ext cx="22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事業イメージをクリックすると詳細ページへジャン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5640" y="455760"/>
            <a:ext cx="10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素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4520" y="278136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5320" y="2421000"/>
            <a:ext cx="460548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4520" y="314172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4520" y="350028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5320" y="3068640"/>
            <a:ext cx="140652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１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95320" y="3645000"/>
            <a:ext cx="140652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１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94280" y="3068640"/>
            <a:ext cx="140652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３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94280" y="3645000"/>
            <a:ext cx="140652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３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57360" y="3068640"/>
            <a:ext cx="140508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２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57360" y="3645000"/>
            <a:ext cx="140508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２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95320" y="4365720"/>
            <a:ext cx="140652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４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5320" y="4941720"/>
            <a:ext cx="140652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４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4280" y="4365720"/>
            <a:ext cx="140652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６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4280" y="4941720"/>
            <a:ext cx="140652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６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4365720"/>
            <a:ext cx="1405080" cy="576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５イメー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57360" y="4941720"/>
            <a:ext cx="140508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５説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4520" y="386064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4520" y="422100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4520" y="457992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28760" y="1054080"/>
            <a:ext cx="6863760" cy="5400720"/>
            <a:chOff x="428760" y="1054080"/>
            <a:chExt cx="6863760" cy="5400720"/>
          </a:xfrm>
        </p:grpSpPr>
        <p:sp>
          <p:nvSpPr>
            <p:cNvPr id="188" name=""/>
            <p:cNvSpPr/>
            <p:nvPr/>
          </p:nvSpPr>
          <p:spPr>
            <a:xfrm>
              <a:off x="428760" y="1054080"/>
              <a:ext cx="6863760" cy="5400720"/>
            </a:xfrm>
            <a:prstGeom prst="roundRect">
              <a:avLst>
                <a:gd name="adj" fmla="val 1514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600" y="1198440"/>
              <a:ext cx="6705720" cy="52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16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112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064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980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79680" y="1198440"/>
              <a:ext cx="0" cy="522000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600" y="263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7600" y="407844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600" y="5518080"/>
              <a:ext cx="670716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7600" y="1198440"/>
              <a:ext cx="6705720" cy="0"/>
            </a:xfrm>
            <a:prstGeom prst="line">
              <a:avLst/>
            </a:prstGeom>
            <a:ln w="324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41240" y="1198440"/>
            <a:ext cx="6239160" cy="5749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124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会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7560" y="1773360"/>
            <a:ext cx="124920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事業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36760" y="1773360"/>
            <a:ext cx="124632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ニュ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83080" y="1773360"/>
            <a:ext cx="1249560" cy="2872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入社案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34080" y="1773360"/>
            <a:ext cx="1246320" cy="28728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1240" y="2062080"/>
            <a:ext cx="6239160" cy="2160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パンくずリ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4520" y="242100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" y="551808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1960" y="5446800"/>
            <a:ext cx="668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  <a:ea typeface="メイリオ"/>
              </a:rPr>
              <a:t>ファーストビュ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1240" y="981000"/>
            <a:ext cx="623916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5880" y="76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メイリオ"/>
              </a:rPr>
              <a:t>1000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6520" y="127008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内検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1240" y="5950080"/>
            <a:ext cx="6239160" cy="288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フッタメニュ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6238800"/>
            <a:ext cx="6239160" cy="289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コピーライ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45120" y="1270080"/>
            <a:ext cx="85896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マッ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4280" y="5807160"/>
            <a:ext cx="85860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ホーム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22880" y="5807160"/>
            <a:ext cx="857520" cy="1443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メイリオ"/>
              </a:rPr>
              <a:t>ページトップ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800" y="404640"/>
            <a:ext cx="9245880" cy="36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90120" y="1890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メイリオ"/>
              </a:rPr>
              <a:t>201x/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05640" y="1028880"/>
            <a:ext cx="22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メイリ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問合せフォームは個人情報の詳細な入力は不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15640" y="455760"/>
            <a:ext cx="10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サイト素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278136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F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95320" y="2421000"/>
            <a:ext cx="4605480" cy="576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タイト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95320" y="3068640"/>
            <a:ext cx="4605480" cy="22320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お問合せフォー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名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メールアドレ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送信ボタ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4520" y="3141720"/>
            <a:ext cx="1325880" cy="3603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メールフォー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3-03-26T01:39:39Z</dcterms:modified>
  <cp:revision>1</cp:revision>
  <dc:subject>PPT223_Webサイト素案作成サンプル</dc:subject>
  <dc:title>PPT223_Webサイト素案作成サンプル</dc:title>
</cp:coreProperties>
</file>