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722160" y="2438280"/>
            <a:ext cx="8461440" cy="3781440"/>
            <a:chOff x="722160" y="2438280"/>
            <a:chExt cx="8461440" cy="3781440"/>
          </a:xfrm>
        </p:grpSpPr>
        <p:sp>
          <p:nvSpPr>
            <p:cNvPr id="38" name=""/>
            <p:cNvSpPr/>
            <p:nvPr/>
          </p:nvSpPr>
          <p:spPr>
            <a:xfrm>
              <a:off x="722160" y="2438280"/>
              <a:ext cx="8461440" cy="3781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0800000">
              <a:off x="901440" y="2518560"/>
              <a:ext cx="8102520" cy="362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622520" y="2840040"/>
              <a:ext cx="6661080" cy="2978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0800000">
              <a:off x="1757160" y="2899800"/>
              <a:ext cx="6391080" cy="2857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635200" y="3292560"/>
              <a:ext cx="4635720" cy="2071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0800000">
              <a:off x="2728800" y="3335040"/>
              <a:ext cx="4448160" cy="1989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95560" y="3855960"/>
              <a:ext cx="2116440" cy="946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0800000">
              <a:off x="3938760" y="3875040"/>
              <a:ext cx="2030400" cy="907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18160" y="4224240"/>
              <a:ext cx="469800" cy="209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4727160" y="4229280"/>
              <a:ext cx="4510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22160" y="2438280"/>
            <a:ext cx="8461440" cy="3781440"/>
            <a:chOff x="722160" y="2438280"/>
            <a:chExt cx="8461440" cy="3781440"/>
          </a:xfrm>
        </p:grpSpPr>
        <p:sp>
          <p:nvSpPr>
            <p:cNvPr id="50" name=""/>
            <p:cNvSpPr/>
            <p:nvPr/>
          </p:nvSpPr>
          <p:spPr>
            <a:xfrm>
              <a:off x="722160" y="2438280"/>
              <a:ext cx="8461440" cy="3781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901440" y="2518560"/>
              <a:ext cx="8102520" cy="362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73240" y="2638440"/>
              <a:ext cx="7561080" cy="33796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352160" y="2718720"/>
              <a:ext cx="7201080" cy="3219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22520" y="2840040"/>
              <a:ext cx="6661080" cy="2978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1757160" y="2899800"/>
              <a:ext cx="6391080" cy="2857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8240" y="3102120"/>
              <a:ext cx="5491080" cy="2454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319120" y="3151080"/>
              <a:ext cx="5268600" cy="2355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35200" y="3292560"/>
              <a:ext cx="4635720" cy="2071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2728800" y="3335040"/>
              <a:ext cx="4448160" cy="1989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5560" y="3573360"/>
              <a:ext cx="3376440" cy="1509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3333240" y="3604680"/>
              <a:ext cx="3240360" cy="1449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95560" y="3855960"/>
              <a:ext cx="2116440" cy="946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3938760" y="3875040"/>
              <a:ext cx="2030400" cy="907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4118040"/>
              <a:ext cx="944280" cy="422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500720" y="4127040"/>
              <a:ext cx="906480" cy="40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18160" y="4224240"/>
              <a:ext cx="469800" cy="209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4727160" y="4229280"/>
              <a:ext cx="4510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31800" y="1538280"/>
            <a:ext cx="6751800" cy="4951080"/>
            <a:chOff x="1531800" y="1538280"/>
            <a:chExt cx="6751800" cy="4951080"/>
          </a:xfrm>
        </p:grpSpPr>
        <p:sp>
          <p:nvSpPr>
            <p:cNvPr id="70" name=""/>
            <p:cNvSpPr/>
            <p:nvPr/>
          </p:nvSpPr>
          <p:spPr>
            <a:xfrm>
              <a:off x="1531800" y="1538280"/>
              <a:ext cx="6751800" cy="4951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1674720" y="1643400"/>
              <a:ext cx="6465240" cy="4741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1440" y="1800360"/>
              <a:ext cx="6033240" cy="4425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2034360" y="1905480"/>
              <a:ext cx="5745960" cy="4215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0000" y="2064240"/>
              <a:ext cx="5315040" cy="3899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2357640" y="2143440"/>
              <a:ext cx="5099760" cy="3741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17280" y="2407320"/>
              <a:ext cx="4381560" cy="3213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2806200" y="2471400"/>
              <a:ext cx="4204080" cy="3084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58200" y="2656800"/>
              <a:ext cx="3699000" cy="2712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3132360" y="2712240"/>
              <a:ext cx="3549240" cy="2604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61120" y="3024360"/>
              <a:ext cx="2694240" cy="1976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3615480" y="3065760"/>
              <a:ext cx="2585520" cy="1897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63680" y="3394440"/>
              <a:ext cx="1688760" cy="1238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4098240" y="3419280"/>
              <a:ext cx="1620000" cy="1188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1680" y="3737520"/>
              <a:ext cx="753480" cy="552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4546440" y="3749400"/>
              <a:ext cx="723240" cy="530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20320" y="3876480"/>
              <a:ext cx="374760" cy="274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4727520" y="3882960"/>
              <a:ext cx="359640" cy="263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31800" y="1538280"/>
            <a:ext cx="6751800" cy="4951440"/>
            <a:chOff x="1531800" y="1538280"/>
            <a:chExt cx="6751800" cy="4951440"/>
          </a:xfrm>
        </p:grpSpPr>
        <p:sp>
          <p:nvSpPr>
            <p:cNvPr id="90" name=""/>
            <p:cNvSpPr/>
            <p:nvPr/>
          </p:nvSpPr>
          <p:spPr>
            <a:xfrm>
              <a:off x="1531800" y="1538280"/>
              <a:ext cx="6751800" cy="49514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1674360" y="1644120"/>
              <a:ext cx="6465960" cy="4741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2034720" y="1906200"/>
              <a:ext cx="5745240" cy="4214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9640" y="2063880"/>
              <a:ext cx="5316480" cy="390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2356920" y="2143080"/>
              <a:ext cx="5100840" cy="3741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59280" y="2655720"/>
              <a:ext cx="3697200" cy="2713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0800000">
              <a:off x="3133800" y="2712600"/>
              <a:ext cx="3548160" cy="2603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64040" y="3394080"/>
              <a:ext cx="1689120" cy="1239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4098960" y="3419640"/>
              <a:ext cx="1619280" cy="1188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19600" y="3876840"/>
              <a:ext cx="376200" cy="274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4727160" y="3882960"/>
              <a:ext cx="360360" cy="2635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2160" y="2438280"/>
            <a:ext cx="8461440" cy="3781440"/>
            <a:chOff x="722160" y="2438280"/>
            <a:chExt cx="8461440" cy="3781440"/>
          </a:xfrm>
        </p:grpSpPr>
        <p:sp>
          <p:nvSpPr>
            <p:cNvPr id="103" name=""/>
            <p:cNvSpPr/>
            <p:nvPr/>
          </p:nvSpPr>
          <p:spPr>
            <a:xfrm>
              <a:off x="722160" y="2438280"/>
              <a:ext cx="8461440" cy="3781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901440" y="2518560"/>
              <a:ext cx="8102520" cy="3621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22520" y="2840040"/>
              <a:ext cx="6661080" cy="29782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1757160" y="2899800"/>
              <a:ext cx="6391080" cy="28573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35200" y="3292560"/>
              <a:ext cx="4635720" cy="2071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2728800" y="3335040"/>
              <a:ext cx="4448160" cy="1989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95560" y="3855960"/>
              <a:ext cx="2116440" cy="9460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3938760" y="3875040"/>
              <a:ext cx="2030400" cy="907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8160" y="4224240"/>
              <a:ext cx="469800" cy="209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727160" y="4229280"/>
              <a:ext cx="451080" cy="2016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2160" y="2438280"/>
            <a:ext cx="8461440" cy="3781440"/>
            <a:chOff x="722160" y="2438280"/>
            <a:chExt cx="8461440" cy="3781440"/>
          </a:xfrm>
        </p:grpSpPr>
        <p:sp>
          <p:nvSpPr>
            <p:cNvPr id="115" name=""/>
            <p:cNvSpPr/>
            <p:nvPr/>
          </p:nvSpPr>
          <p:spPr>
            <a:xfrm>
              <a:off x="722160" y="2438280"/>
              <a:ext cx="8461440" cy="3781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901440" y="2518560"/>
              <a:ext cx="8102520" cy="3621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73240" y="2638440"/>
              <a:ext cx="7561080" cy="33796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1352160" y="2718720"/>
              <a:ext cx="7201080" cy="32194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2520" y="2840040"/>
              <a:ext cx="6661080" cy="29782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1757160" y="2899800"/>
              <a:ext cx="6391080" cy="28573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8240" y="3102120"/>
              <a:ext cx="5491080" cy="24541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2319120" y="3151080"/>
              <a:ext cx="5268600" cy="2355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5200" y="3292560"/>
              <a:ext cx="4635720" cy="2071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2728800" y="3335040"/>
              <a:ext cx="4448160" cy="1989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65560" y="3573360"/>
              <a:ext cx="3376440" cy="1509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3333240" y="3604680"/>
              <a:ext cx="3240360" cy="1449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5560" y="3855960"/>
              <a:ext cx="2116440" cy="9460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3938760" y="3875040"/>
              <a:ext cx="2030400" cy="907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81640" y="4118040"/>
              <a:ext cx="944280" cy="4222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4500720" y="4127040"/>
              <a:ext cx="906480" cy="405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8160" y="4224240"/>
              <a:ext cx="469800" cy="209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4727160" y="4229280"/>
              <a:ext cx="451080" cy="2016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31800" y="1538280"/>
            <a:ext cx="6751800" cy="4951080"/>
            <a:chOff x="1531800" y="1538280"/>
            <a:chExt cx="6751800" cy="4951080"/>
          </a:xfrm>
        </p:grpSpPr>
        <p:sp>
          <p:nvSpPr>
            <p:cNvPr id="135" name=""/>
            <p:cNvSpPr/>
            <p:nvPr/>
          </p:nvSpPr>
          <p:spPr>
            <a:xfrm>
              <a:off x="1531800" y="1538280"/>
              <a:ext cx="6751800" cy="49510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1674720" y="1643400"/>
              <a:ext cx="6465240" cy="47415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1440" y="1800360"/>
              <a:ext cx="6033240" cy="44251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2034360" y="1905480"/>
              <a:ext cx="5745960" cy="4215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50000" y="2064240"/>
              <a:ext cx="5315040" cy="3899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2357640" y="2143440"/>
              <a:ext cx="5099760" cy="37411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280" y="2407320"/>
              <a:ext cx="4381560" cy="32133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2806200" y="2471400"/>
              <a:ext cx="4204080" cy="30844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58200" y="2656800"/>
              <a:ext cx="3699000" cy="2712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3132360" y="2712240"/>
              <a:ext cx="3549240" cy="2604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61120" y="3024360"/>
              <a:ext cx="2694240" cy="1976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3615480" y="3065760"/>
              <a:ext cx="2585520" cy="1897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63680" y="3394440"/>
              <a:ext cx="1688760" cy="12387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4098240" y="3419280"/>
              <a:ext cx="1620000" cy="1188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1680" y="3737520"/>
              <a:ext cx="753480" cy="5526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4546440" y="3749400"/>
              <a:ext cx="723240" cy="5302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20320" y="3876480"/>
              <a:ext cx="374760" cy="2743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800000">
              <a:off x="4727520" y="3882960"/>
              <a:ext cx="359640" cy="263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31800" y="1538280"/>
            <a:ext cx="6751800" cy="4951440"/>
            <a:chOff x="1531800" y="1538280"/>
            <a:chExt cx="6751800" cy="4951440"/>
          </a:xfrm>
        </p:grpSpPr>
        <p:sp>
          <p:nvSpPr>
            <p:cNvPr id="155" name=""/>
            <p:cNvSpPr/>
            <p:nvPr/>
          </p:nvSpPr>
          <p:spPr>
            <a:xfrm>
              <a:off x="1531800" y="1538280"/>
              <a:ext cx="6751800" cy="49514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1674360" y="1644120"/>
              <a:ext cx="6465960" cy="4741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2034720" y="1906200"/>
              <a:ext cx="5745240" cy="421488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9640" y="2063880"/>
              <a:ext cx="5316480" cy="39002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2356920" y="2143080"/>
              <a:ext cx="5100840" cy="3741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9280" y="2655720"/>
              <a:ext cx="3697200" cy="27133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3133800" y="2712600"/>
              <a:ext cx="3548160" cy="260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64040" y="3394080"/>
              <a:ext cx="1689120" cy="12398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4098960" y="3419640"/>
              <a:ext cx="1619280" cy="11887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19600" y="3876840"/>
              <a:ext cx="376200" cy="2743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4727160" y="3882960"/>
              <a:ext cx="360360" cy="26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99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1-25T07:35:40Z</dcterms:modified>
  <cp:revision>1</cp:revision>
  <dc:subject>PPT214_波紋</dc:subject>
  <dc:title>PPT214_波紋</dc:title>
</cp:coreProperties>
</file>