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3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272880" y="333360"/>
            <a:ext cx="5616720" cy="5616720"/>
            <a:chOff x="272880" y="333360"/>
            <a:chExt cx="5616720" cy="5616720"/>
          </a:xfrm>
        </p:grpSpPr>
        <p:sp>
          <p:nvSpPr>
            <p:cNvPr id="39" name=""/>
            <p:cNvSpPr/>
            <p:nvPr/>
          </p:nvSpPr>
          <p:spPr>
            <a:xfrm>
              <a:off x="272880" y="333360"/>
              <a:ext cx="5616720" cy="561672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66560" y="530280"/>
              <a:ext cx="5229360" cy="522612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62040" y="719280"/>
              <a:ext cx="4842000" cy="484020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3920" y="914400"/>
              <a:ext cx="4454640" cy="445284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47600" y="1108080"/>
              <a:ext cx="4067280" cy="406548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3080" y="1303560"/>
              <a:ext cx="3679920" cy="367632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36760" y="1497240"/>
              <a:ext cx="3290760" cy="328896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889600" y="1989000"/>
            <a:ext cx="2376360" cy="2376720"/>
            <a:chOff x="5889600" y="1989000"/>
            <a:chExt cx="2376360" cy="2376720"/>
          </a:xfrm>
        </p:grpSpPr>
        <p:sp>
          <p:nvSpPr>
            <p:cNvPr id="47" name=""/>
            <p:cNvSpPr/>
            <p:nvPr/>
          </p:nvSpPr>
          <p:spPr>
            <a:xfrm>
              <a:off x="5889600" y="1989000"/>
              <a:ext cx="2376360" cy="237672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71320" y="2072160"/>
              <a:ext cx="2212560" cy="221148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54120" y="2152080"/>
              <a:ext cx="2048760" cy="204804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35120" y="2234880"/>
              <a:ext cx="1884600" cy="188424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17200" y="2316600"/>
              <a:ext cx="1720800" cy="172044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00000" y="2399400"/>
              <a:ext cx="1557000" cy="155556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81720" y="2481480"/>
              <a:ext cx="1392120" cy="139176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265960" y="2419200"/>
            <a:ext cx="1224000" cy="1224000"/>
            <a:chOff x="8265960" y="2419200"/>
            <a:chExt cx="1224000" cy="1224000"/>
          </a:xfrm>
        </p:grpSpPr>
        <p:sp>
          <p:nvSpPr>
            <p:cNvPr id="55" name=""/>
            <p:cNvSpPr/>
            <p:nvPr/>
          </p:nvSpPr>
          <p:spPr>
            <a:xfrm>
              <a:off x="8265960" y="2419200"/>
              <a:ext cx="1224000" cy="122400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08080" y="2462040"/>
              <a:ext cx="1139760" cy="113904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50560" y="2503080"/>
              <a:ext cx="1055160" cy="105480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92320" y="2545560"/>
              <a:ext cx="970920" cy="97056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34800" y="2588040"/>
              <a:ext cx="886320" cy="88596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477280" y="2630520"/>
              <a:ext cx="802080" cy="80100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19400" y="2672640"/>
              <a:ext cx="717120" cy="71676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2880" y="3648240"/>
            <a:ext cx="5616720" cy="5616360"/>
            <a:chOff x="272880" y="3648240"/>
            <a:chExt cx="5616720" cy="5616360"/>
          </a:xfrm>
        </p:grpSpPr>
        <p:sp>
          <p:nvSpPr>
            <p:cNvPr id="63" name=""/>
            <p:cNvSpPr/>
            <p:nvPr/>
          </p:nvSpPr>
          <p:spPr>
            <a:xfrm>
              <a:off x="272880" y="3648240"/>
              <a:ext cx="5616720" cy="561636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560" y="3844800"/>
              <a:ext cx="5229360" cy="522576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040" y="4033800"/>
              <a:ext cx="4842000" cy="483984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3920" y="4228920"/>
              <a:ext cx="4454640" cy="445248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47600" y="4422600"/>
              <a:ext cx="4067280" cy="406512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43080" y="4618080"/>
              <a:ext cx="3679920" cy="367596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36760" y="4811760"/>
              <a:ext cx="3290760" cy="328860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889600" y="5230800"/>
            <a:ext cx="2376360" cy="2376360"/>
            <a:chOff x="5889600" y="5230800"/>
            <a:chExt cx="2376360" cy="2376360"/>
          </a:xfrm>
        </p:grpSpPr>
        <p:sp>
          <p:nvSpPr>
            <p:cNvPr id="71" name=""/>
            <p:cNvSpPr/>
            <p:nvPr/>
          </p:nvSpPr>
          <p:spPr>
            <a:xfrm>
              <a:off x="5889600" y="5230800"/>
              <a:ext cx="2376360" cy="237636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71320" y="5313960"/>
              <a:ext cx="2212560" cy="221112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54120" y="5393880"/>
              <a:ext cx="2048760" cy="204768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35120" y="5476320"/>
              <a:ext cx="1884600" cy="188388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17200" y="5558400"/>
              <a:ext cx="1720800" cy="172008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000" y="5641200"/>
              <a:ext cx="1557000" cy="155520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1720" y="5722920"/>
              <a:ext cx="1392120" cy="139140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265960" y="5734080"/>
            <a:ext cx="1224000" cy="1224000"/>
            <a:chOff x="8265960" y="5734080"/>
            <a:chExt cx="1224000" cy="1224000"/>
          </a:xfrm>
        </p:grpSpPr>
        <p:sp>
          <p:nvSpPr>
            <p:cNvPr id="79" name=""/>
            <p:cNvSpPr/>
            <p:nvPr/>
          </p:nvSpPr>
          <p:spPr>
            <a:xfrm>
              <a:off x="8265960" y="5734080"/>
              <a:ext cx="1224000" cy="122400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08080" y="5776920"/>
              <a:ext cx="1139760" cy="113904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50560" y="5817960"/>
              <a:ext cx="1055160" cy="105480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92320" y="5860440"/>
              <a:ext cx="970920" cy="97056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434800" y="5902920"/>
              <a:ext cx="886320" cy="88596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477280" y="5945400"/>
              <a:ext cx="802080" cy="80100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519400" y="5987520"/>
              <a:ext cx="717120" cy="71676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72880" y="333360"/>
            <a:ext cx="5616720" cy="5616720"/>
            <a:chOff x="272880" y="333360"/>
            <a:chExt cx="5616720" cy="5616720"/>
          </a:xfrm>
        </p:grpSpPr>
        <p:sp>
          <p:nvSpPr>
            <p:cNvPr id="87" name=""/>
            <p:cNvSpPr/>
            <p:nvPr/>
          </p:nvSpPr>
          <p:spPr>
            <a:xfrm>
              <a:off x="272880" y="333360"/>
              <a:ext cx="5616720" cy="561672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6560" y="530280"/>
              <a:ext cx="5229360" cy="522612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040" y="719280"/>
              <a:ext cx="4842000" cy="484020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3920" y="914400"/>
              <a:ext cx="4454640" cy="445284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47600" y="1108080"/>
              <a:ext cx="4067280" cy="406548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43080" y="1303560"/>
              <a:ext cx="3679920" cy="367632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36760" y="1497240"/>
              <a:ext cx="3290760" cy="328896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889600" y="1916280"/>
            <a:ext cx="2376360" cy="2376360"/>
            <a:chOff x="5889600" y="1916280"/>
            <a:chExt cx="2376360" cy="2376360"/>
          </a:xfrm>
        </p:grpSpPr>
        <p:sp>
          <p:nvSpPr>
            <p:cNvPr id="95" name=""/>
            <p:cNvSpPr/>
            <p:nvPr/>
          </p:nvSpPr>
          <p:spPr>
            <a:xfrm>
              <a:off x="5889600" y="1916280"/>
              <a:ext cx="2376360" cy="237636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71320" y="1999440"/>
              <a:ext cx="2212560" cy="221112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54120" y="2079360"/>
              <a:ext cx="2048760" cy="204768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35120" y="2161800"/>
              <a:ext cx="1884600" cy="188388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17200" y="2243880"/>
              <a:ext cx="1720800" cy="172008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00000" y="2326680"/>
              <a:ext cx="1557000" cy="155520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81720" y="2408400"/>
              <a:ext cx="1392120" cy="139140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265960" y="2419200"/>
            <a:ext cx="1224000" cy="1224000"/>
            <a:chOff x="8265960" y="2419200"/>
            <a:chExt cx="1224000" cy="1224000"/>
          </a:xfrm>
        </p:grpSpPr>
        <p:sp>
          <p:nvSpPr>
            <p:cNvPr id="103" name=""/>
            <p:cNvSpPr/>
            <p:nvPr/>
          </p:nvSpPr>
          <p:spPr>
            <a:xfrm>
              <a:off x="8265960" y="2419200"/>
              <a:ext cx="1224000" cy="122400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08080" y="2462040"/>
              <a:ext cx="1139760" cy="113904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50560" y="2503080"/>
              <a:ext cx="1055160" cy="105480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92320" y="2545560"/>
              <a:ext cx="970920" cy="97056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34800" y="2588040"/>
              <a:ext cx="886320" cy="88596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7280" y="2630520"/>
              <a:ext cx="802080" cy="80100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19400" y="2672640"/>
              <a:ext cx="717120" cy="71676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72880" y="3648240"/>
            <a:ext cx="5616720" cy="5616360"/>
            <a:chOff x="272880" y="3648240"/>
            <a:chExt cx="5616720" cy="5616360"/>
          </a:xfrm>
        </p:grpSpPr>
        <p:sp>
          <p:nvSpPr>
            <p:cNvPr id="111" name=""/>
            <p:cNvSpPr/>
            <p:nvPr/>
          </p:nvSpPr>
          <p:spPr>
            <a:xfrm>
              <a:off x="272880" y="3648240"/>
              <a:ext cx="5616720" cy="561636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6560" y="3844800"/>
              <a:ext cx="5229360" cy="522576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040" y="4033800"/>
              <a:ext cx="4842000" cy="483984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3920" y="4228920"/>
              <a:ext cx="4454640" cy="445248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7600" y="4422600"/>
              <a:ext cx="4067280" cy="406512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43080" y="4618080"/>
              <a:ext cx="3679920" cy="367596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36760" y="4811760"/>
              <a:ext cx="3290760" cy="328860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889600" y="5230800"/>
            <a:ext cx="2376360" cy="2376360"/>
            <a:chOff x="5889600" y="5230800"/>
            <a:chExt cx="2376360" cy="2376360"/>
          </a:xfrm>
        </p:grpSpPr>
        <p:sp>
          <p:nvSpPr>
            <p:cNvPr id="119" name=""/>
            <p:cNvSpPr/>
            <p:nvPr/>
          </p:nvSpPr>
          <p:spPr>
            <a:xfrm>
              <a:off x="5889600" y="5230800"/>
              <a:ext cx="2376360" cy="237636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71320" y="5313960"/>
              <a:ext cx="2212560" cy="221112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54120" y="5393880"/>
              <a:ext cx="2048760" cy="204768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35120" y="5476320"/>
              <a:ext cx="1884600" cy="188388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7200" y="5558400"/>
              <a:ext cx="1720800" cy="172008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0000" y="5641200"/>
              <a:ext cx="1557000" cy="155520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1720" y="5722920"/>
              <a:ext cx="1392120" cy="139140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8265960" y="5734080"/>
            <a:ext cx="1224000" cy="1224000"/>
            <a:chOff x="8265960" y="5734080"/>
            <a:chExt cx="1224000" cy="1224000"/>
          </a:xfrm>
        </p:grpSpPr>
        <p:sp>
          <p:nvSpPr>
            <p:cNvPr id="127" name=""/>
            <p:cNvSpPr/>
            <p:nvPr/>
          </p:nvSpPr>
          <p:spPr>
            <a:xfrm>
              <a:off x="8265960" y="5734080"/>
              <a:ext cx="1224000" cy="122400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8080" y="5776920"/>
              <a:ext cx="1139760" cy="113904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50560" y="5817960"/>
              <a:ext cx="1055160" cy="105480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92320" y="5860440"/>
              <a:ext cx="970920" cy="97056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34800" y="5902920"/>
              <a:ext cx="886320" cy="88596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77280" y="5945400"/>
              <a:ext cx="802080" cy="80100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9400" y="5987520"/>
              <a:ext cx="717120" cy="71676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72880" y="333360"/>
            <a:ext cx="5616720" cy="5616720"/>
            <a:chOff x="272880" y="333360"/>
            <a:chExt cx="5616720" cy="5616720"/>
          </a:xfrm>
        </p:grpSpPr>
        <p:sp>
          <p:nvSpPr>
            <p:cNvPr id="135" name=""/>
            <p:cNvSpPr/>
            <p:nvPr/>
          </p:nvSpPr>
          <p:spPr>
            <a:xfrm>
              <a:off x="272880" y="333360"/>
              <a:ext cx="5616720" cy="561672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6560" y="530280"/>
              <a:ext cx="5229360" cy="522612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040" y="719280"/>
              <a:ext cx="4842000" cy="484020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3920" y="914400"/>
              <a:ext cx="4454640" cy="445284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47600" y="1108080"/>
              <a:ext cx="4067280" cy="406548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43080" y="1303200"/>
              <a:ext cx="3679920" cy="367668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gradFill rotWithShape="0">
              <a:gsLst>
                <a:gs pos="0">
                  <a:srgbClr val="171746">
                    <a:alpha val="0"/>
                  </a:srgbClr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36760" y="1496880"/>
              <a:ext cx="3290760" cy="328932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457960" y="1916280"/>
            <a:ext cx="2449440" cy="2449440"/>
            <a:chOff x="5457960" y="1916280"/>
            <a:chExt cx="2449440" cy="2449440"/>
          </a:xfrm>
        </p:grpSpPr>
        <p:sp>
          <p:nvSpPr>
            <p:cNvPr id="143" name=""/>
            <p:cNvSpPr/>
            <p:nvPr/>
          </p:nvSpPr>
          <p:spPr>
            <a:xfrm>
              <a:off x="5457960" y="1916280"/>
              <a:ext cx="2449440" cy="244944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42200" y="2001960"/>
              <a:ext cx="2280600" cy="227916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7520" y="2084400"/>
              <a:ext cx="2111760" cy="211068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1040" y="2169360"/>
              <a:ext cx="1942560" cy="194184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5640" y="2253960"/>
              <a:ext cx="1773720" cy="177300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0960" y="2338920"/>
              <a:ext cx="1604880" cy="160344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gradFill rotWithShape="0">
              <a:gsLst>
                <a:gs pos="0">
                  <a:srgbClr val="171746">
                    <a:alpha val="0"/>
                  </a:srgbClr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65560" y="2423520"/>
              <a:ext cx="1434960" cy="143424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907400" y="2349360"/>
            <a:ext cx="1225440" cy="1225800"/>
            <a:chOff x="7907400" y="2349360"/>
            <a:chExt cx="1225440" cy="1225800"/>
          </a:xfrm>
        </p:grpSpPr>
        <p:sp>
          <p:nvSpPr>
            <p:cNvPr id="151" name=""/>
            <p:cNvSpPr/>
            <p:nvPr/>
          </p:nvSpPr>
          <p:spPr>
            <a:xfrm>
              <a:off x="7907400" y="2349360"/>
              <a:ext cx="1225440" cy="122580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49520" y="2392200"/>
              <a:ext cx="1140840" cy="114048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92000" y="2433600"/>
              <a:ext cx="1056600" cy="105624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34120" y="2476080"/>
              <a:ext cx="972000" cy="97200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76240" y="2518200"/>
              <a:ext cx="887400" cy="88740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19080" y="2561040"/>
              <a:ext cx="802800" cy="80244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gradFill rotWithShape="0">
              <a:gsLst>
                <a:gs pos="0">
                  <a:srgbClr val="171746">
                    <a:alpha val="0"/>
                  </a:srgbClr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61200" y="2603160"/>
              <a:ext cx="717840" cy="71784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72880" y="3573360"/>
            <a:ext cx="5616720" cy="5616720"/>
            <a:chOff x="272880" y="3573360"/>
            <a:chExt cx="5616720" cy="5616720"/>
          </a:xfrm>
        </p:grpSpPr>
        <p:sp>
          <p:nvSpPr>
            <p:cNvPr id="159" name=""/>
            <p:cNvSpPr/>
            <p:nvPr/>
          </p:nvSpPr>
          <p:spPr>
            <a:xfrm>
              <a:off x="272880" y="3573360"/>
              <a:ext cx="5616720" cy="561672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560" y="3770280"/>
              <a:ext cx="5229360" cy="522612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040" y="3959280"/>
              <a:ext cx="4842000" cy="484020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3920" y="4154400"/>
              <a:ext cx="4454640" cy="445284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7600" y="4348080"/>
              <a:ext cx="4067280" cy="406548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43080" y="4543200"/>
              <a:ext cx="3679920" cy="367668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gradFill rotWithShape="0">
              <a:gsLst>
                <a:gs pos="0">
                  <a:srgbClr val="171746">
                    <a:alpha val="0"/>
                  </a:srgbClr>
                </a:gs>
                <a:gs pos="100000">
                  <a:srgbClr val="33339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36760" y="4736880"/>
              <a:ext cx="3290760" cy="328932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0008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457960" y="5156280"/>
            <a:ext cx="2449440" cy="2449440"/>
            <a:chOff x="5457960" y="5156280"/>
            <a:chExt cx="2449440" cy="2449440"/>
          </a:xfrm>
        </p:grpSpPr>
        <p:sp>
          <p:nvSpPr>
            <p:cNvPr id="167" name=""/>
            <p:cNvSpPr/>
            <p:nvPr/>
          </p:nvSpPr>
          <p:spPr>
            <a:xfrm>
              <a:off x="5457960" y="5156280"/>
              <a:ext cx="2449440" cy="244944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42200" y="5241960"/>
              <a:ext cx="2280600" cy="227916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27520" y="5324400"/>
              <a:ext cx="2111760" cy="211068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1040" y="5409360"/>
              <a:ext cx="1942560" cy="194184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95640" y="5493960"/>
              <a:ext cx="1773720" cy="177300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80960" y="5578920"/>
              <a:ext cx="1604880" cy="160344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gradFill rotWithShape="0">
              <a:gsLst>
                <a:gs pos="0">
                  <a:srgbClr val="171746">
                    <a:alpha val="0"/>
                  </a:srgbClr>
                </a:gs>
                <a:gs pos="100000">
                  <a:srgbClr val="33339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65560" y="5663520"/>
              <a:ext cx="1434960" cy="143424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0008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907400" y="5589720"/>
            <a:ext cx="1225440" cy="1225440"/>
            <a:chOff x="7907400" y="5589720"/>
            <a:chExt cx="1225440" cy="1225440"/>
          </a:xfrm>
        </p:grpSpPr>
        <p:sp>
          <p:nvSpPr>
            <p:cNvPr id="175" name=""/>
            <p:cNvSpPr/>
            <p:nvPr/>
          </p:nvSpPr>
          <p:spPr>
            <a:xfrm>
              <a:off x="7907400" y="5589720"/>
              <a:ext cx="1225440" cy="1225440"/>
            </a:xfrm>
            <a:prstGeom prst="blockArc">
              <a:avLst>
                <a:gd name="adj1" fmla="val 10797948"/>
                <a:gd name="adj2" fmla="val 2052"/>
                <a:gd name="adj3" fmla="val 344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49520" y="5632560"/>
              <a:ext cx="1140840" cy="1140480"/>
            </a:xfrm>
            <a:prstGeom prst="blockArc">
              <a:avLst>
                <a:gd name="adj1" fmla="val 10797589"/>
                <a:gd name="adj2" fmla="val 2411"/>
                <a:gd name="adj3" fmla="val 3796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92000" y="5673600"/>
              <a:ext cx="1056600" cy="1056240"/>
            </a:xfrm>
            <a:prstGeom prst="blockArc">
              <a:avLst>
                <a:gd name="adj1" fmla="val 10791362"/>
                <a:gd name="adj2" fmla="val 8638"/>
                <a:gd name="adj3" fmla="val 3935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34120" y="5716440"/>
              <a:ext cx="972000" cy="971640"/>
            </a:xfrm>
            <a:prstGeom prst="blockArc">
              <a:avLst>
                <a:gd name="adj1" fmla="val 10798607"/>
                <a:gd name="adj2" fmla="val 1393"/>
                <a:gd name="adj3" fmla="val 4310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76240" y="5758560"/>
              <a:ext cx="887400" cy="887040"/>
            </a:xfrm>
            <a:prstGeom prst="blockArc">
              <a:avLst>
                <a:gd name="adj1" fmla="val 10789427"/>
                <a:gd name="adj2" fmla="val 10573"/>
                <a:gd name="adj3" fmla="val 4838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19080" y="5801040"/>
              <a:ext cx="802800" cy="802080"/>
            </a:xfrm>
            <a:prstGeom prst="blockArc">
              <a:avLst>
                <a:gd name="adj1" fmla="val 10780135"/>
                <a:gd name="adj2" fmla="val 19865"/>
                <a:gd name="adj3" fmla="val 5134"/>
              </a:avLst>
            </a:prstGeom>
            <a:gradFill rotWithShape="0">
              <a:gsLst>
                <a:gs pos="0">
                  <a:srgbClr val="171746">
                    <a:alpha val="0"/>
                  </a:srgbClr>
                </a:gs>
                <a:gs pos="100000">
                  <a:srgbClr val="33339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61200" y="5843520"/>
              <a:ext cx="717840" cy="717480"/>
            </a:xfrm>
            <a:prstGeom prst="blockArc">
              <a:avLst>
                <a:gd name="adj1" fmla="val 10792431"/>
                <a:gd name="adj2" fmla="val 7569"/>
                <a:gd name="adj3" fmla="val 5838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00080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-890280" y="-829800"/>
            <a:ext cx="7943400" cy="7943040"/>
            <a:chOff x="-890280" y="-829800"/>
            <a:chExt cx="7943400" cy="7943040"/>
          </a:xfrm>
        </p:grpSpPr>
        <p:sp>
          <p:nvSpPr>
            <p:cNvPr id="183" name=""/>
            <p:cNvSpPr/>
            <p:nvPr/>
          </p:nvSpPr>
          <p:spPr>
            <a:xfrm rot="18900000">
              <a:off x="272880" y="333360"/>
              <a:ext cx="5616720" cy="561672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8900000">
              <a:off x="467640" y="529560"/>
              <a:ext cx="5229360" cy="522612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900000">
              <a:off x="659520" y="718560"/>
              <a:ext cx="4842000" cy="484020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900000">
              <a:off x="852840" y="914400"/>
              <a:ext cx="4454640" cy="445284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8900000">
              <a:off x="1046880" y="1108080"/>
              <a:ext cx="4067280" cy="406548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8900000">
              <a:off x="1242000" y="1301760"/>
              <a:ext cx="3679920" cy="367668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8900000">
              <a:off x="1436040" y="1496160"/>
              <a:ext cx="3290760" cy="328932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525680" y="289080"/>
            <a:ext cx="5700240" cy="5700240"/>
            <a:chOff x="1525680" y="289080"/>
            <a:chExt cx="5700240" cy="5700240"/>
          </a:xfrm>
        </p:grpSpPr>
        <p:sp>
          <p:nvSpPr>
            <p:cNvPr id="191" name=""/>
            <p:cNvSpPr/>
            <p:nvPr/>
          </p:nvSpPr>
          <p:spPr>
            <a:xfrm rot="18900000">
              <a:off x="2360160" y="1123560"/>
              <a:ext cx="4030920" cy="403056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900000">
              <a:off x="2499840" y="1264320"/>
              <a:ext cx="3753000" cy="375012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8900000">
              <a:off x="2637720" y="1400400"/>
              <a:ext cx="3474720" cy="347328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900000">
              <a:off x="2776680" y="1540800"/>
              <a:ext cx="3196800" cy="319536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900000">
              <a:off x="2915640" y="1679760"/>
              <a:ext cx="2918880" cy="291744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900000">
              <a:off x="3056040" y="1818720"/>
              <a:ext cx="2640960" cy="263844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900000">
              <a:off x="3195360" y="1958040"/>
              <a:ext cx="2361600" cy="236016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92400" y="1496880"/>
            <a:ext cx="3361320" cy="3360960"/>
            <a:chOff x="3092400" y="1496880"/>
            <a:chExt cx="3361320" cy="3360960"/>
          </a:xfrm>
        </p:grpSpPr>
        <p:sp>
          <p:nvSpPr>
            <p:cNvPr id="199" name=""/>
            <p:cNvSpPr/>
            <p:nvPr/>
          </p:nvSpPr>
          <p:spPr>
            <a:xfrm rot="18900000">
              <a:off x="3584520" y="1989000"/>
              <a:ext cx="2376720" cy="237672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8900000">
              <a:off x="3666600" y="2072160"/>
              <a:ext cx="2212920" cy="221148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900000">
              <a:off x="3747600" y="2151720"/>
              <a:ext cx="2048760" cy="204804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8900000">
              <a:off x="3830040" y="2234880"/>
              <a:ext cx="1884960" cy="188424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8900000">
              <a:off x="3911760" y="2316600"/>
              <a:ext cx="1721160" cy="172044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900000">
              <a:off x="3994560" y="2398680"/>
              <a:ext cx="1557000" cy="155592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900000">
              <a:off x="4076640" y="2480760"/>
              <a:ext cx="1392480" cy="139176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005720" y="-829800"/>
            <a:ext cx="7943400" cy="7943040"/>
            <a:chOff x="4005720" y="-829800"/>
            <a:chExt cx="7943400" cy="7943040"/>
          </a:xfrm>
        </p:grpSpPr>
        <p:sp>
          <p:nvSpPr>
            <p:cNvPr id="207" name=""/>
            <p:cNvSpPr/>
            <p:nvPr/>
          </p:nvSpPr>
          <p:spPr>
            <a:xfrm rot="18900000">
              <a:off x="5168880" y="333360"/>
              <a:ext cx="5616720" cy="561672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900000">
              <a:off x="5363640" y="529560"/>
              <a:ext cx="5229360" cy="522612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900000">
              <a:off x="5555520" y="718560"/>
              <a:ext cx="4842000" cy="484020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8900000">
              <a:off x="5748840" y="914400"/>
              <a:ext cx="4454640" cy="445284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8900000">
              <a:off x="5942880" y="1108080"/>
              <a:ext cx="4067280" cy="406548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900000">
              <a:off x="6138000" y="1301760"/>
              <a:ext cx="3679920" cy="367668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900000">
              <a:off x="6332040" y="1496160"/>
              <a:ext cx="3290760" cy="328932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423120" y="289080"/>
            <a:ext cx="5700240" cy="5700240"/>
            <a:chOff x="6423120" y="289080"/>
            <a:chExt cx="5700240" cy="5700240"/>
          </a:xfrm>
        </p:grpSpPr>
        <p:sp>
          <p:nvSpPr>
            <p:cNvPr id="215" name=""/>
            <p:cNvSpPr/>
            <p:nvPr/>
          </p:nvSpPr>
          <p:spPr>
            <a:xfrm rot="18900000">
              <a:off x="7257600" y="1123560"/>
              <a:ext cx="4030920" cy="403056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8900000">
              <a:off x="7397280" y="1264320"/>
              <a:ext cx="3753000" cy="375012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900000">
              <a:off x="7535160" y="1400400"/>
              <a:ext cx="3474720" cy="347328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8900000">
              <a:off x="7674120" y="1540800"/>
              <a:ext cx="3196800" cy="319536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8900000">
              <a:off x="7813080" y="1679760"/>
              <a:ext cx="2918880" cy="291744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8900000">
              <a:off x="7953480" y="1818720"/>
              <a:ext cx="2640960" cy="263844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8900000">
              <a:off x="8092800" y="1958040"/>
              <a:ext cx="2361600" cy="236016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7989840" y="1496880"/>
            <a:ext cx="3361320" cy="3360960"/>
            <a:chOff x="7989840" y="1496880"/>
            <a:chExt cx="3361320" cy="3360960"/>
          </a:xfrm>
        </p:grpSpPr>
        <p:sp>
          <p:nvSpPr>
            <p:cNvPr id="223" name=""/>
            <p:cNvSpPr/>
            <p:nvPr/>
          </p:nvSpPr>
          <p:spPr>
            <a:xfrm rot="18900000">
              <a:off x="8481960" y="1989000"/>
              <a:ext cx="2376720" cy="237672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8900000">
              <a:off x="8564040" y="2072160"/>
              <a:ext cx="2212920" cy="221148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8900000">
              <a:off x="8645040" y="2151720"/>
              <a:ext cx="2048760" cy="204804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8900000">
              <a:off x="8727480" y="2234880"/>
              <a:ext cx="1884960" cy="188424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8900000">
              <a:off x="8809200" y="2316600"/>
              <a:ext cx="1721160" cy="172044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8900000">
              <a:off x="8892000" y="2398680"/>
              <a:ext cx="1557000" cy="155592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8900000">
              <a:off x="8974080" y="2480760"/>
              <a:ext cx="1392480" cy="139176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-890280" y="2410200"/>
            <a:ext cx="7943400" cy="7943040"/>
            <a:chOff x="-890280" y="2410200"/>
            <a:chExt cx="7943400" cy="7943040"/>
          </a:xfrm>
        </p:grpSpPr>
        <p:sp>
          <p:nvSpPr>
            <p:cNvPr id="231" name=""/>
            <p:cNvSpPr/>
            <p:nvPr/>
          </p:nvSpPr>
          <p:spPr>
            <a:xfrm rot="18900000">
              <a:off x="272880" y="3573360"/>
              <a:ext cx="5616720" cy="561672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8900000">
              <a:off x="467640" y="3769560"/>
              <a:ext cx="5229360" cy="522612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8900000">
              <a:off x="659520" y="3958560"/>
              <a:ext cx="4842000" cy="484020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8900000">
              <a:off x="852840" y="4154400"/>
              <a:ext cx="4454640" cy="445284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8900000">
              <a:off x="1046880" y="4348080"/>
              <a:ext cx="4067280" cy="406548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8900000">
              <a:off x="1242000" y="4541760"/>
              <a:ext cx="3679920" cy="367668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8900000">
              <a:off x="1436040" y="4736160"/>
              <a:ext cx="3290760" cy="328932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525680" y="3529080"/>
            <a:ext cx="5700600" cy="5700240"/>
            <a:chOff x="1525680" y="3529080"/>
            <a:chExt cx="5700600" cy="5700240"/>
          </a:xfrm>
        </p:grpSpPr>
        <p:sp>
          <p:nvSpPr>
            <p:cNvPr id="239" name=""/>
            <p:cNvSpPr/>
            <p:nvPr/>
          </p:nvSpPr>
          <p:spPr>
            <a:xfrm rot="18900000">
              <a:off x="2360160" y="4363560"/>
              <a:ext cx="4030920" cy="403092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900000">
              <a:off x="2499840" y="4504320"/>
              <a:ext cx="3753000" cy="375048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900000">
              <a:off x="2637720" y="4640400"/>
              <a:ext cx="3474720" cy="347364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900000">
              <a:off x="2777040" y="4780800"/>
              <a:ext cx="3196800" cy="319572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900000">
              <a:off x="2915640" y="4919760"/>
              <a:ext cx="2918880" cy="291744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900000">
              <a:off x="3056040" y="5058720"/>
              <a:ext cx="2640960" cy="263844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900000">
              <a:off x="3195360" y="5198040"/>
              <a:ext cx="2361600" cy="236052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092400" y="4737240"/>
            <a:ext cx="3360960" cy="3360960"/>
            <a:chOff x="3092400" y="4737240"/>
            <a:chExt cx="3360960" cy="3360960"/>
          </a:xfrm>
        </p:grpSpPr>
        <p:sp>
          <p:nvSpPr>
            <p:cNvPr id="247" name=""/>
            <p:cNvSpPr/>
            <p:nvPr/>
          </p:nvSpPr>
          <p:spPr>
            <a:xfrm rot="18900000">
              <a:off x="3584160" y="5229360"/>
              <a:ext cx="2376720" cy="237636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900000">
              <a:off x="3666600" y="5312520"/>
              <a:ext cx="2212920" cy="221112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900000">
              <a:off x="3747960" y="5392080"/>
              <a:ext cx="2048760" cy="204768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900000">
              <a:off x="3830040" y="5474880"/>
              <a:ext cx="1884960" cy="188388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900000">
              <a:off x="3911760" y="5556960"/>
              <a:ext cx="1721160" cy="172008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900000">
              <a:off x="3994560" y="5639040"/>
              <a:ext cx="1557000" cy="155556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900000">
              <a:off x="4076640" y="5721120"/>
              <a:ext cx="1392480" cy="139176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05720" y="2410200"/>
            <a:ext cx="7943400" cy="7943040"/>
            <a:chOff x="4005720" y="2410200"/>
            <a:chExt cx="7943400" cy="7943040"/>
          </a:xfrm>
        </p:grpSpPr>
        <p:sp>
          <p:nvSpPr>
            <p:cNvPr id="255" name=""/>
            <p:cNvSpPr/>
            <p:nvPr/>
          </p:nvSpPr>
          <p:spPr>
            <a:xfrm rot="18900000">
              <a:off x="5168880" y="3573360"/>
              <a:ext cx="5616720" cy="561672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900000">
              <a:off x="5363640" y="3769560"/>
              <a:ext cx="5229360" cy="522612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900000">
              <a:off x="5555520" y="3958560"/>
              <a:ext cx="4842000" cy="484020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900000">
              <a:off x="5748840" y="4154400"/>
              <a:ext cx="4454640" cy="445284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900000">
              <a:off x="5942880" y="4348080"/>
              <a:ext cx="4067280" cy="406548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900000">
              <a:off x="6138000" y="4541760"/>
              <a:ext cx="3679920" cy="367668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900000">
              <a:off x="6332040" y="4736160"/>
              <a:ext cx="3290760" cy="328932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423120" y="3529080"/>
            <a:ext cx="5700600" cy="5700240"/>
            <a:chOff x="6423120" y="3529080"/>
            <a:chExt cx="5700600" cy="5700240"/>
          </a:xfrm>
        </p:grpSpPr>
        <p:sp>
          <p:nvSpPr>
            <p:cNvPr id="263" name=""/>
            <p:cNvSpPr/>
            <p:nvPr/>
          </p:nvSpPr>
          <p:spPr>
            <a:xfrm rot="18900000">
              <a:off x="7257600" y="4363560"/>
              <a:ext cx="4030920" cy="403092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397280" y="4504320"/>
              <a:ext cx="3753000" cy="375048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7535160" y="4640400"/>
              <a:ext cx="3474720" cy="347364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7674480" y="4780800"/>
              <a:ext cx="3196800" cy="319572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7813080" y="4919760"/>
              <a:ext cx="2918880" cy="291744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7953480" y="5058720"/>
              <a:ext cx="2640960" cy="263844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8092800" y="5198040"/>
              <a:ext cx="2361600" cy="236052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989840" y="4737240"/>
            <a:ext cx="3360960" cy="3360960"/>
            <a:chOff x="7989840" y="4737240"/>
            <a:chExt cx="3360960" cy="3360960"/>
          </a:xfrm>
        </p:grpSpPr>
        <p:sp>
          <p:nvSpPr>
            <p:cNvPr id="271" name=""/>
            <p:cNvSpPr/>
            <p:nvPr/>
          </p:nvSpPr>
          <p:spPr>
            <a:xfrm rot="18900000">
              <a:off x="8481600" y="5229360"/>
              <a:ext cx="2376720" cy="2376360"/>
            </a:xfrm>
            <a:prstGeom prst="blockArc">
              <a:avLst>
                <a:gd name="adj1" fmla="val 13538359"/>
                <a:gd name="adj2" fmla="val 18861641"/>
                <a:gd name="adj3" fmla="val 3352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8564040" y="5312520"/>
              <a:ext cx="2212920" cy="2211120"/>
            </a:xfrm>
            <a:prstGeom prst="blockArc">
              <a:avLst>
                <a:gd name="adj1" fmla="val 13540984"/>
                <a:gd name="adj2" fmla="val 18859016"/>
                <a:gd name="adj3" fmla="val 3597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8645400" y="5392080"/>
              <a:ext cx="2048760" cy="2047680"/>
            </a:xfrm>
            <a:prstGeom prst="blockArc">
              <a:avLst>
                <a:gd name="adj1" fmla="val 13540981"/>
                <a:gd name="adj2" fmla="val 18859019"/>
                <a:gd name="adj3" fmla="val 3866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8727480" y="5474880"/>
              <a:ext cx="1884960" cy="1883880"/>
            </a:xfrm>
            <a:prstGeom prst="blockArc">
              <a:avLst>
                <a:gd name="adj1" fmla="val 13541363"/>
                <a:gd name="adj2" fmla="val 18858637"/>
                <a:gd name="adj3" fmla="val 4292"/>
              </a:avLst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8809200" y="5556960"/>
              <a:ext cx="1721160" cy="1720080"/>
            </a:xfrm>
            <a:prstGeom prst="blockArc">
              <a:avLst>
                <a:gd name="adj1" fmla="val 13545860"/>
                <a:gd name="adj2" fmla="val 18854140"/>
                <a:gd name="adj3" fmla="val 4847"/>
              </a:avLst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8892000" y="5639040"/>
              <a:ext cx="1557000" cy="1555560"/>
            </a:xfrm>
            <a:prstGeom prst="blockArc">
              <a:avLst>
                <a:gd name="adj1" fmla="val 13552922"/>
                <a:gd name="adj2" fmla="val 18847078"/>
                <a:gd name="adj3" fmla="val 5130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8974080" y="5721120"/>
              <a:ext cx="1392480" cy="1391760"/>
            </a:xfrm>
            <a:prstGeom prst="blockArc">
              <a:avLst>
                <a:gd name="adj1" fmla="val 13560243"/>
                <a:gd name="adj2" fmla="val 18839757"/>
                <a:gd name="adj3" fmla="val 572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272880" y="333360"/>
            <a:ext cx="5616720" cy="5616720"/>
            <a:chOff x="272880" y="333360"/>
            <a:chExt cx="5616720" cy="5616720"/>
          </a:xfrm>
        </p:grpSpPr>
        <p:sp>
          <p:nvSpPr>
            <p:cNvPr id="279" name=""/>
            <p:cNvSpPr/>
            <p:nvPr/>
          </p:nvSpPr>
          <p:spPr>
            <a:xfrm>
              <a:off x="272880" y="333360"/>
              <a:ext cx="5616720" cy="561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6560" y="530280"/>
              <a:ext cx="5229360" cy="522612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1800" y="417600"/>
              <a:ext cx="5430960" cy="54356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6640" y="627120"/>
              <a:ext cx="5016600" cy="501336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8800" y="719280"/>
              <a:ext cx="4845240" cy="484164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6160" y="836640"/>
              <a:ext cx="4613400" cy="46101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87400" y="949320"/>
              <a:ext cx="4388040" cy="438480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889600" y="1989000"/>
            <a:ext cx="2376360" cy="2376720"/>
            <a:chOff x="5889600" y="1989000"/>
            <a:chExt cx="2376360" cy="2376720"/>
          </a:xfrm>
        </p:grpSpPr>
        <p:sp>
          <p:nvSpPr>
            <p:cNvPr id="287" name=""/>
            <p:cNvSpPr/>
            <p:nvPr/>
          </p:nvSpPr>
          <p:spPr>
            <a:xfrm>
              <a:off x="5889600" y="1989000"/>
              <a:ext cx="2376360" cy="237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71320" y="2072160"/>
              <a:ext cx="2212560" cy="221148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27040" y="2024640"/>
              <a:ext cx="2297880" cy="23000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3800" y="2113200"/>
              <a:ext cx="2122560" cy="212148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52680" y="2152080"/>
              <a:ext cx="2049840" cy="20487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02360" y="2201760"/>
              <a:ext cx="1951920" cy="195084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49520" y="2249640"/>
              <a:ext cx="1856520" cy="185544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8337600" y="2565360"/>
            <a:ext cx="1224000" cy="1224000"/>
            <a:chOff x="8337600" y="2565360"/>
            <a:chExt cx="1224000" cy="1224000"/>
          </a:xfrm>
        </p:grpSpPr>
        <p:sp>
          <p:nvSpPr>
            <p:cNvPr id="295" name=""/>
            <p:cNvSpPr/>
            <p:nvPr/>
          </p:nvSpPr>
          <p:spPr>
            <a:xfrm>
              <a:off x="8337600" y="2565360"/>
              <a:ext cx="1224000" cy="122400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79720" y="2608200"/>
              <a:ext cx="1139760" cy="113904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56680" y="2583720"/>
              <a:ext cx="1183680" cy="118476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01320" y="2629080"/>
              <a:ext cx="1093320" cy="109260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21480" y="2649240"/>
              <a:ext cx="1055880" cy="10551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47040" y="2674800"/>
              <a:ext cx="1005480" cy="10047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71520" y="2699280"/>
              <a:ext cx="956160" cy="95544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44520" y="3429000"/>
            <a:ext cx="5616720" cy="5616720"/>
            <a:chOff x="344520" y="3429000"/>
            <a:chExt cx="5616720" cy="5616720"/>
          </a:xfrm>
        </p:grpSpPr>
        <p:sp>
          <p:nvSpPr>
            <p:cNvPr id="303" name=""/>
            <p:cNvSpPr/>
            <p:nvPr/>
          </p:nvSpPr>
          <p:spPr>
            <a:xfrm>
              <a:off x="344520" y="3429000"/>
              <a:ext cx="5616720" cy="561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8200" y="3625920"/>
              <a:ext cx="5229360" cy="522612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3440" y="3513240"/>
              <a:ext cx="5430960" cy="54356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8280" y="3722760"/>
              <a:ext cx="5016600" cy="501336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0440" y="3814920"/>
              <a:ext cx="4845240" cy="484164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7800" y="3932280"/>
              <a:ext cx="4613400" cy="46101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59040" y="4044960"/>
              <a:ext cx="4388040" cy="438480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961240" y="5084640"/>
            <a:ext cx="2376360" cy="2376720"/>
            <a:chOff x="5961240" y="5084640"/>
            <a:chExt cx="2376360" cy="2376720"/>
          </a:xfrm>
        </p:grpSpPr>
        <p:sp>
          <p:nvSpPr>
            <p:cNvPr id="311" name=""/>
            <p:cNvSpPr/>
            <p:nvPr/>
          </p:nvSpPr>
          <p:spPr>
            <a:xfrm>
              <a:off x="5961240" y="5084640"/>
              <a:ext cx="2376360" cy="237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42960" y="5167800"/>
              <a:ext cx="2212560" cy="221148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98680" y="5120280"/>
              <a:ext cx="2297880" cy="23000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85440" y="5208840"/>
              <a:ext cx="2122560" cy="212148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24320" y="5247720"/>
              <a:ext cx="2049840" cy="20487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4000" y="5297400"/>
              <a:ext cx="1951920" cy="195084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21160" y="5345280"/>
              <a:ext cx="1856520" cy="185544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408880" y="5661000"/>
            <a:ext cx="1224000" cy="1224000"/>
            <a:chOff x="8408880" y="5661000"/>
            <a:chExt cx="1224000" cy="1224000"/>
          </a:xfrm>
        </p:grpSpPr>
        <p:sp>
          <p:nvSpPr>
            <p:cNvPr id="319" name=""/>
            <p:cNvSpPr/>
            <p:nvPr/>
          </p:nvSpPr>
          <p:spPr>
            <a:xfrm>
              <a:off x="8408880" y="5661000"/>
              <a:ext cx="1224000" cy="122400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51000" y="5703840"/>
              <a:ext cx="1139760" cy="113904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27960" y="5679360"/>
              <a:ext cx="1183680" cy="118476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72600" y="5724720"/>
              <a:ext cx="1093320" cy="109260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92760" y="5744880"/>
              <a:ext cx="1055880" cy="10551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518320" y="5770440"/>
              <a:ext cx="1005480" cy="10047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42800" y="5794920"/>
              <a:ext cx="956160" cy="95544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2880" y="333360"/>
            <a:ext cx="5616720" cy="5616720"/>
            <a:chOff x="272880" y="333360"/>
            <a:chExt cx="5616720" cy="5616720"/>
          </a:xfrm>
        </p:grpSpPr>
        <p:sp>
          <p:nvSpPr>
            <p:cNvPr id="327" name=""/>
            <p:cNvSpPr/>
            <p:nvPr/>
          </p:nvSpPr>
          <p:spPr>
            <a:xfrm>
              <a:off x="272880" y="333360"/>
              <a:ext cx="5616720" cy="561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6560" y="530280"/>
              <a:ext cx="5229360" cy="522612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1800" y="417600"/>
              <a:ext cx="5430960" cy="54356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6640" y="627120"/>
              <a:ext cx="5016600" cy="501336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8800" y="719280"/>
              <a:ext cx="4845240" cy="484164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6160" y="836640"/>
              <a:ext cx="4613400" cy="46101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87400" y="949320"/>
              <a:ext cx="4388040" cy="438480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889600" y="1989000"/>
            <a:ext cx="2376360" cy="2376720"/>
            <a:chOff x="5889600" y="1989000"/>
            <a:chExt cx="2376360" cy="2376720"/>
          </a:xfrm>
        </p:grpSpPr>
        <p:sp>
          <p:nvSpPr>
            <p:cNvPr id="335" name=""/>
            <p:cNvSpPr/>
            <p:nvPr/>
          </p:nvSpPr>
          <p:spPr>
            <a:xfrm>
              <a:off x="5889600" y="1989000"/>
              <a:ext cx="2376360" cy="237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71320" y="2072160"/>
              <a:ext cx="2212560" cy="221148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27040" y="2024640"/>
              <a:ext cx="2297880" cy="23000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13800" y="2113200"/>
              <a:ext cx="2122560" cy="212148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52680" y="2152080"/>
              <a:ext cx="2049840" cy="20487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02360" y="2201760"/>
              <a:ext cx="1951920" cy="195084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49520" y="2249640"/>
              <a:ext cx="1856520" cy="185544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8337600" y="2565360"/>
            <a:ext cx="1224000" cy="1224000"/>
            <a:chOff x="8337600" y="2565360"/>
            <a:chExt cx="1224000" cy="1224000"/>
          </a:xfrm>
        </p:grpSpPr>
        <p:sp>
          <p:nvSpPr>
            <p:cNvPr id="343" name=""/>
            <p:cNvSpPr/>
            <p:nvPr/>
          </p:nvSpPr>
          <p:spPr>
            <a:xfrm>
              <a:off x="8337600" y="2565360"/>
              <a:ext cx="1224000" cy="122400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79720" y="2608200"/>
              <a:ext cx="1139760" cy="113904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56680" y="2583720"/>
              <a:ext cx="1183680" cy="118476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401320" y="2629080"/>
              <a:ext cx="1093320" cy="109260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21480" y="2649240"/>
              <a:ext cx="1055880" cy="10551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47040" y="2674800"/>
              <a:ext cx="1005480" cy="10047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71520" y="2699280"/>
              <a:ext cx="956160" cy="95544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44520" y="3429000"/>
            <a:ext cx="5616720" cy="5616720"/>
            <a:chOff x="344520" y="3429000"/>
            <a:chExt cx="5616720" cy="5616720"/>
          </a:xfrm>
        </p:grpSpPr>
        <p:sp>
          <p:nvSpPr>
            <p:cNvPr id="351" name=""/>
            <p:cNvSpPr/>
            <p:nvPr/>
          </p:nvSpPr>
          <p:spPr>
            <a:xfrm>
              <a:off x="344520" y="3429000"/>
              <a:ext cx="5616720" cy="561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8200" y="3625920"/>
              <a:ext cx="5229360" cy="522612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3440" y="3513240"/>
              <a:ext cx="5430960" cy="54356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8280" y="3722760"/>
              <a:ext cx="5016600" cy="501336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0440" y="3814920"/>
              <a:ext cx="4845240" cy="484164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47800" y="3932280"/>
              <a:ext cx="4613400" cy="46101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59040" y="4044960"/>
              <a:ext cx="4388040" cy="438480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961240" y="5084640"/>
            <a:ext cx="2376360" cy="2376720"/>
            <a:chOff x="5961240" y="5084640"/>
            <a:chExt cx="2376360" cy="2376720"/>
          </a:xfrm>
        </p:grpSpPr>
        <p:sp>
          <p:nvSpPr>
            <p:cNvPr id="359" name=""/>
            <p:cNvSpPr/>
            <p:nvPr/>
          </p:nvSpPr>
          <p:spPr>
            <a:xfrm>
              <a:off x="5961240" y="5084640"/>
              <a:ext cx="2376360" cy="237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42960" y="5167800"/>
              <a:ext cx="2212560" cy="221148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98680" y="5120280"/>
              <a:ext cx="2297880" cy="23000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85440" y="5208840"/>
              <a:ext cx="2122560" cy="212148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24320" y="5247720"/>
              <a:ext cx="2049840" cy="20487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4000" y="5297400"/>
              <a:ext cx="1951920" cy="195084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21160" y="5345280"/>
              <a:ext cx="1856520" cy="185544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8408880" y="5661000"/>
            <a:ext cx="1224000" cy="1224000"/>
            <a:chOff x="8408880" y="5661000"/>
            <a:chExt cx="1224000" cy="1224000"/>
          </a:xfrm>
        </p:grpSpPr>
        <p:sp>
          <p:nvSpPr>
            <p:cNvPr id="367" name=""/>
            <p:cNvSpPr/>
            <p:nvPr/>
          </p:nvSpPr>
          <p:spPr>
            <a:xfrm>
              <a:off x="8408880" y="5661000"/>
              <a:ext cx="1224000" cy="122400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51000" y="5703840"/>
              <a:ext cx="1139760" cy="113904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27960" y="5679360"/>
              <a:ext cx="1183680" cy="118476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472600" y="5724720"/>
              <a:ext cx="1093320" cy="109260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92760" y="5744880"/>
              <a:ext cx="1055880" cy="10551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18320" y="5770440"/>
              <a:ext cx="1005480" cy="10047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542800" y="5794920"/>
              <a:ext cx="956160" cy="95544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272880" y="333360"/>
            <a:ext cx="5616720" cy="5616720"/>
            <a:chOff x="272880" y="333360"/>
            <a:chExt cx="5616720" cy="5616720"/>
          </a:xfrm>
        </p:grpSpPr>
        <p:sp>
          <p:nvSpPr>
            <p:cNvPr id="375" name=""/>
            <p:cNvSpPr/>
            <p:nvPr/>
          </p:nvSpPr>
          <p:spPr>
            <a:xfrm>
              <a:off x="272880" y="333360"/>
              <a:ext cx="5616720" cy="561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6560" y="530280"/>
              <a:ext cx="5229360" cy="522612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800" y="417600"/>
              <a:ext cx="5430960" cy="54356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640" y="627120"/>
              <a:ext cx="5016600" cy="501336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800" y="719280"/>
              <a:ext cx="4845240" cy="484164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6160" y="836640"/>
              <a:ext cx="4613400" cy="46101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gradFill rotWithShape="0">
              <a:gsLst>
                <a:gs pos="0">
                  <a:srgbClr val="19194d">
                    <a:alpha val="0"/>
                  </a:srgbClr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7400" y="949320"/>
              <a:ext cx="4388040" cy="438480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gradFill rotWithShape="0">
              <a:gsLst>
                <a:gs pos="0">
                  <a:srgbClr val="3b003b">
                    <a:alpha val="0"/>
                  </a:srgbClr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240160" y="1413000"/>
            <a:ext cx="3097440" cy="3097080"/>
            <a:chOff x="5240160" y="1413000"/>
            <a:chExt cx="3097440" cy="3097080"/>
          </a:xfrm>
        </p:grpSpPr>
        <p:sp>
          <p:nvSpPr>
            <p:cNvPr id="383" name=""/>
            <p:cNvSpPr/>
            <p:nvPr/>
          </p:nvSpPr>
          <p:spPr>
            <a:xfrm>
              <a:off x="5240160" y="1413000"/>
              <a:ext cx="3097440" cy="309708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46720" y="1521360"/>
              <a:ext cx="2883960" cy="288180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89120" y="1459440"/>
              <a:ext cx="2994840" cy="299736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02160" y="1574640"/>
              <a:ext cx="2766600" cy="276444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52920" y="1625760"/>
              <a:ext cx="2671920" cy="26697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17360" y="1690200"/>
              <a:ext cx="2544120" cy="25419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gradFill rotWithShape="0">
              <a:gsLst>
                <a:gs pos="0">
                  <a:srgbClr val="19194d">
                    <a:alpha val="0"/>
                  </a:srgbClr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8920" y="1752480"/>
              <a:ext cx="2419920" cy="241776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gradFill rotWithShape="0">
              <a:gsLst>
                <a:gs pos="0">
                  <a:srgbClr val="3b003b">
                    <a:alpha val="0"/>
                  </a:srgbClr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7832880" y="2060640"/>
            <a:ext cx="1512720" cy="1512720"/>
            <a:chOff x="7832880" y="2060640"/>
            <a:chExt cx="1512720" cy="1512720"/>
          </a:xfrm>
        </p:grpSpPr>
        <p:sp>
          <p:nvSpPr>
            <p:cNvPr id="391" name=""/>
            <p:cNvSpPr/>
            <p:nvPr/>
          </p:nvSpPr>
          <p:spPr>
            <a:xfrm>
              <a:off x="7832880" y="2060640"/>
              <a:ext cx="1512720" cy="1512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84720" y="2113560"/>
              <a:ext cx="1408320" cy="140760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56640" y="2083320"/>
              <a:ext cx="1462680" cy="146412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11720" y="2139480"/>
              <a:ext cx="1351080" cy="135036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36560" y="2164320"/>
              <a:ext cx="1305000" cy="130392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8240" y="2196000"/>
              <a:ext cx="1242360" cy="124164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gradFill rotWithShape="0">
              <a:gsLst>
                <a:gs pos="0">
                  <a:srgbClr val="19194d">
                    <a:alpha val="0"/>
                  </a:srgbClr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98120" y="2226240"/>
              <a:ext cx="1181880" cy="118080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gradFill rotWithShape="0">
              <a:gsLst>
                <a:gs pos="0">
                  <a:srgbClr val="3b003b">
                    <a:alpha val="0"/>
                  </a:srgbClr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44520" y="3068640"/>
            <a:ext cx="5616720" cy="5616720"/>
            <a:chOff x="344520" y="3068640"/>
            <a:chExt cx="5616720" cy="5616720"/>
          </a:xfrm>
        </p:grpSpPr>
        <p:sp>
          <p:nvSpPr>
            <p:cNvPr id="399" name=""/>
            <p:cNvSpPr/>
            <p:nvPr/>
          </p:nvSpPr>
          <p:spPr>
            <a:xfrm>
              <a:off x="344520" y="3068640"/>
              <a:ext cx="5616720" cy="5616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8200" y="3265560"/>
              <a:ext cx="5229360" cy="522612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440" y="3152880"/>
              <a:ext cx="5430960" cy="543564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8280" y="3362400"/>
              <a:ext cx="5016600" cy="501336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0440" y="3454560"/>
              <a:ext cx="4845240" cy="484164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47800" y="3571920"/>
              <a:ext cx="4613400" cy="46101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gradFill rotWithShape="0">
              <a:gsLst>
                <a:gs pos="0">
                  <a:srgbClr val="19194d">
                    <a:alpha val="0"/>
                  </a:srgbClr>
                </a:gs>
                <a:gs pos="100000">
                  <a:srgbClr val="333399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59040" y="3684600"/>
              <a:ext cx="4388040" cy="438480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gradFill rotWithShape="0">
              <a:gsLst>
                <a:gs pos="0">
                  <a:srgbClr val="3b003b">
                    <a:alpha val="0"/>
                  </a:srgbClr>
                </a:gs>
                <a:gs pos="100000">
                  <a:srgbClr val="80008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311800" y="4148280"/>
            <a:ext cx="3097080" cy="3097080"/>
            <a:chOff x="5311800" y="4148280"/>
            <a:chExt cx="3097080" cy="3097080"/>
          </a:xfrm>
        </p:grpSpPr>
        <p:sp>
          <p:nvSpPr>
            <p:cNvPr id="407" name=""/>
            <p:cNvSpPr/>
            <p:nvPr/>
          </p:nvSpPr>
          <p:spPr>
            <a:xfrm>
              <a:off x="5311800" y="4148280"/>
              <a:ext cx="3097080" cy="309708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18360" y="4256640"/>
              <a:ext cx="2883600" cy="288180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0760" y="4194720"/>
              <a:ext cx="2994480" cy="299736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73440" y="4309920"/>
              <a:ext cx="2766240" cy="276444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24560" y="4361040"/>
              <a:ext cx="2671560" cy="266976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89000" y="4425480"/>
              <a:ext cx="2543760" cy="254196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gradFill rotWithShape="0">
              <a:gsLst>
                <a:gs pos="0">
                  <a:srgbClr val="19194d">
                    <a:alpha val="0"/>
                  </a:srgbClr>
                </a:gs>
                <a:gs pos="100000">
                  <a:srgbClr val="333399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50560" y="4487760"/>
              <a:ext cx="2419560" cy="241776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gradFill rotWithShape="0">
              <a:gsLst>
                <a:gs pos="0">
                  <a:srgbClr val="3b003b">
                    <a:alpha val="0"/>
                  </a:srgbClr>
                </a:gs>
                <a:gs pos="100000">
                  <a:srgbClr val="80008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904160" y="4795920"/>
            <a:ext cx="1512720" cy="1512720"/>
            <a:chOff x="7904160" y="4795920"/>
            <a:chExt cx="1512720" cy="1512720"/>
          </a:xfrm>
        </p:grpSpPr>
        <p:sp>
          <p:nvSpPr>
            <p:cNvPr id="415" name=""/>
            <p:cNvSpPr/>
            <p:nvPr/>
          </p:nvSpPr>
          <p:spPr>
            <a:xfrm>
              <a:off x="7904160" y="4795920"/>
              <a:ext cx="1512720" cy="1512720"/>
            </a:xfrm>
            <a:prstGeom prst="blockArc">
              <a:avLst>
                <a:gd name="adj1" fmla="val 10801974"/>
                <a:gd name="adj2" fmla="val 21598026"/>
                <a:gd name="adj3" fmla="val 1639"/>
              </a:avLst>
            </a:prstGeom>
            <a:gradFill rotWithShape="0">
              <a:gsLst>
                <a:gs pos="0">
                  <a:srgbClr val="750000">
                    <a:alpha val="0"/>
                  </a:srgbClr>
                </a:gs>
                <a:gs pos="100000">
                  <a:srgbClr val="ff00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56000" y="4848840"/>
              <a:ext cx="1408320" cy="1407600"/>
            </a:xfrm>
            <a:prstGeom prst="blockArc">
              <a:avLst>
                <a:gd name="adj1" fmla="val 10806644"/>
                <a:gd name="adj2" fmla="val 21593356"/>
                <a:gd name="adj3" fmla="val 2093"/>
              </a:avLst>
            </a:prstGeom>
            <a:gradFill rotWithShape="0">
              <a:gsLst>
                <a:gs pos="0">
                  <a:srgbClr val="752f00">
                    <a:alpha val="0"/>
                  </a:srgbClr>
                </a:gs>
                <a:gs pos="100000">
                  <a:srgbClr val="ff66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7920" y="4818600"/>
              <a:ext cx="1462680" cy="1464120"/>
            </a:xfrm>
            <a:prstGeom prst="blockArc">
              <a:avLst>
                <a:gd name="adj1" fmla="val 10795692"/>
                <a:gd name="adj2" fmla="val 4308"/>
                <a:gd name="adj3" fmla="val 1958"/>
              </a:avLst>
            </a:prstGeom>
            <a:gradFill rotWithShape="0">
              <a:gsLst>
                <a:gs pos="0">
                  <a:srgbClr val="757500">
                    <a:alpha val="0"/>
                  </a:srgbClr>
                </a:gs>
                <a:gs pos="100000">
                  <a:srgbClr val="ffff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83000" y="4874760"/>
              <a:ext cx="1351080" cy="1350360"/>
            </a:xfrm>
            <a:prstGeom prst="blockArc">
              <a:avLst>
                <a:gd name="adj1" fmla="val 10793056"/>
                <a:gd name="adj2" fmla="val 6944"/>
                <a:gd name="adj3" fmla="val 1866"/>
              </a:avLst>
            </a:prstGeom>
            <a:gradFill rotWithShape="0">
              <a:gsLst>
                <a:gs pos="0">
                  <a:srgbClr val="003b00">
                    <a:alpha val="0"/>
                  </a:srgbClr>
                </a:gs>
                <a:gs pos="100000">
                  <a:srgbClr val="0080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7840" y="4899600"/>
              <a:ext cx="1305000" cy="1303920"/>
            </a:xfrm>
            <a:prstGeom prst="blockArc">
              <a:avLst>
                <a:gd name="adj1" fmla="val 10802340"/>
                <a:gd name="adj2" fmla="val 21597660"/>
                <a:gd name="adj3" fmla="val 2394"/>
              </a:avLst>
            </a:prstGeom>
            <a:gradFill rotWithShape="0">
              <a:gsLst>
                <a:gs pos="0">
                  <a:srgbClr val="000075">
                    <a:alpha val="0"/>
                  </a:srgbClr>
                </a:gs>
                <a:gs pos="100000">
                  <a:srgbClr val="0000ff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39520" y="4931280"/>
              <a:ext cx="1242360" cy="1241640"/>
            </a:xfrm>
            <a:prstGeom prst="blockArc">
              <a:avLst>
                <a:gd name="adj1" fmla="val 10805023"/>
                <a:gd name="adj2" fmla="val 21594977"/>
                <a:gd name="adj3" fmla="val 2477"/>
              </a:avLst>
            </a:prstGeom>
            <a:gradFill rotWithShape="0">
              <a:gsLst>
                <a:gs pos="0">
                  <a:srgbClr val="19194d">
                    <a:alpha val="0"/>
                  </a:srgbClr>
                </a:gs>
                <a:gs pos="100000">
                  <a:srgbClr val="333399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69400" y="4961520"/>
              <a:ext cx="1181880" cy="1180800"/>
            </a:xfrm>
            <a:prstGeom prst="blockArc">
              <a:avLst>
                <a:gd name="adj1" fmla="val 10800000"/>
                <a:gd name="adj2" fmla="val 0"/>
                <a:gd name="adj3" fmla="val 2824"/>
              </a:avLst>
            </a:prstGeom>
            <a:gradFill rotWithShape="0">
              <a:gsLst>
                <a:gs pos="0">
                  <a:srgbClr val="3b003b">
                    <a:alpha val="0"/>
                  </a:srgbClr>
                </a:gs>
                <a:gs pos="100000">
                  <a:srgbClr val="80008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3-01-16T08:08:32Z</dcterms:modified>
  <cp:revision>1</cp:revision>
  <dc:subject>PPT210_虹</dc:subject>
  <dc:title>PPT210_虹</dc:title>
</cp:coreProperties>
</file>