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017880" y="2664000"/>
            <a:ext cx="1619280" cy="161892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rot="5400000">
            <a:off x="2963880" y="2609640"/>
            <a:ext cx="1726920" cy="1727280"/>
          </a:xfrm>
          <a:prstGeom prst="blockArc">
            <a:avLst>
              <a:gd name="adj1" fmla="val 10800000"/>
              <a:gd name="adj2" fmla="val 0"/>
              <a:gd name="adj3" fmla="val 30884"/>
            </a:avLst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2700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422520" y="3068640"/>
            <a:ext cx="811440" cy="811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73960" y="638280"/>
            <a:ext cx="1619280" cy="161928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3214200">
            <a:off x="7419960" y="583920"/>
            <a:ext cx="1727280" cy="1727280"/>
          </a:xfrm>
          <a:prstGeom prst="blockArc">
            <a:avLst>
              <a:gd name="adj1" fmla="val 12985802"/>
              <a:gd name="adj2" fmla="val 19414198"/>
              <a:gd name="adj3" fmla="val 31065"/>
            </a:avLst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4884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78600" y="1042920"/>
            <a:ext cx="811440" cy="811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92520" y="593640"/>
            <a:ext cx="1619280" cy="161928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92600">
            <a:off x="2738520" y="539280"/>
            <a:ext cx="1727280" cy="1727280"/>
          </a:xfrm>
          <a:prstGeom prst="blockArc">
            <a:avLst>
              <a:gd name="adj1" fmla="val 15109463"/>
              <a:gd name="adj2" fmla="val 17290537"/>
              <a:gd name="adj3" fmla="val 32861"/>
            </a:avLst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7008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1840" y="998640"/>
            <a:ext cx="811440" cy="811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43600" y="593640"/>
            <a:ext cx="1619280" cy="161928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115600">
            <a:off x="4989240" y="539280"/>
            <a:ext cx="1727280" cy="1727280"/>
          </a:xfrm>
          <a:prstGeom prst="blockArc">
            <a:avLst>
              <a:gd name="adj1" fmla="val 14074565"/>
              <a:gd name="adj2" fmla="val 18325435"/>
              <a:gd name="adj3" fmla="val 33199"/>
            </a:avLst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5982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48240" y="998640"/>
            <a:ext cx="811440" cy="811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24320" y="4824360"/>
            <a:ext cx="1746360" cy="1746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8100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92680" y="5292720"/>
            <a:ext cx="811440" cy="811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2160" y="593640"/>
            <a:ext cx="1619280" cy="161928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27160" y="998640"/>
            <a:ext cx="811080" cy="811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7880" y="2673360"/>
            <a:ext cx="1619280" cy="161928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4308000">
            <a:off x="623880" y="2619360"/>
            <a:ext cx="1727280" cy="1727280"/>
          </a:xfrm>
          <a:prstGeom prst="blockArc">
            <a:avLst>
              <a:gd name="adj1" fmla="val 11877370"/>
              <a:gd name="adj2" fmla="val 20522630"/>
              <a:gd name="adj3" fmla="val 31606"/>
            </a:avLst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3792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2520" y="3078000"/>
            <a:ext cx="811440" cy="811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6520" y="2664000"/>
            <a:ext cx="1618920" cy="161892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6510600">
            <a:off x="5131800" y="2609640"/>
            <a:ext cx="1726920" cy="1726920"/>
          </a:xfrm>
          <a:prstGeom prst="blockArc">
            <a:avLst>
              <a:gd name="adj1" fmla="val 9665877"/>
              <a:gd name="adj2" fmla="val 1134123"/>
              <a:gd name="adj3" fmla="val 30968"/>
            </a:avLst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1590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91160" y="3068640"/>
            <a:ext cx="811080" cy="811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7880" y="2664000"/>
            <a:ext cx="1619280" cy="161892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7572600">
            <a:off x="7373520" y="2609640"/>
            <a:ext cx="1726920" cy="1727280"/>
          </a:xfrm>
          <a:prstGeom prst="blockArc">
            <a:avLst>
              <a:gd name="adj1" fmla="val 8642104"/>
              <a:gd name="adj2" fmla="val 2157896"/>
              <a:gd name="adj3" fmla="val 32824"/>
            </a:avLst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528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880" y="4923000"/>
            <a:ext cx="1619280" cy="161892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8623800">
            <a:off x="677520" y="4868280"/>
            <a:ext cx="1727280" cy="1726920"/>
          </a:xfrm>
          <a:prstGeom prst="blockArc">
            <a:avLst>
              <a:gd name="adj1" fmla="val 7578174"/>
              <a:gd name="adj2" fmla="val 3221826"/>
              <a:gd name="adj3" fmla="val 30819"/>
            </a:avLst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21078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36520" y="5327640"/>
            <a:ext cx="811440" cy="811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2600" y="4788000"/>
            <a:ext cx="1618920" cy="1619280"/>
          </a:xfrm>
          <a:prstGeom prst="ellipse">
            <a:avLst/>
          </a:prstGeom>
          <a:solidFill>
            <a:srgbClr val="ff7c8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9726000">
            <a:off x="2837880" y="4734000"/>
            <a:ext cx="1726920" cy="1727280"/>
          </a:xfrm>
          <a:prstGeom prst="blockArc">
            <a:avLst>
              <a:gd name="adj1" fmla="val 6461991"/>
              <a:gd name="adj2" fmla="val 4338009"/>
              <a:gd name="adj3" fmla="val 31514"/>
            </a:avLst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19974000"/>
          </a:gradFill>
          <a:ln w="2844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97240" y="5192640"/>
            <a:ext cx="811080" cy="811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32880" y="3068640"/>
            <a:ext cx="811080" cy="811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22160" y="549360"/>
            <a:ext cx="1619280" cy="1663560"/>
            <a:chOff x="722160" y="549360"/>
            <a:chExt cx="1619280" cy="1663560"/>
          </a:xfrm>
        </p:grpSpPr>
        <p:sp>
          <p:nvSpPr>
            <p:cNvPr id="71" name=""/>
            <p:cNvSpPr/>
            <p:nvPr/>
          </p:nvSpPr>
          <p:spPr>
            <a:xfrm>
              <a:off x="722160" y="593640"/>
              <a:ext cx="1619280" cy="161928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27160" y="998640"/>
              <a:ext cx="811080" cy="81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285920" y="1231920"/>
              <a:ext cx="495000" cy="345600"/>
              <a:chOff x="1285920" y="1231920"/>
              <a:chExt cx="495000" cy="345600"/>
            </a:xfrm>
          </p:grpSpPr>
          <p:sp>
            <p:nvSpPr>
              <p:cNvPr id="74" name=""/>
              <p:cNvSpPr/>
              <p:nvPr/>
            </p:nvSpPr>
            <p:spPr>
              <a:xfrm>
                <a:off x="1285920" y="123516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85920" y="144036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1472760" y="123192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1491120" y="144036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78" name=""/>
            <p:cNvSpPr txBox="1"/>
            <p:nvPr/>
          </p:nvSpPr>
          <p:spPr>
            <a:xfrm>
              <a:off x="1173240" y="549360"/>
              <a:ext cx="80964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10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224320" y="4824360"/>
            <a:ext cx="1746360" cy="1746360"/>
            <a:chOff x="5224320" y="4824360"/>
            <a:chExt cx="1746360" cy="1746360"/>
          </a:xfrm>
        </p:grpSpPr>
        <p:sp>
          <p:nvSpPr>
            <p:cNvPr id="80" name=""/>
            <p:cNvSpPr/>
            <p:nvPr/>
          </p:nvSpPr>
          <p:spPr>
            <a:xfrm>
              <a:off x="5224320" y="4824360"/>
              <a:ext cx="1746360" cy="1746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8100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92680" y="5292720"/>
              <a:ext cx="811440" cy="81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850000" y="5524560"/>
              <a:ext cx="495000" cy="345600"/>
              <a:chOff x="5850000" y="5524560"/>
              <a:chExt cx="495000" cy="345600"/>
            </a:xfrm>
          </p:grpSpPr>
          <p:sp>
            <p:nvSpPr>
              <p:cNvPr id="83" name=""/>
              <p:cNvSpPr/>
              <p:nvPr/>
            </p:nvSpPr>
            <p:spPr>
              <a:xfrm>
                <a:off x="5850000" y="552780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50000" y="573300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6036840" y="552456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6055200" y="573300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87" name=""/>
            <p:cNvSpPr txBox="1"/>
            <p:nvPr/>
          </p:nvSpPr>
          <p:spPr>
            <a:xfrm>
              <a:off x="5718240" y="4824360"/>
              <a:ext cx="80964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10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649400" y="199440"/>
            <a:ext cx="2407680" cy="2407680"/>
            <a:chOff x="4649400" y="199440"/>
            <a:chExt cx="2407680" cy="2407680"/>
          </a:xfrm>
        </p:grpSpPr>
        <p:sp>
          <p:nvSpPr>
            <p:cNvPr id="89" name=""/>
            <p:cNvSpPr/>
            <p:nvPr/>
          </p:nvSpPr>
          <p:spPr>
            <a:xfrm>
              <a:off x="5043600" y="593640"/>
              <a:ext cx="1619280" cy="161928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15600">
              <a:off x="4989240" y="539280"/>
              <a:ext cx="1727280" cy="1727280"/>
            </a:xfrm>
            <a:prstGeom prst="blockArc">
              <a:avLst>
                <a:gd name="adj1" fmla="val 14074565"/>
                <a:gd name="adj2" fmla="val 18325435"/>
                <a:gd name="adj3" fmla="val 33199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5982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48240" y="998640"/>
              <a:ext cx="811440" cy="81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5605560" y="1230480"/>
              <a:ext cx="495000" cy="345600"/>
              <a:chOff x="5605560" y="1230480"/>
              <a:chExt cx="495000" cy="345600"/>
            </a:xfrm>
          </p:grpSpPr>
          <p:sp>
            <p:nvSpPr>
              <p:cNvPr id="93" name=""/>
              <p:cNvSpPr/>
              <p:nvPr/>
            </p:nvSpPr>
            <p:spPr>
              <a:xfrm>
                <a:off x="5605560" y="123372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05560" y="143892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5792400" y="123048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5810760" y="143892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97" name=""/>
            <p:cNvSpPr txBox="1"/>
            <p:nvPr/>
          </p:nvSpPr>
          <p:spPr>
            <a:xfrm>
              <a:off x="4908600" y="176364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8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122880" y="638280"/>
              <a:ext cx="63684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2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512080" y="312840"/>
            <a:ext cx="2180520" cy="2180520"/>
            <a:chOff x="2512080" y="312840"/>
            <a:chExt cx="2180520" cy="2180520"/>
          </a:xfrm>
        </p:grpSpPr>
        <p:sp>
          <p:nvSpPr>
            <p:cNvPr id="100" name=""/>
            <p:cNvSpPr/>
            <p:nvPr/>
          </p:nvSpPr>
          <p:spPr>
            <a:xfrm>
              <a:off x="2792520" y="593640"/>
              <a:ext cx="1619280" cy="161928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92600">
              <a:off x="2738520" y="539280"/>
              <a:ext cx="1727280" cy="1727280"/>
            </a:xfrm>
            <a:prstGeom prst="blockArc">
              <a:avLst>
                <a:gd name="adj1" fmla="val 15109463"/>
                <a:gd name="adj2" fmla="val 17290537"/>
                <a:gd name="adj3" fmla="val 3286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7008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01840" y="998640"/>
              <a:ext cx="811440" cy="81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360600" y="1231920"/>
              <a:ext cx="495000" cy="345600"/>
              <a:chOff x="3360600" y="1231920"/>
              <a:chExt cx="495000" cy="345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60600" y="123516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360600" y="144036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3547440" y="123192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3565800" y="144036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108" name=""/>
            <p:cNvSpPr txBox="1"/>
            <p:nvPr/>
          </p:nvSpPr>
          <p:spPr>
            <a:xfrm>
              <a:off x="2747880" y="1763640"/>
              <a:ext cx="63684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9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692520" y="36828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1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076160" y="240120"/>
            <a:ext cx="2415240" cy="2415600"/>
            <a:chOff x="7076160" y="240120"/>
            <a:chExt cx="2415240" cy="2415600"/>
          </a:xfrm>
        </p:grpSpPr>
        <p:sp>
          <p:nvSpPr>
            <p:cNvPr id="111" name=""/>
            <p:cNvSpPr/>
            <p:nvPr/>
          </p:nvSpPr>
          <p:spPr>
            <a:xfrm>
              <a:off x="7473960" y="638280"/>
              <a:ext cx="1619280" cy="161928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214200">
              <a:off x="7419960" y="583920"/>
              <a:ext cx="1727280" cy="1727280"/>
            </a:xfrm>
            <a:prstGeom prst="blockArc">
              <a:avLst>
                <a:gd name="adj1" fmla="val 12985802"/>
                <a:gd name="adj2" fmla="val 19414198"/>
                <a:gd name="adj3" fmla="val 3106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4884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78600" y="1042920"/>
              <a:ext cx="811440" cy="811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8035920" y="1274760"/>
              <a:ext cx="495000" cy="345600"/>
              <a:chOff x="8035920" y="1274760"/>
              <a:chExt cx="495000" cy="345600"/>
            </a:xfrm>
          </p:grpSpPr>
          <p:sp>
            <p:nvSpPr>
              <p:cNvPr id="115" name=""/>
              <p:cNvSpPr/>
              <p:nvPr/>
            </p:nvSpPr>
            <p:spPr>
              <a:xfrm>
                <a:off x="8035920" y="127800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035920" y="148320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8222760" y="127476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8241120" y="148320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119" name=""/>
            <p:cNvSpPr txBox="1"/>
            <p:nvPr/>
          </p:nvSpPr>
          <p:spPr>
            <a:xfrm>
              <a:off x="8732880" y="819000"/>
              <a:ext cx="636480" cy="37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3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7292880" y="1628640"/>
              <a:ext cx="63684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7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97440" y="2392920"/>
            <a:ext cx="2221920" cy="2180520"/>
            <a:chOff x="397440" y="2392920"/>
            <a:chExt cx="2221920" cy="2180520"/>
          </a:xfrm>
        </p:grpSpPr>
        <p:sp>
          <p:nvSpPr>
            <p:cNvPr id="122" name=""/>
            <p:cNvSpPr/>
            <p:nvPr/>
          </p:nvSpPr>
          <p:spPr>
            <a:xfrm>
              <a:off x="677880" y="2673360"/>
              <a:ext cx="1619280" cy="161928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308000">
              <a:off x="623880" y="2619360"/>
              <a:ext cx="1727280" cy="1727280"/>
            </a:xfrm>
            <a:prstGeom prst="blockArc">
              <a:avLst>
                <a:gd name="adj1" fmla="val 11877370"/>
                <a:gd name="adj2" fmla="val 20522630"/>
                <a:gd name="adj3" fmla="val 31606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3792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82520" y="3078000"/>
              <a:ext cx="811440" cy="811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241280" y="3309840"/>
              <a:ext cx="495000" cy="345960"/>
              <a:chOff x="1241280" y="3309840"/>
              <a:chExt cx="495000" cy="345960"/>
            </a:xfrm>
          </p:grpSpPr>
          <p:sp>
            <p:nvSpPr>
              <p:cNvPr id="126" name=""/>
              <p:cNvSpPr/>
              <p:nvPr/>
            </p:nvSpPr>
            <p:spPr>
              <a:xfrm>
                <a:off x="1241280" y="331308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41280" y="351864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1428120" y="330984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1446480" y="351864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130" name=""/>
            <p:cNvSpPr txBox="1"/>
            <p:nvPr/>
          </p:nvSpPr>
          <p:spPr>
            <a:xfrm>
              <a:off x="1982880" y="306864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4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496800" y="3743280"/>
              <a:ext cx="63684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6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703600" y="2610000"/>
            <a:ext cx="2300040" cy="1726920"/>
            <a:chOff x="2703600" y="2610000"/>
            <a:chExt cx="2300040" cy="1726920"/>
          </a:xfrm>
        </p:grpSpPr>
        <p:sp>
          <p:nvSpPr>
            <p:cNvPr id="133" name=""/>
            <p:cNvSpPr/>
            <p:nvPr/>
          </p:nvSpPr>
          <p:spPr>
            <a:xfrm>
              <a:off x="3017880" y="2664000"/>
              <a:ext cx="1619280" cy="161892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2963880" y="2609640"/>
              <a:ext cx="1726920" cy="1727280"/>
            </a:xfrm>
            <a:prstGeom prst="blockArc">
              <a:avLst>
                <a:gd name="adj1" fmla="val 10800000"/>
                <a:gd name="adj2" fmla="val 0"/>
                <a:gd name="adj3" fmla="val 30884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2700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2520" y="3068640"/>
              <a:ext cx="811440" cy="81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3581280" y="3300480"/>
              <a:ext cx="495000" cy="345600"/>
              <a:chOff x="3581280" y="3300480"/>
              <a:chExt cx="495000" cy="345600"/>
            </a:xfrm>
          </p:grpSpPr>
          <p:sp>
            <p:nvSpPr>
              <p:cNvPr id="137" name=""/>
              <p:cNvSpPr/>
              <p:nvPr/>
            </p:nvSpPr>
            <p:spPr>
              <a:xfrm>
                <a:off x="3581280" y="330372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81280" y="350892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3768120" y="330048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3786480" y="350892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141" name=""/>
            <p:cNvSpPr txBox="1"/>
            <p:nvPr/>
          </p:nvSpPr>
          <p:spPr>
            <a:xfrm>
              <a:off x="4367160" y="329400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5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2703600" y="324972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5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02480" y="2380320"/>
            <a:ext cx="2185920" cy="2185920"/>
            <a:chOff x="4902480" y="2380320"/>
            <a:chExt cx="2185920" cy="2185920"/>
          </a:xfrm>
        </p:grpSpPr>
        <p:sp>
          <p:nvSpPr>
            <p:cNvPr id="144" name=""/>
            <p:cNvSpPr/>
            <p:nvPr/>
          </p:nvSpPr>
          <p:spPr>
            <a:xfrm>
              <a:off x="5186520" y="2664000"/>
              <a:ext cx="1618920" cy="161892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6510600">
              <a:off x="5131800" y="2609640"/>
              <a:ext cx="1726920" cy="1726920"/>
            </a:xfrm>
            <a:prstGeom prst="blockArc">
              <a:avLst>
                <a:gd name="adj1" fmla="val 9665877"/>
                <a:gd name="adj2" fmla="val 1134123"/>
                <a:gd name="adj3" fmla="val 3096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1590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91160" y="3068640"/>
              <a:ext cx="811080" cy="81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749920" y="3300480"/>
              <a:ext cx="495000" cy="345600"/>
              <a:chOff x="5749920" y="3300480"/>
              <a:chExt cx="495000" cy="345600"/>
            </a:xfrm>
          </p:grpSpPr>
          <p:sp>
            <p:nvSpPr>
              <p:cNvPr id="148" name=""/>
              <p:cNvSpPr/>
              <p:nvPr/>
            </p:nvSpPr>
            <p:spPr>
              <a:xfrm>
                <a:off x="5749920" y="330372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49920" y="350892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5936760" y="330048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5955120" y="350892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152" name=""/>
            <p:cNvSpPr txBox="1"/>
            <p:nvPr/>
          </p:nvSpPr>
          <p:spPr>
            <a:xfrm>
              <a:off x="6392880" y="369900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6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997520" y="284328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4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30440" y="2266560"/>
            <a:ext cx="2413800" cy="2413440"/>
            <a:chOff x="7030440" y="2266560"/>
            <a:chExt cx="2413800" cy="2413440"/>
          </a:xfrm>
        </p:grpSpPr>
        <p:sp>
          <p:nvSpPr>
            <p:cNvPr id="155" name=""/>
            <p:cNvSpPr/>
            <p:nvPr/>
          </p:nvSpPr>
          <p:spPr>
            <a:xfrm>
              <a:off x="7427880" y="2664000"/>
              <a:ext cx="1619280" cy="161892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7572600">
              <a:off x="7373520" y="2609640"/>
              <a:ext cx="1726920" cy="1727280"/>
            </a:xfrm>
            <a:prstGeom prst="blockArc">
              <a:avLst>
                <a:gd name="adj1" fmla="val 8642104"/>
                <a:gd name="adj2" fmla="val 2157896"/>
                <a:gd name="adj3" fmla="val 32824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528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832880" y="3068640"/>
              <a:ext cx="811080" cy="811080"/>
              <a:chOff x="7832880" y="3068640"/>
              <a:chExt cx="811080" cy="811080"/>
            </a:xfrm>
          </p:grpSpPr>
          <p:sp>
            <p:nvSpPr>
              <p:cNvPr id="158" name=""/>
              <p:cNvSpPr/>
              <p:nvPr/>
            </p:nvSpPr>
            <p:spPr>
              <a:xfrm>
                <a:off x="7832880" y="3068640"/>
                <a:ext cx="811080" cy="81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7991280" y="3300480"/>
                <a:ext cx="495000" cy="345600"/>
                <a:chOff x="7991280" y="3300480"/>
                <a:chExt cx="495000" cy="3456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991280" y="3303720"/>
                  <a:ext cx="136440" cy="137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66ccff"/>
                    </a:gs>
                  </a:gsLst>
                  <a:lin ang="8100000"/>
                </a:gradFill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991280" y="3508920"/>
                  <a:ext cx="136440" cy="137160"/>
                </a:xfrm>
                <a:prstGeom prst="rect">
                  <a:avLst/>
                </a:prstGeom>
                <a:solidFill>
                  <a:srgbClr val="ff7c80"/>
                </a:solidFill>
                <a:ln w="2844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 txBox="1"/>
                <p:nvPr/>
              </p:nvSpPr>
              <p:spPr>
                <a:xfrm>
                  <a:off x="8178120" y="3300480"/>
                  <a:ext cx="308160" cy="135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メイリオ"/>
                    </a:rPr>
                    <a:t>Yes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  <a:ea typeface="メイリオ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8196480" y="3508920"/>
                  <a:ext cx="240120" cy="135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メイリオ"/>
                    </a:rPr>
                    <a:t>No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  <a:ea typeface="メイリオ"/>
                  </a:endParaRPr>
                </a:p>
              </p:txBody>
            </p:sp>
          </p:grpSp>
        </p:grpSp>
        <p:sp>
          <p:nvSpPr>
            <p:cNvPr id="164" name=""/>
            <p:cNvSpPr txBox="1"/>
            <p:nvPr/>
          </p:nvSpPr>
          <p:spPr>
            <a:xfrm>
              <a:off x="8643960" y="374328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7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7338960" y="275436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3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34440" y="4524840"/>
            <a:ext cx="2414160" cy="2414160"/>
            <a:chOff x="334440" y="4524840"/>
            <a:chExt cx="2414160" cy="2414160"/>
          </a:xfrm>
        </p:grpSpPr>
        <p:sp>
          <p:nvSpPr>
            <p:cNvPr id="167" name=""/>
            <p:cNvSpPr/>
            <p:nvPr/>
          </p:nvSpPr>
          <p:spPr>
            <a:xfrm>
              <a:off x="731880" y="4923000"/>
              <a:ext cx="1619280" cy="161892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8623800">
              <a:off x="677520" y="4868280"/>
              <a:ext cx="1727280" cy="1726920"/>
            </a:xfrm>
            <a:prstGeom prst="blockArc">
              <a:avLst>
                <a:gd name="adj1" fmla="val 7578174"/>
                <a:gd name="adj2" fmla="val 3221826"/>
                <a:gd name="adj3" fmla="val 30819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21078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36520" y="5327640"/>
              <a:ext cx="811440" cy="81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95280" y="5560920"/>
              <a:ext cx="495000" cy="345960"/>
              <a:chOff x="1295280" y="5560920"/>
              <a:chExt cx="495000" cy="345960"/>
            </a:xfrm>
          </p:grpSpPr>
          <p:sp>
            <p:nvSpPr>
              <p:cNvPr id="171" name=""/>
              <p:cNvSpPr/>
              <p:nvPr/>
            </p:nvSpPr>
            <p:spPr>
              <a:xfrm>
                <a:off x="1295280" y="556416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95280" y="576972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1482120" y="556092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1500480" y="576972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175" name=""/>
            <p:cNvSpPr txBox="1"/>
            <p:nvPr/>
          </p:nvSpPr>
          <p:spPr>
            <a:xfrm>
              <a:off x="1892160" y="6039000"/>
              <a:ext cx="63684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8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77880" y="491508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2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614680" y="4510440"/>
            <a:ext cx="2174040" cy="2174400"/>
            <a:chOff x="2614680" y="4510440"/>
            <a:chExt cx="2174040" cy="2174400"/>
          </a:xfrm>
        </p:grpSpPr>
        <p:sp>
          <p:nvSpPr>
            <p:cNvPr id="178" name=""/>
            <p:cNvSpPr/>
            <p:nvPr/>
          </p:nvSpPr>
          <p:spPr>
            <a:xfrm>
              <a:off x="2892600" y="4788000"/>
              <a:ext cx="1618920" cy="161928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9726000">
              <a:off x="2837880" y="4734000"/>
              <a:ext cx="1726920" cy="1727280"/>
            </a:xfrm>
            <a:prstGeom prst="blockArc">
              <a:avLst>
                <a:gd name="adj1" fmla="val 6461991"/>
                <a:gd name="adj2" fmla="val 4338009"/>
                <a:gd name="adj3" fmla="val 31514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6ccff"/>
                </a:gs>
              </a:gsLst>
              <a:lin ang="19974000"/>
            </a:gradFill>
            <a:ln w="2844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97240" y="5192640"/>
              <a:ext cx="811080" cy="811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456000" y="5424480"/>
              <a:ext cx="495000" cy="345600"/>
              <a:chOff x="3456000" y="5424480"/>
              <a:chExt cx="495000" cy="345600"/>
            </a:xfrm>
          </p:grpSpPr>
          <p:sp>
            <p:nvSpPr>
              <p:cNvPr id="182" name=""/>
              <p:cNvSpPr/>
              <p:nvPr/>
            </p:nvSpPr>
            <p:spPr>
              <a:xfrm>
                <a:off x="3456000" y="5427720"/>
                <a:ext cx="136440" cy="137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6ccff"/>
                  </a:gs>
                </a:gsLst>
                <a:lin ang="8100000"/>
              </a:gradFill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56000" y="5632920"/>
                <a:ext cx="136440" cy="13716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3642840" y="5424480"/>
                <a:ext cx="30816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Ye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3661200" y="5632920"/>
                <a:ext cx="240120" cy="13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メイリオ"/>
                  </a:rPr>
                  <a:t>No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186" name=""/>
            <p:cNvSpPr txBox="1"/>
            <p:nvPr/>
          </p:nvSpPr>
          <p:spPr>
            <a:xfrm>
              <a:off x="3962520" y="5950080"/>
              <a:ext cx="63648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9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2973240" y="4599000"/>
              <a:ext cx="636840" cy="3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メイリオ"/>
                </a:rPr>
                <a:t>10%</a:t>
              </a:r>
              <a:endParaRPr b="1" lang="en-US" sz="2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メイリオ"/>
                <a:ea typeface="メイリオ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973240" y="638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9802800">
            <a:off x="2972880" y="638280"/>
            <a:ext cx="1619280" cy="1619280"/>
          </a:xfrm>
          <a:prstGeom prst="blockArc">
            <a:avLst>
              <a:gd name="adj1" fmla="val 6409522"/>
              <a:gd name="adj2" fmla="val 4390478"/>
              <a:gd name="adj3" fmla="val 35097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9896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78240" y="1042920"/>
            <a:ext cx="811080" cy="8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38240" y="638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2880" y="1042920"/>
            <a:ext cx="811440" cy="8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98960" y="638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78600" y="638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98960" y="2573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78600" y="2573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38240" y="2573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3240" y="2573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97520" y="450864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36800" y="4508640"/>
            <a:ext cx="161892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450864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8732400">
            <a:off x="4997520" y="638280"/>
            <a:ext cx="1619280" cy="1619280"/>
          </a:xfrm>
          <a:prstGeom prst="blockArc">
            <a:avLst>
              <a:gd name="adj1" fmla="val 7435128"/>
              <a:gd name="adj2" fmla="val 3364872"/>
              <a:gd name="adj3" fmla="val 36171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097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03960" y="1042920"/>
            <a:ext cx="811080" cy="8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7605000">
            <a:off x="6978600" y="638280"/>
            <a:ext cx="1619280" cy="1619280"/>
          </a:xfrm>
          <a:prstGeom prst="blockArc">
            <a:avLst>
              <a:gd name="adj1" fmla="val 8589389"/>
              <a:gd name="adj2" fmla="val 2210611"/>
              <a:gd name="adj3" fmla="val 35926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498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6622800">
            <a:off x="1037880" y="2573280"/>
            <a:ext cx="1619280" cy="1619280"/>
          </a:xfrm>
          <a:prstGeom prst="blockArc">
            <a:avLst>
              <a:gd name="adj1" fmla="val 9546985"/>
              <a:gd name="adj2" fmla="val 1253015"/>
              <a:gd name="adj3" fmla="val 33796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476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973240" y="2573280"/>
            <a:ext cx="1619280" cy="1619280"/>
          </a:xfrm>
          <a:prstGeom prst="blockArc">
            <a:avLst>
              <a:gd name="adj1" fmla="val 10837121"/>
              <a:gd name="adj2" fmla="val 21562879"/>
              <a:gd name="adj3" fmla="val 31565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4338600">
            <a:off x="4997160" y="2573280"/>
            <a:ext cx="1619280" cy="1619280"/>
          </a:xfrm>
          <a:prstGeom prst="blockArc">
            <a:avLst>
              <a:gd name="adj1" fmla="val 11890285"/>
              <a:gd name="adj2" fmla="val 20509715"/>
              <a:gd name="adj3" fmla="val 30583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3762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3170400">
            <a:off x="6978600" y="2572920"/>
            <a:ext cx="1619280" cy="1619280"/>
          </a:xfrm>
          <a:prstGeom prst="blockArc">
            <a:avLst>
              <a:gd name="adj1" fmla="val 13010128"/>
              <a:gd name="adj2" fmla="val 19389872"/>
              <a:gd name="adj3" fmla="val 29972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4932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98800">
            <a:off x="1038240" y="4508640"/>
            <a:ext cx="1619280" cy="1619280"/>
          </a:xfrm>
          <a:prstGeom prst="blockArc">
            <a:avLst>
              <a:gd name="adj1" fmla="val 14095466"/>
              <a:gd name="adj2" fmla="val 18304534"/>
              <a:gd name="adj3" fmla="val 32051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60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940200">
            <a:off x="2972880" y="4508280"/>
            <a:ext cx="1619280" cy="1619280"/>
          </a:xfrm>
          <a:prstGeom prst="blockArc">
            <a:avLst>
              <a:gd name="adj1" fmla="val 15235528"/>
              <a:gd name="adj2" fmla="val 17164472"/>
              <a:gd name="adj3" fmla="val 36458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7158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83600" y="1042920"/>
            <a:ext cx="811080" cy="8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03960" y="2978280"/>
            <a:ext cx="81108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83600" y="2978280"/>
            <a:ext cx="81108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2880" y="2978280"/>
            <a:ext cx="81144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78240" y="2978280"/>
            <a:ext cx="81108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2160" y="4913280"/>
            <a:ext cx="81144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1440" y="4913280"/>
            <a:ext cx="81108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76440" y="4913280"/>
            <a:ext cx="81144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202520" y="4734000"/>
            <a:ext cx="5605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1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292880" y="5318280"/>
            <a:ext cx="4050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923240" y="5319720"/>
            <a:ext cx="4046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292880" y="5946840"/>
            <a:ext cx="4050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6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923240" y="5948280"/>
            <a:ext cx="40464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7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507520" y="5318280"/>
            <a:ext cx="4046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37520" y="5319720"/>
            <a:ext cx="4050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4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507520" y="5948280"/>
            <a:ext cx="40464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8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137520" y="5948280"/>
            <a:ext cx="4050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9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093240" y="4778280"/>
            <a:ext cx="40464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5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967520" y="4734000"/>
            <a:ext cx="1843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973240" y="638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9802800">
            <a:off x="2972880" y="638280"/>
            <a:ext cx="1619280" cy="1619280"/>
          </a:xfrm>
          <a:prstGeom prst="blockArc">
            <a:avLst>
              <a:gd name="adj1" fmla="val 6409522"/>
              <a:gd name="adj2" fmla="val 4390478"/>
              <a:gd name="adj3" fmla="val 35097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9896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78240" y="1042920"/>
            <a:ext cx="811080" cy="8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38240" y="638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2880" y="1042920"/>
            <a:ext cx="811440" cy="8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98960" y="638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78600" y="638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98960" y="2573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78600" y="2573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38240" y="2573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3240" y="257328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97520" y="450864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36800" y="4508640"/>
            <a:ext cx="161892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450864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8732400">
            <a:off x="4997520" y="638280"/>
            <a:ext cx="1619280" cy="1619280"/>
          </a:xfrm>
          <a:prstGeom prst="blockArc">
            <a:avLst>
              <a:gd name="adj1" fmla="val 7435128"/>
              <a:gd name="adj2" fmla="val 3364872"/>
              <a:gd name="adj3" fmla="val 36171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097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03960" y="1042920"/>
            <a:ext cx="811080" cy="8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7605000">
            <a:off x="6978600" y="638280"/>
            <a:ext cx="1619280" cy="1619280"/>
          </a:xfrm>
          <a:prstGeom prst="blockArc">
            <a:avLst>
              <a:gd name="adj1" fmla="val 8589389"/>
              <a:gd name="adj2" fmla="val 2210611"/>
              <a:gd name="adj3" fmla="val 35926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498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6622800">
            <a:off x="1037880" y="2573280"/>
            <a:ext cx="1619280" cy="1619280"/>
          </a:xfrm>
          <a:prstGeom prst="blockArc">
            <a:avLst>
              <a:gd name="adj1" fmla="val 9546985"/>
              <a:gd name="adj2" fmla="val 1253015"/>
              <a:gd name="adj3" fmla="val 33796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476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2973240" y="2573280"/>
            <a:ext cx="1619280" cy="1619280"/>
          </a:xfrm>
          <a:prstGeom prst="blockArc">
            <a:avLst>
              <a:gd name="adj1" fmla="val 10837121"/>
              <a:gd name="adj2" fmla="val 21562879"/>
              <a:gd name="adj3" fmla="val 31565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4338600">
            <a:off x="4997160" y="2573280"/>
            <a:ext cx="1619280" cy="1619280"/>
          </a:xfrm>
          <a:prstGeom prst="blockArc">
            <a:avLst>
              <a:gd name="adj1" fmla="val 11890285"/>
              <a:gd name="adj2" fmla="val 20509715"/>
              <a:gd name="adj3" fmla="val 30583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3762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3170400">
            <a:off x="6978600" y="2572920"/>
            <a:ext cx="1619280" cy="1619280"/>
          </a:xfrm>
          <a:prstGeom prst="blockArc">
            <a:avLst>
              <a:gd name="adj1" fmla="val 13010128"/>
              <a:gd name="adj2" fmla="val 19389872"/>
              <a:gd name="adj3" fmla="val 29972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4932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098800">
            <a:off x="1038240" y="4508640"/>
            <a:ext cx="1619280" cy="1619280"/>
          </a:xfrm>
          <a:prstGeom prst="blockArc">
            <a:avLst>
              <a:gd name="adj1" fmla="val 14095466"/>
              <a:gd name="adj2" fmla="val 18304534"/>
              <a:gd name="adj3" fmla="val 32051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60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940200">
            <a:off x="2972880" y="4508280"/>
            <a:ext cx="1619280" cy="1619280"/>
          </a:xfrm>
          <a:prstGeom prst="blockArc">
            <a:avLst>
              <a:gd name="adj1" fmla="val 15235528"/>
              <a:gd name="adj2" fmla="val 17164472"/>
              <a:gd name="adj3" fmla="val 36458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7158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83600" y="1042920"/>
            <a:ext cx="811080" cy="8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03960" y="2978280"/>
            <a:ext cx="81108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83600" y="2978280"/>
            <a:ext cx="81108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2880" y="2978280"/>
            <a:ext cx="81144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78240" y="2978280"/>
            <a:ext cx="81108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02160" y="4913280"/>
            <a:ext cx="81144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1440" y="4913280"/>
            <a:ext cx="81108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76440" y="4913280"/>
            <a:ext cx="811440" cy="811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77880" y="549360"/>
            <a:ext cx="5605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1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378240" y="503280"/>
            <a:ext cx="4046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222880" y="593640"/>
            <a:ext cx="40464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08600" y="2754360"/>
            <a:ext cx="4046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6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113600" y="3743280"/>
            <a:ext cx="4046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7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023240" y="728640"/>
            <a:ext cx="4046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03240" y="3159000"/>
            <a:ext cx="4050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4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27160" y="5678640"/>
            <a:ext cx="4046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8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87880" y="5815080"/>
            <a:ext cx="4046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9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882880" y="3203640"/>
            <a:ext cx="4050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5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8240" y="4419720"/>
            <a:ext cx="1839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4747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973240" y="638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9802800">
            <a:off x="2972880" y="638280"/>
            <a:ext cx="1619280" cy="1619280"/>
          </a:xfrm>
          <a:prstGeom prst="blockArc">
            <a:avLst>
              <a:gd name="adj1" fmla="val 6409522"/>
              <a:gd name="adj2" fmla="val 4390478"/>
              <a:gd name="adj3" fmla="val 35097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78240" y="1042920"/>
            <a:ext cx="811080" cy="8114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38240" y="638280"/>
            <a:ext cx="1619280" cy="1619280"/>
          </a:xfrm>
          <a:prstGeom prst="ellipse">
            <a:avLst/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2880" y="1042920"/>
            <a:ext cx="811440" cy="8114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98960" y="638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78600" y="638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98960" y="2573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78600" y="2573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38240" y="2573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73240" y="2573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97520" y="450864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36800" y="4508640"/>
            <a:ext cx="161892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450864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8732400">
            <a:off x="4997520" y="638280"/>
            <a:ext cx="1619280" cy="1619280"/>
          </a:xfrm>
          <a:prstGeom prst="blockArc">
            <a:avLst>
              <a:gd name="adj1" fmla="val 7435128"/>
              <a:gd name="adj2" fmla="val 3364872"/>
              <a:gd name="adj3" fmla="val 36171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03960" y="1042920"/>
            <a:ext cx="811080" cy="8114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7605000">
            <a:off x="6978600" y="638280"/>
            <a:ext cx="1619280" cy="1619280"/>
          </a:xfrm>
          <a:prstGeom prst="blockArc">
            <a:avLst>
              <a:gd name="adj1" fmla="val 8589389"/>
              <a:gd name="adj2" fmla="val 2210611"/>
              <a:gd name="adj3" fmla="val 35926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6622800">
            <a:off x="1037880" y="2573280"/>
            <a:ext cx="1619280" cy="1619280"/>
          </a:xfrm>
          <a:prstGeom prst="blockArc">
            <a:avLst>
              <a:gd name="adj1" fmla="val 9546985"/>
              <a:gd name="adj2" fmla="val 1253015"/>
              <a:gd name="adj3" fmla="val 33796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2973240" y="2573280"/>
            <a:ext cx="1619280" cy="1619280"/>
          </a:xfrm>
          <a:prstGeom prst="blockArc">
            <a:avLst>
              <a:gd name="adj1" fmla="val 10837121"/>
              <a:gd name="adj2" fmla="val 21562879"/>
              <a:gd name="adj3" fmla="val 31565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4338600">
            <a:off x="4997160" y="2573280"/>
            <a:ext cx="1619280" cy="1619280"/>
          </a:xfrm>
          <a:prstGeom prst="blockArc">
            <a:avLst>
              <a:gd name="adj1" fmla="val 11890285"/>
              <a:gd name="adj2" fmla="val 20509715"/>
              <a:gd name="adj3" fmla="val 30583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3170400">
            <a:off x="6978600" y="2572920"/>
            <a:ext cx="1619280" cy="1619280"/>
          </a:xfrm>
          <a:prstGeom prst="blockArc">
            <a:avLst>
              <a:gd name="adj1" fmla="val 13010128"/>
              <a:gd name="adj2" fmla="val 19389872"/>
              <a:gd name="adj3" fmla="val 29972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2098800">
            <a:off x="1038240" y="4508640"/>
            <a:ext cx="1619280" cy="1619280"/>
          </a:xfrm>
          <a:prstGeom prst="blockArc">
            <a:avLst>
              <a:gd name="adj1" fmla="val 14095466"/>
              <a:gd name="adj2" fmla="val 18304534"/>
              <a:gd name="adj3" fmla="val 32051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940200">
            <a:off x="2972880" y="4508280"/>
            <a:ext cx="1619280" cy="1619280"/>
          </a:xfrm>
          <a:prstGeom prst="blockArc">
            <a:avLst>
              <a:gd name="adj1" fmla="val 15235528"/>
              <a:gd name="adj2" fmla="val 17164472"/>
              <a:gd name="adj3" fmla="val 36458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3600" y="1042920"/>
            <a:ext cx="811080" cy="8114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03960" y="2978280"/>
            <a:ext cx="81108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83600" y="2978280"/>
            <a:ext cx="81108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42880" y="2978280"/>
            <a:ext cx="81144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78240" y="2978280"/>
            <a:ext cx="81108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02160" y="4913280"/>
            <a:ext cx="811440" cy="811080"/>
          </a:xfrm>
          <a:prstGeom prst="ellipse">
            <a:avLst/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1440" y="4913280"/>
            <a:ext cx="81108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76440" y="4913280"/>
            <a:ext cx="81144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202520" y="4734000"/>
            <a:ext cx="560520" cy="372960"/>
            <a:chOff x="7202520" y="4734000"/>
            <a:chExt cx="560520" cy="372960"/>
          </a:xfrm>
        </p:grpSpPr>
        <p:sp>
          <p:nvSpPr>
            <p:cNvPr id="304" name=""/>
            <p:cNvSpPr txBox="1"/>
            <p:nvPr/>
          </p:nvSpPr>
          <p:spPr>
            <a:xfrm>
              <a:off x="7202520" y="4734000"/>
              <a:ext cx="56052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10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7202520" y="4734000"/>
              <a:ext cx="56052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10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292880" y="5318280"/>
            <a:ext cx="405000" cy="372960"/>
            <a:chOff x="7292880" y="5318280"/>
            <a:chExt cx="405000" cy="372960"/>
          </a:xfrm>
        </p:grpSpPr>
        <p:sp>
          <p:nvSpPr>
            <p:cNvPr id="307" name=""/>
            <p:cNvSpPr txBox="1"/>
            <p:nvPr/>
          </p:nvSpPr>
          <p:spPr>
            <a:xfrm>
              <a:off x="7292880" y="531828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1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292880" y="531828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923240" y="5319720"/>
            <a:ext cx="404640" cy="372960"/>
            <a:chOff x="7923240" y="5319720"/>
            <a:chExt cx="404640" cy="372960"/>
          </a:xfrm>
        </p:grpSpPr>
        <p:sp>
          <p:nvSpPr>
            <p:cNvPr id="310" name=""/>
            <p:cNvSpPr txBox="1"/>
            <p:nvPr/>
          </p:nvSpPr>
          <p:spPr>
            <a:xfrm>
              <a:off x="7923240" y="5319720"/>
              <a:ext cx="4046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2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7923240" y="5319720"/>
              <a:ext cx="4046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292880" y="5946840"/>
            <a:ext cx="405000" cy="372960"/>
            <a:chOff x="7292880" y="5946840"/>
            <a:chExt cx="405000" cy="372960"/>
          </a:xfrm>
        </p:grpSpPr>
        <p:sp>
          <p:nvSpPr>
            <p:cNvPr id="313" name=""/>
            <p:cNvSpPr txBox="1"/>
            <p:nvPr/>
          </p:nvSpPr>
          <p:spPr>
            <a:xfrm>
              <a:off x="7292880" y="594684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6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7292880" y="594684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6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923240" y="5948280"/>
            <a:ext cx="404640" cy="373320"/>
            <a:chOff x="7923240" y="5948280"/>
            <a:chExt cx="404640" cy="373320"/>
          </a:xfrm>
        </p:grpSpPr>
        <p:sp>
          <p:nvSpPr>
            <p:cNvPr id="316" name=""/>
            <p:cNvSpPr txBox="1"/>
            <p:nvPr/>
          </p:nvSpPr>
          <p:spPr>
            <a:xfrm>
              <a:off x="7923240" y="5948280"/>
              <a:ext cx="40464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7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7923240" y="5948280"/>
              <a:ext cx="40464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7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507520" y="5318280"/>
            <a:ext cx="404640" cy="372960"/>
            <a:chOff x="8507520" y="5318280"/>
            <a:chExt cx="404640" cy="372960"/>
          </a:xfrm>
        </p:grpSpPr>
        <p:sp>
          <p:nvSpPr>
            <p:cNvPr id="319" name=""/>
            <p:cNvSpPr txBox="1"/>
            <p:nvPr/>
          </p:nvSpPr>
          <p:spPr>
            <a:xfrm>
              <a:off x="8507520" y="5318280"/>
              <a:ext cx="4046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3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8507520" y="5318280"/>
              <a:ext cx="4046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137520" y="5319720"/>
            <a:ext cx="405000" cy="372960"/>
            <a:chOff x="9137520" y="5319720"/>
            <a:chExt cx="405000" cy="372960"/>
          </a:xfrm>
        </p:grpSpPr>
        <p:sp>
          <p:nvSpPr>
            <p:cNvPr id="322" name=""/>
            <p:cNvSpPr txBox="1"/>
            <p:nvPr/>
          </p:nvSpPr>
          <p:spPr>
            <a:xfrm>
              <a:off x="9137520" y="531972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4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9137520" y="531972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8507520" y="5948280"/>
            <a:ext cx="404640" cy="373320"/>
            <a:chOff x="8507520" y="5948280"/>
            <a:chExt cx="404640" cy="373320"/>
          </a:xfrm>
        </p:grpSpPr>
        <p:sp>
          <p:nvSpPr>
            <p:cNvPr id="325" name=""/>
            <p:cNvSpPr txBox="1"/>
            <p:nvPr/>
          </p:nvSpPr>
          <p:spPr>
            <a:xfrm>
              <a:off x="8507520" y="5948280"/>
              <a:ext cx="40464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8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8507520" y="5948280"/>
              <a:ext cx="40464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8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9137520" y="5948280"/>
            <a:ext cx="405000" cy="373320"/>
            <a:chOff x="9137520" y="5948280"/>
            <a:chExt cx="405000" cy="373320"/>
          </a:xfrm>
        </p:grpSpPr>
        <p:sp>
          <p:nvSpPr>
            <p:cNvPr id="328" name=""/>
            <p:cNvSpPr txBox="1"/>
            <p:nvPr/>
          </p:nvSpPr>
          <p:spPr>
            <a:xfrm>
              <a:off x="9137520" y="5948280"/>
              <a:ext cx="40500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9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9137520" y="5948280"/>
              <a:ext cx="40500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9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9093240" y="4778280"/>
            <a:ext cx="404640" cy="373320"/>
            <a:chOff x="9093240" y="4778280"/>
            <a:chExt cx="404640" cy="373320"/>
          </a:xfrm>
        </p:grpSpPr>
        <p:sp>
          <p:nvSpPr>
            <p:cNvPr id="331" name=""/>
            <p:cNvSpPr txBox="1"/>
            <p:nvPr/>
          </p:nvSpPr>
          <p:spPr>
            <a:xfrm>
              <a:off x="9093240" y="4778280"/>
              <a:ext cx="40464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5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9093240" y="4778280"/>
              <a:ext cx="40464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5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967520" y="4734000"/>
            <a:ext cx="184320" cy="372960"/>
            <a:chOff x="7967520" y="4734000"/>
            <a:chExt cx="184320" cy="372960"/>
          </a:xfrm>
        </p:grpSpPr>
        <p:sp>
          <p:nvSpPr>
            <p:cNvPr id="334" name=""/>
            <p:cNvSpPr txBox="1"/>
            <p:nvPr/>
          </p:nvSpPr>
          <p:spPr>
            <a:xfrm>
              <a:off x="7967520" y="4734000"/>
              <a:ext cx="18432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7967520" y="4734000"/>
              <a:ext cx="18432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973240" y="638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9802800">
            <a:off x="2972880" y="638280"/>
            <a:ext cx="1619280" cy="1619280"/>
          </a:xfrm>
          <a:prstGeom prst="blockArc">
            <a:avLst>
              <a:gd name="adj1" fmla="val 6409522"/>
              <a:gd name="adj2" fmla="val 4390478"/>
              <a:gd name="adj3" fmla="val 35097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78240" y="1042920"/>
            <a:ext cx="811080" cy="8114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8240" y="638280"/>
            <a:ext cx="1619280" cy="1619280"/>
          </a:xfrm>
          <a:prstGeom prst="ellipse">
            <a:avLst/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2880" y="1042920"/>
            <a:ext cx="811440" cy="8114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98960" y="638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78600" y="638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98960" y="2573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78600" y="2573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38240" y="2573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73240" y="257328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97520" y="450864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36800" y="4508640"/>
            <a:ext cx="161892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4508640"/>
            <a:ext cx="1619280" cy="1619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8732400">
            <a:off x="4997520" y="638280"/>
            <a:ext cx="1619280" cy="1619280"/>
          </a:xfrm>
          <a:prstGeom prst="blockArc">
            <a:avLst>
              <a:gd name="adj1" fmla="val 7435128"/>
              <a:gd name="adj2" fmla="val 3364872"/>
              <a:gd name="adj3" fmla="val 36171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03960" y="1042920"/>
            <a:ext cx="811080" cy="8114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7605000">
            <a:off x="6978600" y="638280"/>
            <a:ext cx="1619280" cy="1619280"/>
          </a:xfrm>
          <a:prstGeom prst="blockArc">
            <a:avLst>
              <a:gd name="adj1" fmla="val 8589389"/>
              <a:gd name="adj2" fmla="val 2210611"/>
              <a:gd name="adj3" fmla="val 35926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6622800">
            <a:off x="1037880" y="2573280"/>
            <a:ext cx="1619280" cy="1619280"/>
          </a:xfrm>
          <a:prstGeom prst="blockArc">
            <a:avLst>
              <a:gd name="adj1" fmla="val 9546985"/>
              <a:gd name="adj2" fmla="val 1253015"/>
              <a:gd name="adj3" fmla="val 33796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2973240" y="2573280"/>
            <a:ext cx="1619280" cy="1619280"/>
          </a:xfrm>
          <a:prstGeom prst="blockArc">
            <a:avLst>
              <a:gd name="adj1" fmla="val 10837121"/>
              <a:gd name="adj2" fmla="val 21562879"/>
              <a:gd name="adj3" fmla="val 31565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4338600">
            <a:off x="4997160" y="2573280"/>
            <a:ext cx="1619280" cy="1619280"/>
          </a:xfrm>
          <a:prstGeom prst="blockArc">
            <a:avLst>
              <a:gd name="adj1" fmla="val 11890285"/>
              <a:gd name="adj2" fmla="val 20509715"/>
              <a:gd name="adj3" fmla="val 30583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3170400">
            <a:off x="6978600" y="2572920"/>
            <a:ext cx="1619280" cy="1619280"/>
          </a:xfrm>
          <a:prstGeom prst="blockArc">
            <a:avLst>
              <a:gd name="adj1" fmla="val 13010128"/>
              <a:gd name="adj2" fmla="val 19389872"/>
              <a:gd name="adj3" fmla="val 29972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098800">
            <a:off x="1038240" y="4508640"/>
            <a:ext cx="1619280" cy="1619280"/>
          </a:xfrm>
          <a:prstGeom prst="blockArc">
            <a:avLst>
              <a:gd name="adj1" fmla="val 14095466"/>
              <a:gd name="adj2" fmla="val 18304534"/>
              <a:gd name="adj3" fmla="val 32051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940200">
            <a:off x="2972880" y="4508280"/>
            <a:ext cx="1619280" cy="1619280"/>
          </a:xfrm>
          <a:prstGeom prst="blockArc">
            <a:avLst>
              <a:gd name="adj1" fmla="val 15235528"/>
              <a:gd name="adj2" fmla="val 17164472"/>
              <a:gd name="adj3" fmla="val 36458"/>
            </a:avLst>
          </a:prstGeom>
          <a:solidFill>
            <a:srgbClr val="3366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83600" y="1042920"/>
            <a:ext cx="811080" cy="81144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03960" y="2978280"/>
            <a:ext cx="81108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83600" y="2978280"/>
            <a:ext cx="81108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2880" y="2978280"/>
            <a:ext cx="81144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78240" y="2978280"/>
            <a:ext cx="81108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02160" y="4913280"/>
            <a:ext cx="81144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1440" y="4913280"/>
            <a:ext cx="81108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76440" y="4913280"/>
            <a:ext cx="811440" cy="8110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487520" y="503280"/>
            <a:ext cx="560520" cy="372960"/>
            <a:chOff x="1487520" y="503280"/>
            <a:chExt cx="560520" cy="372960"/>
          </a:xfrm>
        </p:grpSpPr>
        <p:sp>
          <p:nvSpPr>
            <p:cNvPr id="368" name=""/>
            <p:cNvSpPr txBox="1"/>
            <p:nvPr/>
          </p:nvSpPr>
          <p:spPr>
            <a:xfrm>
              <a:off x="1487520" y="503280"/>
              <a:ext cx="56052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10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1487520" y="503280"/>
              <a:ext cx="56052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10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917880" y="4464000"/>
            <a:ext cx="405000" cy="372960"/>
            <a:chOff x="3917880" y="4464000"/>
            <a:chExt cx="405000" cy="372960"/>
          </a:xfrm>
        </p:grpSpPr>
        <p:sp>
          <p:nvSpPr>
            <p:cNvPr id="371" name=""/>
            <p:cNvSpPr txBox="1"/>
            <p:nvPr/>
          </p:nvSpPr>
          <p:spPr>
            <a:xfrm>
              <a:off x="3917880" y="446400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1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3917880" y="446400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162160" y="4464000"/>
            <a:ext cx="405000" cy="372960"/>
            <a:chOff x="2162160" y="4464000"/>
            <a:chExt cx="405000" cy="372960"/>
          </a:xfrm>
        </p:grpSpPr>
        <p:sp>
          <p:nvSpPr>
            <p:cNvPr id="374" name=""/>
            <p:cNvSpPr txBox="1"/>
            <p:nvPr/>
          </p:nvSpPr>
          <p:spPr>
            <a:xfrm>
              <a:off x="2162160" y="446400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2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2162160" y="446400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297160" y="3743280"/>
            <a:ext cx="404640" cy="372960"/>
            <a:chOff x="2297160" y="3743280"/>
            <a:chExt cx="404640" cy="372960"/>
          </a:xfrm>
        </p:grpSpPr>
        <p:sp>
          <p:nvSpPr>
            <p:cNvPr id="377" name=""/>
            <p:cNvSpPr txBox="1"/>
            <p:nvPr/>
          </p:nvSpPr>
          <p:spPr>
            <a:xfrm>
              <a:off x="2297160" y="3743280"/>
              <a:ext cx="4046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6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2297160" y="3743280"/>
              <a:ext cx="4046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6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148600" y="1719360"/>
            <a:ext cx="405000" cy="372960"/>
            <a:chOff x="8148600" y="1719360"/>
            <a:chExt cx="405000" cy="372960"/>
          </a:xfrm>
        </p:grpSpPr>
        <p:sp>
          <p:nvSpPr>
            <p:cNvPr id="380" name=""/>
            <p:cNvSpPr txBox="1"/>
            <p:nvPr/>
          </p:nvSpPr>
          <p:spPr>
            <a:xfrm>
              <a:off x="8148600" y="171936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7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8148600" y="171936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7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193240" y="2754360"/>
            <a:ext cx="404640" cy="360360"/>
            <a:chOff x="8193240" y="2754360"/>
            <a:chExt cx="404640" cy="360360"/>
          </a:xfrm>
        </p:grpSpPr>
        <p:sp>
          <p:nvSpPr>
            <p:cNvPr id="383" name=""/>
            <p:cNvSpPr txBox="1"/>
            <p:nvPr/>
          </p:nvSpPr>
          <p:spPr>
            <a:xfrm>
              <a:off x="8193240" y="2754360"/>
              <a:ext cx="404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3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8193240" y="2754360"/>
              <a:ext cx="404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302520" y="2798640"/>
            <a:ext cx="404640" cy="373320"/>
            <a:chOff x="6302520" y="2798640"/>
            <a:chExt cx="404640" cy="373320"/>
          </a:xfrm>
        </p:grpSpPr>
        <p:sp>
          <p:nvSpPr>
            <p:cNvPr id="386" name=""/>
            <p:cNvSpPr txBox="1"/>
            <p:nvPr/>
          </p:nvSpPr>
          <p:spPr>
            <a:xfrm>
              <a:off x="6302520" y="2798640"/>
              <a:ext cx="40464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4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302520" y="2798640"/>
              <a:ext cx="40464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078600" y="1808280"/>
            <a:ext cx="404640" cy="372960"/>
            <a:chOff x="6078600" y="1808280"/>
            <a:chExt cx="404640" cy="372960"/>
          </a:xfrm>
        </p:grpSpPr>
        <p:sp>
          <p:nvSpPr>
            <p:cNvPr id="389" name=""/>
            <p:cNvSpPr txBox="1"/>
            <p:nvPr/>
          </p:nvSpPr>
          <p:spPr>
            <a:xfrm>
              <a:off x="6078600" y="1808280"/>
              <a:ext cx="4046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8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6078600" y="1808280"/>
              <a:ext cx="4046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8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052880" y="1854360"/>
            <a:ext cx="405000" cy="372960"/>
            <a:chOff x="4052880" y="1854360"/>
            <a:chExt cx="405000" cy="372960"/>
          </a:xfrm>
        </p:grpSpPr>
        <p:sp>
          <p:nvSpPr>
            <p:cNvPr id="392" name=""/>
            <p:cNvSpPr txBox="1"/>
            <p:nvPr/>
          </p:nvSpPr>
          <p:spPr>
            <a:xfrm>
              <a:off x="4052880" y="185436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9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4052880" y="185436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9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413240" y="3203640"/>
            <a:ext cx="405000" cy="372960"/>
            <a:chOff x="4413240" y="3203640"/>
            <a:chExt cx="405000" cy="372960"/>
          </a:xfrm>
        </p:grpSpPr>
        <p:sp>
          <p:nvSpPr>
            <p:cNvPr id="395" name=""/>
            <p:cNvSpPr txBox="1"/>
            <p:nvPr/>
          </p:nvSpPr>
          <p:spPr>
            <a:xfrm>
              <a:off x="4413240" y="320364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5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4413240" y="3203640"/>
              <a:ext cx="40500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5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718240" y="4373640"/>
            <a:ext cx="183960" cy="372960"/>
            <a:chOff x="5718240" y="4373640"/>
            <a:chExt cx="183960" cy="372960"/>
          </a:xfrm>
        </p:grpSpPr>
        <p:sp>
          <p:nvSpPr>
            <p:cNvPr id="398" name=""/>
            <p:cNvSpPr txBox="1"/>
            <p:nvPr/>
          </p:nvSpPr>
          <p:spPr>
            <a:xfrm>
              <a:off x="5718240" y="4373640"/>
              <a:ext cx="18396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3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Impact"/>
                </a:rPr>
                <a:t>0</a:t>
              </a:r>
              <a:endParaRPr b="0" lang="en-US" sz="1800" spc="1" strike="noStrike">
                <a:ln w="63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  <a:ea typeface="Impact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5718240" y="4373640"/>
              <a:ext cx="18396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11-20T01:01:44Z</dcterms:modified>
  <cp:revision>1</cp:revision>
  <dc:subject>PPT201_シンプルな円グラフ</dc:subject>
  <dc:title>PPT201_シンプルな円グラフ</dc:title>
</cp:coreProperties>
</file>