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" name=""/>
          <p:cNvSpPr/>
          <p:nvPr/>
        </p:nvSpPr>
        <p:spPr>
          <a:xfrm>
            <a:off x="41580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28924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1580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228924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1580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228924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416088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16088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16088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60339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60339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60339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7904160" y="83664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7904160" y="278136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7904160" y="4724280"/>
            <a:ext cx="1584360" cy="158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2289240" y="2924640"/>
            <a:ext cx="1584360" cy="1392840"/>
            <a:chOff x="2289240" y="2924640"/>
            <a:chExt cx="1584360" cy="1392840"/>
          </a:xfrm>
        </p:grpSpPr>
        <p:sp>
          <p:nvSpPr>
            <p:cNvPr id="55" name=""/>
            <p:cNvSpPr/>
            <p:nvPr/>
          </p:nvSpPr>
          <p:spPr>
            <a:xfrm>
              <a:off x="2289240" y="3172680"/>
              <a:ext cx="1497240" cy="1144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289240" y="3085560"/>
              <a:ext cx="1584360" cy="1231920"/>
            </a:xfrm>
            <a:prstGeom prst="ellipse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rot="900000">
              <a:off x="2817000" y="2997000"/>
              <a:ext cx="616320" cy="417600"/>
            </a:xfrm>
            <a:prstGeom prst="star5">
              <a:avLst/>
            </a:prstGeom>
            <a:solidFill>
              <a:srgbClr val="99cc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6017760" y="645480"/>
            <a:ext cx="1518480" cy="1909440"/>
            <a:chOff x="6017760" y="645480"/>
            <a:chExt cx="1518480" cy="1909440"/>
          </a:xfrm>
        </p:grpSpPr>
        <p:sp>
          <p:nvSpPr>
            <p:cNvPr id="59" name=""/>
            <p:cNvSpPr/>
            <p:nvPr/>
          </p:nvSpPr>
          <p:spPr>
            <a:xfrm rot="1800000">
              <a:off x="6892920" y="696240"/>
              <a:ext cx="203760" cy="485640"/>
            </a:xfrm>
            <a:custGeom>
              <a:avLst/>
              <a:gdLst/>
              <a:ahLst/>
              <a:rect l="l" t="t" r="r" b="b"/>
              <a:pathLst>
                <a:path w="226" h="538">
                  <a:moveTo>
                    <a:pt x="226" y="538"/>
                  </a:moveTo>
                  <a:lnTo>
                    <a:pt x="141" y="0"/>
                  </a:lnTo>
                  <a:lnTo>
                    <a:pt x="0" y="113"/>
                  </a:lnTo>
                  <a:lnTo>
                    <a:pt x="113" y="198"/>
                  </a:lnTo>
                  <a:lnTo>
                    <a:pt x="0" y="283"/>
                  </a:lnTo>
                  <a:lnTo>
                    <a:pt x="141" y="368"/>
                  </a:lnTo>
                  <a:lnTo>
                    <a:pt x="56" y="425"/>
                  </a:lnTo>
                  <a:lnTo>
                    <a:pt x="226" y="538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rot="2700000">
              <a:off x="7197480" y="776160"/>
              <a:ext cx="153000" cy="587880"/>
            </a:xfrm>
            <a:custGeom>
              <a:avLst/>
              <a:gdLst/>
              <a:ahLst/>
              <a:rect l="l" t="t" r="r" b="b"/>
              <a:pathLst>
                <a:path w="226" h="538">
                  <a:moveTo>
                    <a:pt x="226" y="538"/>
                  </a:moveTo>
                  <a:lnTo>
                    <a:pt x="141" y="0"/>
                  </a:lnTo>
                  <a:lnTo>
                    <a:pt x="0" y="113"/>
                  </a:lnTo>
                  <a:lnTo>
                    <a:pt x="113" y="198"/>
                  </a:lnTo>
                  <a:lnTo>
                    <a:pt x="0" y="283"/>
                  </a:lnTo>
                  <a:lnTo>
                    <a:pt x="141" y="368"/>
                  </a:lnTo>
                  <a:lnTo>
                    <a:pt x="56" y="425"/>
                  </a:lnTo>
                  <a:lnTo>
                    <a:pt x="226" y="538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2286600">
              <a:off x="7040160" y="627480"/>
              <a:ext cx="153360" cy="610560"/>
            </a:xfrm>
            <a:custGeom>
              <a:avLst/>
              <a:gdLst/>
              <a:ahLst/>
              <a:rect l="l" t="t" r="r" b="b"/>
              <a:pathLst>
                <a:path w="226" h="538">
                  <a:moveTo>
                    <a:pt x="226" y="538"/>
                  </a:moveTo>
                  <a:lnTo>
                    <a:pt x="141" y="0"/>
                  </a:lnTo>
                  <a:lnTo>
                    <a:pt x="0" y="113"/>
                  </a:lnTo>
                  <a:lnTo>
                    <a:pt x="113" y="198"/>
                  </a:lnTo>
                  <a:lnTo>
                    <a:pt x="0" y="283"/>
                  </a:lnTo>
                  <a:lnTo>
                    <a:pt x="141" y="368"/>
                  </a:lnTo>
                  <a:lnTo>
                    <a:pt x="56" y="425"/>
                  </a:lnTo>
                  <a:lnTo>
                    <a:pt x="226" y="538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rot="4500000">
              <a:off x="7144920" y="1057680"/>
              <a:ext cx="153360" cy="408240"/>
            </a:xfrm>
            <a:custGeom>
              <a:avLst/>
              <a:gdLst/>
              <a:ahLst/>
              <a:rect l="l" t="t" r="r" b="b"/>
              <a:pathLst>
                <a:path w="226" h="538">
                  <a:moveTo>
                    <a:pt x="226" y="538"/>
                  </a:moveTo>
                  <a:lnTo>
                    <a:pt x="141" y="0"/>
                  </a:lnTo>
                  <a:lnTo>
                    <a:pt x="0" y="113"/>
                  </a:lnTo>
                  <a:lnTo>
                    <a:pt x="113" y="198"/>
                  </a:lnTo>
                  <a:lnTo>
                    <a:pt x="0" y="283"/>
                  </a:lnTo>
                  <a:lnTo>
                    <a:pt x="141" y="368"/>
                  </a:lnTo>
                  <a:lnTo>
                    <a:pt x="56" y="425"/>
                  </a:lnTo>
                  <a:lnTo>
                    <a:pt x="226" y="538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1800000">
              <a:off x="6309360" y="1171080"/>
              <a:ext cx="563760" cy="1241640"/>
            </a:xfrm>
            <a:custGeom>
              <a:avLst/>
              <a:gdLst/>
              <a:ahLst/>
              <a:rect l="l" t="t" r="r" b="b"/>
              <a:pathLst>
                <a:path w="624" h="1375">
                  <a:moveTo>
                    <a:pt x="350" y="1375"/>
                  </a:moveTo>
                  <a:cubicBezTo>
                    <a:pt x="350" y="1375"/>
                    <a:pt x="0" y="535"/>
                    <a:pt x="0" y="310"/>
                  </a:cubicBezTo>
                  <a:cubicBezTo>
                    <a:pt x="0" y="57"/>
                    <a:pt x="203" y="0"/>
                    <a:pt x="308" y="0"/>
                  </a:cubicBezTo>
                  <a:cubicBezTo>
                    <a:pt x="412" y="0"/>
                    <a:pt x="624" y="57"/>
                    <a:pt x="624" y="310"/>
                  </a:cubicBezTo>
                  <a:cubicBezTo>
                    <a:pt x="624" y="562"/>
                    <a:pt x="350" y="1375"/>
                    <a:pt x="350" y="1375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1800000">
              <a:off x="6306120" y="1145520"/>
              <a:ext cx="664920" cy="1332000"/>
            </a:xfrm>
            <a:custGeom>
              <a:avLst/>
              <a:gdLst/>
              <a:ahLst/>
              <a:rect l="l" t="t" r="r" b="b"/>
              <a:pathLst>
                <a:path w="736" h="1475">
                  <a:moveTo>
                    <a:pt x="366" y="1475"/>
                  </a:moveTo>
                  <a:cubicBezTo>
                    <a:pt x="366" y="1475"/>
                    <a:pt x="0" y="581"/>
                    <a:pt x="0" y="336"/>
                  </a:cubicBezTo>
                  <a:cubicBezTo>
                    <a:pt x="0" y="62"/>
                    <a:pt x="240" y="0"/>
                    <a:pt x="363" y="0"/>
                  </a:cubicBezTo>
                  <a:cubicBezTo>
                    <a:pt x="486" y="0"/>
                    <a:pt x="736" y="62"/>
                    <a:pt x="736" y="336"/>
                  </a:cubicBezTo>
                  <a:cubicBezTo>
                    <a:pt x="736" y="610"/>
                    <a:pt x="366" y="1475"/>
                    <a:pt x="366" y="1475"/>
                  </a:cubicBezTo>
                  <a:close/>
                </a:path>
              </a:pathLst>
            </a:custGeom>
            <a:noFill/>
            <a:ln w="5724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289240" y="981000"/>
            <a:ext cx="1584360" cy="1363680"/>
            <a:chOff x="2289240" y="981000"/>
            <a:chExt cx="1584360" cy="1363680"/>
          </a:xfrm>
        </p:grpSpPr>
        <p:sp>
          <p:nvSpPr>
            <p:cNvPr id="66" name=""/>
            <p:cNvSpPr/>
            <p:nvPr/>
          </p:nvSpPr>
          <p:spPr>
            <a:xfrm>
              <a:off x="2289240" y="1091520"/>
              <a:ext cx="1473840" cy="12402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289240" y="981000"/>
              <a:ext cx="1584360" cy="136368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10280" y="1706400"/>
              <a:ext cx="184320" cy="12204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7"/>
                  </a:moveTo>
                  <a:cubicBezTo>
                    <a:pt x="30" y="18"/>
                    <a:pt x="61" y="0"/>
                    <a:pt x="85" y="9"/>
                  </a:cubicBezTo>
                  <a:cubicBezTo>
                    <a:pt x="109" y="18"/>
                    <a:pt x="125" y="56"/>
                    <a:pt x="142" y="94"/>
                  </a:cubicBezTo>
                </a:path>
              </a:pathLst>
            </a:custGeom>
            <a:noFill/>
            <a:ln w="572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026160" y="2013120"/>
              <a:ext cx="184320" cy="12204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7"/>
                  </a:moveTo>
                  <a:cubicBezTo>
                    <a:pt x="30" y="18"/>
                    <a:pt x="61" y="0"/>
                    <a:pt x="85" y="9"/>
                  </a:cubicBezTo>
                  <a:cubicBezTo>
                    <a:pt x="109" y="18"/>
                    <a:pt x="125" y="56"/>
                    <a:pt x="142" y="94"/>
                  </a:cubicBezTo>
                </a:path>
              </a:pathLst>
            </a:custGeom>
            <a:noFill/>
            <a:ln w="572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989800" y="1607400"/>
              <a:ext cx="184320" cy="12204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7"/>
                  </a:moveTo>
                  <a:cubicBezTo>
                    <a:pt x="30" y="18"/>
                    <a:pt x="61" y="0"/>
                    <a:pt x="85" y="9"/>
                  </a:cubicBezTo>
                  <a:cubicBezTo>
                    <a:pt x="109" y="18"/>
                    <a:pt x="125" y="56"/>
                    <a:pt x="142" y="94"/>
                  </a:cubicBezTo>
                </a:path>
              </a:pathLst>
            </a:custGeom>
            <a:noFill/>
            <a:ln w="572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160880" y="1341360"/>
            <a:ext cx="1630440" cy="709200"/>
            <a:chOff x="4160880" y="1341360"/>
            <a:chExt cx="1630440" cy="709200"/>
          </a:xfrm>
        </p:grpSpPr>
        <p:sp>
          <p:nvSpPr>
            <p:cNvPr id="72" name=""/>
            <p:cNvSpPr/>
            <p:nvPr/>
          </p:nvSpPr>
          <p:spPr>
            <a:xfrm>
              <a:off x="4160880" y="1401840"/>
              <a:ext cx="1510200" cy="648720"/>
            </a:xfrm>
            <a:custGeom>
              <a:avLst/>
              <a:gdLst/>
              <a:ahLst/>
              <a:rect l="l" t="t" r="r" b="b"/>
              <a:pathLst>
                <a:path w="1531" h="657">
                  <a:moveTo>
                    <a:pt x="0" y="312"/>
                  </a:moveTo>
                  <a:cubicBezTo>
                    <a:pt x="0" y="203"/>
                    <a:pt x="510" y="0"/>
                    <a:pt x="765" y="0"/>
                  </a:cubicBezTo>
                  <a:cubicBezTo>
                    <a:pt x="1020" y="0"/>
                    <a:pt x="1531" y="203"/>
                    <a:pt x="1531" y="312"/>
                  </a:cubicBezTo>
                  <a:cubicBezTo>
                    <a:pt x="1531" y="421"/>
                    <a:pt x="1020" y="647"/>
                    <a:pt x="765" y="652"/>
                  </a:cubicBezTo>
                  <a:cubicBezTo>
                    <a:pt x="510" y="657"/>
                    <a:pt x="0" y="421"/>
                    <a:pt x="0" y="312"/>
                  </a:cubicBez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160880" y="1341360"/>
              <a:ext cx="1630440" cy="699840"/>
            </a:xfrm>
            <a:custGeom>
              <a:avLst/>
              <a:gdLst/>
              <a:ahLst/>
              <a:rect l="l" t="t" r="r" b="b"/>
              <a:pathLst>
                <a:path w="1531" h="657">
                  <a:moveTo>
                    <a:pt x="0" y="312"/>
                  </a:moveTo>
                  <a:cubicBezTo>
                    <a:pt x="0" y="203"/>
                    <a:pt x="510" y="0"/>
                    <a:pt x="765" y="0"/>
                  </a:cubicBezTo>
                  <a:cubicBezTo>
                    <a:pt x="1020" y="0"/>
                    <a:pt x="1531" y="203"/>
                    <a:pt x="1531" y="312"/>
                  </a:cubicBezTo>
                  <a:cubicBezTo>
                    <a:pt x="1531" y="421"/>
                    <a:pt x="1020" y="647"/>
                    <a:pt x="765" y="652"/>
                  </a:cubicBezTo>
                  <a:cubicBezTo>
                    <a:pt x="510" y="657"/>
                    <a:pt x="0" y="421"/>
                    <a:pt x="0" y="312"/>
                  </a:cubicBezTo>
                  <a:close/>
                </a:path>
              </a:pathLst>
            </a:custGeom>
            <a:noFill/>
            <a:ln w="57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92800" y="1612800"/>
              <a:ext cx="29880" cy="24156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28" y="0"/>
                  </a:moveTo>
                  <a:cubicBezTo>
                    <a:pt x="14" y="38"/>
                    <a:pt x="0" y="76"/>
                    <a:pt x="0" y="114"/>
                  </a:cubicBezTo>
                  <a:cubicBezTo>
                    <a:pt x="0" y="152"/>
                    <a:pt x="14" y="189"/>
                    <a:pt x="28" y="227"/>
                  </a:cubicBezTo>
                </a:path>
              </a:pathLst>
            </a:custGeom>
            <a:noFill/>
            <a:ln w="57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64600" y="1462680"/>
              <a:ext cx="29520" cy="24156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28" y="0"/>
                  </a:moveTo>
                  <a:cubicBezTo>
                    <a:pt x="14" y="38"/>
                    <a:pt x="0" y="76"/>
                    <a:pt x="0" y="114"/>
                  </a:cubicBezTo>
                  <a:cubicBezTo>
                    <a:pt x="0" y="152"/>
                    <a:pt x="14" y="189"/>
                    <a:pt x="28" y="227"/>
                  </a:cubicBezTo>
                </a:path>
              </a:pathLst>
            </a:custGeom>
            <a:noFill/>
            <a:ln w="57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036040" y="1673640"/>
              <a:ext cx="29880" cy="24156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28" y="0"/>
                  </a:moveTo>
                  <a:cubicBezTo>
                    <a:pt x="14" y="38"/>
                    <a:pt x="0" y="76"/>
                    <a:pt x="0" y="114"/>
                  </a:cubicBezTo>
                  <a:cubicBezTo>
                    <a:pt x="0" y="152"/>
                    <a:pt x="14" y="189"/>
                    <a:pt x="28" y="227"/>
                  </a:cubicBezTo>
                </a:path>
              </a:pathLst>
            </a:custGeom>
            <a:noFill/>
            <a:ln w="5724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7854480" y="865080"/>
            <a:ext cx="1280880" cy="1682640"/>
            <a:chOff x="7854480" y="865080"/>
            <a:chExt cx="1280880" cy="1682640"/>
          </a:xfrm>
        </p:grpSpPr>
        <p:grpSp>
          <p:nvGrpSpPr>
            <p:cNvPr id="78" name=""/>
            <p:cNvGrpSpPr/>
            <p:nvPr/>
          </p:nvGrpSpPr>
          <p:grpSpPr>
            <a:xfrm>
              <a:off x="7854480" y="865080"/>
              <a:ext cx="1280880" cy="1682640"/>
              <a:chOff x="7854480" y="865080"/>
              <a:chExt cx="1280880" cy="1682640"/>
            </a:xfrm>
          </p:grpSpPr>
          <p:sp>
            <p:nvSpPr>
              <p:cNvPr id="79" name=""/>
              <p:cNvSpPr/>
              <p:nvPr/>
            </p:nvSpPr>
            <p:spPr>
              <a:xfrm rot="1800000">
                <a:off x="8135640" y="1210680"/>
                <a:ext cx="549000" cy="1198440"/>
              </a:xfrm>
              <a:custGeom>
                <a:avLst/>
                <a:gdLst/>
                <a:ahLst/>
                <a:rect l="l" t="t" r="r" b="b"/>
                <a:pathLst>
                  <a:path w="624" h="1375">
                    <a:moveTo>
                      <a:pt x="350" y="1375"/>
                    </a:moveTo>
                    <a:cubicBezTo>
                      <a:pt x="350" y="1375"/>
                      <a:pt x="0" y="535"/>
                      <a:pt x="0" y="310"/>
                    </a:cubicBezTo>
                    <a:cubicBezTo>
                      <a:pt x="0" y="57"/>
                      <a:pt x="203" y="0"/>
                      <a:pt x="308" y="0"/>
                    </a:cubicBezTo>
                    <a:cubicBezTo>
                      <a:pt x="412" y="0"/>
                      <a:pt x="624" y="57"/>
                      <a:pt x="624" y="310"/>
                    </a:cubicBezTo>
                    <a:cubicBezTo>
                      <a:pt x="624" y="562"/>
                      <a:pt x="350" y="1375"/>
                      <a:pt x="350" y="1375"/>
                    </a:cubicBezTo>
                    <a:close/>
                  </a:path>
                </a:pathLst>
              </a:cu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1800000">
                <a:off x="8132040" y="1186560"/>
                <a:ext cx="647640" cy="1285200"/>
              </a:xfrm>
              <a:custGeom>
                <a:avLst/>
                <a:gdLst/>
                <a:ahLst/>
                <a:rect l="l" t="t" r="r" b="b"/>
                <a:pathLst>
                  <a:path w="736" h="1475">
                    <a:moveTo>
                      <a:pt x="366" y="1475"/>
                    </a:moveTo>
                    <a:cubicBezTo>
                      <a:pt x="366" y="1475"/>
                      <a:pt x="0" y="581"/>
                      <a:pt x="0" y="336"/>
                    </a:cubicBezTo>
                    <a:cubicBezTo>
                      <a:pt x="0" y="62"/>
                      <a:pt x="240" y="0"/>
                      <a:pt x="363" y="0"/>
                    </a:cubicBezTo>
                    <a:cubicBezTo>
                      <a:pt x="486" y="0"/>
                      <a:pt x="736" y="62"/>
                      <a:pt x="736" y="336"/>
                    </a:cubicBezTo>
                    <a:cubicBezTo>
                      <a:pt x="736" y="610"/>
                      <a:pt x="366" y="1475"/>
                      <a:pt x="366" y="1475"/>
                    </a:cubicBezTo>
                    <a:close/>
                  </a:path>
                </a:pathLst>
              </a:custGeom>
              <a:noFill/>
              <a:ln w="572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1800000">
                <a:off x="8693640" y="933480"/>
                <a:ext cx="374040" cy="370080"/>
              </a:xfrm>
              <a:custGeom>
                <a:avLst/>
                <a:gdLst/>
                <a:ahLst/>
                <a:rect l="l" t="t" r="r" b="b"/>
                <a:pathLst>
                  <a:path w="425" h="425">
                    <a:moveTo>
                      <a:pt x="114" y="425"/>
                    </a:moveTo>
                    <a:lnTo>
                      <a:pt x="0" y="114"/>
                    </a:lnTo>
                    <a:lnTo>
                      <a:pt x="114" y="85"/>
                    </a:lnTo>
                    <a:lnTo>
                      <a:pt x="170" y="425"/>
                    </a:lnTo>
                    <a:lnTo>
                      <a:pt x="170" y="0"/>
                    </a:lnTo>
                    <a:lnTo>
                      <a:pt x="284" y="0"/>
                    </a:lnTo>
                    <a:lnTo>
                      <a:pt x="227" y="425"/>
                    </a:lnTo>
                    <a:lnTo>
                      <a:pt x="340" y="85"/>
                    </a:lnTo>
                    <a:lnTo>
                      <a:pt x="425" y="114"/>
                    </a:lnTo>
                    <a:lnTo>
                      <a:pt x="284" y="425"/>
                    </a:lnTo>
                    <a:lnTo>
                      <a:pt x="114" y="425"/>
                    </a:lnTo>
                    <a:close/>
                  </a:path>
                </a:pathLst>
              </a:custGeom>
              <a:solidFill>
                <a:srgbClr val="99cc00"/>
              </a:solidFill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"/>
            <p:cNvSpPr/>
            <p:nvPr/>
          </p:nvSpPr>
          <p:spPr>
            <a:xfrm rot="18000000">
              <a:off x="8546760" y="1428480"/>
              <a:ext cx="35640" cy="29016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28" y="0"/>
                  </a:moveTo>
                  <a:cubicBezTo>
                    <a:pt x="14" y="38"/>
                    <a:pt x="0" y="76"/>
                    <a:pt x="0" y="114"/>
                  </a:cubicBezTo>
                  <a:cubicBezTo>
                    <a:pt x="0" y="152"/>
                    <a:pt x="14" y="189"/>
                    <a:pt x="28" y="227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8000000">
              <a:off x="8457120" y="1584000"/>
              <a:ext cx="35280" cy="29016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28" y="0"/>
                  </a:moveTo>
                  <a:cubicBezTo>
                    <a:pt x="14" y="38"/>
                    <a:pt x="0" y="76"/>
                    <a:pt x="0" y="114"/>
                  </a:cubicBezTo>
                  <a:cubicBezTo>
                    <a:pt x="0" y="152"/>
                    <a:pt x="14" y="189"/>
                    <a:pt x="28" y="227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8000000">
              <a:off x="8361720" y="1819800"/>
              <a:ext cx="35640" cy="29016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28" y="0"/>
                  </a:moveTo>
                  <a:cubicBezTo>
                    <a:pt x="14" y="38"/>
                    <a:pt x="0" y="76"/>
                    <a:pt x="0" y="114"/>
                  </a:cubicBezTo>
                  <a:cubicBezTo>
                    <a:pt x="0" y="152"/>
                    <a:pt x="14" y="189"/>
                    <a:pt x="28" y="227"/>
                  </a:cubicBezTo>
                </a:path>
              </a:pathLst>
            </a:custGeom>
            <a:noFill/>
            <a:ln w="572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970200" y="836640"/>
            <a:ext cx="509400" cy="1513440"/>
            <a:chOff x="970200" y="836640"/>
            <a:chExt cx="509400" cy="1513440"/>
          </a:xfrm>
        </p:grpSpPr>
        <p:sp>
          <p:nvSpPr>
            <p:cNvPr id="86" name=""/>
            <p:cNvSpPr/>
            <p:nvPr/>
          </p:nvSpPr>
          <p:spPr>
            <a:xfrm rot="241200">
              <a:off x="1017000" y="988560"/>
              <a:ext cx="380880" cy="1349640"/>
            </a:xfrm>
            <a:custGeom>
              <a:avLst/>
              <a:gdLst/>
              <a:ahLst/>
              <a:rect l="l" t="t" r="r" b="b"/>
              <a:pathLst>
                <a:path w="544" h="1564">
                  <a:moveTo>
                    <a:pt x="317" y="124"/>
                  </a:moveTo>
                  <a:cubicBezTo>
                    <a:pt x="313" y="172"/>
                    <a:pt x="308" y="575"/>
                    <a:pt x="261" y="776"/>
                  </a:cubicBezTo>
                  <a:cubicBezTo>
                    <a:pt x="214" y="977"/>
                    <a:pt x="66" y="1202"/>
                    <a:pt x="33" y="1332"/>
                  </a:cubicBezTo>
                  <a:cubicBezTo>
                    <a:pt x="0" y="1462"/>
                    <a:pt x="24" y="1554"/>
                    <a:pt x="62" y="1559"/>
                  </a:cubicBezTo>
                  <a:cubicBezTo>
                    <a:pt x="100" y="1564"/>
                    <a:pt x="195" y="1496"/>
                    <a:pt x="260" y="1360"/>
                  </a:cubicBezTo>
                  <a:cubicBezTo>
                    <a:pt x="325" y="1224"/>
                    <a:pt x="405" y="942"/>
                    <a:pt x="452" y="740"/>
                  </a:cubicBezTo>
                  <a:cubicBezTo>
                    <a:pt x="499" y="538"/>
                    <a:pt x="544" y="271"/>
                    <a:pt x="541" y="148"/>
                  </a:cubicBezTo>
                  <a:cubicBezTo>
                    <a:pt x="538" y="25"/>
                    <a:pt x="474" y="4"/>
                    <a:pt x="437" y="0"/>
                  </a:cubicBezTo>
                  <a:cubicBezTo>
                    <a:pt x="333" y="0"/>
                    <a:pt x="321" y="76"/>
                    <a:pt x="317" y="124"/>
                  </a:cubicBezTo>
                  <a:close/>
                </a:path>
              </a:pathLst>
            </a:cu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992160" y="937440"/>
              <a:ext cx="487440" cy="1400760"/>
            </a:xfrm>
            <a:custGeom>
              <a:avLst/>
              <a:gdLst/>
              <a:ahLst/>
              <a:rect l="l" t="t" r="r" b="b"/>
              <a:pathLst>
                <a:path w="544" h="1564">
                  <a:moveTo>
                    <a:pt x="317" y="124"/>
                  </a:moveTo>
                  <a:cubicBezTo>
                    <a:pt x="313" y="172"/>
                    <a:pt x="308" y="575"/>
                    <a:pt x="261" y="776"/>
                  </a:cubicBezTo>
                  <a:cubicBezTo>
                    <a:pt x="214" y="977"/>
                    <a:pt x="66" y="1202"/>
                    <a:pt x="33" y="1332"/>
                  </a:cubicBezTo>
                  <a:cubicBezTo>
                    <a:pt x="0" y="1462"/>
                    <a:pt x="24" y="1554"/>
                    <a:pt x="62" y="1559"/>
                  </a:cubicBezTo>
                  <a:cubicBezTo>
                    <a:pt x="100" y="1564"/>
                    <a:pt x="195" y="1496"/>
                    <a:pt x="260" y="1360"/>
                  </a:cubicBezTo>
                  <a:cubicBezTo>
                    <a:pt x="325" y="1224"/>
                    <a:pt x="405" y="942"/>
                    <a:pt x="452" y="740"/>
                  </a:cubicBezTo>
                  <a:cubicBezTo>
                    <a:pt x="499" y="538"/>
                    <a:pt x="544" y="271"/>
                    <a:pt x="541" y="148"/>
                  </a:cubicBezTo>
                  <a:cubicBezTo>
                    <a:pt x="538" y="25"/>
                    <a:pt x="474" y="4"/>
                    <a:pt x="437" y="0"/>
                  </a:cubicBezTo>
                  <a:cubicBezTo>
                    <a:pt x="333" y="0"/>
                    <a:pt x="321" y="76"/>
                    <a:pt x="317" y="124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347840" y="836640"/>
              <a:ext cx="50040" cy="100800"/>
            </a:xfrm>
            <a:custGeom>
              <a:avLst/>
              <a:gdLst/>
              <a:ahLst/>
              <a:rect l="l" t="t" r="r" b="b"/>
              <a:pathLst>
                <a:path w="56" h="113">
                  <a:moveTo>
                    <a:pt x="28" y="113"/>
                  </a:moveTo>
                  <a:lnTo>
                    <a:pt x="0" y="28"/>
                  </a:lnTo>
                  <a:lnTo>
                    <a:pt x="56" y="0"/>
                  </a:lnTo>
                  <a:lnTo>
                    <a:pt x="56" y="113"/>
                  </a:lnTo>
                  <a:lnTo>
                    <a:pt x="28" y="113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704880" y="2852640"/>
            <a:ext cx="863640" cy="1512720"/>
            <a:chOff x="704880" y="2852640"/>
            <a:chExt cx="863640" cy="1512720"/>
          </a:xfrm>
        </p:grpSpPr>
        <p:sp>
          <p:nvSpPr>
            <p:cNvPr id="90" name=""/>
            <p:cNvSpPr/>
            <p:nvPr/>
          </p:nvSpPr>
          <p:spPr>
            <a:xfrm>
              <a:off x="736560" y="3108600"/>
              <a:ext cx="788760" cy="1256040"/>
            </a:xfrm>
            <a:custGeom>
              <a:avLst/>
              <a:gdLst/>
              <a:ahLst/>
              <a:rect l="l" t="t" r="r" b="b"/>
              <a:pathLst>
                <a:path w="1117" h="1571">
                  <a:moveTo>
                    <a:pt x="721" y="134"/>
                  </a:moveTo>
                  <a:cubicBezTo>
                    <a:pt x="669" y="252"/>
                    <a:pt x="659" y="539"/>
                    <a:pt x="551" y="695"/>
                  </a:cubicBezTo>
                  <a:cubicBezTo>
                    <a:pt x="443" y="851"/>
                    <a:pt x="142" y="938"/>
                    <a:pt x="71" y="1071"/>
                  </a:cubicBezTo>
                  <a:cubicBezTo>
                    <a:pt x="0" y="1204"/>
                    <a:pt x="22" y="1438"/>
                    <a:pt x="127" y="1495"/>
                  </a:cubicBezTo>
                  <a:cubicBezTo>
                    <a:pt x="232" y="1552"/>
                    <a:pt x="547" y="1571"/>
                    <a:pt x="703" y="1415"/>
                  </a:cubicBezTo>
                  <a:cubicBezTo>
                    <a:pt x="859" y="1259"/>
                    <a:pt x="1005" y="783"/>
                    <a:pt x="1061" y="559"/>
                  </a:cubicBezTo>
                  <a:cubicBezTo>
                    <a:pt x="1117" y="335"/>
                    <a:pt x="1096" y="142"/>
                    <a:pt x="1039" y="71"/>
                  </a:cubicBezTo>
                  <a:cubicBezTo>
                    <a:pt x="982" y="0"/>
                    <a:pt x="773" y="16"/>
                    <a:pt x="721" y="134"/>
                  </a:cubicBezTo>
                  <a:close/>
                </a:path>
              </a:pathLst>
            </a:cu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4880" y="2991600"/>
              <a:ext cx="862920" cy="1373760"/>
            </a:xfrm>
            <a:custGeom>
              <a:avLst/>
              <a:gdLst/>
              <a:ahLst/>
              <a:rect l="l" t="t" r="r" b="b"/>
              <a:pathLst>
                <a:path w="1117" h="1571">
                  <a:moveTo>
                    <a:pt x="721" y="134"/>
                  </a:moveTo>
                  <a:cubicBezTo>
                    <a:pt x="669" y="252"/>
                    <a:pt x="659" y="539"/>
                    <a:pt x="551" y="695"/>
                  </a:cubicBezTo>
                  <a:cubicBezTo>
                    <a:pt x="443" y="851"/>
                    <a:pt x="142" y="938"/>
                    <a:pt x="71" y="1071"/>
                  </a:cubicBezTo>
                  <a:cubicBezTo>
                    <a:pt x="0" y="1204"/>
                    <a:pt x="22" y="1438"/>
                    <a:pt x="127" y="1495"/>
                  </a:cubicBezTo>
                  <a:cubicBezTo>
                    <a:pt x="232" y="1552"/>
                    <a:pt x="547" y="1571"/>
                    <a:pt x="703" y="1415"/>
                  </a:cubicBezTo>
                  <a:cubicBezTo>
                    <a:pt x="859" y="1259"/>
                    <a:pt x="1005" y="783"/>
                    <a:pt x="1061" y="559"/>
                  </a:cubicBezTo>
                  <a:cubicBezTo>
                    <a:pt x="1117" y="335"/>
                    <a:pt x="1096" y="142"/>
                    <a:pt x="1039" y="71"/>
                  </a:cubicBezTo>
                  <a:cubicBezTo>
                    <a:pt x="982" y="0"/>
                    <a:pt x="773" y="16"/>
                    <a:pt x="721" y="134"/>
                  </a:cubicBezTo>
                  <a:close/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40200" y="2852640"/>
              <a:ext cx="328320" cy="330480"/>
            </a:xfrm>
            <a:custGeom>
              <a:avLst/>
              <a:gdLst/>
              <a:ahLst/>
              <a:rect l="l" t="t" r="r" b="b"/>
              <a:pathLst>
                <a:path w="510" h="453">
                  <a:moveTo>
                    <a:pt x="198" y="170"/>
                  </a:moveTo>
                  <a:lnTo>
                    <a:pt x="0" y="283"/>
                  </a:lnTo>
                  <a:lnTo>
                    <a:pt x="170" y="283"/>
                  </a:lnTo>
                  <a:lnTo>
                    <a:pt x="113" y="396"/>
                  </a:lnTo>
                  <a:lnTo>
                    <a:pt x="255" y="311"/>
                  </a:lnTo>
                  <a:lnTo>
                    <a:pt x="340" y="453"/>
                  </a:lnTo>
                  <a:lnTo>
                    <a:pt x="340" y="283"/>
                  </a:lnTo>
                  <a:lnTo>
                    <a:pt x="510" y="311"/>
                  </a:lnTo>
                  <a:lnTo>
                    <a:pt x="340" y="170"/>
                  </a:lnTo>
                  <a:lnTo>
                    <a:pt x="368" y="28"/>
                  </a:lnTo>
                  <a:lnTo>
                    <a:pt x="255" y="0"/>
                  </a:lnTo>
                  <a:lnTo>
                    <a:pt x="283" y="170"/>
                  </a:lnTo>
                  <a:lnTo>
                    <a:pt x="198" y="170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407880" y="4869000"/>
            <a:ext cx="1592280" cy="1377360"/>
            <a:chOff x="407880" y="4869000"/>
            <a:chExt cx="1592280" cy="1377360"/>
          </a:xfrm>
        </p:grpSpPr>
        <p:sp>
          <p:nvSpPr>
            <p:cNvPr id="94" name=""/>
            <p:cNvSpPr/>
            <p:nvPr/>
          </p:nvSpPr>
          <p:spPr>
            <a:xfrm>
              <a:off x="439200" y="5144040"/>
              <a:ext cx="1500480" cy="10958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7880" y="5083560"/>
              <a:ext cx="1592280" cy="1162800"/>
            </a:xfrm>
            <a:prstGeom prst="ellipse">
              <a:avLst/>
            </a:prstGeom>
            <a:noFill/>
            <a:ln w="57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990000" y="5022000"/>
              <a:ext cx="367200" cy="153000"/>
            </a:xfrm>
            <a:prstGeom prst="ellipse">
              <a:avLst/>
            </a:prstGeom>
            <a:solidFill>
              <a:srgbClr val="003300"/>
            </a:solidFill>
            <a:ln w="57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112040" y="4869000"/>
              <a:ext cx="95040" cy="213480"/>
            </a:xfrm>
            <a:custGeom>
              <a:avLst/>
              <a:gdLst/>
              <a:ahLst/>
              <a:rect l="l" t="t" r="r" b="b"/>
              <a:pathLst>
                <a:path w="113" h="255">
                  <a:moveTo>
                    <a:pt x="28" y="227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85" y="255"/>
                  </a:lnTo>
                </a:path>
              </a:pathLst>
            </a:custGeom>
            <a:solidFill>
              <a:srgbClr val="003300"/>
            </a:solidFill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7520" y="5267160"/>
              <a:ext cx="220320" cy="887400"/>
            </a:xfrm>
            <a:custGeom>
              <a:avLst/>
              <a:gdLst/>
              <a:ahLst/>
              <a:rect l="l" t="t" r="r" b="b"/>
              <a:pathLst>
                <a:path w="204" h="822">
                  <a:moveTo>
                    <a:pt x="204" y="0"/>
                  </a:moveTo>
                  <a:cubicBezTo>
                    <a:pt x="107" y="144"/>
                    <a:pt x="10" y="288"/>
                    <a:pt x="5" y="425"/>
                  </a:cubicBezTo>
                  <a:cubicBezTo>
                    <a:pt x="0" y="562"/>
                    <a:pt x="88" y="692"/>
                    <a:pt x="176" y="822"/>
                  </a:cubicBez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143360" y="5297400"/>
              <a:ext cx="61200" cy="887040"/>
            </a:xfrm>
            <a:custGeom>
              <a:avLst/>
              <a:gdLst/>
              <a:ahLst/>
              <a:rect l="l" t="t" r="r" b="b"/>
              <a:pathLst>
                <a:path w="204" h="822">
                  <a:moveTo>
                    <a:pt x="204" y="0"/>
                  </a:moveTo>
                  <a:cubicBezTo>
                    <a:pt x="107" y="144"/>
                    <a:pt x="10" y="288"/>
                    <a:pt x="5" y="425"/>
                  </a:cubicBezTo>
                  <a:cubicBezTo>
                    <a:pt x="0" y="562"/>
                    <a:pt x="88" y="692"/>
                    <a:pt x="176" y="822"/>
                  </a:cubicBez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357200" y="5267160"/>
              <a:ext cx="367200" cy="887400"/>
            </a:xfrm>
            <a:custGeom>
              <a:avLst/>
              <a:gdLst/>
              <a:ahLst/>
              <a:rect l="l" t="t" r="r" b="b"/>
              <a:pathLst>
                <a:path w="204" h="822">
                  <a:moveTo>
                    <a:pt x="204" y="0"/>
                  </a:moveTo>
                  <a:cubicBezTo>
                    <a:pt x="107" y="144"/>
                    <a:pt x="10" y="288"/>
                    <a:pt x="5" y="425"/>
                  </a:cubicBezTo>
                  <a:cubicBezTo>
                    <a:pt x="0" y="562"/>
                    <a:pt x="88" y="692"/>
                    <a:pt x="176" y="822"/>
                  </a:cubicBez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289240" y="4869000"/>
            <a:ext cx="1620720" cy="1349280"/>
            <a:chOff x="2289240" y="4869000"/>
            <a:chExt cx="1620720" cy="1349280"/>
          </a:xfrm>
        </p:grpSpPr>
        <p:sp>
          <p:nvSpPr>
            <p:cNvPr id="102" name=""/>
            <p:cNvSpPr/>
            <p:nvPr/>
          </p:nvSpPr>
          <p:spPr>
            <a:xfrm>
              <a:off x="2289240" y="4959360"/>
              <a:ext cx="1530360" cy="1214640"/>
            </a:xfrm>
            <a:prstGeom prst="ellipse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289240" y="4869000"/>
              <a:ext cx="1620720" cy="130500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514600" y="4869000"/>
              <a:ext cx="1170000" cy="130500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19600" y="6083280"/>
              <a:ext cx="404640" cy="135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98880" y="5138640"/>
              <a:ext cx="54000" cy="944640"/>
            </a:xfrm>
            <a:custGeom>
              <a:avLst/>
              <a:gdLst/>
              <a:ahLst/>
              <a:rect l="l" t="t" r="r" b="b"/>
              <a:pathLst>
                <a:path w="34" h="595">
                  <a:moveTo>
                    <a:pt x="0" y="0"/>
                  </a:moveTo>
                  <a:cubicBezTo>
                    <a:pt x="12" y="78"/>
                    <a:pt x="24" y="156"/>
                    <a:pt x="29" y="255"/>
                  </a:cubicBezTo>
                  <a:cubicBezTo>
                    <a:pt x="34" y="354"/>
                    <a:pt x="31" y="474"/>
                    <a:pt x="29" y="595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693880" y="5229360"/>
              <a:ext cx="316080" cy="5220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9780200">
              <a:off x="3249720" y="5202000"/>
              <a:ext cx="225360" cy="9036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738520" y="5480280"/>
              <a:ext cx="315720" cy="5220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19780200">
              <a:off x="3294000" y="5452920"/>
              <a:ext cx="225360" cy="9036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738520" y="5749920"/>
              <a:ext cx="315720" cy="5256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19780200">
              <a:off x="3293640" y="5722560"/>
              <a:ext cx="225360" cy="9072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4236840" y="4698360"/>
            <a:ext cx="1234440" cy="1592640"/>
            <a:chOff x="4236840" y="4698360"/>
            <a:chExt cx="1234440" cy="1592640"/>
          </a:xfrm>
        </p:grpSpPr>
        <p:sp>
          <p:nvSpPr>
            <p:cNvPr id="114" name=""/>
            <p:cNvSpPr/>
            <p:nvPr/>
          </p:nvSpPr>
          <p:spPr>
            <a:xfrm rot="357000">
              <a:off x="4816440" y="4724280"/>
              <a:ext cx="579600" cy="148176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21276600">
              <a:off x="4304880" y="4724280"/>
              <a:ext cx="579600" cy="148176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339800" y="4826160"/>
              <a:ext cx="988560" cy="1362960"/>
            </a:xfrm>
            <a:prstGeom prst="ellipse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61480" y="4758840"/>
              <a:ext cx="812880" cy="148176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43000" y="6138720"/>
              <a:ext cx="281160" cy="15228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67920" y="5065200"/>
              <a:ext cx="37080" cy="1073160"/>
            </a:xfrm>
            <a:custGeom>
              <a:avLst/>
              <a:gdLst/>
              <a:ahLst/>
              <a:rect l="l" t="t" r="r" b="b"/>
              <a:pathLst>
                <a:path w="34" h="595">
                  <a:moveTo>
                    <a:pt x="0" y="0"/>
                  </a:moveTo>
                  <a:cubicBezTo>
                    <a:pt x="12" y="78"/>
                    <a:pt x="24" y="156"/>
                    <a:pt x="29" y="255"/>
                  </a:cubicBezTo>
                  <a:cubicBezTo>
                    <a:pt x="34" y="354"/>
                    <a:pt x="31" y="474"/>
                    <a:pt x="29" y="595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86400" y="5168880"/>
              <a:ext cx="218520" cy="5868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19780200">
              <a:off x="4972320" y="5137200"/>
              <a:ext cx="156240" cy="10296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16640" y="5453640"/>
              <a:ext cx="219960" cy="5868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9780200">
              <a:off x="5002200" y="5421960"/>
              <a:ext cx="156240" cy="10296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6640" y="5760000"/>
              <a:ext cx="219960" cy="5868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9780200">
              <a:off x="5002200" y="5728680"/>
              <a:ext cx="156240" cy="102960"/>
            </a:xfrm>
            <a:custGeom>
              <a:avLst/>
              <a:gdLst/>
              <a:ahLst/>
              <a:rect l="l" t="t" r="r" b="b"/>
              <a:pathLst>
                <a:path w="199" h="33">
                  <a:moveTo>
                    <a:pt x="0" y="0"/>
                  </a:moveTo>
                  <a:cubicBezTo>
                    <a:pt x="40" y="11"/>
                    <a:pt x="81" y="23"/>
                    <a:pt x="114" y="28"/>
                  </a:cubicBezTo>
                  <a:cubicBezTo>
                    <a:pt x="147" y="33"/>
                    <a:pt x="173" y="30"/>
                    <a:pt x="199" y="28"/>
                  </a:cubicBez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305240" y="2924280"/>
            <a:ext cx="1357200" cy="1485720"/>
            <a:chOff x="4305240" y="2924280"/>
            <a:chExt cx="1357200" cy="1485720"/>
          </a:xfrm>
        </p:grpSpPr>
        <p:grpSp>
          <p:nvGrpSpPr>
            <p:cNvPr id="127" name=""/>
            <p:cNvGrpSpPr/>
            <p:nvPr/>
          </p:nvGrpSpPr>
          <p:grpSpPr>
            <a:xfrm>
              <a:off x="4305240" y="2924280"/>
              <a:ext cx="1357200" cy="1485720"/>
              <a:chOff x="4305240" y="2924280"/>
              <a:chExt cx="1357200" cy="1485720"/>
            </a:xfrm>
          </p:grpSpPr>
          <p:sp>
            <p:nvSpPr>
              <p:cNvPr id="128" name=""/>
              <p:cNvSpPr/>
              <p:nvPr/>
            </p:nvSpPr>
            <p:spPr>
              <a:xfrm>
                <a:off x="4333680" y="3103560"/>
                <a:ext cx="1187640" cy="1260360"/>
              </a:xfrm>
              <a:custGeom>
                <a:avLst/>
                <a:gdLst/>
                <a:ahLst/>
                <a:rect l="l" t="t" r="r" b="b"/>
                <a:pathLst>
                  <a:path w="855" h="1204">
                    <a:moveTo>
                      <a:pt x="47" y="141"/>
                    </a:moveTo>
                    <a:cubicBezTo>
                      <a:pt x="0" y="282"/>
                      <a:pt x="99" y="916"/>
                      <a:pt x="160" y="1048"/>
                    </a:cubicBezTo>
                    <a:cubicBezTo>
                      <a:pt x="221" y="1180"/>
                      <a:pt x="325" y="930"/>
                      <a:pt x="415" y="935"/>
                    </a:cubicBezTo>
                    <a:cubicBezTo>
                      <a:pt x="505" y="940"/>
                      <a:pt x="633" y="1204"/>
                      <a:pt x="699" y="1077"/>
                    </a:cubicBezTo>
                    <a:cubicBezTo>
                      <a:pt x="765" y="950"/>
                      <a:pt x="855" y="317"/>
                      <a:pt x="812" y="170"/>
                    </a:cubicBezTo>
                    <a:cubicBezTo>
                      <a:pt x="769" y="23"/>
                      <a:pt x="566" y="203"/>
                      <a:pt x="443" y="198"/>
                    </a:cubicBezTo>
                    <a:cubicBezTo>
                      <a:pt x="320" y="193"/>
                      <a:pt x="94" y="0"/>
                      <a:pt x="47" y="141"/>
                    </a:cubicBez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5240" y="2970360"/>
                <a:ext cx="1357200" cy="1439640"/>
              </a:xfrm>
              <a:custGeom>
                <a:avLst/>
                <a:gdLst/>
                <a:ahLst/>
                <a:rect l="l" t="t" r="r" b="b"/>
                <a:pathLst>
                  <a:path w="855" h="1204">
                    <a:moveTo>
                      <a:pt x="47" y="141"/>
                    </a:moveTo>
                    <a:cubicBezTo>
                      <a:pt x="0" y="282"/>
                      <a:pt x="99" y="916"/>
                      <a:pt x="160" y="1048"/>
                    </a:cubicBezTo>
                    <a:cubicBezTo>
                      <a:pt x="221" y="1180"/>
                      <a:pt x="325" y="930"/>
                      <a:pt x="415" y="935"/>
                    </a:cubicBezTo>
                    <a:cubicBezTo>
                      <a:pt x="505" y="940"/>
                      <a:pt x="633" y="1204"/>
                      <a:pt x="699" y="1077"/>
                    </a:cubicBezTo>
                    <a:cubicBezTo>
                      <a:pt x="765" y="950"/>
                      <a:pt x="855" y="317"/>
                      <a:pt x="812" y="170"/>
                    </a:cubicBezTo>
                    <a:cubicBezTo>
                      <a:pt x="769" y="23"/>
                      <a:pt x="566" y="203"/>
                      <a:pt x="443" y="198"/>
                    </a:cubicBezTo>
                    <a:cubicBezTo>
                      <a:pt x="320" y="193"/>
                      <a:pt x="94" y="0"/>
                      <a:pt x="47" y="141"/>
                    </a:cubicBezTo>
                    <a:close/>
                  </a:path>
                </a:pathLst>
              </a:custGeom>
              <a:noFill/>
              <a:ln w="57240">
                <a:solidFill>
                  <a:srgbClr val="00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784760" y="2924280"/>
                <a:ext cx="495000" cy="315720"/>
              </a:xfrm>
              <a:custGeom>
                <a:avLst/>
                <a:gdLst/>
                <a:ahLst/>
                <a:rect l="l" t="t" r="r" b="b"/>
                <a:pathLst>
                  <a:path w="312" h="199">
                    <a:moveTo>
                      <a:pt x="0" y="142"/>
                    </a:moveTo>
                    <a:lnTo>
                      <a:pt x="141" y="199"/>
                    </a:lnTo>
                    <a:lnTo>
                      <a:pt x="312" y="142"/>
                    </a:lnTo>
                    <a:lnTo>
                      <a:pt x="170" y="142"/>
                    </a:lnTo>
                    <a:lnTo>
                      <a:pt x="198" y="0"/>
                    </a:lnTo>
                    <a:lnTo>
                      <a:pt x="113" y="0"/>
                    </a:lnTo>
                    <a:lnTo>
                      <a:pt x="113" y="142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99cc00"/>
              </a:solidFill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4568760" y="3284640"/>
              <a:ext cx="239760" cy="792000"/>
            </a:xfrm>
            <a:custGeom>
              <a:avLst/>
              <a:gdLst/>
              <a:ahLst/>
              <a:rect l="l" t="t" r="r" b="b"/>
              <a:pathLst>
                <a:path w="151" h="499">
                  <a:moveTo>
                    <a:pt x="61" y="0"/>
                  </a:moveTo>
                  <a:cubicBezTo>
                    <a:pt x="30" y="94"/>
                    <a:pt x="0" y="189"/>
                    <a:pt x="15" y="272"/>
                  </a:cubicBezTo>
                  <a:cubicBezTo>
                    <a:pt x="30" y="355"/>
                    <a:pt x="90" y="427"/>
                    <a:pt x="151" y="499"/>
                  </a:cubicBez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168160" y="3284640"/>
              <a:ext cx="144360" cy="792000"/>
            </a:xfrm>
            <a:custGeom>
              <a:avLst/>
              <a:gdLst/>
              <a:ahLst/>
              <a:rect l="l" t="t" r="r" b="b"/>
              <a:pathLst>
                <a:path w="151" h="499">
                  <a:moveTo>
                    <a:pt x="61" y="0"/>
                  </a:moveTo>
                  <a:cubicBezTo>
                    <a:pt x="30" y="94"/>
                    <a:pt x="0" y="189"/>
                    <a:pt x="15" y="272"/>
                  </a:cubicBezTo>
                  <a:cubicBezTo>
                    <a:pt x="30" y="355"/>
                    <a:pt x="90" y="427"/>
                    <a:pt x="151" y="499"/>
                  </a:cubicBez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392880" y="2708280"/>
            <a:ext cx="719280" cy="1655640"/>
            <a:chOff x="6392880" y="2708280"/>
            <a:chExt cx="719280" cy="1655640"/>
          </a:xfrm>
        </p:grpSpPr>
        <p:sp>
          <p:nvSpPr>
            <p:cNvPr id="134" name=""/>
            <p:cNvSpPr/>
            <p:nvPr/>
          </p:nvSpPr>
          <p:spPr>
            <a:xfrm>
              <a:off x="6451560" y="3038400"/>
              <a:ext cx="582480" cy="1224000"/>
            </a:xfrm>
            <a:custGeom>
              <a:avLst/>
              <a:gdLst/>
              <a:ahLst/>
              <a:rect l="l" t="t" r="r" b="b"/>
              <a:pathLst>
                <a:path w="492" h="968">
                  <a:moveTo>
                    <a:pt x="484" y="136"/>
                  </a:moveTo>
                  <a:cubicBezTo>
                    <a:pt x="492" y="249"/>
                    <a:pt x="469" y="545"/>
                    <a:pt x="393" y="681"/>
                  </a:cubicBezTo>
                  <a:cubicBezTo>
                    <a:pt x="317" y="817"/>
                    <a:pt x="60" y="968"/>
                    <a:pt x="30" y="953"/>
                  </a:cubicBezTo>
                  <a:cubicBezTo>
                    <a:pt x="0" y="938"/>
                    <a:pt x="181" y="726"/>
                    <a:pt x="211" y="590"/>
                  </a:cubicBezTo>
                  <a:cubicBezTo>
                    <a:pt x="241" y="454"/>
                    <a:pt x="188" y="234"/>
                    <a:pt x="211" y="136"/>
                  </a:cubicBezTo>
                  <a:cubicBezTo>
                    <a:pt x="234" y="38"/>
                    <a:pt x="302" y="0"/>
                    <a:pt x="347" y="0"/>
                  </a:cubicBezTo>
                  <a:cubicBezTo>
                    <a:pt x="392" y="0"/>
                    <a:pt x="476" y="23"/>
                    <a:pt x="484" y="136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92880" y="2952720"/>
              <a:ext cx="709560" cy="1411200"/>
            </a:xfrm>
            <a:custGeom>
              <a:avLst/>
              <a:gdLst/>
              <a:ahLst/>
              <a:rect l="l" t="t" r="r" b="b"/>
              <a:pathLst>
                <a:path w="492" h="968">
                  <a:moveTo>
                    <a:pt x="484" y="136"/>
                  </a:moveTo>
                  <a:cubicBezTo>
                    <a:pt x="492" y="249"/>
                    <a:pt x="469" y="545"/>
                    <a:pt x="393" y="681"/>
                  </a:cubicBezTo>
                  <a:cubicBezTo>
                    <a:pt x="317" y="817"/>
                    <a:pt x="60" y="968"/>
                    <a:pt x="30" y="953"/>
                  </a:cubicBezTo>
                  <a:cubicBezTo>
                    <a:pt x="0" y="938"/>
                    <a:pt x="181" y="726"/>
                    <a:pt x="211" y="590"/>
                  </a:cubicBezTo>
                  <a:cubicBezTo>
                    <a:pt x="241" y="454"/>
                    <a:pt x="188" y="234"/>
                    <a:pt x="211" y="136"/>
                  </a:cubicBezTo>
                  <a:cubicBezTo>
                    <a:pt x="234" y="38"/>
                    <a:pt x="302" y="0"/>
                    <a:pt x="347" y="0"/>
                  </a:cubicBezTo>
                  <a:cubicBezTo>
                    <a:pt x="392" y="0"/>
                    <a:pt x="476" y="23"/>
                    <a:pt x="484" y="136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653160" y="2708280"/>
              <a:ext cx="459000" cy="461880"/>
            </a:xfrm>
            <a:custGeom>
              <a:avLst/>
              <a:gdLst/>
              <a:ahLst/>
              <a:rect l="l" t="t" r="r" b="b"/>
              <a:pathLst>
                <a:path w="318" h="317">
                  <a:moveTo>
                    <a:pt x="136" y="136"/>
                  </a:moveTo>
                  <a:lnTo>
                    <a:pt x="0" y="272"/>
                  </a:lnTo>
                  <a:lnTo>
                    <a:pt x="136" y="226"/>
                  </a:lnTo>
                  <a:lnTo>
                    <a:pt x="136" y="317"/>
                  </a:lnTo>
                  <a:lnTo>
                    <a:pt x="227" y="226"/>
                  </a:lnTo>
                  <a:lnTo>
                    <a:pt x="318" y="317"/>
                  </a:lnTo>
                  <a:lnTo>
                    <a:pt x="272" y="181"/>
                  </a:lnTo>
                  <a:lnTo>
                    <a:pt x="227" y="136"/>
                  </a:lnTo>
                  <a:lnTo>
                    <a:pt x="272" y="0"/>
                  </a:lnTo>
                  <a:lnTo>
                    <a:pt x="227" y="0"/>
                  </a:lnTo>
                  <a:lnTo>
                    <a:pt x="181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8265960" y="2752560"/>
            <a:ext cx="719280" cy="1656000"/>
            <a:chOff x="8265960" y="2752560"/>
            <a:chExt cx="719280" cy="1656000"/>
          </a:xfrm>
        </p:grpSpPr>
        <p:sp>
          <p:nvSpPr>
            <p:cNvPr id="138" name=""/>
            <p:cNvSpPr/>
            <p:nvPr/>
          </p:nvSpPr>
          <p:spPr>
            <a:xfrm>
              <a:off x="8325000" y="3083040"/>
              <a:ext cx="582480" cy="1224000"/>
            </a:xfrm>
            <a:custGeom>
              <a:avLst/>
              <a:gdLst/>
              <a:ahLst/>
              <a:rect l="l" t="t" r="r" b="b"/>
              <a:pathLst>
                <a:path w="492" h="968">
                  <a:moveTo>
                    <a:pt x="484" y="136"/>
                  </a:moveTo>
                  <a:cubicBezTo>
                    <a:pt x="492" y="249"/>
                    <a:pt x="469" y="545"/>
                    <a:pt x="393" y="681"/>
                  </a:cubicBezTo>
                  <a:cubicBezTo>
                    <a:pt x="317" y="817"/>
                    <a:pt x="60" y="968"/>
                    <a:pt x="30" y="953"/>
                  </a:cubicBezTo>
                  <a:cubicBezTo>
                    <a:pt x="0" y="938"/>
                    <a:pt x="181" y="726"/>
                    <a:pt x="211" y="590"/>
                  </a:cubicBezTo>
                  <a:cubicBezTo>
                    <a:pt x="241" y="454"/>
                    <a:pt x="188" y="234"/>
                    <a:pt x="211" y="136"/>
                  </a:cubicBezTo>
                  <a:cubicBezTo>
                    <a:pt x="234" y="38"/>
                    <a:pt x="302" y="0"/>
                    <a:pt x="347" y="0"/>
                  </a:cubicBezTo>
                  <a:cubicBezTo>
                    <a:pt x="392" y="0"/>
                    <a:pt x="476" y="23"/>
                    <a:pt x="484" y="136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265960" y="2997360"/>
              <a:ext cx="709920" cy="1411200"/>
            </a:xfrm>
            <a:custGeom>
              <a:avLst/>
              <a:gdLst/>
              <a:ahLst/>
              <a:rect l="l" t="t" r="r" b="b"/>
              <a:pathLst>
                <a:path w="492" h="968">
                  <a:moveTo>
                    <a:pt x="484" y="136"/>
                  </a:moveTo>
                  <a:cubicBezTo>
                    <a:pt x="492" y="249"/>
                    <a:pt x="469" y="545"/>
                    <a:pt x="393" y="681"/>
                  </a:cubicBezTo>
                  <a:cubicBezTo>
                    <a:pt x="317" y="817"/>
                    <a:pt x="60" y="968"/>
                    <a:pt x="30" y="953"/>
                  </a:cubicBezTo>
                  <a:cubicBezTo>
                    <a:pt x="0" y="938"/>
                    <a:pt x="181" y="726"/>
                    <a:pt x="211" y="590"/>
                  </a:cubicBezTo>
                  <a:cubicBezTo>
                    <a:pt x="241" y="454"/>
                    <a:pt x="188" y="234"/>
                    <a:pt x="211" y="136"/>
                  </a:cubicBezTo>
                  <a:cubicBezTo>
                    <a:pt x="234" y="38"/>
                    <a:pt x="302" y="0"/>
                    <a:pt x="347" y="0"/>
                  </a:cubicBezTo>
                  <a:cubicBezTo>
                    <a:pt x="392" y="0"/>
                    <a:pt x="476" y="23"/>
                    <a:pt x="484" y="136"/>
                  </a:cubicBezTo>
                  <a:close/>
                </a:path>
              </a:pathLst>
            </a:custGeom>
            <a:noFill/>
            <a:ln w="57240">
              <a:solidFill>
                <a:srgbClr val="99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526600" y="2752560"/>
              <a:ext cx="458640" cy="462240"/>
            </a:xfrm>
            <a:custGeom>
              <a:avLst/>
              <a:gdLst/>
              <a:ahLst/>
              <a:rect l="l" t="t" r="r" b="b"/>
              <a:pathLst>
                <a:path w="318" h="317">
                  <a:moveTo>
                    <a:pt x="136" y="136"/>
                  </a:moveTo>
                  <a:lnTo>
                    <a:pt x="0" y="272"/>
                  </a:lnTo>
                  <a:lnTo>
                    <a:pt x="136" y="226"/>
                  </a:lnTo>
                  <a:lnTo>
                    <a:pt x="136" y="317"/>
                  </a:lnTo>
                  <a:lnTo>
                    <a:pt x="227" y="226"/>
                  </a:lnTo>
                  <a:lnTo>
                    <a:pt x="318" y="317"/>
                  </a:lnTo>
                  <a:lnTo>
                    <a:pt x="272" y="181"/>
                  </a:lnTo>
                  <a:lnTo>
                    <a:pt x="227" y="136"/>
                  </a:lnTo>
                  <a:lnTo>
                    <a:pt x="272" y="0"/>
                  </a:lnTo>
                  <a:lnTo>
                    <a:pt x="227" y="0"/>
                  </a:lnTo>
                  <a:lnTo>
                    <a:pt x="181" y="136"/>
                  </a:lnTo>
                  <a:lnTo>
                    <a:pt x="136" y="136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029280" y="4797360"/>
            <a:ext cx="1590840" cy="1440000"/>
            <a:chOff x="6029280" y="4797360"/>
            <a:chExt cx="1590840" cy="1440000"/>
          </a:xfrm>
        </p:grpSpPr>
        <p:sp>
          <p:nvSpPr>
            <p:cNvPr id="142" name=""/>
            <p:cNvSpPr/>
            <p:nvPr/>
          </p:nvSpPr>
          <p:spPr>
            <a:xfrm rot="505800">
              <a:off x="6449760" y="5108040"/>
              <a:ext cx="431640" cy="1079640"/>
            </a:xfrm>
            <a:custGeom>
              <a:avLst/>
              <a:gdLst/>
              <a:ahLst/>
              <a:rect l="l" t="t" r="r" b="b"/>
              <a:pathLst>
                <a:path w="401" h="884">
                  <a:moveTo>
                    <a:pt x="250" y="106"/>
                  </a:moveTo>
                  <a:cubicBezTo>
                    <a:pt x="220" y="166"/>
                    <a:pt x="243" y="371"/>
                    <a:pt x="205" y="469"/>
                  </a:cubicBezTo>
                  <a:cubicBezTo>
                    <a:pt x="167" y="567"/>
                    <a:pt x="46" y="628"/>
                    <a:pt x="23" y="696"/>
                  </a:cubicBezTo>
                  <a:cubicBezTo>
                    <a:pt x="0" y="764"/>
                    <a:pt x="16" y="870"/>
                    <a:pt x="69" y="877"/>
                  </a:cubicBezTo>
                  <a:cubicBezTo>
                    <a:pt x="122" y="884"/>
                    <a:pt x="288" y="869"/>
                    <a:pt x="341" y="741"/>
                  </a:cubicBezTo>
                  <a:cubicBezTo>
                    <a:pt x="394" y="613"/>
                    <a:pt x="401" y="212"/>
                    <a:pt x="386" y="106"/>
                  </a:cubicBezTo>
                  <a:cubicBezTo>
                    <a:pt x="371" y="0"/>
                    <a:pt x="280" y="46"/>
                    <a:pt x="250" y="106"/>
                  </a:cubicBezTo>
                  <a:close/>
                </a:path>
              </a:pathLst>
            </a:cu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392880" y="5013360"/>
              <a:ext cx="541440" cy="1224000"/>
            </a:xfrm>
            <a:custGeom>
              <a:avLst/>
              <a:gdLst/>
              <a:ahLst/>
              <a:rect l="l" t="t" r="r" b="b"/>
              <a:pathLst>
                <a:path w="401" h="884">
                  <a:moveTo>
                    <a:pt x="250" y="106"/>
                  </a:moveTo>
                  <a:cubicBezTo>
                    <a:pt x="220" y="166"/>
                    <a:pt x="243" y="371"/>
                    <a:pt x="205" y="469"/>
                  </a:cubicBezTo>
                  <a:cubicBezTo>
                    <a:pt x="167" y="567"/>
                    <a:pt x="46" y="628"/>
                    <a:pt x="23" y="696"/>
                  </a:cubicBezTo>
                  <a:cubicBezTo>
                    <a:pt x="0" y="764"/>
                    <a:pt x="16" y="870"/>
                    <a:pt x="69" y="877"/>
                  </a:cubicBezTo>
                  <a:cubicBezTo>
                    <a:pt x="122" y="884"/>
                    <a:pt x="288" y="869"/>
                    <a:pt x="341" y="741"/>
                  </a:cubicBezTo>
                  <a:cubicBezTo>
                    <a:pt x="394" y="613"/>
                    <a:pt x="401" y="212"/>
                    <a:pt x="386" y="106"/>
                  </a:cubicBezTo>
                  <a:cubicBezTo>
                    <a:pt x="371" y="0"/>
                    <a:pt x="280" y="46"/>
                    <a:pt x="250" y="106"/>
                  </a:cubicBezTo>
                  <a:close/>
                </a:path>
              </a:pathLst>
            </a:custGeom>
            <a:noFill/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29280" y="4797360"/>
              <a:ext cx="1590840" cy="708120"/>
            </a:xfrm>
            <a:custGeom>
              <a:avLst/>
              <a:gdLst/>
              <a:ahLst/>
              <a:rect l="l" t="t" r="r" b="b"/>
              <a:pathLst>
                <a:path w="1002" h="446">
                  <a:moveTo>
                    <a:pt x="501" y="0"/>
                  </a:moveTo>
                  <a:cubicBezTo>
                    <a:pt x="335" y="0"/>
                    <a:pt x="4" y="289"/>
                    <a:pt x="2" y="363"/>
                  </a:cubicBezTo>
                  <a:cubicBezTo>
                    <a:pt x="0" y="437"/>
                    <a:pt x="326" y="446"/>
                    <a:pt x="492" y="446"/>
                  </a:cubicBezTo>
                  <a:cubicBezTo>
                    <a:pt x="658" y="446"/>
                    <a:pt x="998" y="437"/>
                    <a:pt x="1000" y="363"/>
                  </a:cubicBezTo>
                  <a:cubicBezTo>
                    <a:pt x="1002" y="289"/>
                    <a:pt x="667" y="0"/>
                    <a:pt x="501" y="0"/>
                  </a:cubicBezTo>
                  <a:close/>
                </a:path>
              </a:pathLst>
            </a:custGeom>
            <a:solidFill>
              <a:srgbClr val="cc9900"/>
            </a:solidFill>
            <a:ln w="5724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977240" y="4653000"/>
            <a:ext cx="1334520" cy="1679040"/>
            <a:chOff x="7977240" y="4653000"/>
            <a:chExt cx="1334520" cy="1679040"/>
          </a:xfrm>
        </p:grpSpPr>
        <p:sp>
          <p:nvSpPr>
            <p:cNvPr id="146" name=""/>
            <p:cNvSpPr/>
            <p:nvPr/>
          </p:nvSpPr>
          <p:spPr>
            <a:xfrm>
              <a:off x="8796960" y="4720680"/>
              <a:ext cx="296640" cy="651960"/>
            </a:xfrm>
            <a:custGeom>
              <a:avLst/>
              <a:gdLst/>
              <a:ahLst/>
              <a:rect l="l" t="t" r="r" b="b"/>
              <a:pathLst>
                <a:path w="227" h="499">
                  <a:moveTo>
                    <a:pt x="227" y="0"/>
                  </a:moveTo>
                  <a:lnTo>
                    <a:pt x="136" y="46"/>
                  </a:lnTo>
                  <a:lnTo>
                    <a:pt x="0" y="454"/>
                  </a:lnTo>
                  <a:lnTo>
                    <a:pt x="46" y="499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13760" y="4653000"/>
              <a:ext cx="909720" cy="1628280"/>
            </a:xfrm>
            <a:custGeom>
              <a:avLst/>
              <a:gdLst/>
              <a:ahLst/>
              <a:rect l="l" t="t" r="r" b="b"/>
              <a:pathLst>
                <a:path w="696" h="1246">
                  <a:moveTo>
                    <a:pt x="129" y="1186"/>
                  </a:moveTo>
                  <a:cubicBezTo>
                    <a:pt x="197" y="1126"/>
                    <a:pt x="355" y="907"/>
                    <a:pt x="446" y="733"/>
                  </a:cubicBezTo>
                  <a:cubicBezTo>
                    <a:pt x="537" y="559"/>
                    <a:pt x="650" y="249"/>
                    <a:pt x="673" y="143"/>
                  </a:cubicBezTo>
                  <a:cubicBezTo>
                    <a:pt x="696" y="37"/>
                    <a:pt x="635" y="0"/>
                    <a:pt x="582" y="98"/>
                  </a:cubicBezTo>
                  <a:cubicBezTo>
                    <a:pt x="529" y="196"/>
                    <a:pt x="447" y="567"/>
                    <a:pt x="356" y="733"/>
                  </a:cubicBezTo>
                  <a:cubicBezTo>
                    <a:pt x="265" y="899"/>
                    <a:pt x="76" y="1021"/>
                    <a:pt x="38" y="1096"/>
                  </a:cubicBezTo>
                  <a:cubicBezTo>
                    <a:pt x="0" y="1171"/>
                    <a:pt x="61" y="1246"/>
                    <a:pt x="129" y="1186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985240" y="4771800"/>
              <a:ext cx="296640" cy="651960"/>
            </a:xfrm>
            <a:custGeom>
              <a:avLst/>
              <a:gdLst/>
              <a:ahLst/>
              <a:rect l="l" t="t" r="r" b="b"/>
              <a:pathLst>
                <a:path w="227" h="499">
                  <a:moveTo>
                    <a:pt x="227" y="0"/>
                  </a:moveTo>
                  <a:lnTo>
                    <a:pt x="136" y="46"/>
                  </a:lnTo>
                  <a:lnTo>
                    <a:pt x="0" y="454"/>
                  </a:lnTo>
                  <a:lnTo>
                    <a:pt x="46" y="499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402040" y="4703760"/>
              <a:ext cx="909720" cy="1628280"/>
            </a:xfrm>
            <a:custGeom>
              <a:avLst/>
              <a:gdLst/>
              <a:ahLst/>
              <a:rect l="l" t="t" r="r" b="b"/>
              <a:pathLst>
                <a:path w="696" h="1246">
                  <a:moveTo>
                    <a:pt x="129" y="1186"/>
                  </a:moveTo>
                  <a:cubicBezTo>
                    <a:pt x="197" y="1126"/>
                    <a:pt x="355" y="907"/>
                    <a:pt x="446" y="733"/>
                  </a:cubicBezTo>
                  <a:cubicBezTo>
                    <a:pt x="537" y="559"/>
                    <a:pt x="650" y="249"/>
                    <a:pt x="673" y="143"/>
                  </a:cubicBezTo>
                  <a:cubicBezTo>
                    <a:pt x="696" y="37"/>
                    <a:pt x="635" y="0"/>
                    <a:pt x="582" y="98"/>
                  </a:cubicBezTo>
                  <a:cubicBezTo>
                    <a:pt x="529" y="196"/>
                    <a:pt x="447" y="567"/>
                    <a:pt x="356" y="733"/>
                  </a:cubicBezTo>
                  <a:cubicBezTo>
                    <a:pt x="265" y="899"/>
                    <a:pt x="76" y="1021"/>
                    <a:pt x="38" y="1096"/>
                  </a:cubicBezTo>
                  <a:cubicBezTo>
                    <a:pt x="0" y="1171"/>
                    <a:pt x="61" y="1246"/>
                    <a:pt x="129" y="1186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560440" y="4720680"/>
              <a:ext cx="296640" cy="651960"/>
            </a:xfrm>
            <a:custGeom>
              <a:avLst/>
              <a:gdLst/>
              <a:ahLst/>
              <a:rect l="l" t="t" r="r" b="b"/>
              <a:pathLst>
                <a:path w="227" h="499">
                  <a:moveTo>
                    <a:pt x="227" y="0"/>
                  </a:moveTo>
                  <a:lnTo>
                    <a:pt x="136" y="46"/>
                  </a:lnTo>
                  <a:lnTo>
                    <a:pt x="0" y="454"/>
                  </a:lnTo>
                  <a:lnTo>
                    <a:pt x="46" y="499"/>
                  </a:lnTo>
                  <a:lnTo>
                    <a:pt x="227" y="0"/>
                  </a:ln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977240" y="4653000"/>
              <a:ext cx="909720" cy="1628280"/>
            </a:xfrm>
            <a:custGeom>
              <a:avLst/>
              <a:gdLst/>
              <a:ahLst/>
              <a:rect l="l" t="t" r="r" b="b"/>
              <a:pathLst>
                <a:path w="696" h="1246">
                  <a:moveTo>
                    <a:pt x="129" y="1186"/>
                  </a:moveTo>
                  <a:cubicBezTo>
                    <a:pt x="197" y="1126"/>
                    <a:pt x="355" y="907"/>
                    <a:pt x="446" y="733"/>
                  </a:cubicBezTo>
                  <a:cubicBezTo>
                    <a:pt x="537" y="559"/>
                    <a:pt x="650" y="249"/>
                    <a:pt x="673" y="143"/>
                  </a:cubicBezTo>
                  <a:cubicBezTo>
                    <a:pt x="696" y="37"/>
                    <a:pt x="635" y="0"/>
                    <a:pt x="582" y="98"/>
                  </a:cubicBezTo>
                  <a:cubicBezTo>
                    <a:pt x="529" y="196"/>
                    <a:pt x="447" y="567"/>
                    <a:pt x="356" y="733"/>
                  </a:cubicBezTo>
                  <a:cubicBezTo>
                    <a:pt x="265" y="899"/>
                    <a:pt x="76" y="1021"/>
                    <a:pt x="38" y="1096"/>
                  </a:cubicBezTo>
                  <a:cubicBezTo>
                    <a:pt x="0" y="1171"/>
                    <a:pt x="61" y="1246"/>
                    <a:pt x="129" y="1186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415800" y="836640"/>
            <a:ext cx="1584360" cy="1585440"/>
            <a:chOff x="415800" y="836640"/>
            <a:chExt cx="1584360" cy="1585440"/>
          </a:xfrm>
        </p:grpSpPr>
        <p:sp>
          <p:nvSpPr>
            <p:cNvPr id="153" name=""/>
            <p:cNvSpPr/>
            <p:nvPr/>
          </p:nvSpPr>
          <p:spPr>
            <a:xfrm>
              <a:off x="415800" y="941040"/>
              <a:ext cx="1479600" cy="1481040"/>
            </a:xfrm>
            <a:prstGeom prst="ellipse">
              <a:avLst/>
            </a:prstGeom>
            <a:solidFill>
              <a:srgbClr val="eded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5800" y="836640"/>
              <a:ext cx="1584360" cy="1584000"/>
            </a:xfrm>
            <a:prstGeom prst="ellipse">
              <a:avLst/>
            </a:prstGeom>
            <a:noFill/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92160" y="981000"/>
              <a:ext cx="360360" cy="504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36520" y="1773000"/>
              <a:ext cx="289080" cy="5043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5400000">
              <a:off x="597600" y="1376640"/>
              <a:ext cx="286920" cy="504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5400000">
              <a:off x="1424880" y="1413360"/>
              <a:ext cx="360000" cy="5047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700000">
              <a:off x="1460880" y="1088280"/>
              <a:ext cx="215640" cy="432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2700000">
              <a:off x="812520" y="1738080"/>
              <a:ext cx="215640" cy="4316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8100000">
              <a:off x="701280" y="1120320"/>
              <a:ext cx="214200" cy="3330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8100000">
              <a:off x="1480680" y="1852200"/>
              <a:ext cx="214560" cy="2869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432160" y="836640"/>
            <a:ext cx="1263600" cy="1525680"/>
            <a:chOff x="2432160" y="836640"/>
            <a:chExt cx="1263600" cy="1525680"/>
          </a:xfrm>
        </p:grpSpPr>
        <p:sp>
          <p:nvSpPr>
            <p:cNvPr id="164" name=""/>
            <p:cNvSpPr/>
            <p:nvPr/>
          </p:nvSpPr>
          <p:spPr>
            <a:xfrm>
              <a:off x="2638080" y="848520"/>
              <a:ext cx="818280" cy="1364400"/>
            </a:xfrm>
            <a:custGeom>
              <a:avLst/>
              <a:gdLst/>
              <a:ahLst/>
              <a:rect l="l" t="t" r="r" b="b"/>
              <a:pathLst>
                <a:path w="544" h="816">
                  <a:moveTo>
                    <a:pt x="272" y="45"/>
                  </a:moveTo>
                  <a:lnTo>
                    <a:pt x="136" y="227"/>
                  </a:lnTo>
                  <a:lnTo>
                    <a:pt x="0" y="635"/>
                  </a:lnTo>
                  <a:lnTo>
                    <a:pt x="0" y="725"/>
                  </a:lnTo>
                  <a:lnTo>
                    <a:pt x="226" y="816"/>
                  </a:lnTo>
                  <a:lnTo>
                    <a:pt x="544" y="771"/>
                  </a:lnTo>
                  <a:lnTo>
                    <a:pt x="453" y="227"/>
                  </a:lnTo>
                  <a:lnTo>
                    <a:pt x="317" y="0"/>
                  </a:lnTo>
                  <a:lnTo>
                    <a:pt x="272" y="45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2160" y="836640"/>
              <a:ext cx="1263600" cy="1525680"/>
            </a:xfrm>
            <a:custGeom>
              <a:avLst/>
              <a:gdLst/>
              <a:ahLst/>
              <a:rect l="l" t="t" r="r" b="b"/>
              <a:pathLst>
                <a:path w="794" h="1014">
                  <a:moveTo>
                    <a:pt x="0" y="870"/>
                  </a:moveTo>
                  <a:cubicBezTo>
                    <a:pt x="23" y="1006"/>
                    <a:pt x="280" y="1006"/>
                    <a:pt x="408" y="1006"/>
                  </a:cubicBezTo>
                  <a:cubicBezTo>
                    <a:pt x="536" y="1006"/>
                    <a:pt x="748" y="1014"/>
                    <a:pt x="771" y="870"/>
                  </a:cubicBezTo>
                  <a:cubicBezTo>
                    <a:pt x="794" y="726"/>
                    <a:pt x="597" y="288"/>
                    <a:pt x="544" y="144"/>
                  </a:cubicBezTo>
                  <a:cubicBezTo>
                    <a:pt x="491" y="0"/>
                    <a:pt x="498" y="1"/>
                    <a:pt x="453" y="8"/>
                  </a:cubicBezTo>
                  <a:cubicBezTo>
                    <a:pt x="408" y="15"/>
                    <a:pt x="347" y="46"/>
                    <a:pt x="272" y="189"/>
                  </a:cubicBezTo>
                  <a:cubicBezTo>
                    <a:pt x="197" y="332"/>
                    <a:pt x="57" y="728"/>
                    <a:pt x="0" y="870"/>
                  </a:cubicBez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910240" y="1121040"/>
              <a:ext cx="476640" cy="341280"/>
            </a:xfrm>
            <a:custGeom>
              <a:avLst/>
              <a:gdLst/>
              <a:ahLst/>
              <a:rect l="l" t="t" r="r" b="b"/>
              <a:pathLst>
                <a:path w="317" h="227">
                  <a:moveTo>
                    <a:pt x="0" y="0"/>
                  </a:moveTo>
                  <a:lnTo>
                    <a:pt x="91" y="136"/>
                  </a:lnTo>
                  <a:lnTo>
                    <a:pt x="227" y="227"/>
                  </a:lnTo>
                  <a:lnTo>
                    <a:pt x="317" y="91"/>
                  </a:lnTo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68960" y="1462680"/>
              <a:ext cx="682920" cy="408960"/>
            </a:xfrm>
            <a:custGeom>
              <a:avLst/>
              <a:gdLst/>
              <a:ahLst/>
              <a:rect l="l" t="t" r="r" b="b"/>
              <a:pathLst>
                <a:path w="454" h="272">
                  <a:moveTo>
                    <a:pt x="454" y="0"/>
                  </a:moveTo>
                  <a:lnTo>
                    <a:pt x="272" y="136"/>
                  </a:lnTo>
                  <a:lnTo>
                    <a:pt x="0" y="272"/>
                  </a:lnTo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568960" y="1462680"/>
              <a:ext cx="887400" cy="476640"/>
            </a:xfrm>
            <a:custGeom>
              <a:avLst/>
              <a:gdLst/>
              <a:ahLst/>
              <a:rect l="l" t="t" r="r" b="b"/>
              <a:pathLst>
                <a:path w="590" h="317">
                  <a:moveTo>
                    <a:pt x="0" y="317"/>
                  </a:moveTo>
                  <a:cubicBezTo>
                    <a:pt x="158" y="313"/>
                    <a:pt x="317" y="310"/>
                    <a:pt x="408" y="272"/>
                  </a:cubicBezTo>
                  <a:cubicBezTo>
                    <a:pt x="499" y="234"/>
                    <a:pt x="514" y="136"/>
                    <a:pt x="544" y="91"/>
                  </a:cubicBezTo>
                  <a:cubicBezTo>
                    <a:pt x="574" y="46"/>
                    <a:pt x="582" y="23"/>
                    <a:pt x="590" y="0"/>
                  </a:cubicBezTo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47040" y="983880"/>
              <a:ext cx="272160" cy="341280"/>
            </a:xfrm>
            <a:custGeom>
              <a:avLst/>
              <a:gdLst/>
              <a:ahLst/>
              <a:rect l="l" t="t" r="r" b="b"/>
              <a:pathLst>
                <a:path w="181" h="227">
                  <a:moveTo>
                    <a:pt x="181" y="0"/>
                  </a:moveTo>
                  <a:lnTo>
                    <a:pt x="90" y="182"/>
                  </a:lnTo>
                  <a:lnTo>
                    <a:pt x="0" y="227"/>
                  </a:lnTo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4160880" y="836640"/>
            <a:ext cx="1450800" cy="1549440"/>
            <a:chOff x="4160880" y="836640"/>
            <a:chExt cx="1450800" cy="1549440"/>
          </a:xfrm>
        </p:grpSpPr>
        <p:sp>
          <p:nvSpPr>
            <p:cNvPr id="171" name=""/>
            <p:cNvSpPr/>
            <p:nvPr/>
          </p:nvSpPr>
          <p:spPr>
            <a:xfrm>
              <a:off x="4700520" y="1797120"/>
              <a:ext cx="407880" cy="588960"/>
            </a:xfrm>
            <a:custGeom>
              <a:avLst/>
              <a:gdLst/>
              <a:ahLst/>
              <a:rect l="l" t="t" r="r" b="b"/>
              <a:pathLst>
                <a:path w="257" h="371">
                  <a:moveTo>
                    <a:pt x="68" y="30"/>
                  </a:moveTo>
                  <a:cubicBezTo>
                    <a:pt x="53" y="60"/>
                    <a:pt x="75" y="159"/>
                    <a:pt x="68" y="212"/>
                  </a:cubicBezTo>
                  <a:cubicBezTo>
                    <a:pt x="61" y="265"/>
                    <a:pt x="0" y="325"/>
                    <a:pt x="23" y="348"/>
                  </a:cubicBezTo>
                  <a:cubicBezTo>
                    <a:pt x="46" y="371"/>
                    <a:pt x="166" y="371"/>
                    <a:pt x="204" y="348"/>
                  </a:cubicBezTo>
                  <a:cubicBezTo>
                    <a:pt x="242" y="325"/>
                    <a:pt x="257" y="265"/>
                    <a:pt x="250" y="212"/>
                  </a:cubicBezTo>
                  <a:cubicBezTo>
                    <a:pt x="243" y="159"/>
                    <a:pt x="189" y="60"/>
                    <a:pt x="159" y="30"/>
                  </a:cubicBezTo>
                  <a:cubicBezTo>
                    <a:pt x="129" y="0"/>
                    <a:pt x="83" y="0"/>
                    <a:pt x="68" y="30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60880" y="981000"/>
              <a:ext cx="1297080" cy="901800"/>
            </a:xfrm>
            <a:custGeom>
              <a:avLst/>
              <a:gdLst/>
              <a:ahLst/>
              <a:rect l="l" t="t" r="r" b="b"/>
              <a:pathLst>
                <a:path w="914" h="687">
                  <a:moveTo>
                    <a:pt x="363" y="45"/>
                  </a:moveTo>
                  <a:cubicBezTo>
                    <a:pt x="333" y="68"/>
                    <a:pt x="310" y="121"/>
                    <a:pt x="272" y="136"/>
                  </a:cubicBezTo>
                  <a:cubicBezTo>
                    <a:pt x="234" y="151"/>
                    <a:pt x="166" y="121"/>
                    <a:pt x="136" y="136"/>
                  </a:cubicBezTo>
                  <a:cubicBezTo>
                    <a:pt x="106" y="151"/>
                    <a:pt x="91" y="197"/>
                    <a:pt x="91" y="227"/>
                  </a:cubicBezTo>
                  <a:cubicBezTo>
                    <a:pt x="91" y="257"/>
                    <a:pt x="144" y="295"/>
                    <a:pt x="136" y="318"/>
                  </a:cubicBezTo>
                  <a:cubicBezTo>
                    <a:pt x="128" y="341"/>
                    <a:pt x="52" y="340"/>
                    <a:pt x="45" y="363"/>
                  </a:cubicBezTo>
                  <a:cubicBezTo>
                    <a:pt x="38" y="386"/>
                    <a:pt x="98" y="416"/>
                    <a:pt x="91" y="454"/>
                  </a:cubicBezTo>
                  <a:cubicBezTo>
                    <a:pt x="84" y="492"/>
                    <a:pt x="0" y="567"/>
                    <a:pt x="0" y="590"/>
                  </a:cubicBezTo>
                  <a:cubicBezTo>
                    <a:pt x="0" y="613"/>
                    <a:pt x="38" y="575"/>
                    <a:pt x="91" y="590"/>
                  </a:cubicBezTo>
                  <a:cubicBezTo>
                    <a:pt x="144" y="605"/>
                    <a:pt x="273" y="673"/>
                    <a:pt x="318" y="680"/>
                  </a:cubicBezTo>
                  <a:cubicBezTo>
                    <a:pt x="363" y="687"/>
                    <a:pt x="325" y="643"/>
                    <a:pt x="363" y="635"/>
                  </a:cubicBezTo>
                  <a:cubicBezTo>
                    <a:pt x="401" y="627"/>
                    <a:pt x="506" y="642"/>
                    <a:pt x="544" y="635"/>
                  </a:cubicBezTo>
                  <a:cubicBezTo>
                    <a:pt x="582" y="628"/>
                    <a:pt x="560" y="583"/>
                    <a:pt x="590" y="590"/>
                  </a:cubicBezTo>
                  <a:cubicBezTo>
                    <a:pt x="620" y="597"/>
                    <a:pt x="688" y="680"/>
                    <a:pt x="726" y="680"/>
                  </a:cubicBezTo>
                  <a:cubicBezTo>
                    <a:pt x="764" y="680"/>
                    <a:pt x="787" y="620"/>
                    <a:pt x="817" y="590"/>
                  </a:cubicBezTo>
                  <a:cubicBezTo>
                    <a:pt x="847" y="560"/>
                    <a:pt x="900" y="529"/>
                    <a:pt x="907" y="499"/>
                  </a:cubicBezTo>
                  <a:cubicBezTo>
                    <a:pt x="914" y="469"/>
                    <a:pt x="885" y="438"/>
                    <a:pt x="862" y="408"/>
                  </a:cubicBezTo>
                  <a:cubicBezTo>
                    <a:pt x="839" y="378"/>
                    <a:pt x="786" y="356"/>
                    <a:pt x="771" y="318"/>
                  </a:cubicBezTo>
                  <a:cubicBezTo>
                    <a:pt x="756" y="280"/>
                    <a:pt x="786" y="220"/>
                    <a:pt x="771" y="182"/>
                  </a:cubicBezTo>
                  <a:cubicBezTo>
                    <a:pt x="756" y="144"/>
                    <a:pt x="703" y="99"/>
                    <a:pt x="680" y="91"/>
                  </a:cubicBezTo>
                  <a:cubicBezTo>
                    <a:pt x="657" y="83"/>
                    <a:pt x="665" y="144"/>
                    <a:pt x="635" y="136"/>
                  </a:cubicBezTo>
                  <a:cubicBezTo>
                    <a:pt x="605" y="128"/>
                    <a:pt x="529" y="68"/>
                    <a:pt x="499" y="45"/>
                  </a:cubicBezTo>
                  <a:cubicBezTo>
                    <a:pt x="469" y="22"/>
                    <a:pt x="477" y="0"/>
                    <a:pt x="454" y="0"/>
                  </a:cubicBezTo>
                  <a:cubicBezTo>
                    <a:pt x="431" y="0"/>
                    <a:pt x="393" y="22"/>
                    <a:pt x="363" y="45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160880" y="836640"/>
              <a:ext cx="1450800" cy="1090440"/>
            </a:xfrm>
            <a:custGeom>
              <a:avLst/>
              <a:gdLst/>
              <a:ahLst/>
              <a:rect l="l" t="t" r="r" b="b"/>
              <a:pathLst>
                <a:path w="914" h="687">
                  <a:moveTo>
                    <a:pt x="363" y="45"/>
                  </a:moveTo>
                  <a:cubicBezTo>
                    <a:pt x="333" y="68"/>
                    <a:pt x="310" y="121"/>
                    <a:pt x="272" y="136"/>
                  </a:cubicBezTo>
                  <a:cubicBezTo>
                    <a:pt x="234" y="151"/>
                    <a:pt x="166" y="121"/>
                    <a:pt x="136" y="136"/>
                  </a:cubicBezTo>
                  <a:cubicBezTo>
                    <a:pt x="106" y="151"/>
                    <a:pt x="91" y="197"/>
                    <a:pt x="91" y="227"/>
                  </a:cubicBezTo>
                  <a:cubicBezTo>
                    <a:pt x="91" y="257"/>
                    <a:pt x="144" y="295"/>
                    <a:pt x="136" y="318"/>
                  </a:cubicBezTo>
                  <a:cubicBezTo>
                    <a:pt x="128" y="341"/>
                    <a:pt x="52" y="340"/>
                    <a:pt x="45" y="363"/>
                  </a:cubicBezTo>
                  <a:cubicBezTo>
                    <a:pt x="38" y="386"/>
                    <a:pt x="98" y="416"/>
                    <a:pt x="91" y="454"/>
                  </a:cubicBezTo>
                  <a:cubicBezTo>
                    <a:pt x="84" y="492"/>
                    <a:pt x="0" y="567"/>
                    <a:pt x="0" y="590"/>
                  </a:cubicBezTo>
                  <a:cubicBezTo>
                    <a:pt x="0" y="613"/>
                    <a:pt x="38" y="575"/>
                    <a:pt x="91" y="590"/>
                  </a:cubicBezTo>
                  <a:cubicBezTo>
                    <a:pt x="144" y="605"/>
                    <a:pt x="273" y="673"/>
                    <a:pt x="318" y="680"/>
                  </a:cubicBezTo>
                  <a:cubicBezTo>
                    <a:pt x="363" y="687"/>
                    <a:pt x="325" y="643"/>
                    <a:pt x="363" y="635"/>
                  </a:cubicBezTo>
                  <a:cubicBezTo>
                    <a:pt x="401" y="627"/>
                    <a:pt x="506" y="642"/>
                    <a:pt x="544" y="635"/>
                  </a:cubicBezTo>
                  <a:cubicBezTo>
                    <a:pt x="582" y="628"/>
                    <a:pt x="560" y="583"/>
                    <a:pt x="590" y="590"/>
                  </a:cubicBezTo>
                  <a:cubicBezTo>
                    <a:pt x="620" y="597"/>
                    <a:pt x="688" y="680"/>
                    <a:pt x="726" y="680"/>
                  </a:cubicBezTo>
                  <a:cubicBezTo>
                    <a:pt x="764" y="680"/>
                    <a:pt x="787" y="620"/>
                    <a:pt x="817" y="590"/>
                  </a:cubicBezTo>
                  <a:cubicBezTo>
                    <a:pt x="847" y="560"/>
                    <a:pt x="900" y="529"/>
                    <a:pt x="907" y="499"/>
                  </a:cubicBezTo>
                  <a:cubicBezTo>
                    <a:pt x="914" y="469"/>
                    <a:pt x="885" y="438"/>
                    <a:pt x="862" y="408"/>
                  </a:cubicBezTo>
                  <a:cubicBezTo>
                    <a:pt x="839" y="378"/>
                    <a:pt x="786" y="356"/>
                    <a:pt x="771" y="318"/>
                  </a:cubicBezTo>
                  <a:cubicBezTo>
                    <a:pt x="756" y="280"/>
                    <a:pt x="786" y="220"/>
                    <a:pt x="771" y="182"/>
                  </a:cubicBezTo>
                  <a:cubicBezTo>
                    <a:pt x="756" y="144"/>
                    <a:pt x="703" y="99"/>
                    <a:pt x="680" y="91"/>
                  </a:cubicBezTo>
                  <a:cubicBezTo>
                    <a:pt x="657" y="83"/>
                    <a:pt x="665" y="144"/>
                    <a:pt x="635" y="136"/>
                  </a:cubicBezTo>
                  <a:cubicBezTo>
                    <a:pt x="605" y="128"/>
                    <a:pt x="529" y="68"/>
                    <a:pt x="499" y="45"/>
                  </a:cubicBezTo>
                  <a:cubicBezTo>
                    <a:pt x="469" y="22"/>
                    <a:pt x="477" y="0"/>
                    <a:pt x="454" y="0"/>
                  </a:cubicBezTo>
                  <a:cubicBezTo>
                    <a:pt x="431" y="0"/>
                    <a:pt x="393" y="22"/>
                    <a:pt x="363" y="45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6032520" y="765000"/>
            <a:ext cx="1414440" cy="1700280"/>
            <a:chOff x="6032520" y="765000"/>
            <a:chExt cx="1414440" cy="1700280"/>
          </a:xfrm>
        </p:grpSpPr>
        <p:grpSp>
          <p:nvGrpSpPr>
            <p:cNvPr id="175" name=""/>
            <p:cNvGrpSpPr/>
            <p:nvPr/>
          </p:nvGrpSpPr>
          <p:grpSpPr>
            <a:xfrm>
              <a:off x="6032520" y="765000"/>
              <a:ext cx="909720" cy="1629000"/>
              <a:chOff x="6032520" y="765000"/>
              <a:chExt cx="909720" cy="1629000"/>
            </a:xfrm>
          </p:grpSpPr>
          <p:sp>
            <p:nvSpPr>
              <p:cNvPr id="176" name=""/>
              <p:cNvSpPr/>
              <p:nvPr/>
            </p:nvSpPr>
            <p:spPr>
              <a:xfrm>
                <a:off x="6103800" y="909720"/>
                <a:ext cx="720720" cy="1412640"/>
              </a:xfrm>
              <a:custGeom>
                <a:avLst/>
                <a:gdLst/>
                <a:ahLst/>
                <a:rect l="l" t="t" r="r" b="b"/>
                <a:pathLst>
                  <a:path w="696" h="1246">
                    <a:moveTo>
                      <a:pt x="129" y="1186"/>
                    </a:moveTo>
                    <a:cubicBezTo>
                      <a:pt x="197" y="1126"/>
                      <a:pt x="355" y="907"/>
                      <a:pt x="446" y="733"/>
                    </a:cubicBezTo>
                    <a:cubicBezTo>
                      <a:pt x="537" y="559"/>
                      <a:pt x="650" y="249"/>
                      <a:pt x="673" y="143"/>
                    </a:cubicBezTo>
                    <a:cubicBezTo>
                      <a:pt x="696" y="37"/>
                      <a:pt x="635" y="0"/>
                      <a:pt x="582" y="98"/>
                    </a:cubicBezTo>
                    <a:cubicBezTo>
                      <a:pt x="529" y="196"/>
                      <a:pt x="447" y="567"/>
                      <a:pt x="356" y="733"/>
                    </a:cubicBezTo>
                    <a:cubicBezTo>
                      <a:pt x="265" y="899"/>
                      <a:pt x="76" y="1021"/>
                      <a:pt x="38" y="1096"/>
                    </a:cubicBezTo>
                    <a:cubicBezTo>
                      <a:pt x="0" y="1171"/>
                      <a:pt x="61" y="1246"/>
                      <a:pt x="129" y="1186"/>
                    </a:cubicBez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032520" y="765000"/>
                <a:ext cx="909720" cy="1629000"/>
              </a:xfrm>
              <a:custGeom>
                <a:avLst/>
                <a:gdLst/>
                <a:ahLst/>
                <a:rect l="l" t="t" r="r" b="b"/>
                <a:pathLst>
                  <a:path w="696" h="1246">
                    <a:moveTo>
                      <a:pt x="129" y="1186"/>
                    </a:moveTo>
                    <a:cubicBezTo>
                      <a:pt x="197" y="1126"/>
                      <a:pt x="355" y="907"/>
                      <a:pt x="446" y="733"/>
                    </a:cubicBezTo>
                    <a:cubicBezTo>
                      <a:pt x="537" y="559"/>
                      <a:pt x="650" y="249"/>
                      <a:pt x="673" y="143"/>
                    </a:cubicBezTo>
                    <a:cubicBezTo>
                      <a:pt x="696" y="37"/>
                      <a:pt x="635" y="0"/>
                      <a:pt x="582" y="98"/>
                    </a:cubicBezTo>
                    <a:cubicBezTo>
                      <a:pt x="529" y="196"/>
                      <a:pt x="447" y="567"/>
                      <a:pt x="356" y="733"/>
                    </a:cubicBezTo>
                    <a:cubicBezTo>
                      <a:pt x="265" y="899"/>
                      <a:pt x="76" y="1021"/>
                      <a:pt x="38" y="1096"/>
                    </a:cubicBezTo>
                    <a:cubicBezTo>
                      <a:pt x="0" y="1171"/>
                      <a:pt x="61" y="1246"/>
                      <a:pt x="129" y="1186"/>
                    </a:cubicBez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6248520" y="836640"/>
              <a:ext cx="909360" cy="1628640"/>
              <a:chOff x="6248520" y="836640"/>
              <a:chExt cx="909360" cy="1628640"/>
            </a:xfrm>
          </p:grpSpPr>
          <p:sp>
            <p:nvSpPr>
              <p:cNvPr id="179" name=""/>
              <p:cNvSpPr/>
              <p:nvPr/>
            </p:nvSpPr>
            <p:spPr>
              <a:xfrm>
                <a:off x="6319440" y="981000"/>
                <a:ext cx="720360" cy="1412280"/>
              </a:xfrm>
              <a:custGeom>
                <a:avLst/>
                <a:gdLst/>
                <a:ahLst/>
                <a:rect l="l" t="t" r="r" b="b"/>
                <a:pathLst>
                  <a:path w="696" h="1246">
                    <a:moveTo>
                      <a:pt x="129" y="1186"/>
                    </a:moveTo>
                    <a:cubicBezTo>
                      <a:pt x="197" y="1126"/>
                      <a:pt x="355" y="907"/>
                      <a:pt x="446" y="733"/>
                    </a:cubicBezTo>
                    <a:cubicBezTo>
                      <a:pt x="537" y="559"/>
                      <a:pt x="650" y="249"/>
                      <a:pt x="673" y="143"/>
                    </a:cubicBezTo>
                    <a:cubicBezTo>
                      <a:pt x="696" y="37"/>
                      <a:pt x="635" y="0"/>
                      <a:pt x="582" y="98"/>
                    </a:cubicBezTo>
                    <a:cubicBezTo>
                      <a:pt x="529" y="196"/>
                      <a:pt x="447" y="567"/>
                      <a:pt x="356" y="733"/>
                    </a:cubicBezTo>
                    <a:cubicBezTo>
                      <a:pt x="265" y="899"/>
                      <a:pt x="76" y="1021"/>
                      <a:pt x="38" y="1096"/>
                    </a:cubicBezTo>
                    <a:cubicBezTo>
                      <a:pt x="0" y="1171"/>
                      <a:pt x="61" y="1246"/>
                      <a:pt x="129" y="1186"/>
                    </a:cubicBez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248520" y="836640"/>
                <a:ext cx="909360" cy="1628640"/>
              </a:xfrm>
              <a:custGeom>
                <a:avLst/>
                <a:gdLst/>
                <a:ahLst/>
                <a:rect l="l" t="t" r="r" b="b"/>
                <a:pathLst>
                  <a:path w="696" h="1246">
                    <a:moveTo>
                      <a:pt x="129" y="1186"/>
                    </a:moveTo>
                    <a:cubicBezTo>
                      <a:pt x="197" y="1126"/>
                      <a:pt x="355" y="907"/>
                      <a:pt x="446" y="733"/>
                    </a:cubicBezTo>
                    <a:cubicBezTo>
                      <a:pt x="537" y="559"/>
                      <a:pt x="650" y="249"/>
                      <a:pt x="673" y="143"/>
                    </a:cubicBezTo>
                    <a:cubicBezTo>
                      <a:pt x="696" y="37"/>
                      <a:pt x="635" y="0"/>
                      <a:pt x="582" y="98"/>
                    </a:cubicBezTo>
                    <a:cubicBezTo>
                      <a:pt x="529" y="196"/>
                      <a:pt x="447" y="567"/>
                      <a:pt x="356" y="733"/>
                    </a:cubicBezTo>
                    <a:cubicBezTo>
                      <a:pt x="265" y="899"/>
                      <a:pt x="76" y="1021"/>
                      <a:pt x="38" y="1096"/>
                    </a:cubicBezTo>
                    <a:cubicBezTo>
                      <a:pt x="0" y="1171"/>
                      <a:pt x="61" y="1246"/>
                      <a:pt x="129" y="1186"/>
                    </a:cubicBez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537240" y="765000"/>
              <a:ext cx="909720" cy="1629000"/>
              <a:chOff x="6537240" y="765000"/>
              <a:chExt cx="909720" cy="1629000"/>
            </a:xfrm>
          </p:grpSpPr>
          <p:sp>
            <p:nvSpPr>
              <p:cNvPr id="182" name=""/>
              <p:cNvSpPr/>
              <p:nvPr/>
            </p:nvSpPr>
            <p:spPr>
              <a:xfrm>
                <a:off x="6608520" y="909720"/>
                <a:ext cx="720720" cy="1412640"/>
              </a:xfrm>
              <a:custGeom>
                <a:avLst/>
                <a:gdLst/>
                <a:ahLst/>
                <a:rect l="l" t="t" r="r" b="b"/>
                <a:pathLst>
                  <a:path w="696" h="1246">
                    <a:moveTo>
                      <a:pt x="129" y="1186"/>
                    </a:moveTo>
                    <a:cubicBezTo>
                      <a:pt x="197" y="1126"/>
                      <a:pt x="355" y="907"/>
                      <a:pt x="446" y="733"/>
                    </a:cubicBezTo>
                    <a:cubicBezTo>
                      <a:pt x="537" y="559"/>
                      <a:pt x="650" y="249"/>
                      <a:pt x="673" y="143"/>
                    </a:cubicBezTo>
                    <a:cubicBezTo>
                      <a:pt x="696" y="37"/>
                      <a:pt x="635" y="0"/>
                      <a:pt x="582" y="98"/>
                    </a:cubicBezTo>
                    <a:cubicBezTo>
                      <a:pt x="529" y="196"/>
                      <a:pt x="447" y="567"/>
                      <a:pt x="356" y="733"/>
                    </a:cubicBezTo>
                    <a:cubicBezTo>
                      <a:pt x="265" y="899"/>
                      <a:pt x="76" y="1021"/>
                      <a:pt x="38" y="1096"/>
                    </a:cubicBezTo>
                    <a:cubicBezTo>
                      <a:pt x="0" y="1171"/>
                      <a:pt x="61" y="1246"/>
                      <a:pt x="129" y="1186"/>
                    </a:cubicBezTo>
                    <a:close/>
                  </a:path>
                </a:pathLst>
              </a:cu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537240" y="765000"/>
                <a:ext cx="909720" cy="1629000"/>
              </a:xfrm>
              <a:custGeom>
                <a:avLst/>
                <a:gdLst/>
                <a:ahLst/>
                <a:rect l="l" t="t" r="r" b="b"/>
                <a:pathLst>
                  <a:path w="696" h="1246">
                    <a:moveTo>
                      <a:pt x="129" y="1186"/>
                    </a:moveTo>
                    <a:cubicBezTo>
                      <a:pt x="197" y="1126"/>
                      <a:pt x="355" y="907"/>
                      <a:pt x="446" y="733"/>
                    </a:cubicBezTo>
                    <a:cubicBezTo>
                      <a:pt x="537" y="559"/>
                      <a:pt x="650" y="249"/>
                      <a:pt x="673" y="143"/>
                    </a:cubicBezTo>
                    <a:cubicBezTo>
                      <a:pt x="696" y="37"/>
                      <a:pt x="635" y="0"/>
                      <a:pt x="582" y="98"/>
                    </a:cubicBezTo>
                    <a:cubicBezTo>
                      <a:pt x="529" y="196"/>
                      <a:pt x="447" y="567"/>
                      <a:pt x="356" y="733"/>
                    </a:cubicBezTo>
                    <a:cubicBezTo>
                      <a:pt x="265" y="899"/>
                      <a:pt x="76" y="1021"/>
                      <a:pt x="38" y="1096"/>
                    </a:cubicBezTo>
                    <a:cubicBezTo>
                      <a:pt x="0" y="1171"/>
                      <a:pt x="61" y="1246"/>
                      <a:pt x="129" y="1186"/>
                    </a:cubicBezTo>
                    <a:close/>
                  </a:path>
                </a:pathLst>
              </a:custGeom>
              <a:noFill/>
              <a:ln w="57240">
                <a:solidFill>
                  <a:srgbClr val="8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631800" y="2781360"/>
            <a:ext cx="1115640" cy="1583640"/>
            <a:chOff x="631800" y="2781360"/>
            <a:chExt cx="1115640" cy="1583640"/>
          </a:xfrm>
        </p:grpSpPr>
        <p:grpSp>
          <p:nvGrpSpPr>
            <p:cNvPr id="185" name=""/>
            <p:cNvGrpSpPr/>
            <p:nvPr/>
          </p:nvGrpSpPr>
          <p:grpSpPr>
            <a:xfrm>
              <a:off x="631800" y="2781360"/>
              <a:ext cx="402840" cy="1188000"/>
              <a:chOff x="631800" y="2781360"/>
              <a:chExt cx="402840" cy="1188000"/>
            </a:xfrm>
          </p:grpSpPr>
          <p:sp>
            <p:nvSpPr>
              <p:cNvPr id="186" name=""/>
              <p:cNvSpPr/>
              <p:nvPr/>
            </p:nvSpPr>
            <p:spPr>
              <a:xfrm>
                <a:off x="631800" y="2884680"/>
                <a:ext cx="341280" cy="108468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99"/>
              </a:solidFill>
              <a:ln w="5724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4680" y="2781360"/>
                <a:ext cx="309960" cy="22572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848880" y="2837160"/>
              <a:ext cx="402840" cy="1188000"/>
              <a:chOff x="848880" y="2837160"/>
              <a:chExt cx="402840" cy="1188000"/>
            </a:xfrm>
          </p:grpSpPr>
          <p:sp>
            <p:nvSpPr>
              <p:cNvPr id="189" name=""/>
              <p:cNvSpPr/>
              <p:nvPr/>
            </p:nvSpPr>
            <p:spPr>
              <a:xfrm>
                <a:off x="848880" y="2940480"/>
                <a:ext cx="341280" cy="108468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99"/>
              </a:solidFill>
              <a:ln w="5724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41760" y="2837160"/>
                <a:ext cx="309960" cy="22572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1066320" y="2781360"/>
              <a:ext cx="402120" cy="1188000"/>
              <a:chOff x="1066320" y="2781360"/>
              <a:chExt cx="402120" cy="1188000"/>
            </a:xfrm>
          </p:grpSpPr>
          <p:sp>
            <p:nvSpPr>
              <p:cNvPr id="192" name=""/>
              <p:cNvSpPr/>
              <p:nvPr/>
            </p:nvSpPr>
            <p:spPr>
              <a:xfrm>
                <a:off x="1066320" y="2884680"/>
                <a:ext cx="340920" cy="108468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99"/>
              </a:solidFill>
              <a:ln w="5724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158840" y="2781360"/>
                <a:ext cx="309600" cy="22572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283400" y="2837160"/>
              <a:ext cx="402840" cy="1188000"/>
              <a:chOff x="1283400" y="2837160"/>
              <a:chExt cx="402840" cy="1188000"/>
            </a:xfrm>
          </p:grpSpPr>
          <p:sp>
            <p:nvSpPr>
              <p:cNvPr id="195" name=""/>
              <p:cNvSpPr/>
              <p:nvPr/>
            </p:nvSpPr>
            <p:spPr>
              <a:xfrm>
                <a:off x="1283400" y="2940480"/>
                <a:ext cx="341280" cy="108468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99"/>
              </a:solidFill>
              <a:ln w="5724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376280" y="2837160"/>
                <a:ext cx="309960" cy="22572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724680" y="3007080"/>
              <a:ext cx="402840" cy="1188000"/>
              <a:chOff x="724680" y="3007080"/>
              <a:chExt cx="402840" cy="1188000"/>
            </a:xfrm>
          </p:grpSpPr>
          <p:sp>
            <p:nvSpPr>
              <p:cNvPr id="198" name=""/>
              <p:cNvSpPr/>
              <p:nvPr/>
            </p:nvSpPr>
            <p:spPr>
              <a:xfrm>
                <a:off x="724680" y="3110400"/>
                <a:ext cx="341280" cy="108468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99"/>
              </a:solidFill>
              <a:ln w="5724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17560" y="3007080"/>
                <a:ext cx="309960" cy="22572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941760" y="2950920"/>
              <a:ext cx="402840" cy="1188000"/>
              <a:chOff x="941760" y="2950920"/>
              <a:chExt cx="402840" cy="1188000"/>
            </a:xfrm>
          </p:grpSpPr>
          <p:sp>
            <p:nvSpPr>
              <p:cNvPr id="201" name=""/>
              <p:cNvSpPr/>
              <p:nvPr/>
            </p:nvSpPr>
            <p:spPr>
              <a:xfrm>
                <a:off x="941760" y="3054240"/>
                <a:ext cx="341280" cy="108468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99"/>
              </a:solidFill>
              <a:ln w="5724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1034640" y="2950920"/>
                <a:ext cx="309960" cy="22572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1158840" y="3007080"/>
              <a:ext cx="402840" cy="1188000"/>
              <a:chOff x="1158840" y="3007080"/>
              <a:chExt cx="402840" cy="1188000"/>
            </a:xfrm>
          </p:grpSpPr>
          <p:sp>
            <p:nvSpPr>
              <p:cNvPr id="204" name=""/>
              <p:cNvSpPr/>
              <p:nvPr/>
            </p:nvSpPr>
            <p:spPr>
              <a:xfrm>
                <a:off x="1158840" y="3110400"/>
                <a:ext cx="341280" cy="108468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99"/>
              </a:solidFill>
              <a:ln w="5724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251720" y="3007080"/>
                <a:ext cx="309960" cy="22572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910440" y="3177000"/>
              <a:ext cx="402840" cy="1188000"/>
              <a:chOff x="910440" y="3177000"/>
              <a:chExt cx="402840" cy="1188000"/>
            </a:xfrm>
          </p:grpSpPr>
          <p:sp>
            <p:nvSpPr>
              <p:cNvPr id="207" name=""/>
              <p:cNvSpPr/>
              <p:nvPr/>
            </p:nvSpPr>
            <p:spPr>
              <a:xfrm>
                <a:off x="910440" y="3280320"/>
                <a:ext cx="341280" cy="108468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99"/>
              </a:solidFill>
              <a:ln w="5724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003320" y="3177000"/>
                <a:ext cx="309960" cy="22572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127520" y="3120840"/>
              <a:ext cx="402840" cy="1188000"/>
              <a:chOff x="1127520" y="3120840"/>
              <a:chExt cx="402840" cy="1188000"/>
            </a:xfrm>
          </p:grpSpPr>
          <p:sp>
            <p:nvSpPr>
              <p:cNvPr id="210" name=""/>
              <p:cNvSpPr/>
              <p:nvPr/>
            </p:nvSpPr>
            <p:spPr>
              <a:xfrm>
                <a:off x="1127520" y="3224160"/>
                <a:ext cx="341280" cy="108468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99"/>
              </a:solidFill>
              <a:ln w="5724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20400" y="3120840"/>
                <a:ext cx="309960" cy="22572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344600" y="3177000"/>
              <a:ext cx="402840" cy="1188000"/>
              <a:chOff x="1344600" y="3177000"/>
              <a:chExt cx="402840" cy="1188000"/>
            </a:xfrm>
          </p:grpSpPr>
          <p:sp>
            <p:nvSpPr>
              <p:cNvPr id="213" name=""/>
              <p:cNvSpPr/>
              <p:nvPr/>
            </p:nvSpPr>
            <p:spPr>
              <a:xfrm>
                <a:off x="1344600" y="3280320"/>
                <a:ext cx="341280" cy="108468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99"/>
              </a:solidFill>
              <a:ln w="57240">
                <a:solidFill>
                  <a:srgbClr val="cc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437480" y="3177000"/>
                <a:ext cx="309960" cy="225720"/>
              </a:xfrm>
              <a:prstGeom prst="ellipse">
                <a:avLst/>
              </a:prstGeom>
              <a:solidFill>
                <a:srgbClr val="ffff99"/>
              </a:solidFill>
              <a:ln w="5724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8109000" y="778320"/>
            <a:ext cx="1085400" cy="1642320"/>
            <a:chOff x="8109000" y="778320"/>
            <a:chExt cx="1085400" cy="1642320"/>
          </a:xfrm>
        </p:grpSpPr>
        <p:grpSp>
          <p:nvGrpSpPr>
            <p:cNvPr id="216" name=""/>
            <p:cNvGrpSpPr/>
            <p:nvPr/>
          </p:nvGrpSpPr>
          <p:grpSpPr>
            <a:xfrm>
              <a:off x="8276760" y="778320"/>
              <a:ext cx="340560" cy="1209240"/>
              <a:chOff x="8276760" y="778320"/>
              <a:chExt cx="340560" cy="1209240"/>
            </a:xfrm>
          </p:grpSpPr>
          <p:sp>
            <p:nvSpPr>
              <p:cNvPr id="217" name=""/>
              <p:cNvSpPr/>
              <p:nvPr/>
            </p:nvSpPr>
            <p:spPr>
              <a:xfrm>
                <a:off x="8307000" y="836640"/>
                <a:ext cx="310320" cy="115092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19800000">
                <a:off x="8289360" y="836640"/>
                <a:ext cx="266400" cy="12276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8462880" y="964080"/>
              <a:ext cx="340560" cy="1209240"/>
              <a:chOff x="8462880" y="964080"/>
              <a:chExt cx="340560" cy="1209240"/>
            </a:xfrm>
          </p:grpSpPr>
          <p:sp>
            <p:nvSpPr>
              <p:cNvPr id="220" name=""/>
              <p:cNvSpPr/>
              <p:nvPr/>
            </p:nvSpPr>
            <p:spPr>
              <a:xfrm>
                <a:off x="8493120" y="1022400"/>
                <a:ext cx="310320" cy="115092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19800000">
                <a:off x="8475480" y="1022400"/>
                <a:ext cx="266400" cy="12276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8109000" y="964080"/>
              <a:ext cx="340560" cy="1209240"/>
              <a:chOff x="8109000" y="964080"/>
              <a:chExt cx="340560" cy="1209240"/>
            </a:xfrm>
          </p:grpSpPr>
          <p:sp>
            <p:nvSpPr>
              <p:cNvPr id="223" name=""/>
              <p:cNvSpPr/>
              <p:nvPr/>
            </p:nvSpPr>
            <p:spPr>
              <a:xfrm>
                <a:off x="8139240" y="1022400"/>
                <a:ext cx="310320" cy="115092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19800000">
                <a:off x="8121600" y="1022400"/>
                <a:ext cx="266400" cy="12276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8294400" y="1150200"/>
              <a:ext cx="340560" cy="1209240"/>
              <a:chOff x="8294400" y="1150200"/>
              <a:chExt cx="340560" cy="1209240"/>
            </a:xfrm>
          </p:grpSpPr>
          <p:sp>
            <p:nvSpPr>
              <p:cNvPr id="226" name=""/>
              <p:cNvSpPr/>
              <p:nvPr/>
            </p:nvSpPr>
            <p:spPr>
              <a:xfrm>
                <a:off x="8324640" y="1208520"/>
                <a:ext cx="310320" cy="115092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19800000">
                <a:off x="8307000" y="1208160"/>
                <a:ext cx="266760" cy="12276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8419320" y="1211400"/>
              <a:ext cx="340560" cy="1209240"/>
              <a:chOff x="8419320" y="1211400"/>
              <a:chExt cx="340560" cy="1209240"/>
            </a:xfrm>
          </p:grpSpPr>
          <p:sp>
            <p:nvSpPr>
              <p:cNvPr id="229" name=""/>
              <p:cNvSpPr/>
              <p:nvPr/>
            </p:nvSpPr>
            <p:spPr>
              <a:xfrm>
                <a:off x="8449560" y="1269720"/>
                <a:ext cx="310320" cy="115092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19800000">
                <a:off x="8431920" y="1269720"/>
                <a:ext cx="266400" cy="12276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8648640" y="1150200"/>
              <a:ext cx="340560" cy="1209240"/>
              <a:chOff x="8648640" y="1150200"/>
              <a:chExt cx="340560" cy="1209240"/>
            </a:xfrm>
          </p:grpSpPr>
          <p:sp>
            <p:nvSpPr>
              <p:cNvPr id="232" name=""/>
              <p:cNvSpPr/>
              <p:nvPr/>
            </p:nvSpPr>
            <p:spPr>
              <a:xfrm>
                <a:off x="8678880" y="1208520"/>
                <a:ext cx="310320" cy="115092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19800000">
                <a:off x="8661240" y="1208160"/>
                <a:ext cx="266760" cy="12276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8668080" y="778320"/>
              <a:ext cx="340560" cy="1209240"/>
              <a:chOff x="8668080" y="778320"/>
              <a:chExt cx="340560" cy="1209240"/>
            </a:xfrm>
          </p:grpSpPr>
          <p:sp>
            <p:nvSpPr>
              <p:cNvPr id="235" name=""/>
              <p:cNvSpPr/>
              <p:nvPr/>
            </p:nvSpPr>
            <p:spPr>
              <a:xfrm>
                <a:off x="8698320" y="836640"/>
                <a:ext cx="310320" cy="115092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9800000">
                <a:off x="8680680" y="836280"/>
                <a:ext cx="266760" cy="12276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8853840" y="964080"/>
              <a:ext cx="340560" cy="1209240"/>
              <a:chOff x="8853840" y="964080"/>
              <a:chExt cx="340560" cy="1209240"/>
            </a:xfrm>
          </p:grpSpPr>
          <p:sp>
            <p:nvSpPr>
              <p:cNvPr id="238" name=""/>
              <p:cNvSpPr/>
              <p:nvPr/>
            </p:nvSpPr>
            <p:spPr>
              <a:xfrm>
                <a:off x="8884080" y="1022400"/>
                <a:ext cx="310320" cy="1150920"/>
              </a:xfrm>
              <a:custGeom>
                <a:avLst/>
                <a:gdLst/>
                <a:ahLst/>
                <a:rect l="l" t="t" r="r" b="b"/>
                <a:pathLst>
                  <a:path w="318" h="952">
                    <a:moveTo>
                      <a:pt x="205" y="98"/>
                    </a:moveTo>
                    <a:cubicBezTo>
                      <a:pt x="198" y="166"/>
                      <a:pt x="235" y="333"/>
                      <a:pt x="205" y="461"/>
                    </a:cubicBezTo>
                    <a:cubicBezTo>
                      <a:pt x="175" y="589"/>
                      <a:pt x="46" y="793"/>
                      <a:pt x="23" y="869"/>
                    </a:cubicBezTo>
                    <a:cubicBezTo>
                      <a:pt x="0" y="945"/>
                      <a:pt x="53" y="915"/>
                      <a:pt x="68" y="915"/>
                    </a:cubicBezTo>
                    <a:cubicBezTo>
                      <a:pt x="83" y="915"/>
                      <a:pt x="76" y="952"/>
                      <a:pt x="114" y="869"/>
                    </a:cubicBezTo>
                    <a:cubicBezTo>
                      <a:pt x="152" y="786"/>
                      <a:pt x="272" y="552"/>
                      <a:pt x="295" y="416"/>
                    </a:cubicBezTo>
                    <a:cubicBezTo>
                      <a:pt x="318" y="280"/>
                      <a:pt x="273" y="106"/>
                      <a:pt x="250" y="53"/>
                    </a:cubicBezTo>
                    <a:cubicBezTo>
                      <a:pt x="227" y="0"/>
                      <a:pt x="212" y="30"/>
                      <a:pt x="205" y="98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19800000">
                <a:off x="8866440" y="1022400"/>
                <a:ext cx="266400" cy="122760"/>
              </a:xfrm>
              <a:prstGeom prst="ellipse">
                <a:avLst/>
              </a:prstGeom>
              <a:solidFill>
                <a:srgbClr val="ffff00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0" name=""/>
          <p:cNvGrpSpPr/>
          <p:nvPr/>
        </p:nvGrpSpPr>
        <p:grpSpPr>
          <a:xfrm>
            <a:off x="2425680" y="2792520"/>
            <a:ext cx="1082520" cy="1573200"/>
            <a:chOff x="2425680" y="2792520"/>
            <a:chExt cx="1082520" cy="1573200"/>
          </a:xfrm>
        </p:grpSpPr>
        <p:sp>
          <p:nvSpPr>
            <p:cNvPr id="241" name=""/>
            <p:cNvSpPr/>
            <p:nvPr/>
          </p:nvSpPr>
          <p:spPr>
            <a:xfrm>
              <a:off x="2432160" y="2924280"/>
              <a:ext cx="941400" cy="1368360"/>
            </a:xfrm>
            <a:custGeom>
              <a:avLst/>
              <a:gdLst/>
              <a:ahLst/>
              <a:rect l="l" t="t" r="r" b="b"/>
              <a:pathLst>
                <a:path w="682" h="991">
                  <a:moveTo>
                    <a:pt x="367" y="34"/>
                  </a:moveTo>
                  <a:cubicBezTo>
                    <a:pt x="276" y="69"/>
                    <a:pt x="91" y="212"/>
                    <a:pt x="50" y="280"/>
                  </a:cubicBezTo>
                  <a:cubicBezTo>
                    <a:pt x="9" y="348"/>
                    <a:pt x="128" y="366"/>
                    <a:pt x="120" y="441"/>
                  </a:cubicBezTo>
                  <a:cubicBezTo>
                    <a:pt x="112" y="516"/>
                    <a:pt x="0" y="642"/>
                    <a:pt x="4" y="731"/>
                  </a:cubicBezTo>
                  <a:cubicBezTo>
                    <a:pt x="8" y="820"/>
                    <a:pt x="58" y="964"/>
                    <a:pt x="141" y="977"/>
                  </a:cubicBezTo>
                  <a:cubicBezTo>
                    <a:pt x="224" y="991"/>
                    <a:pt x="437" y="889"/>
                    <a:pt x="503" y="814"/>
                  </a:cubicBezTo>
                  <a:cubicBezTo>
                    <a:pt x="569" y="739"/>
                    <a:pt x="508" y="591"/>
                    <a:pt x="536" y="529"/>
                  </a:cubicBezTo>
                  <a:cubicBezTo>
                    <a:pt x="564" y="467"/>
                    <a:pt x="662" y="517"/>
                    <a:pt x="672" y="441"/>
                  </a:cubicBezTo>
                  <a:cubicBezTo>
                    <a:pt x="682" y="365"/>
                    <a:pt x="645" y="143"/>
                    <a:pt x="594" y="75"/>
                  </a:cubicBezTo>
                  <a:cubicBezTo>
                    <a:pt x="543" y="7"/>
                    <a:pt x="458" y="0"/>
                    <a:pt x="367" y="34"/>
                  </a:cubicBezTo>
                  <a:close/>
                </a:path>
              </a:pathLst>
            </a:custGeom>
            <a:solidFill>
              <a:srgbClr val="eded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425680" y="2792520"/>
              <a:ext cx="1082520" cy="1573200"/>
            </a:xfrm>
            <a:custGeom>
              <a:avLst/>
              <a:gdLst/>
              <a:ahLst/>
              <a:rect l="l" t="t" r="r" b="b"/>
              <a:pathLst>
                <a:path w="682" h="991">
                  <a:moveTo>
                    <a:pt x="367" y="34"/>
                  </a:moveTo>
                  <a:cubicBezTo>
                    <a:pt x="276" y="69"/>
                    <a:pt x="91" y="212"/>
                    <a:pt x="50" y="280"/>
                  </a:cubicBezTo>
                  <a:cubicBezTo>
                    <a:pt x="9" y="348"/>
                    <a:pt x="128" y="366"/>
                    <a:pt x="120" y="441"/>
                  </a:cubicBezTo>
                  <a:cubicBezTo>
                    <a:pt x="112" y="516"/>
                    <a:pt x="0" y="642"/>
                    <a:pt x="4" y="731"/>
                  </a:cubicBezTo>
                  <a:cubicBezTo>
                    <a:pt x="8" y="820"/>
                    <a:pt x="58" y="964"/>
                    <a:pt x="141" y="977"/>
                  </a:cubicBezTo>
                  <a:cubicBezTo>
                    <a:pt x="224" y="991"/>
                    <a:pt x="437" y="889"/>
                    <a:pt x="503" y="814"/>
                  </a:cubicBezTo>
                  <a:cubicBezTo>
                    <a:pt x="569" y="739"/>
                    <a:pt x="508" y="591"/>
                    <a:pt x="536" y="529"/>
                  </a:cubicBezTo>
                  <a:cubicBezTo>
                    <a:pt x="564" y="467"/>
                    <a:pt x="662" y="517"/>
                    <a:pt x="672" y="441"/>
                  </a:cubicBezTo>
                  <a:cubicBezTo>
                    <a:pt x="682" y="365"/>
                    <a:pt x="645" y="143"/>
                    <a:pt x="594" y="75"/>
                  </a:cubicBezTo>
                  <a:cubicBezTo>
                    <a:pt x="543" y="7"/>
                    <a:pt x="458" y="0"/>
                    <a:pt x="367" y="34"/>
                  </a:cubicBezTo>
                  <a:close/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720880" y="3357720"/>
              <a:ext cx="71640" cy="142560"/>
            </a:xfrm>
            <a:custGeom>
              <a:avLst/>
              <a:gdLst/>
              <a:ahLst/>
              <a:rect l="l" t="t" r="r" b="b"/>
              <a:pathLst>
                <a:path w="45" h="90">
                  <a:moveTo>
                    <a:pt x="0" y="0"/>
                  </a:moveTo>
                  <a:cubicBezTo>
                    <a:pt x="19" y="37"/>
                    <a:pt x="38" y="75"/>
                    <a:pt x="45" y="9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936880" y="3357720"/>
              <a:ext cx="71280" cy="142560"/>
            </a:xfrm>
            <a:custGeom>
              <a:avLst/>
              <a:gdLst/>
              <a:ahLst/>
              <a:rect l="l" t="t" r="r" b="b"/>
              <a:pathLst>
                <a:path w="45" h="90">
                  <a:moveTo>
                    <a:pt x="0" y="0"/>
                  </a:moveTo>
                  <a:cubicBezTo>
                    <a:pt x="19" y="37"/>
                    <a:pt x="38" y="75"/>
                    <a:pt x="45" y="9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3081240" y="3429000"/>
              <a:ext cx="144720" cy="142920"/>
            </a:xfrm>
            <a:custGeom>
              <a:avLst/>
              <a:gdLst/>
              <a:ahLst/>
              <a:rect l="l" t="t" r="r" b="b"/>
              <a:pathLst>
                <a:path w="45" h="90">
                  <a:moveTo>
                    <a:pt x="0" y="0"/>
                  </a:moveTo>
                  <a:cubicBezTo>
                    <a:pt x="19" y="37"/>
                    <a:pt x="38" y="75"/>
                    <a:pt x="45" y="90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232160" y="2924280"/>
            <a:ext cx="1441440" cy="1368360"/>
            <a:chOff x="4232160" y="2924280"/>
            <a:chExt cx="1441440" cy="1368360"/>
          </a:xfrm>
        </p:grpSpPr>
        <p:sp>
          <p:nvSpPr>
            <p:cNvPr id="247" name=""/>
            <p:cNvSpPr/>
            <p:nvPr/>
          </p:nvSpPr>
          <p:spPr>
            <a:xfrm>
              <a:off x="4232160" y="3357720"/>
              <a:ext cx="1297080" cy="9349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32160" y="3284640"/>
              <a:ext cx="1441440" cy="100800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808520" y="2924280"/>
              <a:ext cx="289080" cy="360360"/>
            </a:xfrm>
            <a:custGeom>
              <a:avLst/>
              <a:gdLst/>
              <a:ahLst/>
              <a:rect l="l" t="t" r="r" b="b"/>
              <a:pathLst>
                <a:path w="182" h="227">
                  <a:moveTo>
                    <a:pt x="46" y="227"/>
                  </a:moveTo>
                  <a:lnTo>
                    <a:pt x="46" y="91"/>
                  </a:lnTo>
                  <a:lnTo>
                    <a:pt x="0" y="0"/>
                  </a:lnTo>
                  <a:lnTo>
                    <a:pt x="91" y="46"/>
                  </a:lnTo>
                  <a:lnTo>
                    <a:pt x="136" y="182"/>
                  </a:lnTo>
                  <a:lnTo>
                    <a:pt x="182" y="227"/>
                  </a:lnTo>
                  <a:lnTo>
                    <a:pt x="46" y="227"/>
                  </a:lnTo>
                  <a:close/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48160" y="3284640"/>
              <a:ext cx="360360" cy="1008000"/>
            </a:xfrm>
            <a:custGeom>
              <a:avLst/>
              <a:gdLst/>
              <a:ahLst/>
              <a:rect l="l" t="t" r="r" b="b"/>
              <a:pathLst>
                <a:path w="136" h="635">
                  <a:moveTo>
                    <a:pt x="136" y="0"/>
                  </a:moveTo>
                  <a:cubicBezTo>
                    <a:pt x="68" y="106"/>
                    <a:pt x="0" y="212"/>
                    <a:pt x="0" y="318"/>
                  </a:cubicBezTo>
                  <a:cubicBezTo>
                    <a:pt x="0" y="424"/>
                    <a:pt x="68" y="529"/>
                    <a:pt x="136" y="635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808520" y="3284640"/>
              <a:ext cx="71280" cy="1008000"/>
            </a:xfrm>
            <a:custGeom>
              <a:avLst/>
              <a:gdLst/>
              <a:ahLst/>
              <a:rect l="l" t="t" r="r" b="b"/>
              <a:pathLst>
                <a:path w="136" h="635">
                  <a:moveTo>
                    <a:pt x="136" y="0"/>
                  </a:moveTo>
                  <a:cubicBezTo>
                    <a:pt x="68" y="106"/>
                    <a:pt x="0" y="212"/>
                    <a:pt x="0" y="318"/>
                  </a:cubicBezTo>
                  <a:cubicBezTo>
                    <a:pt x="0" y="424"/>
                    <a:pt x="68" y="529"/>
                    <a:pt x="136" y="635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5096880" y="3284640"/>
              <a:ext cx="431640" cy="1008000"/>
            </a:xfrm>
            <a:custGeom>
              <a:avLst/>
              <a:gdLst/>
              <a:ahLst/>
              <a:rect l="l" t="t" r="r" b="b"/>
              <a:pathLst>
                <a:path w="136" h="635">
                  <a:moveTo>
                    <a:pt x="136" y="0"/>
                  </a:moveTo>
                  <a:cubicBezTo>
                    <a:pt x="68" y="106"/>
                    <a:pt x="0" y="212"/>
                    <a:pt x="0" y="318"/>
                  </a:cubicBezTo>
                  <a:cubicBezTo>
                    <a:pt x="0" y="424"/>
                    <a:pt x="68" y="529"/>
                    <a:pt x="136" y="635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5024520" y="3284640"/>
              <a:ext cx="100080" cy="1008000"/>
            </a:xfrm>
            <a:custGeom>
              <a:avLst/>
              <a:gdLst/>
              <a:ahLst/>
              <a:rect l="l" t="t" r="r" b="b"/>
              <a:pathLst>
                <a:path w="136" h="635">
                  <a:moveTo>
                    <a:pt x="136" y="0"/>
                  </a:moveTo>
                  <a:cubicBezTo>
                    <a:pt x="68" y="106"/>
                    <a:pt x="0" y="212"/>
                    <a:pt x="0" y="318"/>
                  </a:cubicBezTo>
                  <a:cubicBezTo>
                    <a:pt x="0" y="424"/>
                    <a:pt x="68" y="529"/>
                    <a:pt x="136" y="635"/>
                  </a:cubicBez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924520" y="2697120"/>
            <a:ext cx="1596960" cy="1668600"/>
          </a:xfrm>
          <a:custGeom>
            <a:avLst/>
            <a:gdLst/>
            <a:ahLst/>
            <a:rect l="l" t="t" r="r" b="b"/>
            <a:pathLst>
              <a:path w="1006" h="1051">
                <a:moveTo>
                  <a:pt x="749" y="98"/>
                </a:moveTo>
                <a:cubicBezTo>
                  <a:pt x="681" y="143"/>
                  <a:pt x="620" y="205"/>
                  <a:pt x="567" y="280"/>
                </a:cubicBezTo>
                <a:cubicBezTo>
                  <a:pt x="514" y="355"/>
                  <a:pt x="484" y="477"/>
                  <a:pt x="431" y="552"/>
                </a:cubicBezTo>
                <a:cubicBezTo>
                  <a:pt x="378" y="627"/>
                  <a:pt x="295" y="665"/>
                  <a:pt x="250" y="733"/>
                </a:cubicBezTo>
                <a:cubicBezTo>
                  <a:pt x="205" y="801"/>
                  <a:pt x="189" y="907"/>
                  <a:pt x="159" y="960"/>
                </a:cubicBezTo>
                <a:cubicBezTo>
                  <a:pt x="129" y="1013"/>
                  <a:pt x="0" y="1051"/>
                  <a:pt x="68" y="1051"/>
                </a:cubicBezTo>
                <a:cubicBezTo>
                  <a:pt x="136" y="1051"/>
                  <a:pt x="461" y="1028"/>
                  <a:pt x="567" y="960"/>
                </a:cubicBezTo>
                <a:cubicBezTo>
                  <a:pt x="673" y="892"/>
                  <a:pt x="643" y="725"/>
                  <a:pt x="703" y="642"/>
                </a:cubicBezTo>
                <a:cubicBezTo>
                  <a:pt x="763" y="559"/>
                  <a:pt x="892" y="544"/>
                  <a:pt x="930" y="461"/>
                </a:cubicBezTo>
                <a:cubicBezTo>
                  <a:pt x="968" y="378"/>
                  <a:pt x="922" y="219"/>
                  <a:pt x="930" y="143"/>
                </a:cubicBezTo>
                <a:cubicBezTo>
                  <a:pt x="938" y="67"/>
                  <a:pt x="1006" y="14"/>
                  <a:pt x="976" y="7"/>
                </a:cubicBezTo>
                <a:cubicBezTo>
                  <a:pt x="946" y="0"/>
                  <a:pt x="817" y="53"/>
                  <a:pt x="749" y="98"/>
                </a:cubicBezTo>
                <a:close/>
              </a:path>
            </a:pathLst>
          </a:custGeom>
          <a:noFill/>
          <a:ln w="572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5961240" y="2892240"/>
            <a:ext cx="1472400" cy="1473480"/>
            <a:chOff x="5961240" y="2892240"/>
            <a:chExt cx="1472400" cy="1473480"/>
          </a:xfrm>
        </p:grpSpPr>
        <p:sp>
          <p:nvSpPr>
            <p:cNvPr id="256" name=""/>
            <p:cNvSpPr/>
            <p:nvPr/>
          </p:nvSpPr>
          <p:spPr>
            <a:xfrm>
              <a:off x="5961240" y="2924280"/>
              <a:ext cx="1376280" cy="1441440"/>
            </a:xfrm>
            <a:custGeom>
              <a:avLst/>
              <a:gdLst/>
              <a:ahLst/>
              <a:rect l="l" t="t" r="r" b="b"/>
              <a:pathLst>
                <a:path w="1006" h="1051">
                  <a:moveTo>
                    <a:pt x="749" y="98"/>
                  </a:moveTo>
                  <a:cubicBezTo>
                    <a:pt x="681" y="143"/>
                    <a:pt x="620" y="205"/>
                    <a:pt x="567" y="280"/>
                  </a:cubicBezTo>
                  <a:cubicBezTo>
                    <a:pt x="514" y="355"/>
                    <a:pt x="484" y="477"/>
                    <a:pt x="431" y="552"/>
                  </a:cubicBezTo>
                  <a:cubicBezTo>
                    <a:pt x="378" y="627"/>
                    <a:pt x="295" y="665"/>
                    <a:pt x="250" y="733"/>
                  </a:cubicBezTo>
                  <a:cubicBezTo>
                    <a:pt x="205" y="801"/>
                    <a:pt x="189" y="907"/>
                    <a:pt x="159" y="960"/>
                  </a:cubicBezTo>
                  <a:cubicBezTo>
                    <a:pt x="129" y="1013"/>
                    <a:pt x="0" y="1051"/>
                    <a:pt x="68" y="1051"/>
                  </a:cubicBezTo>
                  <a:cubicBezTo>
                    <a:pt x="136" y="1051"/>
                    <a:pt x="461" y="1028"/>
                    <a:pt x="567" y="960"/>
                  </a:cubicBezTo>
                  <a:cubicBezTo>
                    <a:pt x="673" y="892"/>
                    <a:pt x="643" y="725"/>
                    <a:pt x="703" y="642"/>
                  </a:cubicBezTo>
                  <a:cubicBezTo>
                    <a:pt x="763" y="559"/>
                    <a:pt x="892" y="544"/>
                    <a:pt x="930" y="461"/>
                  </a:cubicBezTo>
                  <a:cubicBezTo>
                    <a:pt x="968" y="378"/>
                    <a:pt x="922" y="219"/>
                    <a:pt x="930" y="143"/>
                  </a:cubicBezTo>
                  <a:cubicBezTo>
                    <a:pt x="938" y="67"/>
                    <a:pt x="1006" y="14"/>
                    <a:pt x="976" y="7"/>
                  </a:cubicBezTo>
                  <a:cubicBezTo>
                    <a:pt x="946" y="0"/>
                    <a:pt x="817" y="53"/>
                    <a:pt x="749" y="98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900000">
              <a:off x="6248520" y="3789000"/>
              <a:ext cx="647640" cy="36036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900000">
              <a:off x="6753240" y="3068280"/>
              <a:ext cx="647640" cy="36036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7977240" y="2781360"/>
            <a:ext cx="1487160" cy="1608120"/>
            <a:chOff x="7977240" y="2781360"/>
            <a:chExt cx="1487160" cy="1608120"/>
          </a:xfrm>
        </p:grpSpPr>
        <p:sp>
          <p:nvSpPr>
            <p:cNvPr id="260" name=""/>
            <p:cNvSpPr/>
            <p:nvPr/>
          </p:nvSpPr>
          <p:spPr>
            <a:xfrm>
              <a:off x="8024760" y="2878200"/>
              <a:ext cx="693360" cy="854280"/>
            </a:xfrm>
            <a:custGeom>
              <a:avLst/>
              <a:gdLst/>
              <a:ahLst/>
              <a:rect l="l" t="t" r="r" b="b"/>
              <a:pathLst>
                <a:path w="491" h="605">
                  <a:moveTo>
                    <a:pt x="484" y="560"/>
                  </a:moveTo>
                  <a:cubicBezTo>
                    <a:pt x="491" y="515"/>
                    <a:pt x="476" y="288"/>
                    <a:pt x="438" y="197"/>
                  </a:cubicBezTo>
                  <a:cubicBezTo>
                    <a:pt x="400" y="106"/>
                    <a:pt x="325" y="30"/>
                    <a:pt x="257" y="15"/>
                  </a:cubicBezTo>
                  <a:cubicBezTo>
                    <a:pt x="189" y="0"/>
                    <a:pt x="60" y="60"/>
                    <a:pt x="30" y="106"/>
                  </a:cubicBezTo>
                  <a:cubicBezTo>
                    <a:pt x="0" y="152"/>
                    <a:pt x="45" y="265"/>
                    <a:pt x="75" y="288"/>
                  </a:cubicBezTo>
                  <a:cubicBezTo>
                    <a:pt x="105" y="311"/>
                    <a:pt x="197" y="235"/>
                    <a:pt x="212" y="242"/>
                  </a:cubicBezTo>
                  <a:cubicBezTo>
                    <a:pt x="227" y="249"/>
                    <a:pt x="151" y="310"/>
                    <a:pt x="166" y="333"/>
                  </a:cubicBezTo>
                  <a:cubicBezTo>
                    <a:pt x="181" y="356"/>
                    <a:pt x="287" y="363"/>
                    <a:pt x="302" y="378"/>
                  </a:cubicBezTo>
                  <a:cubicBezTo>
                    <a:pt x="317" y="393"/>
                    <a:pt x="242" y="409"/>
                    <a:pt x="257" y="424"/>
                  </a:cubicBezTo>
                  <a:cubicBezTo>
                    <a:pt x="272" y="439"/>
                    <a:pt x="355" y="446"/>
                    <a:pt x="393" y="469"/>
                  </a:cubicBezTo>
                  <a:cubicBezTo>
                    <a:pt x="431" y="492"/>
                    <a:pt x="477" y="605"/>
                    <a:pt x="484" y="560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8792280" y="2901960"/>
              <a:ext cx="117000" cy="854280"/>
            </a:xfrm>
            <a:custGeom>
              <a:avLst/>
              <a:gdLst/>
              <a:ahLst/>
              <a:rect l="l" t="t" r="r" b="b"/>
              <a:pathLst>
                <a:path w="491" h="605">
                  <a:moveTo>
                    <a:pt x="484" y="560"/>
                  </a:moveTo>
                  <a:cubicBezTo>
                    <a:pt x="491" y="515"/>
                    <a:pt x="476" y="288"/>
                    <a:pt x="438" y="197"/>
                  </a:cubicBezTo>
                  <a:cubicBezTo>
                    <a:pt x="400" y="106"/>
                    <a:pt x="325" y="30"/>
                    <a:pt x="257" y="15"/>
                  </a:cubicBezTo>
                  <a:cubicBezTo>
                    <a:pt x="189" y="0"/>
                    <a:pt x="60" y="60"/>
                    <a:pt x="30" y="106"/>
                  </a:cubicBezTo>
                  <a:cubicBezTo>
                    <a:pt x="0" y="152"/>
                    <a:pt x="45" y="265"/>
                    <a:pt x="75" y="288"/>
                  </a:cubicBezTo>
                  <a:cubicBezTo>
                    <a:pt x="105" y="311"/>
                    <a:pt x="197" y="235"/>
                    <a:pt x="212" y="242"/>
                  </a:cubicBezTo>
                  <a:cubicBezTo>
                    <a:pt x="227" y="249"/>
                    <a:pt x="151" y="310"/>
                    <a:pt x="166" y="333"/>
                  </a:cubicBezTo>
                  <a:cubicBezTo>
                    <a:pt x="181" y="356"/>
                    <a:pt x="287" y="363"/>
                    <a:pt x="302" y="378"/>
                  </a:cubicBezTo>
                  <a:cubicBezTo>
                    <a:pt x="317" y="393"/>
                    <a:pt x="242" y="409"/>
                    <a:pt x="257" y="424"/>
                  </a:cubicBezTo>
                  <a:cubicBezTo>
                    <a:pt x="272" y="439"/>
                    <a:pt x="355" y="446"/>
                    <a:pt x="393" y="469"/>
                  </a:cubicBezTo>
                  <a:cubicBezTo>
                    <a:pt x="431" y="492"/>
                    <a:pt x="477" y="605"/>
                    <a:pt x="484" y="560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 rot="1800000">
              <a:off x="8899200" y="3068280"/>
              <a:ext cx="258480" cy="793800"/>
            </a:xfrm>
            <a:custGeom>
              <a:avLst/>
              <a:gdLst/>
              <a:ahLst/>
              <a:rect l="l" t="t" r="r" b="b"/>
              <a:pathLst>
                <a:path w="491" h="605">
                  <a:moveTo>
                    <a:pt x="484" y="560"/>
                  </a:moveTo>
                  <a:cubicBezTo>
                    <a:pt x="491" y="515"/>
                    <a:pt x="476" y="288"/>
                    <a:pt x="438" y="197"/>
                  </a:cubicBezTo>
                  <a:cubicBezTo>
                    <a:pt x="400" y="106"/>
                    <a:pt x="325" y="30"/>
                    <a:pt x="257" y="15"/>
                  </a:cubicBezTo>
                  <a:cubicBezTo>
                    <a:pt x="189" y="0"/>
                    <a:pt x="60" y="60"/>
                    <a:pt x="30" y="106"/>
                  </a:cubicBezTo>
                  <a:cubicBezTo>
                    <a:pt x="0" y="152"/>
                    <a:pt x="45" y="265"/>
                    <a:pt x="75" y="288"/>
                  </a:cubicBezTo>
                  <a:cubicBezTo>
                    <a:pt x="105" y="311"/>
                    <a:pt x="197" y="235"/>
                    <a:pt x="212" y="242"/>
                  </a:cubicBezTo>
                  <a:cubicBezTo>
                    <a:pt x="227" y="249"/>
                    <a:pt x="151" y="310"/>
                    <a:pt x="166" y="333"/>
                  </a:cubicBezTo>
                  <a:cubicBezTo>
                    <a:pt x="181" y="356"/>
                    <a:pt x="287" y="363"/>
                    <a:pt x="302" y="378"/>
                  </a:cubicBezTo>
                  <a:cubicBezTo>
                    <a:pt x="317" y="393"/>
                    <a:pt x="242" y="409"/>
                    <a:pt x="257" y="424"/>
                  </a:cubicBezTo>
                  <a:cubicBezTo>
                    <a:pt x="272" y="439"/>
                    <a:pt x="355" y="446"/>
                    <a:pt x="393" y="469"/>
                  </a:cubicBezTo>
                  <a:cubicBezTo>
                    <a:pt x="431" y="492"/>
                    <a:pt x="477" y="605"/>
                    <a:pt x="484" y="560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77240" y="2781360"/>
              <a:ext cx="779400" cy="960480"/>
            </a:xfrm>
            <a:custGeom>
              <a:avLst/>
              <a:gdLst/>
              <a:ahLst/>
              <a:rect l="l" t="t" r="r" b="b"/>
              <a:pathLst>
                <a:path w="491" h="605">
                  <a:moveTo>
                    <a:pt x="484" y="560"/>
                  </a:moveTo>
                  <a:cubicBezTo>
                    <a:pt x="491" y="515"/>
                    <a:pt x="476" y="288"/>
                    <a:pt x="438" y="197"/>
                  </a:cubicBezTo>
                  <a:cubicBezTo>
                    <a:pt x="400" y="106"/>
                    <a:pt x="325" y="30"/>
                    <a:pt x="257" y="15"/>
                  </a:cubicBezTo>
                  <a:cubicBezTo>
                    <a:pt x="189" y="0"/>
                    <a:pt x="60" y="60"/>
                    <a:pt x="30" y="106"/>
                  </a:cubicBezTo>
                  <a:cubicBezTo>
                    <a:pt x="0" y="152"/>
                    <a:pt x="45" y="265"/>
                    <a:pt x="75" y="288"/>
                  </a:cubicBezTo>
                  <a:cubicBezTo>
                    <a:pt x="105" y="311"/>
                    <a:pt x="197" y="235"/>
                    <a:pt x="212" y="242"/>
                  </a:cubicBezTo>
                  <a:cubicBezTo>
                    <a:pt x="227" y="249"/>
                    <a:pt x="151" y="310"/>
                    <a:pt x="166" y="333"/>
                  </a:cubicBezTo>
                  <a:cubicBezTo>
                    <a:pt x="181" y="356"/>
                    <a:pt x="287" y="363"/>
                    <a:pt x="302" y="378"/>
                  </a:cubicBezTo>
                  <a:cubicBezTo>
                    <a:pt x="317" y="393"/>
                    <a:pt x="242" y="409"/>
                    <a:pt x="257" y="424"/>
                  </a:cubicBezTo>
                  <a:cubicBezTo>
                    <a:pt x="272" y="439"/>
                    <a:pt x="355" y="446"/>
                    <a:pt x="393" y="469"/>
                  </a:cubicBezTo>
                  <a:cubicBezTo>
                    <a:pt x="431" y="492"/>
                    <a:pt x="477" y="605"/>
                    <a:pt x="484" y="560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744760" y="2805120"/>
              <a:ext cx="131400" cy="960480"/>
            </a:xfrm>
            <a:custGeom>
              <a:avLst/>
              <a:gdLst/>
              <a:ahLst/>
              <a:rect l="l" t="t" r="r" b="b"/>
              <a:pathLst>
                <a:path w="491" h="605">
                  <a:moveTo>
                    <a:pt x="484" y="560"/>
                  </a:moveTo>
                  <a:cubicBezTo>
                    <a:pt x="491" y="515"/>
                    <a:pt x="476" y="288"/>
                    <a:pt x="438" y="197"/>
                  </a:cubicBezTo>
                  <a:cubicBezTo>
                    <a:pt x="400" y="106"/>
                    <a:pt x="325" y="30"/>
                    <a:pt x="257" y="15"/>
                  </a:cubicBezTo>
                  <a:cubicBezTo>
                    <a:pt x="189" y="0"/>
                    <a:pt x="60" y="60"/>
                    <a:pt x="30" y="106"/>
                  </a:cubicBezTo>
                  <a:cubicBezTo>
                    <a:pt x="0" y="152"/>
                    <a:pt x="45" y="265"/>
                    <a:pt x="75" y="288"/>
                  </a:cubicBezTo>
                  <a:cubicBezTo>
                    <a:pt x="105" y="311"/>
                    <a:pt x="197" y="235"/>
                    <a:pt x="212" y="242"/>
                  </a:cubicBezTo>
                  <a:cubicBezTo>
                    <a:pt x="227" y="249"/>
                    <a:pt x="151" y="310"/>
                    <a:pt x="166" y="333"/>
                  </a:cubicBezTo>
                  <a:cubicBezTo>
                    <a:pt x="181" y="356"/>
                    <a:pt x="287" y="363"/>
                    <a:pt x="302" y="378"/>
                  </a:cubicBezTo>
                  <a:cubicBezTo>
                    <a:pt x="317" y="393"/>
                    <a:pt x="242" y="409"/>
                    <a:pt x="257" y="424"/>
                  </a:cubicBezTo>
                  <a:cubicBezTo>
                    <a:pt x="272" y="439"/>
                    <a:pt x="355" y="446"/>
                    <a:pt x="393" y="469"/>
                  </a:cubicBezTo>
                  <a:cubicBezTo>
                    <a:pt x="431" y="492"/>
                    <a:pt x="477" y="605"/>
                    <a:pt x="484" y="560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rot="1800000">
              <a:off x="8888400" y="2949840"/>
              <a:ext cx="360000" cy="960480"/>
            </a:xfrm>
            <a:custGeom>
              <a:avLst/>
              <a:gdLst/>
              <a:ahLst/>
              <a:rect l="l" t="t" r="r" b="b"/>
              <a:pathLst>
                <a:path w="491" h="605">
                  <a:moveTo>
                    <a:pt x="484" y="560"/>
                  </a:moveTo>
                  <a:cubicBezTo>
                    <a:pt x="491" y="515"/>
                    <a:pt x="476" y="288"/>
                    <a:pt x="438" y="197"/>
                  </a:cubicBezTo>
                  <a:cubicBezTo>
                    <a:pt x="400" y="106"/>
                    <a:pt x="325" y="30"/>
                    <a:pt x="257" y="15"/>
                  </a:cubicBezTo>
                  <a:cubicBezTo>
                    <a:pt x="189" y="0"/>
                    <a:pt x="60" y="60"/>
                    <a:pt x="30" y="106"/>
                  </a:cubicBezTo>
                  <a:cubicBezTo>
                    <a:pt x="0" y="152"/>
                    <a:pt x="45" y="265"/>
                    <a:pt x="75" y="288"/>
                  </a:cubicBezTo>
                  <a:cubicBezTo>
                    <a:pt x="105" y="311"/>
                    <a:pt x="197" y="235"/>
                    <a:pt x="212" y="242"/>
                  </a:cubicBezTo>
                  <a:cubicBezTo>
                    <a:pt x="227" y="249"/>
                    <a:pt x="151" y="310"/>
                    <a:pt x="166" y="333"/>
                  </a:cubicBezTo>
                  <a:cubicBezTo>
                    <a:pt x="181" y="356"/>
                    <a:pt x="287" y="363"/>
                    <a:pt x="302" y="378"/>
                  </a:cubicBezTo>
                  <a:cubicBezTo>
                    <a:pt x="317" y="393"/>
                    <a:pt x="242" y="409"/>
                    <a:pt x="257" y="424"/>
                  </a:cubicBezTo>
                  <a:cubicBezTo>
                    <a:pt x="272" y="439"/>
                    <a:pt x="355" y="446"/>
                    <a:pt x="393" y="469"/>
                  </a:cubicBezTo>
                  <a:cubicBezTo>
                    <a:pt x="431" y="492"/>
                    <a:pt x="477" y="605"/>
                    <a:pt x="484" y="560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169120" y="3670560"/>
              <a:ext cx="1080720" cy="71892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eded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49360" y="4711680"/>
            <a:ext cx="1379520" cy="1571760"/>
            <a:chOff x="549360" y="4711680"/>
            <a:chExt cx="1379520" cy="1571760"/>
          </a:xfrm>
        </p:grpSpPr>
        <p:sp>
          <p:nvSpPr>
            <p:cNvPr id="268" name=""/>
            <p:cNvSpPr/>
            <p:nvPr/>
          </p:nvSpPr>
          <p:spPr>
            <a:xfrm>
              <a:off x="979560" y="4711680"/>
              <a:ext cx="539640" cy="1548000"/>
            </a:xfrm>
            <a:custGeom>
              <a:avLst/>
              <a:gdLst/>
              <a:ahLst/>
              <a:rect l="l" t="t" r="r" b="b"/>
              <a:pathLst>
                <a:path w="340" h="975">
                  <a:moveTo>
                    <a:pt x="189" y="960"/>
                  </a:moveTo>
                  <a:cubicBezTo>
                    <a:pt x="159" y="945"/>
                    <a:pt x="76" y="832"/>
                    <a:pt x="53" y="779"/>
                  </a:cubicBezTo>
                  <a:cubicBezTo>
                    <a:pt x="30" y="726"/>
                    <a:pt x="53" y="688"/>
                    <a:pt x="53" y="643"/>
                  </a:cubicBezTo>
                  <a:cubicBezTo>
                    <a:pt x="53" y="598"/>
                    <a:pt x="60" y="560"/>
                    <a:pt x="53" y="507"/>
                  </a:cubicBezTo>
                  <a:cubicBezTo>
                    <a:pt x="46" y="454"/>
                    <a:pt x="0" y="363"/>
                    <a:pt x="8" y="325"/>
                  </a:cubicBezTo>
                  <a:cubicBezTo>
                    <a:pt x="16" y="287"/>
                    <a:pt x="99" y="303"/>
                    <a:pt x="99" y="280"/>
                  </a:cubicBezTo>
                  <a:cubicBezTo>
                    <a:pt x="99" y="257"/>
                    <a:pt x="8" y="204"/>
                    <a:pt x="8" y="189"/>
                  </a:cubicBezTo>
                  <a:cubicBezTo>
                    <a:pt x="8" y="174"/>
                    <a:pt x="84" y="212"/>
                    <a:pt x="99" y="189"/>
                  </a:cubicBezTo>
                  <a:cubicBezTo>
                    <a:pt x="114" y="166"/>
                    <a:pt x="84" y="76"/>
                    <a:pt x="99" y="53"/>
                  </a:cubicBezTo>
                  <a:cubicBezTo>
                    <a:pt x="114" y="30"/>
                    <a:pt x="159" y="60"/>
                    <a:pt x="189" y="53"/>
                  </a:cubicBezTo>
                  <a:cubicBezTo>
                    <a:pt x="219" y="46"/>
                    <a:pt x="265" y="0"/>
                    <a:pt x="280" y="8"/>
                  </a:cubicBezTo>
                  <a:cubicBezTo>
                    <a:pt x="295" y="16"/>
                    <a:pt x="273" y="76"/>
                    <a:pt x="280" y="99"/>
                  </a:cubicBezTo>
                  <a:cubicBezTo>
                    <a:pt x="287" y="122"/>
                    <a:pt x="325" y="129"/>
                    <a:pt x="325" y="144"/>
                  </a:cubicBezTo>
                  <a:cubicBezTo>
                    <a:pt x="325" y="159"/>
                    <a:pt x="280" y="166"/>
                    <a:pt x="280" y="189"/>
                  </a:cubicBezTo>
                  <a:cubicBezTo>
                    <a:pt x="280" y="212"/>
                    <a:pt x="332" y="257"/>
                    <a:pt x="325" y="280"/>
                  </a:cubicBezTo>
                  <a:cubicBezTo>
                    <a:pt x="318" y="303"/>
                    <a:pt x="235" y="302"/>
                    <a:pt x="235" y="325"/>
                  </a:cubicBezTo>
                  <a:cubicBezTo>
                    <a:pt x="235" y="348"/>
                    <a:pt x="318" y="393"/>
                    <a:pt x="325" y="416"/>
                  </a:cubicBezTo>
                  <a:cubicBezTo>
                    <a:pt x="332" y="439"/>
                    <a:pt x="280" y="438"/>
                    <a:pt x="280" y="461"/>
                  </a:cubicBezTo>
                  <a:cubicBezTo>
                    <a:pt x="280" y="484"/>
                    <a:pt x="332" y="537"/>
                    <a:pt x="325" y="552"/>
                  </a:cubicBezTo>
                  <a:cubicBezTo>
                    <a:pt x="318" y="567"/>
                    <a:pt x="235" y="544"/>
                    <a:pt x="235" y="552"/>
                  </a:cubicBezTo>
                  <a:cubicBezTo>
                    <a:pt x="235" y="560"/>
                    <a:pt x="325" y="575"/>
                    <a:pt x="325" y="598"/>
                  </a:cubicBezTo>
                  <a:cubicBezTo>
                    <a:pt x="325" y="621"/>
                    <a:pt x="235" y="650"/>
                    <a:pt x="235" y="688"/>
                  </a:cubicBezTo>
                  <a:cubicBezTo>
                    <a:pt x="235" y="726"/>
                    <a:pt x="340" y="801"/>
                    <a:pt x="325" y="824"/>
                  </a:cubicBezTo>
                  <a:cubicBezTo>
                    <a:pt x="310" y="847"/>
                    <a:pt x="159" y="816"/>
                    <a:pt x="144" y="824"/>
                  </a:cubicBezTo>
                  <a:cubicBezTo>
                    <a:pt x="129" y="832"/>
                    <a:pt x="220" y="847"/>
                    <a:pt x="235" y="870"/>
                  </a:cubicBezTo>
                  <a:cubicBezTo>
                    <a:pt x="250" y="893"/>
                    <a:pt x="219" y="975"/>
                    <a:pt x="189" y="960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1279440" y="4724280"/>
              <a:ext cx="649440" cy="1559160"/>
            </a:xfrm>
            <a:custGeom>
              <a:avLst/>
              <a:gdLst/>
              <a:ahLst/>
              <a:rect l="l" t="t" r="r" b="b"/>
              <a:pathLst>
                <a:path w="460" h="982">
                  <a:moveTo>
                    <a:pt x="415" y="952"/>
                  </a:moveTo>
                  <a:cubicBezTo>
                    <a:pt x="370" y="922"/>
                    <a:pt x="157" y="801"/>
                    <a:pt x="97" y="726"/>
                  </a:cubicBezTo>
                  <a:cubicBezTo>
                    <a:pt x="37" y="651"/>
                    <a:pt x="67" y="544"/>
                    <a:pt x="52" y="499"/>
                  </a:cubicBezTo>
                  <a:cubicBezTo>
                    <a:pt x="37" y="454"/>
                    <a:pt x="0" y="483"/>
                    <a:pt x="7" y="453"/>
                  </a:cubicBezTo>
                  <a:cubicBezTo>
                    <a:pt x="14" y="423"/>
                    <a:pt x="97" y="355"/>
                    <a:pt x="97" y="317"/>
                  </a:cubicBezTo>
                  <a:cubicBezTo>
                    <a:pt x="97" y="279"/>
                    <a:pt x="7" y="250"/>
                    <a:pt x="7" y="227"/>
                  </a:cubicBezTo>
                  <a:cubicBezTo>
                    <a:pt x="7" y="204"/>
                    <a:pt x="82" y="204"/>
                    <a:pt x="97" y="181"/>
                  </a:cubicBezTo>
                  <a:cubicBezTo>
                    <a:pt x="112" y="158"/>
                    <a:pt x="82" y="114"/>
                    <a:pt x="97" y="91"/>
                  </a:cubicBezTo>
                  <a:cubicBezTo>
                    <a:pt x="112" y="68"/>
                    <a:pt x="165" y="60"/>
                    <a:pt x="188" y="45"/>
                  </a:cubicBezTo>
                  <a:cubicBezTo>
                    <a:pt x="211" y="30"/>
                    <a:pt x="219" y="0"/>
                    <a:pt x="234" y="0"/>
                  </a:cubicBezTo>
                  <a:cubicBezTo>
                    <a:pt x="249" y="0"/>
                    <a:pt x="272" y="22"/>
                    <a:pt x="279" y="45"/>
                  </a:cubicBezTo>
                  <a:cubicBezTo>
                    <a:pt x="286" y="68"/>
                    <a:pt x="286" y="106"/>
                    <a:pt x="279" y="136"/>
                  </a:cubicBezTo>
                  <a:cubicBezTo>
                    <a:pt x="272" y="166"/>
                    <a:pt x="227" y="197"/>
                    <a:pt x="234" y="227"/>
                  </a:cubicBezTo>
                  <a:cubicBezTo>
                    <a:pt x="241" y="257"/>
                    <a:pt x="324" y="287"/>
                    <a:pt x="324" y="317"/>
                  </a:cubicBezTo>
                  <a:cubicBezTo>
                    <a:pt x="324" y="347"/>
                    <a:pt x="241" y="378"/>
                    <a:pt x="234" y="408"/>
                  </a:cubicBezTo>
                  <a:cubicBezTo>
                    <a:pt x="227" y="438"/>
                    <a:pt x="287" y="461"/>
                    <a:pt x="279" y="499"/>
                  </a:cubicBezTo>
                  <a:cubicBezTo>
                    <a:pt x="271" y="537"/>
                    <a:pt x="188" y="605"/>
                    <a:pt x="188" y="635"/>
                  </a:cubicBezTo>
                  <a:cubicBezTo>
                    <a:pt x="188" y="665"/>
                    <a:pt x="264" y="657"/>
                    <a:pt x="279" y="680"/>
                  </a:cubicBezTo>
                  <a:cubicBezTo>
                    <a:pt x="294" y="703"/>
                    <a:pt x="264" y="733"/>
                    <a:pt x="279" y="771"/>
                  </a:cubicBezTo>
                  <a:cubicBezTo>
                    <a:pt x="294" y="809"/>
                    <a:pt x="347" y="877"/>
                    <a:pt x="370" y="907"/>
                  </a:cubicBezTo>
                  <a:cubicBezTo>
                    <a:pt x="393" y="937"/>
                    <a:pt x="460" y="982"/>
                    <a:pt x="415" y="952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1279440" y="4724280"/>
              <a:ext cx="432000" cy="1559160"/>
            </a:xfrm>
            <a:custGeom>
              <a:avLst/>
              <a:gdLst/>
              <a:ahLst/>
              <a:rect l="l" t="t" r="r" b="b"/>
              <a:pathLst>
                <a:path w="460" h="982">
                  <a:moveTo>
                    <a:pt x="415" y="952"/>
                  </a:moveTo>
                  <a:cubicBezTo>
                    <a:pt x="370" y="922"/>
                    <a:pt x="157" y="801"/>
                    <a:pt x="97" y="726"/>
                  </a:cubicBezTo>
                  <a:cubicBezTo>
                    <a:pt x="37" y="651"/>
                    <a:pt x="67" y="544"/>
                    <a:pt x="52" y="499"/>
                  </a:cubicBezTo>
                  <a:cubicBezTo>
                    <a:pt x="37" y="454"/>
                    <a:pt x="0" y="483"/>
                    <a:pt x="7" y="453"/>
                  </a:cubicBezTo>
                  <a:cubicBezTo>
                    <a:pt x="14" y="423"/>
                    <a:pt x="97" y="355"/>
                    <a:pt x="97" y="317"/>
                  </a:cubicBezTo>
                  <a:cubicBezTo>
                    <a:pt x="97" y="279"/>
                    <a:pt x="7" y="250"/>
                    <a:pt x="7" y="227"/>
                  </a:cubicBezTo>
                  <a:cubicBezTo>
                    <a:pt x="7" y="204"/>
                    <a:pt x="82" y="204"/>
                    <a:pt x="97" y="181"/>
                  </a:cubicBezTo>
                  <a:cubicBezTo>
                    <a:pt x="112" y="158"/>
                    <a:pt x="82" y="114"/>
                    <a:pt x="97" y="91"/>
                  </a:cubicBezTo>
                  <a:cubicBezTo>
                    <a:pt x="112" y="68"/>
                    <a:pt x="165" y="60"/>
                    <a:pt x="188" y="45"/>
                  </a:cubicBezTo>
                  <a:cubicBezTo>
                    <a:pt x="211" y="30"/>
                    <a:pt x="219" y="0"/>
                    <a:pt x="234" y="0"/>
                  </a:cubicBezTo>
                  <a:cubicBezTo>
                    <a:pt x="249" y="0"/>
                    <a:pt x="272" y="22"/>
                    <a:pt x="279" y="45"/>
                  </a:cubicBezTo>
                  <a:cubicBezTo>
                    <a:pt x="286" y="68"/>
                    <a:pt x="286" y="106"/>
                    <a:pt x="279" y="136"/>
                  </a:cubicBezTo>
                  <a:cubicBezTo>
                    <a:pt x="272" y="166"/>
                    <a:pt x="227" y="197"/>
                    <a:pt x="234" y="227"/>
                  </a:cubicBezTo>
                  <a:cubicBezTo>
                    <a:pt x="241" y="257"/>
                    <a:pt x="324" y="287"/>
                    <a:pt x="324" y="317"/>
                  </a:cubicBezTo>
                  <a:cubicBezTo>
                    <a:pt x="324" y="347"/>
                    <a:pt x="241" y="378"/>
                    <a:pt x="234" y="408"/>
                  </a:cubicBezTo>
                  <a:cubicBezTo>
                    <a:pt x="227" y="438"/>
                    <a:pt x="287" y="461"/>
                    <a:pt x="279" y="499"/>
                  </a:cubicBezTo>
                  <a:cubicBezTo>
                    <a:pt x="271" y="537"/>
                    <a:pt x="188" y="605"/>
                    <a:pt x="188" y="635"/>
                  </a:cubicBezTo>
                  <a:cubicBezTo>
                    <a:pt x="188" y="665"/>
                    <a:pt x="264" y="657"/>
                    <a:pt x="279" y="680"/>
                  </a:cubicBezTo>
                  <a:cubicBezTo>
                    <a:pt x="294" y="703"/>
                    <a:pt x="264" y="733"/>
                    <a:pt x="279" y="771"/>
                  </a:cubicBezTo>
                  <a:cubicBezTo>
                    <a:pt x="294" y="809"/>
                    <a:pt x="347" y="877"/>
                    <a:pt x="370" y="907"/>
                  </a:cubicBezTo>
                  <a:cubicBezTo>
                    <a:pt x="393" y="937"/>
                    <a:pt x="460" y="982"/>
                    <a:pt x="415" y="952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992160" y="4724280"/>
              <a:ext cx="287280" cy="1559160"/>
            </a:xfrm>
            <a:custGeom>
              <a:avLst/>
              <a:gdLst/>
              <a:ahLst/>
              <a:rect l="l" t="t" r="r" b="b"/>
              <a:pathLst>
                <a:path w="460" h="982">
                  <a:moveTo>
                    <a:pt x="415" y="952"/>
                  </a:moveTo>
                  <a:cubicBezTo>
                    <a:pt x="370" y="922"/>
                    <a:pt x="157" y="801"/>
                    <a:pt x="97" y="726"/>
                  </a:cubicBezTo>
                  <a:cubicBezTo>
                    <a:pt x="37" y="651"/>
                    <a:pt x="67" y="544"/>
                    <a:pt x="52" y="499"/>
                  </a:cubicBezTo>
                  <a:cubicBezTo>
                    <a:pt x="37" y="454"/>
                    <a:pt x="0" y="483"/>
                    <a:pt x="7" y="453"/>
                  </a:cubicBezTo>
                  <a:cubicBezTo>
                    <a:pt x="14" y="423"/>
                    <a:pt x="97" y="355"/>
                    <a:pt x="97" y="317"/>
                  </a:cubicBezTo>
                  <a:cubicBezTo>
                    <a:pt x="97" y="279"/>
                    <a:pt x="7" y="250"/>
                    <a:pt x="7" y="227"/>
                  </a:cubicBezTo>
                  <a:cubicBezTo>
                    <a:pt x="7" y="204"/>
                    <a:pt x="82" y="204"/>
                    <a:pt x="97" y="181"/>
                  </a:cubicBezTo>
                  <a:cubicBezTo>
                    <a:pt x="112" y="158"/>
                    <a:pt x="82" y="114"/>
                    <a:pt x="97" y="91"/>
                  </a:cubicBezTo>
                  <a:cubicBezTo>
                    <a:pt x="112" y="68"/>
                    <a:pt x="165" y="60"/>
                    <a:pt x="188" y="45"/>
                  </a:cubicBezTo>
                  <a:cubicBezTo>
                    <a:pt x="211" y="30"/>
                    <a:pt x="219" y="0"/>
                    <a:pt x="234" y="0"/>
                  </a:cubicBezTo>
                  <a:cubicBezTo>
                    <a:pt x="249" y="0"/>
                    <a:pt x="272" y="22"/>
                    <a:pt x="279" y="45"/>
                  </a:cubicBezTo>
                  <a:cubicBezTo>
                    <a:pt x="286" y="68"/>
                    <a:pt x="286" y="106"/>
                    <a:pt x="279" y="136"/>
                  </a:cubicBezTo>
                  <a:cubicBezTo>
                    <a:pt x="272" y="166"/>
                    <a:pt x="227" y="197"/>
                    <a:pt x="234" y="227"/>
                  </a:cubicBezTo>
                  <a:cubicBezTo>
                    <a:pt x="241" y="257"/>
                    <a:pt x="324" y="287"/>
                    <a:pt x="324" y="317"/>
                  </a:cubicBezTo>
                  <a:cubicBezTo>
                    <a:pt x="324" y="347"/>
                    <a:pt x="241" y="378"/>
                    <a:pt x="234" y="408"/>
                  </a:cubicBezTo>
                  <a:cubicBezTo>
                    <a:pt x="227" y="438"/>
                    <a:pt x="287" y="461"/>
                    <a:pt x="279" y="499"/>
                  </a:cubicBezTo>
                  <a:cubicBezTo>
                    <a:pt x="271" y="537"/>
                    <a:pt x="188" y="605"/>
                    <a:pt x="188" y="635"/>
                  </a:cubicBezTo>
                  <a:cubicBezTo>
                    <a:pt x="188" y="665"/>
                    <a:pt x="264" y="657"/>
                    <a:pt x="279" y="680"/>
                  </a:cubicBezTo>
                  <a:cubicBezTo>
                    <a:pt x="294" y="703"/>
                    <a:pt x="264" y="733"/>
                    <a:pt x="279" y="771"/>
                  </a:cubicBezTo>
                  <a:cubicBezTo>
                    <a:pt x="294" y="809"/>
                    <a:pt x="347" y="877"/>
                    <a:pt x="370" y="907"/>
                  </a:cubicBezTo>
                  <a:cubicBezTo>
                    <a:pt x="393" y="937"/>
                    <a:pt x="460" y="982"/>
                    <a:pt x="415" y="952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1208160" y="4724280"/>
              <a:ext cx="287280" cy="1559160"/>
            </a:xfrm>
            <a:custGeom>
              <a:avLst/>
              <a:gdLst/>
              <a:ahLst/>
              <a:rect l="l" t="t" r="r" b="b"/>
              <a:pathLst>
                <a:path w="460" h="982">
                  <a:moveTo>
                    <a:pt x="415" y="952"/>
                  </a:moveTo>
                  <a:cubicBezTo>
                    <a:pt x="370" y="922"/>
                    <a:pt x="157" y="801"/>
                    <a:pt x="97" y="726"/>
                  </a:cubicBezTo>
                  <a:cubicBezTo>
                    <a:pt x="37" y="651"/>
                    <a:pt x="67" y="544"/>
                    <a:pt x="52" y="499"/>
                  </a:cubicBezTo>
                  <a:cubicBezTo>
                    <a:pt x="37" y="454"/>
                    <a:pt x="0" y="483"/>
                    <a:pt x="7" y="453"/>
                  </a:cubicBezTo>
                  <a:cubicBezTo>
                    <a:pt x="14" y="423"/>
                    <a:pt x="97" y="355"/>
                    <a:pt x="97" y="317"/>
                  </a:cubicBezTo>
                  <a:cubicBezTo>
                    <a:pt x="97" y="279"/>
                    <a:pt x="7" y="250"/>
                    <a:pt x="7" y="227"/>
                  </a:cubicBezTo>
                  <a:cubicBezTo>
                    <a:pt x="7" y="204"/>
                    <a:pt x="82" y="204"/>
                    <a:pt x="97" y="181"/>
                  </a:cubicBezTo>
                  <a:cubicBezTo>
                    <a:pt x="112" y="158"/>
                    <a:pt x="82" y="114"/>
                    <a:pt x="97" y="91"/>
                  </a:cubicBezTo>
                  <a:cubicBezTo>
                    <a:pt x="112" y="68"/>
                    <a:pt x="165" y="60"/>
                    <a:pt x="188" y="45"/>
                  </a:cubicBezTo>
                  <a:cubicBezTo>
                    <a:pt x="211" y="30"/>
                    <a:pt x="219" y="0"/>
                    <a:pt x="234" y="0"/>
                  </a:cubicBezTo>
                  <a:cubicBezTo>
                    <a:pt x="249" y="0"/>
                    <a:pt x="272" y="22"/>
                    <a:pt x="279" y="45"/>
                  </a:cubicBezTo>
                  <a:cubicBezTo>
                    <a:pt x="286" y="68"/>
                    <a:pt x="286" y="106"/>
                    <a:pt x="279" y="136"/>
                  </a:cubicBezTo>
                  <a:cubicBezTo>
                    <a:pt x="272" y="166"/>
                    <a:pt x="227" y="197"/>
                    <a:pt x="234" y="227"/>
                  </a:cubicBezTo>
                  <a:cubicBezTo>
                    <a:pt x="241" y="257"/>
                    <a:pt x="324" y="287"/>
                    <a:pt x="324" y="317"/>
                  </a:cubicBezTo>
                  <a:cubicBezTo>
                    <a:pt x="324" y="347"/>
                    <a:pt x="241" y="378"/>
                    <a:pt x="234" y="408"/>
                  </a:cubicBezTo>
                  <a:cubicBezTo>
                    <a:pt x="227" y="438"/>
                    <a:pt x="287" y="461"/>
                    <a:pt x="279" y="499"/>
                  </a:cubicBezTo>
                  <a:cubicBezTo>
                    <a:pt x="271" y="537"/>
                    <a:pt x="188" y="605"/>
                    <a:pt x="188" y="635"/>
                  </a:cubicBezTo>
                  <a:cubicBezTo>
                    <a:pt x="188" y="665"/>
                    <a:pt x="264" y="657"/>
                    <a:pt x="279" y="680"/>
                  </a:cubicBezTo>
                  <a:cubicBezTo>
                    <a:pt x="294" y="703"/>
                    <a:pt x="264" y="733"/>
                    <a:pt x="279" y="771"/>
                  </a:cubicBezTo>
                  <a:cubicBezTo>
                    <a:pt x="294" y="809"/>
                    <a:pt x="347" y="877"/>
                    <a:pt x="370" y="907"/>
                  </a:cubicBezTo>
                  <a:cubicBezTo>
                    <a:pt x="393" y="937"/>
                    <a:pt x="460" y="982"/>
                    <a:pt x="415" y="952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360" y="4724280"/>
              <a:ext cx="730080" cy="1559160"/>
            </a:xfrm>
            <a:custGeom>
              <a:avLst/>
              <a:gdLst/>
              <a:ahLst/>
              <a:rect l="l" t="t" r="r" b="b"/>
              <a:pathLst>
                <a:path w="460" h="982">
                  <a:moveTo>
                    <a:pt x="415" y="952"/>
                  </a:moveTo>
                  <a:cubicBezTo>
                    <a:pt x="370" y="922"/>
                    <a:pt x="157" y="801"/>
                    <a:pt x="97" y="726"/>
                  </a:cubicBezTo>
                  <a:cubicBezTo>
                    <a:pt x="37" y="651"/>
                    <a:pt x="67" y="544"/>
                    <a:pt x="52" y="499"/>
                  </a:cubicBezTo>
                  <a:cubicBezTo>
                    <a:pt x="37" y="454"/>
                    <a:pt x="0" y="483"/>
                    <a:pt x="7" y="453"/>
                  </a:cubicBezTo>
                  <a:cubicBezTo>
                    <a:pt x="14" y="423"/>
                    <a:pt x="97" y="355"/>
                    <a:pt x="97" y="317"/>
                  </a:cubicBezTo>
                  <a:cubicBezTo>
                    <a:pt x="97" y="279"/>
                    <a:pt x="7" y="250"/>
                    <a:pt x="7" y="227"/>
                  </a:cubicBezTo>
                  <a:cubicBezTo>
                    <a:pt x="7" y="204"/>
                    <a:pt x="82" y="204"/>
                    <a:pt x="97" y="181"/>
                  </a:cubicBezTo>
                  <a:cubicBezTo>
                    <a:pt x="112" y="158"/>
                    <a:pt x="82" y="114"/>
                    <a:pt x="97" y="91"/>
                  </a:cubicBezTo>
                  <a:cubicBezTo>
                    <a:pt x="112" y="68"/>
                    <a:pt x="165" y="60"/>
                    <a:pt x="188" y="45"/>
                  </a:cubicBezTo>
                  <a:cubicBezTo>
                    <a:pt x="211" y="30"/>
                    <a:pt x="219" y="0"/>
                    <a:pt x="234" y="0"/>
                  </a:cubicBezTo>
                  <a:cubicBezTo>
                    <a:pt x="249" y="0"/>
                    <a:pt x="272" y="22"/>
                    <a:pt x="279" y="45"/>
                  </a:cubicBezTo>
                  <a:cubicBezTo>
                    <a:pt x="286" y="68"/>
                    <a:pt x="286" y="106"/>
                    <a:pt x="279" y="136"/>
                  </a:cubicBezTo>
                  <a:cubicBezTo>
                    <a:pt x="272" y="166"/>
                    <a:pt x="227" y="197"/>
                    <a:pt x="234" y="227"/>
                  </a:cubicBezTo>
                  <a:cubicBezTo>
                    <a:pt x="241" y="257"/>
                    <a:pt x="324" y="287"/>
                    <a:pt x="324" y="317"/>
                  </a:cubicBezTo>
                  <a:cubicBezTo>
                    <a:pt x="324" y="347"/>
                    <a:pt x="241" y="378"/>
                    <a:pt x="234" y="408"/>
                  </a:cubicBezTo>
                  <a:cubicBezTo>
                    <a:pt x="227" y="438"/>
                    <a:pt x="287" y="461"/>
                    <a:pt x="279" y="499"/>
                  </a:cubicBezTo>
                  <a:cubicBezTo>
                    <a:pt x="271" y="537"/>
                    <a:pt x="188" y="605"/>
                    <a:pt x="188" y="635"/>
                  </a:cubicBezTo>
                  <a:cubicBezTo>
                    <a:pt x="188" y="665"/>
                    <a:pt x="264" y="657"/>
                    <a:pt x="279" y="680"/>
                  </a:cubicBezTo>
                  <a:cubicBezTo>
                    <a:pt x="294" y="703"/>
                    <a:pt x="264" y="733"/>
                    <a:pt x="279" y="771"/>
                  </a:cubicBezTo>
                  <a:cubicBezTo>
                    <a:pt x="294" y="809"/>
                    <a:pt x="347" y="877"/>
                    <a:pt x="370" y="907"/>
                  </a:cubicBezTo>
                  <a:cubicBezTo>
                    <a:pt x="393" y="937"/>
                    <a:pt x="460" y="982"/>
                    <a:pt x="415" y="952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6160" y="4724280"/>
              <a:ext cx="503280" cy="1559160"/>
            </a:xfrm>
            <a:custGeom>
              <a:avLst/>
              <a:gdLst/>
              <a:ahLst/>
              <a:rect l="l" t="t" r="r" b="b"/>
              <a:pathLst>
                <a:path w="460" h="982">
                  <a:moveTo>
                    <a:pt x="415" y="952"/>
                  </a:moveTo>
                  <a:cubicBezTo>
                    <a:pt x="370" y="922"/>
                    <a:pt x="157" y="801"/>
                    <a:pt x="97" y="726"/>
                  </a:cubicBezTo>
                  <a:cubicBezTo>
                    <a:pt x="37" y="651"/>
                    <a:pt x="67" y="544"/>
                    <a:pt x="52" y="499"/>
                  </a:cubicBezTo>
                  <a:cubicBezTo>
                    <a:pt x="37" y="454"/>
                    <a:pt x="0" y="483"/>
                    <a:pt x="7" y="453"/>
                  </a:cubicBezTo>
                  <a:cubicBezTo>
                    <a:pt x="14" y="423"/>
                    <a:pt x="97" y="355"/>
                    <a:pt x="97" y="317"/>
                  </a:cubicBezTo>
                  <a:cubicBezTo>
                    <a:pt x="97" y="279"/>
                    <a:pt x="7" y="250"/>
                    <a:pt x="7" y="227"/>
                  </a:cubicBezTo>
                  <a:cubicBezTo>
                    <a:pt x="7" y="204"/>
                    <a:pt x="82" y="204"/>
                    <a:pt x="97" y="181"/>
                  </a:cubicBezTo>
                  <a:cubicBezTo>
                    <a:pt x="112" y="158"/>
                    <a:pt x="82" y="114"/>
                    <a:pt x="97" y="91"/>
                  </a:cubicBezTo>
                  <a:cubicBezTo>
                    <a:pt x="112" y="68"/>
                    <a:pt x="165" y="60"/>
                    <a:pt x="188" y="45"/>
                  </a:cubicBezTo>
                  <a:cubicBezTo>
                    <a:pt x="211" y="30"/>
                    <a:pt x="219" y="0"/>
                    <a:pt x="234" y="0"/>
                  </a:cubicBezTo>
                  <a:cubicBezTo>
                    <a:pt x="249" y="0"/>
                    <a:pt x="272" y="22"/>
                    <a:pt x="279" y="45"/>
                  </a:cubicBezTo>
                  <a:cubicBezTo>
                    <a:pt x="286" y="68"/>
                    <a:pt x="286" y="106"/>
                    <a:pt x="279" y="136"/>
                  </a:cubicBezTo>
                  <a:cubicBezTo>
                    <a:pt x="272" y="166"/>
                    <a:pt x="227" y="197"/>
                    <a:pt x="234" y="227"/>
                  </a:cubicBezTo>
                  <a:cubicBezTo>
                    <a:pt x="241" y="257"/>
                    <a:pt x="324" y="287"/>
                    <a:pt x="324" y="317"/>
                  </a:cubicBezTo>
                  <a:cubicBezTo>
                    <a:pt x="324" y="347"/>
                    <a:pt x="241" y="378"/>
                    <a:pt x="234" y="408"/>
                  </a:cubicBezTo>
                  <a:cubicBezTo>
                    <a:pt x="227" y="438"/>
                    <a:pt x="287" y="461"/>
                    <a:pt x="279" y="499"/>
                  </a:cubicBezTo>
                  <a:cubicBezTo>
                    <a:pt x="271" y="537"/>
                    <a:pt x="188" y="605"/>
                    <a:pt x="188" y="635"/>
                  </a:cubicBezTo>
                  <a:cubicBezTo>
                    <a:pt x="188" y="665"/>
                    <a:pt x="264" y="657"/>
                    <a:pt x="279" y="680"/>
                  </a:cubicBezTo>
                  <a:cubicBezTo>
                    <a:pt x="294" y="703"/>
                    <a:pt x="264" y="733"/>
                    <a:pt x="279" y="771"/>
                  </a:cubicBezTo>
                  <a:cubicBezTo>
                    <a:pt x="294" y="809"/>
                    <a:pt x="347" y="877"/>
                    <a:pt x="370" y="907"/>
                  </a:cubicBezTo>
                  <a:cubicBezTo>
                    <a:pt x="393" y="937"/>
                    <a:pt x="460" y="982"/>
                    <a:pt x="415" y="952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350800" y="4740120"/>
            <a:ext cx="1573200" cy="1697400"/>
            <a:chOff x="2350800" y="4740120"/>
            <a:chExt cx="1573200" cy="1697400"/>
          </a:xfrm>
        </p:grpSpPr>
        <p:sp>
          <p:nvSpPr>
            <p:cNvPr id="276" name=""/>
            <p:cNvSpPr/>
            <p:nvPr/>
          </p:nvSpPr>
          <p:spPr>
            <a:xfrm rot="1800000">
              <a:off x="2592360" y="5016600"/>
              <a:ext cx="925560" cy="11858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800000">
              <a:off x="2623680" y="4905000"/>
              <a:ext cx="1027080" cy="1366920"/>
            </a:xfrm>
            <a:prstGeom prst="ellipse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841480" y="5300640"/>
              <a:ext cx="671760" cy="528840"/>
            </a:xfrm>
            <a:custGeom>
              <a:avLst/>
              <a:gdLst/>
              <a:ahLst/>
              <a:rect l="l" t="t" r="r" b="b"/>
              <a:pathLst>
                <a:path w="423" h="333">
                  <a:moveTo>
                    <a:pt x="15" y="0"/>
                  </a:moveTo>
                  <a:cubicBezTo>
                    <a:pt x="7" y="38"/>
                    <a:pt x="0" y="76"/>
                    <a:pt x="15" y="91"/>
                  </a:cubicBezTo>
                  <a:cubicBezTo>
                    <a:pt x="30" y="106"/>
                    <a:pt x="82" y="84"/>
                    <a:pt x="105" y="91"/>
                  </a:cubicBezTo>
                  <a:cubicBezTo>
                    <a:pt x="128" y="98"/>
                    <a:pt x="128" y="129"/>
                    <a:pt x="151" y="136"/>
                  </a:cubicBezTo>
                  <a:cubicBezTo>
                    <a:pt x="174" y="143"/>
                    <a:pt x="226" y="121"/>
                    <a:pt x="241" y="136"/>
                  </a:cubicBezTo>
                  <a:cubicBezTo>
                    <a:pt x="256" y="151"/>
                    <a:pt x="226" y="219"/>
                    <a:pt x="241" y="227"/>
                  </a:cubicBezTo>
                  <a:cubicBezTo>
                    <a:pt x="256" y="235"/>
                    <a:pt x="317" y="167"/>
                    <a:pt x="332" y="182"/>
                  </a:cubicBezTo>
                  <a:cubicBezTo>
                    <a:pt x="347" y="197"/>
                    <a:pt x="317" y="303"/>
                    <a:pt x="332" y="318"/>
                  </a:cubicBezTo>
                  <a:cubicBezTo>
                    <a:pt x="347" y="333"/>
                    <a:pt x="385" y="303"/>
                    <a:pt x="423" y="273"/>
                  </a:cubicBezTo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649600" y="5589720"/>
              <a:ext cx="647640" cy="527040"/>
            </a:xfrm>
            <a:custGeom>
              <a:avLst/>
              <a:gdLst/>
              <a:ahLst/>
              <a:rect l="l" t="t" r="r" b="b"/>
              <a:pathLst>
                <a:path w="408" h="332">
                  <a:moveTo>
                    <a:pt x="0" y="0"/>
                  </a:moveTo>
                  <a:cubicBezTo>
                    <a:pt x="37" y="11"/>
                    <a:pt x="75" y="22"/>
                    <a:pt x="90" y="45"/>
                  </a:cubicBezTo>
                  <a:cubicBezTo>
                    <a:pt x="105" y="68"/>
                    <a:pt x="75" y="121"/>
                    <a:pt x="90" y="136"/>
                  </a:cubicBezTo>
                  <a:cubicBezTo>
                    <a:pt x="105" y="151"/>
                    <a:pt x="166" y="121"/>
                    <a:pt x="181" y="136"/>
                  </a:cubicBezTo>
                  <a:cubicBezTo>
                    <a:pt x="196" y="151"/>
                    <a:pt x="166" y="220"/>
                    <a:pt x="181" y="227"/>
                  </a:cubicBezTo>
                  <a:cubicBezTo>
                    <a:pt x="196" y="234"/>
                    <a:pt x="257" y="166"/>
                    <a:pt x="272" y="181"/>
                  </a:cubicBezTo>
                  <a:cubicBezTo>
                    <a:pt x="287" y="196"/>
                    <a:pt x="249" y="302"/>
                    <a:pt x="272" y="317"/>
                  </a:cubicBezTo>
                  <a:cubicBezTo>
                    <a:pt x="295" y="332"/>
                    <a:pt x="351" y="302"/>
                    <a:pt x="408" y="272"/>
                  </a:cubicBezTo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160880" y="4701240"/>
            <a:ext cx="1493640" cy="1606680"/>
            <a:chOff x="4160880" y="4701240"/>
            <a:chExt cx="1493640" cy="1606680"/>
          </a:xfrm>
        </p:grpSpPr>
        <p:grpSp>
          <p:nvGrpSpPr>
            <p:cNvPr id="281" name=""/>
            <p:cNvGrpSpPr/>
            <p:nvPr/>
          </p:nvGrpSpPr>
          <p:grpSpPr>
            <a:xfrm>
              <a:off x="4160880" y="4701240"/>
              <a:ext cx="876600" cy="1482840"/>
              <a:chOff x="4160880" y="4701240"/>
              <a:chExt cx="876600" cy="1482840"/>
            </a:xfrm>
          </p:grpSpPr>
          <p:sp>
            <p:nvSpPr>
              <p:cNvPr id="282" name=""/>
              <p:cNvSpPr/>
              <p:nvPr/>
            </p:nvSpPr>
            <p:spPr>
              <a:xfrm>
                <a:off x="4160880" y="4909680"/>
                <a:ext cx="754200" cy="1274400"/>
              </a:xfrm>
              <a:custGeom>
                <a:avLst/>
                <a:gdLst/>
                <a:ahLst/>
                <a:rect l="l" t="t" r="r" b="b"/>
                <a:pathLst>
                  <a:path w="696" h="1246">
                    <a:moveTo>
                      <a:pt x="129" y="1186"/>
                    </a:moveTo>
                    <a:cubicBezTo>
                      <a:pt x="197" y="1126"/>
                      <a:pt x="355" y="907"/>
                      <a:pt x="446" y="733"/>
                    </a:cubicBezTo>
                    <a:cubicBezTo>
                      <a:pt x="537" y="559"/>
                      <a:pt x="650" y="249"/>
                      <a:pt x="673" y="143"/>
                    </a:cubicBezTo>
                    <a:cubicBezTo>
                      <a:pt x="696" y="37"/>
                      <a:pt x="635" y="0"/>
                      <a:pt x="582" y="98"/>
                    </a:cubicBezTo>
                    <a:cubicBezTo>
                      <a:pt x="529" y="196"/>
                      <a:pt x="447" y="567"/>
                      <a:pt x="356" y="733"/>
                    </a:cubicBezTo>
                    <a:cubicBezTo>
                      <a:pt x="265" y="899"/>
                      <a:pt x="76" y="1021"/>
                      <a:pt x="38" y="1096"/>
                    </a:cubicBezTo>
                    <a:cubicBezTo>
                      <a:pt x="0" y="1171"/>
                      <a:pt x="61" y="1246"/>
                      <a:pt x="129" y="1186"/>
                    </a:cubicBezTo>
                    <a:close/>
                  </a:path>
                </a:pathLst>
              </a:custGeom>
              <a:solidFill>
                <a:srgbClr val="99cc00"/>
              </a:solidFill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128000">
                <a:off x="4777200" y="4724280"/>
                <a:ext cx="205560" cy="370440"/>
              </a:xfrm>
              <a:prstGeom prst="ellipse">
                <a:avLst/>
              </a:prstGeom>
              <a:solidFill>
                <a:srgbClr val="99cc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4366440" y="4701240"/>
              <a:ext cx="876240" cy="1482840"/>
              <a:chOff x="4366440" y="4701240"/>
              <a:chExt cx="876240" cy="1482840"/>
            </a:xfrm>
          </p:grpSpPr>
          <p:sp>
            <p:nvSpPr>
              <p:cNvPr id="285" name=""/>
              <p:cNvSpPr/>
              <p:nvPr/>
            </p:nvSpPr>
            <p:spPr>
              <a:xfrm>
                <a:off x="4366440" y="4909680"/>
                <a:ext cx="753840" cy="1274400"/>
              </a:xfrm>
              <a:custGeom>
                <a:avLst/>
                <a:gdLst/>
                <a:ahLst/>
                <a:rect l="l" t="t" r="r" b="b"/>
                <a:pathLst>
                  <a:path w="696" h="1246">
                    <a:moveTo>
                      <a:pt x="129" y="1186"/>
                    </a:moveTo>
                    <a:cubicBezTo>
                      <a:pt x="197" y="1126"/>
                      <a:pt x="355" y="907"/>
                      <a:pt x="446" y="733"/>
                    </a:cubicBezTo>
                    <a:cubicBezTo>
                      <a:pt x="537" y="559"/>
                      <a:pt x="650" y="249"/>
                      <a:pt x="673" y="143"/>
                    </a:cubicBezTo>
                    <a:cubicBezTo>
                      <a:pt x="696" y="37"/>
                      <a:pt x="635" y="0"/>
                      <a:pt x="582" y="98"/>
                    </a:cubicBezTo>
                    <a:cubicBezTo>
                      <a:pt x="529" y="196"/>
                      <a:pt x="447" y="567"/>
                      <a:pt x="356" y="733"/>
                    </a:cubicBezTo>
                    <a:cubicBezTo>
                      <a:pt x="265" y="899"/>
                      <a:pt x="76" y="1021"/>
                      <a:pt x="38" y="1096"/>
                    </a:cubicBezTo>
                    <a:cubicBezTo>
                      <a:pt x="0" y="1171"/>
                      <a:pt x="61" y="1246"/>
                      <a:pt x="129" y="1186"/>
                    </a:cubicBezTo>
                    <a:close/>
                  </a:path>
                </a:pathLst>
              </a:custGeom>
              <a:solidFill>
                <a:srgbClr val="99cc00"/>
              </a:solidFill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128000">
                <a:off x="4982400" y="4724280"/>
                <a:ext cx="205560" cy="370440"/>
              </a:xfrm>
              <a:prstGeom prst="ellipse">
                <a:avLst/>
              </a:prstGeom>
              <a:solidFill>
                <a:srgbClr val="99cc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572000" y="4825080"/>
              <a:ext cx="876600" cy="1482840"/>
              <a:chOff x="4572000" y="4825080"/>
              <a:chExt cx="876600" cy="1482840"/>
            </a:xfrm>
          </p:grpSpPr>
          <p:sp>
            <p:nvSpPr>
              <p:cNvPr id="288" name=""/>
              <p:cNvSpPr/>
              <p:nvPr/>
            </p:nvSpPr>
            <p:spPr>
              <a:xfrm>
                <a:off x="4572000" y="5033520"/>
                <a:ext cx="754200" cy="1274400"/>
              </a:xfrm>
              <a:custGeom>
                <a:avLst/>
                <a:gdLst/>
                <a:ahLst/>
                <a:rect l="l" t="t" r="r" b="b"/>
                <a:pathLst>
                  <a:path w="696" h="1246">
                    <a:moveTo>
                      <a:pt x="129" y="1186"/>
                    </a:moveTo>
                    <a:cubicBezTo>
                      <a:pt x="197" y="1126"/>
                      <a:pt x="355" y="907"/>
                      <a:pt x="446" y="733"/>
                    </a:cubicBezTo>
                    <a:cubicBezTo>
                      <a:pt x="537" y="559"/>
                      <a:pt x="650" y="249"/>
                      <a:pt x="673" y="143"/>
                    </a:cubicBezTo>
                    <a:cubicBezTo>
                      <a:pt x="696" y="37"/>
                      <a:pt x="635" y="0"/>
                      <a:pt x="582" y="98"/>
                    </a:cubicBezTo>
                    <a:cubicBezTo>
                      <a:pt x="529" y="196"/>
                      <a:pt x="447" y="567"/>
                      <a:pt x="356" y="733"/>
                    </a:cubicBezTo>
                    <a:cubicBezTo>
                      <a:pt x="265" y="899"/>
                      <a:pt x="76" y="1021"/>
                      <a:pt x="38" y="1096"/>
                    </a:cubicBezTo>
                    <a:cubicBezTo>
                      <a:pt x="0" y="1171"/>
                      <a:pt x="61" y="1246"/>
                      <a:pt x="129" y="1186"/>
                    </a:cubicBezTo>
                    <a:close/>
                  </a:path>
                </a:pathLst>
              </a:custGeom>
              <a:solidFill>
                <a:srgbClr val="99cc00"/>
              </a:solidFill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128000">
                <a:off x="5188320" y="4848120"/>
                <a:ext cx="205560" cy="370440"/>
              </a:xfrm>
              <a:prstGeom prst="ellipse">
                <a:avLst/>
              </a:prstGeom>
              <a:solidFill>
                <a:srgbClr val="99cc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777920" y="4825080"/>
              <a:ext cx="876600" cy="1482840"/>
              <a:chOff x="4777920" y="4825080"/>
              <a:chExt cx="876600" cy="1482840"/>
            </a:xfrm>
          </p:grpSpPr>
          <p:sp>
            <p:nvSpPr>
              <p:cNvPr id="291" name=""/>
              <p:cNvSpPr/>
              <p:nvPr/>
            </p:nvSpPr>
            <p:spPr>
              <a:xfrm>
                <a:off x="4777920" y="5033520"/>
                <a:ext cx="754200" cy="1274400"/>
              </a:xfrm>
              <a:custGeom>
                <a:avLst/>
                <a:gdLst/>
                <a:ahLst/>
                <a:rect l="l" t="t" r="r" b="b"/>
                <a:pathLst>
                  <a:path w="696" h="1246">
                    <a:moveTo>
                      <a:pt x="129" y="1186"/>
                    </a:moveTo>
                    <a:cubicBezTo>
                      <a:pt x="197" y="1126"/>
                      <a:pt x="355" y="907"/>
                      <a:pt x="446" y="733"/>
                    </a:cubicBezTo>
                    <a:cubicBezTo>
                      <a:pt x="537" y="559"/>
                      <a:pt x="650" y="249"/>
                      <a:pt x="673" y="143"/>
                    </a:cubicBezTo>
                    <a:cubicBezTo>
                      <a:pt x="696" y="37"/>
                      <a:pt x="635" y="0"/>
                      <a:pt x="582" y="98"/>
                    </a:cubicBezTo>
                    <a:cubicBezTo>
                      <a:pt x="529" y="196"/>
                      <a:pt x="447" y="567"/>
                      <a:pt x="356" y="733"/>
                    </a:cubicBezTo>
                    <a:cubicBezTo>
                      <a:pt x="265" y="899"/>
                      <a:pt x="76" y="1021"/>
                      <a:pt x="38" y="1096"/>
                    </a:cubicBezTo>
                    <a:cubicBezTo>
                      <a:pt x="0" y="1171"/>
                      <a:pt x="61" y="1246"/>
                      <a:pt x="129" y="1186"/>
                    </a:cubicBezTo>
                    <a:close/>
                  </a:path>
                </a:pathLst>
              </a:custGeom>
              <a:solidFill>
                <a:srgbClr val="99cc00"/>
              </a:solidFill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128000">
                <a:off x="5394240" y="4848120"/>
                <a:ext cx="205560" cy="370440"/>
              </a:xfrm>
              <a:prstGeom prst="ellipse">
                <a:avLst/>
              </a:prstGeom>
              <a:solidFill>
                <a:srgbClr val="99cc00"/>
              </a:solidFill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6105600" y="4724280"/>
            <a:ext cx="1360080" cy="1393920"/>
            <a:chOff x="6105600" y="4724280"/>
            <a:chExt cx="1360080" cy="1393920"/>
          </a:xfrm>
        </p:grpSpPr>
        <p:sp>
          <p:nvSpPr>
            <p:cNvPr id="294" name=""/>
            <p:cNvSpPr/>
            <p:nvPr/>
          </p:nvSpPr>
          <p:spPr>
            <a:xfrm>
              <a:off x="6237000" y="4833720"/>
              <a:ext cx="1095480" cy="1129320"/>
            </a:xfrm>
            <a:custGeom>
              <a:avLst/>
              <a:gdLst/>
              <a:ahLst/>
              <a:rect l="l" t="t" r="r" b="b"/>
              <a:pathLst>
                <a:path w="908" h="862">
                  <a:moveTo>
                    <a:pt x="114" y="574"/>
                  </a:moveTo>
                  <a:cubicBezTo>
                    <a:pt x="0" y="695"/>
                    <a:pt x="23" y="756"/>
                    <a:pt x="68" y="801"/>
                  </a:cubicBezTo>
                  <a:cubicBezTo>
                    <a:pt x="113" y="846"/>
                    <a:pt x="295" y="862"/>
                    <a:pt x="386" y="847"/>
                  </a:cubicBezTo>
                  <a:cubicBezTo>
                    <a:pt x="477" y="832"/>
                    <a:pt x="530" y="832"/>
                    <a:pt x="613" y="711"/>
                  </a:cubicBezTo>
                  <a:cubicBezTo>
                    <a:pt x="696" y="590"/>
                    <a:pt x="862" y="227"/>
                    <a:pt x="885" y="121"/>
                  </a:cubicBezTo>
                  <a:cubicBezTo>
                    <a:pt x="908" y="15"/>
                    <a:pt x="877" y="0"/>
                    <a:pt x="749" y="75"/>
                  </a:cubicBezTo>
                  <a:cubicBezTo>
                    <a:pt x="621" y="150"/>
                    <a:pt x="228" y="453"/>
                    <a:pt x="114" y="574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105600" y="5829840"/>
              <a:ext cx="296640" cy="276480"/>
            </a:xfrm>
            <a:custGeom>
              <a:avLst/>
              <a:gdLst/>
              <a:ahLst/>
              <a:rect l="l" t="t" r="r" b="b"/>
              <a:pathLst>
                <a:path w="203" h="189">
                  <a:moveTo>
                    <a:pt x="105" y="0"/>
                  </a:moveTo>
                  <a:cubicBezTo>
                    <a:pt x="75" y="0"/>
                    <a:pt x="30" y="67"/>
                    <a:pt x="15" y="90"/>
                  </a:cubicBezTo>
                  <a:cubicBezTo>
                    <a:pt x="0" y="113"/>
                    <a:pt x="8" y="121"/>
                    <a:pt x="15" y="136"/>
                  </a:cubicBezTo>
                  <a:cubicBezTo>
                    <a:pt x="22" y="151"/>
                    <a:pt x="30" y="189"/>
                    <a:pt x="60" y="181"/>
                  </a:cubicBezTo>
                  <a:cubicBezTo>
                    <a:pt x="90" y="173"/>
                    <a:pt x="189" y="113"/>
                    <a:pt x="196" y="90"/>
                  </a:cubicBezTo>
                  <a:cubicBezTo>
                    <a:pt x="203" y="67"/>
                    <a:pt x="135" y="0"/>
                    <a:pt x="105" y="0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137640" y="4724280"/>
              <a:ext cx="1328040" cy="1260720"/>
            </a:xfrm>
            <a:custGeom>
              <a:avLst/>
              <a:gdLst/>
              <a:ahLst/>
              <a:rect l="l" t="t" r="r" b="b"/>
              <a:pathLst>
                <a:path w="908" h="862">
                  <a:moveTo>
                    <a:pt x="114" y="574"/>
                  </a:moveTo>
                  <a:cubicBezTo>
                    <a:pt x="0" y="695"/>
                    <a:pt x="23" y="756"/>
                    <a:pt x="68" y="801"/>
                  </a:cubicBezTo>
                  <a:cubicBezTo>
                    <a:pt x="113" y="846"/>
                    <a:pt x="295" y="862"/>
                    <a:pt x="386" y="847"/>
                  </a:cubicBezTo>
                  <a:cubicBezTo>
                    <a:pt x="477" y="832"/>
                    <a:pt x="530" y="832"/>
                    <a:pt x="613" y="711"/>
                  </a:cubicBezTo>
                  <a:cubicBezTo>
                    <a:pt x="696" y="590"/>
                    <a:pt x="862" y="227"/>
                    <a:pt x="885" y="121"/>
                  </a:cubicBezTo>
                  <a:cubicBezTo>
                    <a:pt x="908" y="15"/>
                    <a:pt x="877" y="0"/>
                    <a:pt x="749" y="75"/>
                  </a:cubicBezTo>
                  <a:cubicBezTo>
                    <a:pt x="621" y="150"/>
                    <a:pt x="228" y="453"/>
                    <a:pt x="114" y="574"/>
                  </a:cubicBezTo>
                  <a:close/>
                </a:path>
              </a:pathLst>
            </a:custGeom>
            <a:noFill/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171120" y="4767840"/>
              <a:ext cx="1051920" cy="1128960"/>
            </a:xfrm>
            <a:custGeom>
              <a:avLst/>
              <a:gdLst/>
              <a:ahLst/>
              <a:rect l="l" t="t" r="r" b="b"/>
              <a:pathLst>
                <a:path w="719" h="772">
                  <a:moveTo>
                    <a:pt x="696" y="0"/>
                  </a:moveTo>
                  <a:cubicBezTo>
                    <a:pt x="673" y="0"/>
                    <a:pt x="212" y="325"/>
                    <a:pt x="106" y="454"/>
                  </a:cubicBezTo>
                  <a:cubicBezTo>
                    <a:pt x="0" y="583"/>
                    <a:pt x="38" y="772"/>
                    <a:pt x="61" y="772"/>
                  </a:cubicBezTo>
                  <a:cubicBezTo>
                    <a:pt x="84" y="772"/>
                    <a:pt x="137" y="583"/>
                    <a:pt x="243" y="454"/>
                  </a:cubicBezTo>
                  <a:cubicBezTo>
                    <a:pt x="349" y="325"/>
                    <a:pt x="719" y="0"/>
                    <a:pt x="696" y="0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37000" y="5100120"/>
              <a:ext cx="1204920" cy="1018080"/>
            </a:xfrm>
            <a:custGeom>
              <a:avLst/>
              <a:gdLst/>
              <a:ahLst/>
              <a:rect l="l" t="t" r="r" b="b"/>
              <a:pathLst>
                <a:path w="876" h="748">
                  <a:moveTo>
                    <a:pt x="7" y="605"/>
                  </a:moveTo>
                  <a:cubicBezTo>
                    <a:pt x="0" y="590"/>
                    <a:pt x="272" y="658"/>
                    <a:pt x="416" y="560"/>
                  </a:cubicBezTo>
                  <a:cubicBezTo>
                    <a:pt x="560" y="462"/>
                    <a:pt x="862" y="0"/>
                    <a:pt x="869" y="15"/>
                  </a:cubicBezTo>
                  <a:cubicBezTo>
                    <a:pt x="876" y="30"/>
                    <a:pt x="605" y="552"/>
                    <a:pt x="461" y="650"/>
                  </a:cubicBezTo>
                  <a:cubicBezTo>
                    <a:pt x="317" y="748"/>
                    <a:pt x="14" y="620"/>
                    <a:pt x="7" y="605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8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182080" y="4808520"/>
            <a:ext cx="1320840" cy="1476360"/>
            <a:chOff x="8182080" y="4808520"/>
            <a:chExt cx="1320840" cy="1476360"/>
          </a:xfrm>
        </p:grpSpPr>
        <p:sp>
          <p:nvSpPr>
            <p:cNvPr id="300" name=""/>
            <p:cNvSpPr/>
            <p:nvPr/>
          </p:nvSpPr>
          <p:spPr>
            <a:xfrm>
              <a:off x="8193240" y="5013360"/>
              <a:ext cx="1137960" cy="1271520"/>
            </a:xfrm>
            <a:custGeom>
              <a:avLst/>
              <a:gdLst/>
              <a:ahLst/>
              <a:rect l="l" t="t" r="r" b="b"/>
              <a:pathLst>
                <a:path w="832" h="930">
                  <a:moveTo>
                    <a:pt x="234" y="855"/>
                  </a:moveTo>
                  <a:cubicBezTo>
                    <a:pt x="294" y="863"/>
                    <a:pt x="370" y="900"/>
                    <a:pt x="415" y="900"/>
                  </a:cubicBezTo>
                  <a:cubicBezTo>
                    <a:pt x="460" y="900"/>
                    <a:pt x="461" y="855"/>
                    <a:pt x="506" y="855"/>
                  </a:cubicBezTo>
                  <a:cubicBezTo>
                    <a:pt x="551" y="855"/>
                    <a:pt x="635" y="930"/>
                    <a:pt x="688" y="900"/>
                  </a:cubicBezTo>
                  <a:cubicBezTo>
                    <a:pt x="741" y="870"/>
                    <a:pt x="832" y="756"/>
                    <a:pt x="824" y="673"/>
                  </a:cubicBezTo>
                  <a:cubicBezTo>
                    <a:pt x="816" y="590"/>
                    <a:pt x="695" y="469"/>
                    <a:pt x="642" y="401"/>
                  </a:cubicBezTo>
                  <a:cubicBezTo>
                    <a:pt x="589" y="333"/>
                    <a:pt x="529" y="325"/>
                    <a:pt x="506" y="265"/>
                  </a:cubicBezTo>
                  <a:cubicBezTo>
                    <a:pt x="483" y="205"/>
                    <a:pt x="529" y="76"/>
                    <a:pt x="506" y="38"/>
                  </a:cubicBezTo>
                  <a:cubicBezTo>
                    <a:pt x="483" y="0"/>
                    <a:pt x="400" y="0"/>
                    <a:pt x="370" y="38"/>
                  </a:cubicBezTo>
                  <a:cubicBezTo>
                    <a:pt x="340" y="76"/>
                    <a:pt x="378" y="189"/>
                    <a:pt x="325" y="265"/>
                  </a:cubicBezTo>
                  <a:cubicBezTo>
                    <a:pt x="272" y="341"/>
                    <a:pt x="106" y="424"/>
                    <a:pt x="53" y="492"/>
                  </a:cubicBezTo>
                  <a:cubicBezTo>
                    <a:pt x="0" y="560"/>
                    <a:pt x="7" y="613"/>
                    <a:pt x="7" y="673"/>
                  </a:cubicBezTo>
                  <a:cubicBezTo>
                    <a:pt x="7" y="733"/>
                    <a:pt x="15" y="825"/>
                    <a:pt x="53" y="855"/>
                  </a:cubicBezTo>
                  <a:cubicBezTo>
                    <a:pt x="91" y="885"/>
                    <a:pt x="174" y="847"/>
                    <a:pt x="234" y="855"/>
                  </a:cubicBezTo>
                  <a:close/>
                </a:path>
              </a:pathLst>
            </a:custGeom>
            <a:solidFill>
              <a:srgbClr val="eded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182080" y="4808520"/>
              <a:ext cx="1320840" cy="1476360"/>
            </a:xfrm>
            <a:custGeom>
              <a:avLst/>
              <a:gdLst/>
              <a:ahLst/>
              <a:rect l="l" t="t" r="r" b="b"/>
              <a:pathLst>
                <a:path w="832" h="930">
                  <a:moveTo>
                    <a:pt x="234" y="855"/>
                  </a:moveTo>
                  <a:cubicBezTo>
                    <a:pt x="294" y="863"/>
                    <a:pt x="370" y="900"/>
                    <a:pt x="415" y="900"/>
                  </a:cubicBezTo>
                  <a:cubicBezTo>
                    <a:pt x="460" y="900"/>
                    <a:pt x="461" y="855"/>
                    <a:pt x="506" y="855"/>
                  </a:cubicBezTo>
                  <a:cubicBezTo>
                    <a:pt x="551" y="855"/>
                    <a:pt x="635" y="930"/>
                    <a:pt x="688" y="900"/>
                  </a:cubicBezTo>
                  <a:cubicBezTo>
                    <a:pt x="741" y="870"/>
                    <a:pt x="832" y="756"/>
                    <a:pt x="824" y="673"/>
                  </a:cubicBezTo>
                  <a:cubicBezTo>
                    <a:pt x="816" y="590"/>
                    <a:pt x="695" y="469"/>
                    <a:pt x="642" y="401"/>
                  </a:cubicBezTo>
                  <a:cubicBezTo>
                    <a:pt x="589" y="333"/>
                    <a:pt x="529" y="325"/>
                    <a:pt x="506" y="265"/>
                  </a:cubicBezTo>
                  <a:cubicBezTo>
                    <a:pt x="483" y="205"/>
                    <a:pt x="529" y="76"/>
                    <a:pt x="506" y="38"/>
                  </a:cubicBezTo>
                  <a:cubicBezTo>
                    <a:pt x="483" y="0"/>
                    <a:pt x="400" y="0"/>
                    <a:pt x="370" y="38"/>
                  </a:cubicBezTo>
                  <a:cubicBezTo>
                    <a:pt x="340" y="76"/>
                    <a:pt x="378" y="189"/>
                    <a:pt x="325" y="265"/>
                  </a:cubicBezTo>
                  <a:cubicBezTo>
                    <a:pt x="272" y="341"/>
                    <a:pt x="106" y="424"/>
                    <a:pt x="53" y="492"/>
                  </a:cubicBezTo>
                  <a:cubicBezTo>
                    <a:pt x="0" y="560"/>
                    <a:pt x="7" y="613"/>
                    <a:pt x="7" y="673"/>
                  </a:cubicBezTo>
                  <a:cubicBezTo>
                    <a:pt x="7" y="733"/>
                    <a:pt x="15" y="825"/>
                    <a:pt x="53" y="855"/>
                  </a:cubicBezTo>
                  <a:cubicBezTo>
                    <a:pt x="91" y="885"/>
                    <a:pt x="174" y="847"/>
                    <a:pt x="234" y="855"/>
                  </a:cubicBezTo>
                  <a:close/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481960" y="5445000"/>
              <a:ext cx="142920" cy="648000"/>
            </a:xfrm>
            <a:custGeom>
              <a:avLst/>
              <a:gdLst/>
              <a:ahLst/>
              <a:rect l="l" t="t" r="r" b="b"/>
              <a:pathLst>
                <a:path w="90" h="408">
                  <a:moveTo>
                    <a:pt x="90" y="0"/>
                  </a:moveTo>
                  <a:cubicBezTo>
                    <a:pt x="45" y="79"/>
                    <a:pt x="0" y="159"/>
                    <a:pt x="0" y="227"/>
                  </a:cubicBezTo>
                  <a:cubicBezTo>
                    <a:pt x="0" y="295"/>
                    <a:pt x="45" y="351"/>
                    <a:pt x="90" y="408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984520" y="5445000"/>
              <a:ext cx="144360" cy="648000"/>
            </a:xfrm>
            <a:custGeom>
              <a:avLst/>
              <a:gdLst/>
              <a:ahLst/>
              <a:rect l="l" t="t" r="r" b="b"/>
              <a:pathLst>
                <a:path w="90" h="408">
                  <a:moveTo>
                    <a:pt x="90" y="0"/>
                  </a:moveTo>
                  <a:cubicBezTo>
                    <a:pt x="45" y="79"/>
                    <a:pt x="0" y="159"/>
                    <a:pt x="0" y="227"/>
                  </a:cubicBezTo>
                  <a:cubicBezTo>
                    <a:pt x="0" y="295"/>
                    <a:pt x="45" y="351"/>
                    <a:pt x="90" y="408"/>
                  </a:cubicBezTo>
                </a:path>
              </a:pathLst>
            </a:custGeom>
            <a:noFill/>
            <a:ln w="5724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4" name=""/>
          <p:cNvGrpSpPr/>
          <p:nvPr/>
        </p:nvGrpSpPr>
        <p:grpSpPr>
          <a:xfrm>
            <a:off x="631800" y="4724280"/>
            <a:ext cx="1271520" cy="1510920"/>
            <a:chOff x="631800" y="4724280"/>
            <a:chExt cx="1271520" cy="1510920"/>
          </a:xfrm>
        </p:grpSpPr>
        <p:sp>
          <p:nvSpPr>
            <p:cNvPr id="305" name=""/>
            <p:cNvSpPr/>
            <p:nvPr/>
          </p:nvSpPr>
          <p:spPr>
            <a:xfrm>
              <a:off x="631800" y="5042160"/>
              <a:ext cx="1193040" cy="1193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31800" y="4962600"/>
              <a:ext cx="1271520" cy="127260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188360" y="4724280"/>
              <a:ext cx="79560" cy="476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57" y="340"/>
                  </a:moveTo>
                  <a:lnTo>
                    <a:pt x="0" y="0"/>
                  </a:lnTo>
                  <a:lnTo>
                    <a:pt x="170" y="0"/>
                  </a:lnTo>
                  <a:lnTo>
                    <a:pt x="114" y="340"/>
                  </a:lnTo>
                  <a:lnTo>
                    <a:pt x="57" y="340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267920" y="4804200"/>
              <a:ext cx="396720" cy="197280"/>
            </a:xfrm>
            <a:custGeom>
              <a:avLst/>
              <a:gdLst/>
              <a:ahLst/>
              <a:rect l="l" t="t" r="r" b="b"/>
              <a:pathLst>
                <a:path w="457" h="227">
                  <a:moveTo>
                    <a:pt x="0" y="114"/>
                  </a:moveTo>
                  <a:cubicBezTo>
                    <a:pt x="0" y="76"/>
                    <a:pt x="95" y="0"/>
                    <a:pt x="170" y="0"/>
                  </a:cubicBezTo>
                  <a:cubicBezTo>
                    <a:pt x="245" y="0"/>
                    <a:pt x="449" y="106"/>
                    <a:pt x="453" y="114"/>
                  </a:cubicBezTo>
                  <a:cubicBezTo>
                    <a:pt x="457" y="122"/>
                    <a:pt x="245" y="227"/>
                    <a:pt x="170" y="227"/>
                  </a:cubicBezTo>
                  <a:cubicBezTo>
                    <a:pt x="95" y="227"/>
                    <a:pt x="0" y="152"/>
                    <a:pt x="0" y="114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29600" y="5122440"/>
              <a:ext cx="396720" cy="79560"/>
            </a:xfrm>
            <a:custGeom>
              <a:avLst/>
              <a:gdLst/>
              <a:ahLst/>
              <a:rect l="l" t="t" r="r" b="b"/>
              <a:pathLst>
                <a:path w="340" h="57">
                  <a:moveTo>
                    <a:pt x="0" y="0"/>
                  </a:moveTo>
                  <a:cubicBezTo>
                    <a:pt x="56" y="28"/>
                    <a:pt x="113" y="57"/>
                    <a:pt x="170" y="57"/>
                  </a:cubicBezTo>
                  <a:cubicBezTo>
                    <a:pt x="227" y="57"/>
                    <a:pt x="283" y="28"/>
                    <a:pt x="340" y="0"/>
                  </a:cubicBezTo>
                </a:path>
              </a:pathLst>
            </a:custGeom>
            <a:noFill/>
            <a:ln w="572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448160" y="836640"/>
            <a:ext cx="1099800" cy="1539360"/>
            <a:chOff x="4448160" y="836640"/>
            <a:chExt cx="1099800" cy="1539360"/>
          </a:xfrm>
        </p:grpSpPr>
        <p:sp>
          <p:nvSpPr>
            <p:cNvPr id="311" name=""/>
            <p:cNvSpPr/>
            <p:nvPr/>
          </p:nvSpPr>
          <p:spPr>
            <a:xfrm>
              <a:off x="4593960" y="836640"/>
              <a:ext cx="659160" cy="438840"/>
            </a:xfrm>
            <a:custGeom>
              <a:avLst/>
              <a:gdLst/>
              <a:ahLst/>
              <a:rect l="l" t="t" r="r" b="b"/>
              <a:pathLst>
                <a:path w="510" h="340">
                  <a:moveTo>
                    <a:pt x="510" y="0"/>
                  </a:moveTo>
                  <a:lnTo>
                    <a:pt x="227" y="57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27" y="114"/>
                  </a:lnTo>
                  <a:lnTo>
                    <a:pt x="283" y="227"/>
                  </a:lnTo>
                  <a:lnTo>
                    <a:pt x="283" y="340"/>
                  </a:lnTo>
                  <a:lnTo>
                    <a:pt x="340" y="340"/>
                  </a:lnTo>
                  <a:lnTo>
                    <a:pt x="340" y="227"/>
                  </a:lnTo>
                  <a:lnTo>
                    <a:pt x="283" y="114"/>
                  </a:lnTo>
                  <a:lnTo>
                    <a:pt x="510" y="57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67760" y="2009520"/>
              <a:ext cx="36720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67760" y="208296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67760" y="2009520"/>
              <a:ext cx="367200" cy="36648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95040" y="1788480"/>
              <a:ext cx="36720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95040" y="186228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95040" y="1788480"/>
              <a:ext cx="367200" cy="36648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887720" y="17884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887720" y="186228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87720" y="17884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95040" y="1568880"/>
              <a:ext cx="367200" cy="36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95040" y="164268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95040" y="1568880"/>
              <a:ext cx="367200" cy="36684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960080" y="1568880"/>
              <a:ext cx="366840" cy="36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60080" y="164268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60080" y="1568880"/>
              <a:ext cx="366840" cy="36684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520520" y="13492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20520" y="142308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20520" y="13492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813920" y="13492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813920" y="142308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13920" y="13492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07320" y="13492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7320" y="142308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07320" y="13492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448160" y="11296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448160" y="120312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448160" y="11296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813920" y="11296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813920" y="120312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813920" y="11296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81120" y="11296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1120" y="1203120"/>
              <a:ext cx="293400" cy="2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81120" y="11296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2576520" y="836640"/>
            <a:ext cx="1099800" cy="1539360"/>
            <a:chOff x="2576520" y="836640"/>
            <a:chExt cx="1099800" cy="1539360"/>
          </a:xfrm>
        </p:grpSpPr>
        <p:sp>
          <p:nvSpPr>
            <p:cNvPr id="346" name=""/>
            <p:cNvSpPr/>
            <p:nvPr/>
          </p:nvSpPr>
          <p:spPr>
            <a:xfrm>
              <a:off x="2722320" y="836640"/>
              <a:ext cx="659160" cy="439200"/>
            </a:xfrm>
            <a:custGeom>
              <a:avLst/>
              <a:gdLst/>
              <a:ahLst/>
              <a:rect l="l" t="t" r="r" b="b"/>
              <a:pathLst>
                <a:path w="510" h="340">
                  <a:moveTo>
                    <a:pt x="510" y="0"/>
                  </a:moveTo>
                  <a:lnTo>
                    <a:pt x="227" y="57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27" y="114"/>
                  </a:lnTo>
                  <a:lnTo>
                    <a:pt x="283" y="227"/>
                  </a:lnTo>
                  <a:lnTo>
                    <a:pt x="283" y="340"/>
                  </a:lnTo>
                  <a:lnTo>
                    <a:pt x="340" y="340"/>
                  </a:lnTo>
                  <a:lnTo>
                    <a:pt x="340" y="227"/>
                  </a:lnTo>
                  <a:lnTo>
                    <a:pt x="283" y="114"/>
                  </a:lnTo>
                  <a:lnTo>
                    <a:pt x="510" y="57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2796120" y="2009160"/>
              <a:ext cx="366840" cy="366840"/>
              <a:chOff x="2796120" y="2009160"/>
              <a:chExt cx="366840" cy="366840"/>
            </a:xfrm>
          </p:grpSpPr>
          <p:sp>
            <p:nvSpPr>
              <p:cNvPr id="348" name=""/>
              <p:cNvSpPr/>
              <p:nvPr/>
            </p:nvSpPr>
            <p:spPr>
              <a:xfrm>
                <a:off x="2796120" y="2009160"/>
                <a:ext cx="366840" cy="366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796120" y="2082600"/>
                <a:ext cx="29304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2796120" y="2009160"/>
                <a:ext cx="366840" cy="36684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2723760" y="1788480"/>
              <a:ext cx="366840" cy="366840"/>
              <a:chOff x="2723760" y="1788480"/>
              <a:chExt cx="366840" cy="366840"/>
            </a:xfrm>
          </p:grpSpPr>
          <p:sp>
            <p:nvSpPr>
              <p:cNvPr id="352" name=""/>
              <p:cNvSpPr/>
              <p:nvPr/>
            </p:nvSpPr>
            <p:spPr>
              <a:xfrm>
                <a:off x="2723760" y="1788480"/>
                <a:ext cx="366840" cy="366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723760" y="1861920"/>
                <a:ext cx="29304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723760" y="1788480"/>
                <a:ext cx="366840" cy="36684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015720" y="1788480"/>
              <a:ext cx="367200" cy="366840"/>
              <a:chOff x="3015720" y="1788480"/>
              <a:chExt cx="367200" cy="366840"/>
            </a:xfrm>
          </p:grpSpPr>
          <p:sp>
            <p:nvSpPr>
              <p:cNvPr id="356" name=""/>
              <p:cNvSpPr/>
              <p:nvPr/>
            </p:nvSpPr>
            <p:spPr>
              <a:xfrm>
                <a:off x="3015720" y="1788480"/>
                <a:ext cx="367200" cy="366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015720" y="1861920"/>
                <a:ext cx="29340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015720" y="1788480"/>
                <a:ext cx="367200" cy="36684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2723760" y="1568880"/>
              <a:ext cx="366840" cy="366480"/>
              <a:chOff x="2723760" y="1568880"/>
              <a:chExt cx="366840" cy="366480"/>
            </a:xfrm>
          </p:grpSpPr>
          <p:sp>
            <p:nvSpPr>
              <p:cNvPr id="360" name=""/>
              <p:cNvSpPr/>
              <p:nvPr/>
            </p:nvSpPr>
            <p:spPr>
              <a:xfrm>
                <a:off x="2723760" y="1568880"/>
                <a:ext cx="366840" cy="36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2723760" y="1642320"/>
                <a:ext cx="29304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723760" y="1568880"/>
                <a:ext cx="366840" cy="36648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"/>
            <p:cNvGrpSpPr/>
            <p:nvPr/>
          </p:nvGrpSpPr>
          <p:grpSpPr>
            <a:xfrm>
              <a:off x="3088080" y="1568880"/>
              <a:ext cx="367200" cy="366480"/>
              <a:chOff x="3088080" y="1568880"/>
              <a:chExt cx="367200" cy="366480"/>
            </a:xfrm>
          </p:grpSpPr>
          <p:sp>
            <p:nvSpPr>
              <p:cNvPr id="364" name=""/>
              <p:cNvSpPr/>
              <p:nvPr/>
            </p:nvSpPr>
            <p:spPr>
              <a:xfrm>
                <a:off x="3088080" y="1568880"/>
                <a:ext cx="367200" cy="36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088080" y="1642320"/>
                <a:ext cx="29340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88080" y="1568880"/>
                <a:ext cx="367200" cy="36648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648880" y="1349280"/>
              <a:ext cx="366840" cy="366480"/>
              <a:chOff x="2648880" y="1349280"/>
              <a:chExt cx="366840" cy="366480"/>
            </a:xfrm>
          </p:grpSpPr>
          <p:sp>
            <p:nvSpPr>
              <p:cNvPr id="368" name=""/>
              <p:cNvSpPr/>
              <p:nvPr/>
            </p:nvSpPr>
            <p:spPr>
              <a:xfrm>
                <a:off x="2648880" y="1349280"/>
                <a:ext cx="366840" cy="36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648880" y="1422720"/>
                <a:ext cx="29304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648880" y="1349280"/>
                <a:ext cx="366840" cy="36648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2942280" y="1349280"/>
              <a:ext cx="366840" cy="366480"/>
              <a:chOff x="2942280" y="1349280"/>
              <a:chExt cx="366840" cy="366480"/>
            </a:xfrm>
          </p:grpSpPr>
          <p:sp>
            <p:nvSpPr>
              <p:cNvPr id="372" name=""/>
              <p:cNvSpPr/>
              <p:nvPr/>
            </p:nvSpPr>
            <p:spPr>
              <a:xfrm>
                <a:off x="2942280" y="1349280"/>
                <a:ext cx="366840" cy="36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942280" y="1422720"/>
                <a:ext cx="29304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42280" y="1349280"/>
                <a:ext cx="366840" cy="36648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3235680" y="1349280"/>
              <a:ext cx="366840" cy="366480"/>
              <a:chOff x="3235680" y="1349280"/>
              <a:chExt cx="366840" cy="366480"/>
            </a:xfrm>
          </p:grpSpPr>
          <p:sp>
            <p:nvSpPr>
              <p:cNvPr id="376" name=""/>
              <p:cNvSpPr/>
              <p:nvPr/>
            </p:nvSpPr>
            <p:spPr>
              <a:xfrm>
                <a:off x="3235680" y="1349280"/>
                <a:ext cx="366840" cy="3664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35680" y="1422720"/>
                <a:ext cx="29304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235680" y="1349280"/>
                <a:ext cx="366840" cy="36648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2576520" y="1129680"/>
              <a:ext cx="366840" cy="366840"/>
              <a:chOff x="2576520" y="1129680"/>
              <a:chExt cx="366840" cy="366840"/>
            </a:xfrm>
          </p:grpSpPr>
          <p:sp>
            <p:nvSpPr>
              <p:cNvPr id="380" name=""/>
              <p:cNvSpPr/>
              <p:nvPr/>
            </p:nvSpPr>
            <p:spPr>
              <a:xfrm>
                <a:off x="2576520" y="1129680"/>
                <a:ext cx="366840" cy="366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2576520" y="1203120"/>
                <a:ext cx="29304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2576520" y="1129680"/>
                <a:ext cx="366840" cy="36684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2942280" y="1129680"/>
              <a:ext cx="366840" cy="366840"/>
              <a:chOff x="2942280" y="1129680"/>
              <a:chExt cx="366840" cy="366840"/>
            </a:xfrm>
          </p:grpSpPr>
          <p:sp>
            <p:nvSpPr>
              <p:cNvPr id="384" name=""/>
              <p:cNvSpPr/>
              <p:nvPr/>
            </p:nvSpPr>
            <p:spPr>
              <a:xfrm>
                <a:off x="2942280" y="1129680"/>
                <a:ext cx="366840" cy="366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942280" y="1203120"/>
                <a:ext cx="29304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2942280" y="1129680"/>
                <a:ext cx="366840" cy="36684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"/>
            <p:cNvGrpSpPr/>
            <p:nvPr/>
          </p:nvGrpSpPr>
          <p:grpSpPr>
            <a:xfrm>
              <a:off x="3309120" y="1129680"/>
              <a:ext cx="367200" cy="366840"/>
              <a:chOff x="3309120" y="1129680"/>
              <a:chExt cx="367200" cy="366840"/>
            </a:xfrm>
          </p:grpSpPr>
          <p:sp>
            <p:nvSpPr>
              <p:cNvPr id="388" name=""/>
              <p:cNvSpPr/>
              <p:nvPr/>
            </p:nvSpPr>
            <p:spPr>
              <a:xfrm>
                <a:off x="3309120" y="1129680"/>
                <a:ext cx="367200" cy="366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309120" y="1203120"/>
                <a:ext cx="293400" cy="293040"/>
              </a:xfrm>
              <a:prstGeom prst="ellipse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309120" y="1129680"/>
                <a:ext cx="367200" cy="366840"/>
              </a:xfrm>
              <a:prstGeom prst="ellipse">
                <a:avLst/>
              </a:prstGeom>
              <a:noFill/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1" name=""/>
          <p:cNvGrpSpPr/>
          <p:nvPr/>
        </p:nvGrpSpPr>
        <p:grpSpPr>
          <a:xfrm>
            <a:off x="2432160" y="4724280"/>
            <a:ext cx="1271520" cy="1510920"/>
            <a:chOff x="2432160" y="4724280"/>
            <a:chExt cx="1271520" cy="1510920"/>
          </a:xfrm>
        </p:grpSpPr>
        <p:sp>
          <p:nvSpPr>
            <p:cNvPr id="392" name=""/>
            <p:cNvSpPr/>
            <p:nvPr/>
          </p:nvSpPr>
          <p:spPr>
            <a:xfrm>
              <a:off x="2432160" y="5042160"/>
              <a:ext cx="1192680" cy="119304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432160" y="4962600"/>
              <a:ext cx="1271520" cy="127260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88360" y="4724280"/>
              <a:ext cx="79920" cy="476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57" y="340"/>
                  </a:moveTo>
                  <a:lnTo>
                    <a:pt x="0" y="0"/>
                  </a:lnTo>
                  <a:lnTo>
                    <a:pt x="170" y="0"/>
                  </a:lnTo>
                  <a:lnTo>
                    <a:pt x="114" y="340"/>
                  </a:lnTo>
                  <a:lnTo>
                    <a:pt x="57" y="340"/>
                  </a:lnTo>
                  <a:close/>
                </a:path>
              </a:pathLst>
            </a:custGeom>
            <a:solidFill>
              <a:srgbClr val="cc6600"/>
            </a:solidFill>
            <a:ln w="572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829960" y="5122440"/>
              <a:ext cx="396720" cy="79560"/>
            </a:xfrm>
            <a:custGeom>
              <a:avLst/>
              <a:gdLst/>
              <a:ahLst/>
              <a:rect l="l" t="t" r="r" b="b"/>
              <a:pathLst>
                <a:path w="340" h="57">
                  <a:moveTo>
                    <a:pt x="0" y="0"/>
                  </a:moveTo>
                  <a:cubicBezTo>
                    <a:pt x="56" y="28"/>
                    <a:pt x="113" y="57"/>
                    <a:pt x="170" y="57"/>
                  </a:cubicBezTo>
                  <a:cubicBezTo>
                    <a:pt x="227" y="57"/>
                    <a:pt x="283" y="28"/>
                    <a:pt x="340" y="0"/>
                  </a:cubicBezTo>
                </a:path>
              </a:pathLst>
            </a:custGeom>
            <a:noFill/>
            <a:ln w="5724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4376880" y="4724280"/>
            <a:ext cx="1271520" cy="1510920"/>
            <a:chOff x="4376880" y="4724280"/>
            <a:chExt cx="1271520" cy="1510920"/>
          </a:xfrm>
        </p:grpSpPr>
        <p:sp>
          <p:nvSpPr>
            <p:cNvPr id="397" name=""/>
            <p:cNvSpPr/>
            <p:nvPr/>
          </p:nvSpPr>
          <p:spPr>
            <a:xfrm>
              <a:off x="4376880" y="5042160"/>
              <a:ext cx="1193040" cy="119304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76880" y="4962600"/>
              <a:ext cx="1271520" cy="1272600"/>
            </a:xfrm>
            <a:prstGeom prst="ellipse">
              <a:avLst/>
            </a:pr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933440" y="4724280"/>
              <a:ext cx="79560" cy="47664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57" y="340"/>
                  </a:moveTo>
                  <a:lnTo>
                    <a:pt x="0" y="0"/>
                  </a:lnTo>
                  <a:lnTo>
                    <a:pt x="170" y="0"/>
                  </a:lnTo>
                  <a:lnTo>
                    <a:pt x="114" y="340"/>
                  </a:lnTo>
                  <a:lnTo>
                    <a:pt x="57" y="340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13000" y="4804200"/>
              <a:ext cx="396720" cy="197280"/>
            </a:xfrm>
            <a:custGeom>
              <a:avLst/>
              <a:gdLst/>
              <a:ahLst/>
              <a:rect l="l" t="t" r="r" b="b"/>
              <a:pathLst>
                <a:path w="457" h="227">
                  <a:moveTo>
                    <a:pt x="0" y="114"/>
                  </a:moveTo>
                  <a:cubicBezTo>
                    <a:pt x="0" y="76"/>
                    <a:pt x="95" y="0"/>
                    <a:pt x="170" y="0"/>
                  </a:cubicBezTo>
                  <a:cubicBezTo>
                    <a:pt x="245" y="0"/>
                    <a:pt x="449" y="106"/>
                    <a:pt x="453" y="114"/>
                  </a:cubicBezTo>
                  <a:cubicBezTo>
                    <a:pt x="457" y="122"/>
                    <a:pt x="245" y="227"/>
                    <a:pt x="170" y="227"/>
                  </a:cubicBezTo>
                  <a:cubicBezTo>
                    <a:pt x="95" y="227"/>
                    <a:pt x="0" y="152"/>
                    <a:pt x="0" y="114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774680" y="5122440"/>
              <a:ext cx="396720" cy="79560"/>
            </a:xfrm>
            <a:custGeom>
              <a:avLst/>
              <a:gdLst/>
              <a:ahLst/>
              <a:rect l="l" t="t" r="r" b="b"/>
              <a:pathLst>
                <a:path w="340" h="57">
                  <a:moveTo>
                    <a:pt x="0" y="0"/>
                  </a:moveTo>
                  <a:cubicBezTo>
                    <a:pt x="56" y="28"/>
                    <a:pt x="113" y="57"/>
                    <a:pt x="170" y="57"/>
                  </a:cubicBezTo>
                  <a:cubicBezTo>
                    <a:pt x="227" y="57"/>
                    <a:pt x="283" y="28"/>
                    <a:pt x="340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15800" y="3532320"/>
            <a:ext cx="1584000" cy="861480"/>
            <a:chOff x="415800" y="3532320"/>
            <a:chExt cx="1584000" cy="861480"/>
          </a:xfrm>
        </p:grpSpPr>
        <p:grpSp>
          <p:nvGrpSpPr>
            <p:cNvPr id="403" name=""/>
            <p:cNvGrpSpPr/>
            <p:nvPr/>
          </p:nvGrpSpPr>
          <p:grpSpPr>
            <a:xfrm>
              <a:off x="415800" y="4113000"/>
              <a:ext cx="1584000" cy="280800"/>
              <a:chOff x="415800" y="4113000"/>
              <a:chExt cx="1584000" cy="280800"/>
            </a:xfrm>
          </p:grpSpPr>
          <p:sp>
            <p:nvSpPr>
              <p:cNvPr id="404" name=""/>
              <p:cNvSpPr/>
              <p:nvPr/>
            </p:nvSpPr>
            <p:spPr>
              <a:xfrm>
                <a:off x="415800" y="4113000"/>
                <a:ext cx="799560" cy="280800"/>
              </a:xfrm>
              <a:custGeom>
                <a:avLst/>
                <a:gdLst/>
                <a:ahLst/>
                <a:rect l="l" t="t" r="r" b="b"/>
                <a:pathLst>
                  <a:path w="982" h="302">
                    <a:moveTo>
                      <a:pt x="973" y="264"/>
                    </a:moveTo>
                    <a:cubicBezTo>
                      <a:pt x="964" y="226"/>
                      <a:pt x="680" y="76"/>
                      <a:pt x="519" y="38"/>
                    </a:cubicBezTo>
                    <a:cubicBezTo>
                      <a:pt x="358" y="0"/>
                      <a:pt x="0" y="0"/>
                      <a:pt x="9" y="38"/>
                    </a:cubicBezTo>
                    <a:cubicBezTo>
                      <a:pt x="18" y="76"/>
                      <a:pt x="415" y="226"/>
                      <a:pt x="576" y="264"/>
                    </a:cubicBezTo>
                    <a:cubicBezTo>
                      <a:pt x="737" y="302"/>
                      <a:pt x="982" y="302"/>
                      <a:pt x="973" y="264"/>
                    </a:cubicBezTo>
                    <a:close/>
                  </a:path>
                </a:pathLst>
              </a:custGeom>
              <a:solidFill>
                <a:srgbClr val="99cc00"/>
              </a:solidFill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1199880" y="4113000"/>
                <a:ext cx="799560" cy="280800"/>
              </a:xfrm>
              <a:custGeom>
                <a:avLst/>
                <a:gdLst/>
                <a:ahLst/>
                <a:rect l="l" t="t" r="r" b="b"/>
                <a:pathLst>
                  <a:path w="982" h="302">
                    <a:moveTo>
                      <a:pt x="973" y="264"/>
                    </a:moveTo>
                    <a:cubicBezTo>
                      <a:pt x="964" y="226"/>
                      <a:pt x="680" y="76"/>
                      <a:pt x="519" y="38"/>
                    </a:cubicBezTo>
                    <a:cubicBezTo>
                      <a:pt x="358" y="0"/>
                      <a:pt x="0" y="0"/>
                      <a:pt x="9" y="38"/>
                    </a:cubicBezTo>
                    <a:cubicBezTo>
                      <a:pt x="18" y="76"/>
                      <a:pt x="415" y="226"/>
                      <a:pt x="576" y="264"/>
                    </a:cubicBezTo>
                    <a:cubicBezTo>
                      <a:pt x="737" y="302"/>
                      <a:pt x="982" y="302"/>
                      <a:pt x="973" y="264"/>
                    </a:cubicBezTo>
                    <a:close/>
                  </a:path>
                </a:pathLst>
              </a:custGeom>
              <a:solidFill>
                <a:srgbClr val="99cc00"/>
              </a:solidFill>
              <a:ln w="5724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"/>
            <p:cNvSpPr/>
            <p:nvPr/>
          </p:nvSpPr>
          <p:spPr>
            <a:xfrm>
              <a:off x="733320" y="3532320"/>
              <a:ext cx="950040" cy="844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3320" y="3585240"/>
              <a:ext cx="897120" cy="790920"/>
            </a:xfrm>
            <a:prstGeom prst="ellipse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33320" y="3532320"/>
              <a:ext cx="950040" cy="844200"/>
            </a:xfrm>
            <a:prstGeom prst="ellipse">
              <a:avLst/>
            </a:prstGeom>
            <a:noFill/>
            <a:ln w="572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208520" y="4165920"/>
              <a:ext cx="52920" cy="210240"/>
            </a:xfrm>
            <a:custGeom>
              <a:avLst/>
              <a:gdLst/>
              <a:ahLst/>
              <a:rect l="l" t="t" r="r" b="b"/>
              <a:pathLst>
                <a:path w="66" h="283">
                  <a:moveTo>
                    <a:pt x="0" y="283"/>
                  </a:moveTo>
                  <a:cubicBezTo>
                    <a:pt x="24" y="250"/>
                    <a:pt x="48" y="217"/>
                    <a:pt x="57" y="170"/>
                  </a:cubicBezTo>
                  <a:cubicBezTo>
                    <a:pt x="66" y="123"/>
                    <a:pt x="61" y="61"/>
                    <a:pt x="57" y="0"/>
                  </a:cubicBezTo>
                </a:path>
              </a:pathLst>
            </a:custGeom>
            <a:noFill/>
            <a:ln w="5724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4305240" y="2781360"/>
            <a:ext cx="1322280" cy="1510920"/>
            <a:chOff x="4305240" y="2781360"/>
            <a:chExt cx="1322280" cy="1510920"/>
          </a:xfrm>
        </p:grpSpPr>
        <p:sp>
          <p:nvSpPr>
            <p:cNvPr id="411" name=""/>
            <p:cNvSpPr/>
            <p:nvPr/>
          </p:nvSpPr>
          <p:spPr>
            <a:xfrm>
              <a:off x="4340160" y="3056400"/>
              <a:ext cx="1202040" cy="1221840"/>
            </a:xfrm>
            <a:prstGeom prst="ellipse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305240" y="2970000"/>
              <a:ext cx="1322280" cy="1322280"/>
            </a:xfrm>
            <a:prstGeom prst="ellipse">
              <a:avLst/>
            </a:prstGeom>
            <a:noFill/>
            <a:ln w="5724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39520" y="3159000"/>
              <a:ext cx="189000" cy="997560"/>
            </a:xfrm>
            <a:custGeom>
              <a:avLst/>
              <a:gdLst/>
              <a:ahLst/>
              <a:rect l="l" t="t" r="r" b="b"/>
              <a:pathLst>
                <a:path w="199" h="1048">
                  <a:moveTo>
                    <a:pt x="142" y="0"/>
                  </a:moveTo>
                  <a:lnTo>
                    <a:pt x="57" y="141"/>
                  </a:lnTo>
                  <a:lnTo>
                    <a:pt x="114" y="198"/>
                  </a:lnTo>
                  <a:lnTo>
                    <a:pt x="0" y="311"/>
                  </a:lnTo>
                  <a:lnTo>
                    <a:pt x="114" y="396"/>
                  </a:lnTo>
                  <a:lnTo>
                    <a:pt x="29" y="481"/>
                  </a:lnTo>
                  <a:lnTo>
                    <a:pt x="85" y="538"/>
                  </a:lnTo>
                  <a:lnTo>
                    <a:pt x="0" y="623"/>
                  </a:lnTo>
                  <a:lnTo>
                    <a:pt x="114" y="737"/>
                  </a:lnTo>
                  <a:lnTo>
                    <a:pt x="29" y="822"/>
                  </a:lnTo>
                  <a:lnTo>
                    <a:pt x="171" y="1048"/>
                  </a:lnTo>
                  <a:lnTo>
                    <a:pt x="114" y="822"/>
                  </a:lnTo>
                  <a:lnTo>
                    <a:pt x="199" y="708"/>
                  </a:lnTo>
                  <a:lnTo>
                    <a:pt x="114" y="595"/>
                  </a:lnTo>
                  <a:lnTo>
                    <a:pt x="199" y="510"/>
                  </a:lnTo>
                  <a:lnTo>
                    <a:pt x="142" y="481"/>
                  </a:lnTo>
                  <a:lnTo>
                    <a:pt x="171" y="340"/>
                  </a:lnTo>
                  <a:lnTo>
                    <a:pt x="114" y="311"/>
                  </a:lnTo>
                  <a:lnTo>
                    <a:pt x="171" y="141"/>
                  </a:lnTo>
                  <a:lnTo>
                    <a:pt x="142" y="113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03880" y="3186000"/>
              <a:ext cx="268560" cy="944280"/>
            </a:xfrm>
            <a:custGeom>
              <a:avLst/>
              <a:gdLst/>
              <a:ahLst/>
              <a:rect l="l" t="t" r="r" b="b"/>
              <a:pathLst>
                <a:path w="283" h="992">
                  <a:moveTo>
                    <a:pt x="56" y="0"/>
                  </a:moveTo>
                  <a:lnTo>
                    <a:pt x="141" y="85"/>
                  </a:lnTo>
                  <a:lnTo>
                    <a:pt x="85" y="142"/>
                  </a:lnTo>
                  <a:lnTo>
                    <a:pt x="170" y="227"/>
                  </a:lnTo>
                  <a:lnTo>
                    <a:pt x="141" y="283"/>
                  </a:lnTo>
                  <a:lnTo>
                    <a:pt x="283" y="425"/>
                  </a:lnTo>
                  <a:lnTo>
                    <a:pt x="170" y="510"/>
                  </a:lnTo>
                  <a:lnTo>
                    <a:pt x="226" y="624"/>
                  </a:lnTo>
                  <a:lnTo>
                    <a:pt x="141" y="737"/>
                  </a:lnTo>
                  <a:lnTo>
                    <a:pt x="170" y="822"/>
                  </a:lnTo>
                  <a:lnTo>
                    <a:pt x="56" y="992"/>
                  </a:lnTo>
                  <a:lnTo>
                    <a:pt x="85" y="822"/>
                  </a:lnTo>
                  <a:lnTo>
                    <a:pt x="56" y="737"/>
                  </a:lnTo>
                  <a:lnTo>
                    <a:pt x="170" y="624"/>
                  </a:lnTo>
                  <a:lnTo>
                    <a:pt x="85" y="482"/>
                  </a:lnTo>
                  <a:lnTo>
                    <a:pt x="141" y="397"/>
                  </a:lnTo>
                  <a:lnTo>
                    <a:pt x="56" y="283"/>
                  </a:lnTo>
                  <a:lnTo>
                    <a:pt x="113" y="227"/>
                  </a:lnTo>
                  <a:lnTo>
                    <a:pt x="0" y="142"/>
                  </a:lnTo>
                  <a:lnTo>
                    <a:pt x="85" y="8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683240" y="3023280"/>
              <a:ext cx="187560" cy="1242360"/>
            </a:xfrm>
            <a:custGeom>
              <a:avLst/>
              <a:gdLst/>
              <a:ahLst/>
              <a:rect l="l" t="t" r="r" b="b"/>
              <a:pathLst>
                <a:path w="198" h="1304">
                  <a:moveTo>
                    <a:pt x="113" y="0"/>
                  </a:moveTo>
                  <a:lnTo>
                    <a:pt x="0" y="113"/>
                  </a:lnTo>
                  <a:lnTo>
                    <a:pt x="85" y="198"/>
                  </a:lnTo>
                  <a:lnTo>
                    <a:pt x="0" y="283"/>
                  </a:lnTo>
                  <a:lnTo>
                    <a:pt x="85" y="340"/>
                  </a:lnTo>
                  <a:lnTo>
                    <a:pt x="28" y="453"/>
                  </a:lnTo>
                  <a:lnTo>
                    <a:pt x="113" y="709"/>
                  </a:lnTo>
                  <a:lnTo>
                    <a:pt x="0" y="737"/>
                  </a:lnTo>
                  <a:lnTo>
                    <a:pt x="113" y="822"/>
                  </a:lnTo>
                  <a:lnTo>
                    <a:pt x="28" y="992"/>
                  </a:lnTo>
                  <a:lnTo>
                    <a:pt x="85" y="1049"/>
                  </a:lnTo>
                  <a:lnTo>
                    <a:pt x="28" y="1162"/>
                  </a:lnTo>
                  <a:lnTo>
                    <a:pt x="170" y="1304"/>
                  </a:lnTo>
                  <a:lnTo>
                    <a:pt x="113" y="1134"/>
                  </a:lnTo>
                  <a:lnTo>
                    <a:pt x="170" y="1020"/>
                  </a:lnTo>
                  <a:lnTo>
                    <a:pt x="85" y="935"/>
                  </a:lnTo>
                  <a:lnTo>
                    <a:pt x="198" y="794"/>
                  </a:lnTo>
                  <a:lnTo>
                    <a:pt x="113" y="765"/>
                  </a:lnTo>
                  <a:lnTo>
                    <a:pt x="198" y="709"/>
                  </a:lnTo>
                  <a:lnTo>
                    <a:pt x="85" y="453"/>
                  </a:lnTo>
                  <a:lnTo>
                    <a:pt x="170" y="312"/>
                  </a:lnTo>
                  <a:lnTo>
                    <a:pt x="56" y="283"/>
                  </a:lnTo>
                  <a:lnTo>
                    <a:pt x="170" y="170"/>
                  </a:lnTo>
                  <a:lnTo>
                    <a:pt x="28" y="113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06880" y="3023280"/>
              <a:ext cx="242280" cy="1242360"/>
            </a:xfrm>
            <a:custGeom>
              <a:avLst/>
              <a:gdLst/>
              <a:ahLst/>
              <a:rect l="l" t="t" r="r" b="b"/>
              <a:pathLst>
                <a:path w="255" h="1304">
                  <a:moveTo>
                    <a:pt x="0" y="0"/>
                  </a:moveTo>
                  <a:lnTo>
                    <a:pt x="170" y="85"/>
                  </a:lnTo>
                  <a:lnTo>
                    <a:pt x="114" y="142"/>
                  </a:lnTo>
                  <a:lnTo>
                    <a:pt x="199" y="255"/>
                  </a:lnTo>
                  <a:lnTo>
                    <a:pt x="85" y="368"/>
                  </a:lnTo>
                  <a:lnTo>
                    <a:pt x="199" y="453"/>
                  </a:lnTo>
                  <a:lnTo>
                    <a:pt x="114" y="567"/>
                  </a:lnTo>
                  <a:lnTo>
                    <a:pt x="255" y="680"/>
                  </a:lnTo>
                  <a:lnTo>
                    <a:pt x="142" y="794"/>
                  </a:lnTo>
                  <a:lnTo>
                    <a:pt x="255" y="879"/>
                  </a:lnTo>
                  <a:lnTo>
                    <a:pt x="142" y="1020"/>
                  </a:lnTo>
                  <a:lnTo>
                    <a:pt x="227" y="1077"/>
                  </a:lnTo>
                  <a:lnTo>
                    <a:pt x="28" y="1304"/>
                  </a:lnTo>
                  <a:lnTo>
                    <a:pt x="142" y="1105"/>
                  </a:lnTo>
                  <a:lnTo>
                    <a:pt x="28" y="992"/>
                  </a:lnTo>
                  <a:lnTo>
                    <a:pt x="199" y="879"/>
                  </a:lnTo>
                  <a:lnTo>
                    <a:pt x="57" y="765"/>
                  </a:lnTo>
                  <a:lnTo>
                    <a:pt x="227" y="680"/>
                  </a:lnTo>
                  <a:lnTo>
                    <a:pt x="28" y="567"/>
                  </a:lnTo>
                  <a:lnTo>
                    <a:pt x="114" y="453"/>
                  </a:lnTo>
                  <a:lnTo>
                    <a:pt x="0" y="368"/>
                  </a:lnTo>
                  <a:lnTo>
                    <a:pt x="114" y="227"/>
                  </a:lnTo>
                  <a:lnTo>
                    <a:pt x="28" y="170"/>
                  </a:lnTo>
                  <a:lnTo>
                    <a:pt x="114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97800" y="2781360"/>
              <a:ext cx="81000" cy="188640"/>
            </a:xfrm>
            <a:custGeom>
              <a:avLst/>
              <a:gdLst/>
              <a:ahLst/>
              <a:rect l="l" t="t" r="r" b="b"/>
              <a:pathLst>
                <a:path w="85" h="198">
                  <a:moveTo>
                    <a:pt x="29" y="198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198"/>
                  </a:lnTo>
                  <a:lnTo>
                    <a:pt x="29" y="198"/>
                  </a:lnTo>
                  <a:close/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2360520" y="3057480"/>
            <a:ext cx="1440000" cy="1211040"/>
            <a:chOff x="2360520" y="3057480"/>
            <a:chExt cx="1440000" cy="1211040"/>
          </a:xfrm>
        </p:grpSpPr>
        <p:sp>
          <p:nvSpPr>
            <p:cNvPr id="419" name=""/>
            <p:cNvSpPr/>
            <p:nvPr/>
          </p:nvSpPr>
          <p:spPr>
            <a:xfrm>
              <a:off x="2381400" y="3291840"/>
              <a:ext cx="1319760" cy="97668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360520" y="3216600"/>
              <a:ext cx="1440000" cy="1040400"/>
            </a:xfrm>
            <a:prstGeom prst="ellipse">
              <a:avLst/>
            </a:prstGeom>
            <a:noFill/>
            <a:ln w="572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639880" y="3057480"/>
              <a:ext cx="800280" cy="359640"/>
            </a:xfrm>
            <a:custGeom>
              <a:avLst/>
              <a:gdLst/>
              <a:ahLst/>
              <a:rect l="l" t="t" r="r" b="b"/>
              <a:pathLst>
                <a:path w="567" h="482">
                  <a:moveTo>
                    <a:pt x="283" y="0"/>
                  </a:moveTo>
                  <a:lnTo>
                    <a:pt x="198" y="141"/>
                  </a:lnTo>
                  <a:lnTo>
                    <a:pt x="0" y="198"/>
                  </a:lnTo>
                  <a:lnTo>
                    <a:pt x="113" y="312"/>
                  </a:lnTo>
                  <a:lnTo>
                    <a:pt x="113" y="482"/>
                  </a:lnTo>
                  <a:lnTo>
                    <a:pt x="283" y="425"/>
                  </a:lnTo>
                  <a:lnTo>
                    <a:pt x="425" y="482"/>
                  </a:lnTo>
                  <a:lnTo>
                    <a:pt x="453" y="312"/>
                  </a:lnTo>
                  <a:lnTo>
                    <a:pt x="567" y="170"/>
                  </a:lnTo>
                  <a:lnTo>
                    <a:pt x="368" y="113"/>
                  </a:lnTo>
                  <a:lnTo>
                    <a:pt x="283" y="0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919240" y="3177000"/>
              <a:ext cx="279360" cy="119880"/>
            </a:xfrm>
            <a:prstGeom prst="ellipse">
              <a:avLst/>
            </a:prstGeom>
            <a:solidFill>
              <a:srgbClr val="99cc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6176880" y="4797360"/>
            <a:ext cx="1260360" cy="1441440"/>
            <a:chOff x="6176880" y="4797360"/>
            <a:chExt cx="1260360" cy="1441440"/>
          </a:xfrm>
        </p:grpSpPr>
        <p:sp>
          <p:nvSpPr>
            <p:cNvPr id="424" name=""/>
            <p:cNvSpPr/>
            <p:nvPr/>
          </p:nvSpPr>
          <p:spPr>
            <a:xfrm>
              <a:off x="6176880" y="5679360"/>
              <a:ext cx="510480" cy="51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845400" y="5713200"/>
              <a:ext cx="510480" cy="510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566760" y="4797360"/>
              <a:ext cx="811440" cy="840960"/>
            </a:xfrm>
            <a:custGeom>
              <a:avLst/>
              <a:gdLst/>
              <a:ahLst/>
              <a:rect l="l" t="t" r="r" b="b"/>
              <a:pathLst>
                <a:path w="766" h="794">
                  <a:moveTo>
                    <a:pt x="0" y="766"/>
                  </a:moveTo>
                  <a:lnTo>
                    <a:pt x="255" y="454"/>
                  </a:lnTo>
                  <a:lnTo>
                    <a:pt x="369" y="170"/>
                  </a:lnTo>
                  <a:lnTo>
                    <a:pt x="199" y="114"/>
                  </a:lnTo>
                  <a:lnTo>
                    <a:pt x="199" y="57"/>
                  </a:lnTo>
                  <a:lnTo>
                    <a:pt x="255" y="0"/>
                  </a:lnTo>
                  <a:lnTo>
                    <a:pt x="454" y="114"/>
                  </a:lnTo>
                  <a:lnTo>
                    <a:pt x="539" y="142"/>
                  </a:lnTo>
                  <a:lnTo>
                    <a:pt x="737" y="142"/>
                  </a:lnTo>
                  <a:lnTo>
                    <a:pt x="766" y="170"/>
                  </a:lnTo>
                  <a:lnTo>
                    <a:pt x="737" y="227"/>
                  </a:lnTo>
                  <a:lnTo>
                    <a:pt x="482" y="199"/>
                  </a:lnTo>
                  <a:lnTo>
                    <a:pt x="539" y="539"/>
                  </a:lnTo>
                  <a:lnTo>
                    <a:pt x="567" y="794"/>
                  </a:lnTo>
                  <a:lnTo>
                    <a:pt x="511" y="794"/>
                  </a:lnTo>
                  <a:lnTo>
                    <a:pt x="482" y="511"/>
                  </a:lnTo>
                  <a:lnTo>
                    <a:pt x="426" y="227"/>
                  </a:lnTo>
                  <a:lnTo>
                    <a:pt x="312" y="482"/>
                  </a:lnTo>
                  <a:lnTo>
                    <a:pt x="57" y="794"/>
                  </a:lnTo>
                  <a:lnTo>
                    <a:pt x="0" y="766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76880" y="5608800"/>
              <a:ext cx="600840" cy="600480"/>
            </a:xfrm>
            <a:prstGeom prst="ellipse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836760" y="5638320"/>
              <a:ext cx="600480" cy="600480"/>
            </a:xfrm>
            <a:prstGeom prst="ellipse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808760" y="5013360"/>
            <a:ext cx="1680480" cy="1546920"/>
            <a:chOff x="7808760" y="5013360"/>
            <a:chExt cx="1680480" cy="1546920"/>
          </a:xfrm>
        </p:grpSpPr>
        <p:grpSp>
          <p:nvGrpSpPr>
            <p:cNvPr id="430" name=""/>
            <p:cNvGrpSpPr/>
            <p:nvPr/>
          </p:nvGrpSpPr>
          <p:grpSpPr>
            <a:xfrm>
              <a:off x="7808760" y="5166720"/>
              <a:ext cx="1222560" cy="718200"/>
              <a:chOff x="7808760" y="5166720"/>
              <a:chExt cx="1222560" cy="718200"/>
            </a:xfrm>
          </p:grpSpPr>
          <p:sp>
            <p:nvSpPr>
              <p:cNvPr id="431" name=""/>
              <p:cNvSpPr/>
              <p:nvPr/>
            </p:nvSpPr>
            <p:spPr>
              <a:xfrm rot="15877200">
                <a:off x="8116920" y="4937760"/>
                <a:ext cx="605160" cy="1170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032" y="2236"/>
                      <a:pt x="12463" y="5080"/>
                      <a:pt x="12463" y="10800"/>
                    </a:cubicBezTo>
                    <a:cubicBezTo>
                      <a:pt x="12463" y="16520"/>
                      <a:pt x="17032" y="19364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rot="16113600">
                <a:off x="8159400" y="5004000"/>
                <a:ext cx="425520" cy="1022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507" y="2047"/>
                      <a:pt x="11413" y="5080"/>
                      <a:pt x="11413" y="10800"/>
                    </a:cubicBezTo>
                    <a:cubicBezTo>
                      <a:pt x="11413" y="16520"/>
                      <a:pt x="16507" y="1955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rot="15877200">
                <a:off x="8117640" y="4943880"/>
                <a:ext cx="604800" cy="1170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032" y="2236"/>
                      <a:pt x="12463" y="5080"/>
                      <a:pt x="12463" y="10800"/>
                    </a:cubicBezTo>
                    <a:cubicBezTo>
                      <a:pt x="12463" y="16520"/>
                      <a:pt x="17032" y="19364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7921080" y="5146200"/>
              <a:ext cx="1420920" cy="1200240"/>
              <a:chOff x="7921080" y="5146200"/>
              <a:chExt cx="1420920" cy="1200240"/>
            </a:xfrm>
          </p:grpSpPr>
          <p:sp>
            <p:nvSpPr>
              <p:cNvPr id="435" name=""/>
              <p:cNvSpPr/>
              <p:nvPr/>
            </p:nvSpPr>
            <p:spPr>
              <a:xfrm rot="14400000">
                <a:off x="8303400" y="5113440"/>
                <a:ext cx="652320" cy="126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032" y="2236"/>
                      <a:pt x="12463" y="5080"/>
                      <a:pt x="12463" y="10800"/>
                    </a:cubicBezTo>
                    <a:cubicBezTo>
                      <a:pt x="12463" y="16520"/>
                      <a:pt x="17032" y="19364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rot="14637000">
                <a:off x="8350560" y="5207040"/>
                <a:ext cx="458640" cy="11016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507" y="2047"/>
                      <a:pt x="11413" y="5080"/>
                      <a:pt x="11413" y="10800"/>
                    </a:cubicBezTo>
                    <a:cubicBezTo>
                      <a:pt x="11413" y="16520"/>
                      <a:pt x="16507" y="1955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rot="14400000">
                <a:off x="8307000" y="5118840"/>
                <a:ext cx="651960" cy="12603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032" y="2236"/>
                      <a:pt x="12463" y="5080"/>
                      <a:pt x="12463" y="10800"/>
                    </a:cubicBezTo>
                    <a:cubicBezTo>
                      <a:pt x="12463" y="16520"/>
                      <a:pt x="17032" y="19364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8132400" y="5202720"/>
              <a:ext cx="1356840" cy="1357560"/>
              <a:chOff x="8132400" y="5202720"/>
              <a:chExt cx="1356840" cy="1357560"/>
            </a:xfrm>
          </p:grpSpPr>
          <p:sp>
            <p:nvSpPr>
              <p:cNvPr id="439" name=""/>
              <p:cNvSpPr/>
              <p:nvPr/>
            </p:nvSpPr>
            <p:spPr>
              <a:xfrm rot="13500000">
                <a:off x="8481960" y="5248800"/>
                <a:ext cx="652680" cy="1260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032" y="2236"/>
                      <a:pt x="12463" y="5080"/>
                      <a:pt x="12463" y="10800"/>
                    </a:cubicBezTo>
                    <a:cubicBezTo>
                      <a:pt x="12463" y="16520"/>
                      <a:pt x="17032" y="19364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rot="13737000">
                <a:off x="8534160" y="5355360"/>
                <a:ext cx="459000" cy="1101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507" y="2047"/>
                      <a:pt x="11413" y="5080"/>
                      <a:pt x="11413" y="10800"/>
                    </a:cubicBezTo>
                    <a:cubicBezTo>
                      <a:pt x="11413" y="16520"/>
                      <a:pt x="16507" y="19553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rot="13500000">
                <a:off x="8486640" y="5253840"/>
                <a:ext cx="652320" cy="12600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7032" y="2236"/>
                      <a:pt x="12463" y="5080"/>
                      <a:pt x="12463" y="10800"/>
                    </a:cubicBezTo>
                    <a:cubicBezTo>
                      <a:pt x="12463" y="16520"/>
                      <a:pt x="17032" y="19364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5724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" name=""/>
            <p:cNvSpPr/>
            <p:nvPr/>
          </p:nvSpPr>
          <p:spPr>
            <a:xfrm>
              <a:off x="8719920" y="5013360"/>
              <a:ext cx="585720" cy="135000"/>
            </a:xfrm>
            <a:prstGeom prst="rect">
              <a:avLst/>
            </a:prstGeom>
            <a:solidFill>
              <a:srgbClr val="ffff00"/>
            </a:solidFill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7920360" y="745920"/>
            <a:ext cx="1588320" cy="1727640"/>
            <a:chOff x="7920360" y="745920"/>
            <a:chExt cx="1588320" cy="1727640"/>
          </a:xfrm>
        </p:grpSpPr>
        <p:sp>
          <p:nvSpPr>
            <p:cNvPr id="444" name=""/>
            <p:cNvSpPr/>
            <p:nvPr/>
          </p:nvSpPr>
          <p:spPr>
            <a:xfrm rot="1800000">
              <a:off x="8193240" y="1017000"/>
              <a:ext cx="913680" cy="1252440"/>
            </a:xfrm>
            <a:prstGeom prst="ellipse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800000">
              <a:off x="8202240" y="907560"/>
              <a:ext cx="1023840" cy="1403640"/>
            </a:xfrm>
            <a:prstGeom prst="ellipse">
              <a:avLst/>
            </a:prstGeom>
            <a:noFill/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2104200">
              <a:off x="8961480" y="945000"/>
              <a:ext cx="227160" cy="151200"/>
            </a:xfrm>
            <a:prstGeom prst="ellipse">
              <a:avLst/>
            </a:prstGeom>
            <a:solidFill>
              <a:srgbClr val="800000"/>
            </a:solidFill>
            <a:ln w="572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011280" y="2577600"/>
            <a:ext cx="1411200" cy="1890360"/>
            <a:chOff x="6011280" y="2577600"/>
            <a:chExt cx="1411200" cy="1890360"/>
          </a:xfrm>
        </p:grpSpPr>
        <p:sp>
          <p:nvSpPr>
            <p:cNvPr id="448" name=""/>
            <p:cNvSpPr/>
            <p:nvPr/>
          </p:nvSpPr>
          <p:spPr>
            <a:xfrm rot="9000000">
              <a:off x="6664320" y="2621160"/>
              <a:ext cx="348120" cy="645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 flipV="1" rot="16200000">
              <a:off x="6991560" y="2885400"/>
              <a:ext cx="292680" cy="543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 flipV="1" rot="18000000">
              <a:off x="7021080" y="3088800"/>
              <a:ext cx="257400" cy="480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 rot="7200000">
              <a:off x="6618600" y="2872440"/>
              <a:ext cx="257400" cy="447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1800000">
              <a:off x="6216480" y="3348360"/>
              <a:ext cx="641160" cy="993600"/>
            </a:xfrm>
            <a:custGeom>
              <a:avLst/>
              <a:gdLst>
                <a:gd name="textAreaLeft" fmla="*/ 93600 w 641160"/>
                <a:gd name="textAreaRight" fmla="*/ 547560 w 641160"/>
                <a:gd name="textAreaTop" fmla="*/ 93600 h 993600"/>
                <a:gd name="textAreaBottom" fmla="*/ 900000 h 993600"/>
              </a:gdLst>
              <a:ahLst/>
              <a:rect l="textAreaLeft" t="textAreaTop" r="textAreaRight" b="textAreaBottom"/>
              <a:pathLst>
                <a:path w="21600" h="33467">
                  <a:moveTo>
                    <a:pt x="10800" y="0"/>
                  </a:moveTo>
                  <a:arcTo wR="10800" hR="10800" stAng="16200000" swAng="-5400000"/>
                  <a:lnTo>
                    <a:pt x="0" y="22667"/>
                  </a:lnTo>
                  <a:arcTo wR="10800" hR="10800" stAng="10800000" swAng="-5400000"/>
                  <a:lnTo>
                    <a:pt x="10800" y="3346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1800000">
              <a:off x="6235920" y="3274920"/>
              <a:ext cx="705600" cy="1089720"/>
            </a:xfrm>
            <a:custGeom>
              <a:avLst/>
              <a:gdLst>
                <a:gd name="textAreaLeft" fmla="*/ 103320 w 705600"/>
                <a:gd name="textAreaRight" fmla="*/ 602280 w 705600"/>
                <a:gd name="textAreaTop" fmla="*/ 103320 h 1089720"/>
                <a:gd name="textAreaBottom" fmla="*/ 986400 h 1089720"/>
              </a:gdLst>
              <a:ahLst/>
              <a:rect l="textAreaLeft" t="textAreaTop" r="textAreaRight" b="textAreaBottom"/>
              <a:pathLst>
                <a:path w="21600" h="33353">
                  <a:moveTo>
                    <a:pt x="10800" y="0"/>
                  </a:moveTo>
                  <a:arcTo wR="10800" hR="10800" stAng="16200000" swAng="-5400000"/>
                  <a:lnTo>
                    <a:pt x="0" y="22553"/>
                  </a:lnTo>
                  <a:arcTo wR="10800" hR="10800" stAng="10800000" swAng="-5400000"/>
                  <a:lnTo>
                    <a:pt x="10800" y="33353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"/>
          <p:cNvGrpSpPr/>
          <p:nvPr/>
        </p:nvGrpSpPr>
        <p:grpSpPr>
          <a:xfrm>
            <a:off x="6176880" y="836640"/>
            <a:ext cx="1266840" cy="1512360"/>
            <a:chOff x="6176880" y="836640"/>
            <a:chExt cx="1266840" cy="1512360"/>
          </a:xfrm>
        </p:grpSpPr>
        <p:sp>
          <p:nvSpPr>
            <p:cNvPr id="455" name=""/>
            <p:cNvSpPr/>
            <p:nvPr/>
          </p:nvSpPr>
          <p:spPr>
            <a:xfrm>
              <a:off x="6208920" y="1088640"/>
              <a:ext cx="1147680" cy="1228320"/>
            </a:xfrm>
            <a:custGeom>
              <a:avLst/>
              <a:gdLst/>
              <a:ahLst/>
              <a:rect l="l" t="t" r="r" b="b"/>
              <a:pathLst>
                <a:path w="1139" h="1219">
                  <a:moveTo>
                    <a:pt x="567" y="0"/>
                  </a:moveTo>
                  <a:cubicBezTo>
                    <a:pt x="378" y="0"/>
                    <a:pt x="0" y="24"/>
                    <a:pt x="0" y="227"/>
                  </a:cubicBezTo>
                  <a:cubicBezTo>
                    <a:pt x="0" y="430"/>
                    <a:pt x="378" y="1219"/>
                    <a:pt x="567" y="1219"/>
                  </a:cubicBezTo>
                  <a:cubicBezTo>
                    <a:pt x="756" y="1219"/>
                    <a:pt x="1129" y="430"/>
                    <a:pt x="1134" y="227"/>
                  </a:cubicBezTo>
                  <a:cubicBezTo>
                    <a:pt x="1139" y="24"/>
                    <a:pt x="756" y="0"/>
                    <a:pt x="567" y="0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76880" y="994320"/>
              <a:ext cx="1266840" cy="1354680"/>
            </a:xfrm>
            <a:custGeom>
              <a:avLst/>
              <a:gdLst/>
              <a:ahLst/>
              <a:rect l="l" t="t" r="r" b="b"/>
              <a:pathLst>
                <a:path w="1139" h="1219">
                  <a:moveTo>
                    <a:pt x="567" y="0"/>
                  </a:moveTo>
                  <a:cubicBezTo>
                    <a:pt x="378" y="0"/>
                    <a:pt x="0" y="24"/>
                    <a:pt x="0" y="227"/>
                  </a:cubicBezTo>
                  <a:cubicBezTo>
                    <a:pt x="0" y="430"/>
                    <a:pt x="378" y="1219"/>
                    <a:pt x="567" y="1219"/>
                  </a:cubicBezTo>
                  <a:cubicBezTo>
                    <a:pt x="756" y="1219"/>
                    <a:pt x="1129" y="430"/>
                    <a:pt x="1134" y="227"/>
                  </a:cubicBezTo>
                  <a:cubicBezTo>
                    <a:pt x="1139" y="24"/>
                    <a:pt x="756" y="0"/>
                    <a:pt x="567" y="0"/>
                  </a:cubicBez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61640" y="836640"/>
              <a:ext cx="725040" cy="377640"/>
            </a:xfrm>
            <a:custGeom>
              <a:avLst/>
              <a:gdLst>
                <a:gd name="textAreaLeft" fmla="*/ 242280 w 725040"/>
                <a:gd name="textAreaRight" fmla="*/ 482760 w 725040"/>
                <a:gd name="textAreaTop" fmla="*/ 126000 h 377640"/>
                <a:gd name="textAreaBottom" fmla="*/ 251640 h 37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6100" y="12699"/>
                  </a:lnTo>
                  <a:lnTo>
                    <a:pt x="3163" y="18437"/>
                  </a:lnTo>
                  <a:lnTo>
                    <a:pt x="8819" y="15466"/>
                  </a:lnTo>
                  <a:lnTo>
                    <a:pt x="10800" y="21600"/>
                  </a:lnTo>
                  <a:lnTo>
                    <a:pt x="12699" y="15500"/>
                  </a:lnTo>
                  <a:lnTo>
                    <a:pt x="18437" y="18437"/>
                  </a:lnTo>
                  <a:lnTo>
                    <a:pt x="15466" y="12781"/>
                  </a:lnTo>
                  <a:lnTo>
                    <a:pt x="21600" y="10800"/>
                  </a:lnTo>
                  <a:lnTo>
                    <a:pt x="15500" y="8901"/>
                  </a:lnTo>
                  <a:lnTo>
                    <a:pt x="18437" y="3163"/>
                  </a:lnTo>
                  <a:lnTo>
                    <a:pt x="12781" y="6134"/>
                  </a:lnTo>
                  <a:lnTo>
                    <a:pt x="10800" y="0"/>
                  </a:lnTo>
                  <a:lnTo>
                    <a:pt x="8901" y="6100"/>
                  </a:lnTo>
                  <a:lnTo>
                    <a:pt x="3163" y="3163"/>
                  </a:lnTo>
                  <a:lnTo>
                    <a:pt x="6134" y="8819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8" name=""/>
          <p:cNvGrpSpPr/>
          <p:nvPr/>
        </p:nvGrpSpPr>
        <p:grpSpPr>
          <a:xfrm>
            <a:off x="7905600" y="3141720"/>
            <a:ext cx="1513080" cy="1015920"/>
            <a:chOff x="7905600" y="3141720"/>
            <a:chExt cx="1513080" cy="1015920"/>
          </a:xfrm>
        </p:grpSpPr>
        <p:sp>
          <p:nvSpPr>
            <p:cNvPr id="459" name=""/>
            <p:cNvSpPr/>
            <p:nvPr/>
          </p:nvSpPr>
          <p:spPr>
            <a:xfrm>
              <a:off x="7905600" y="3186360"/>
              <a:ext cx="1441800" cy="963000"/>
            </a:xfrm>
            <a:custGeom>
              <a:avLst/>
              <a:gdLst/>
              <a:ahLst/>
              <a:rect l="l" t="t" r="r" b="b"/>
              <a:pathLst>
                <a:path w="1531" h="657">
                  <a:moveTo>
                    <a:pt x="0" y="312"/>
                  </a:moveTo>
                  <a:cubicBezTo>
                    <a:pt x="0" y="203"/>
                    <a:pt x="510" y="0"/>
                    <a:pt x="765" y="0"/>
                  </a:cubicBezTo>
                  <a:cubicBezTo>
                    <a:pt x="1020" y="0"/>
                    <a:pt x="1531" y="203"/>
                    <a:pt x="1531" y="312"/>
                  </a:cubicBezTo>
                  <a:cubicBezTo>
                    <a:pt x="1531" y="421"/>
                    <a:pt x="1020" y="647"/>
                    <a:pt x="765" y="652"/>
                  </a:cubicBezTo>
                  <a:cubicBezTo>
                    <a:pt x="510" y="657"/>
                    <a:pt x="0" y="421"/>
                    <a:pt x="0" y="312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05600" y="3141720"/>
              <a:ext cx="1513080" cy="1015920"/>
            </a:xfrm>
            <a:custGeom>
              <a:avLst/>
              <a:gdLst/>
              <a:ahLst/>
              <a:rect l="l" t="t" r="r" b="b"/>
              <a:pathLst>
                <a:path w="1531" h="657">
                  <a:moveTo>
                    <a:pt x="0" y="312"/>
                  </a:moveTo>
                  <a:cubicBezTo>
                    <a:pt x="0" y="203"/>
                    <a:pt x="510" y="0"/>
                    <a:pt x="765" y="0"/>
                  </a:cubicBezTo>
                  <a:cubicBezTo>
                    <a:pt x="1020" y="0"/>
                    <a:pt x="1531" y="203"/>
                    <a:pt x="1531" y="312"/>
                  </a:cubicBezTo>
                  <a:cubicBezTo>
                    <a:pt x="1531" y="421"/>
                    <a:pt x="1020" y="647"/>
                    <a:pt x="765" y="652"/>
                  </a:cubicBezTo>
                  <a:cubicBezTo>
                    <a:pt x="510" y="657"/>
                    <a:pt x="0" y="421"/>
                    <a:pt x="0" y="312"/>
                  </a:cubicBezTo>
                  <a:close/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8048880" y="3535560"/>
              <a:ext cx="36720" cy="174960"/>
            </a:xfrm>
            <a:custGeom>
              <a:avLst/>
              <a:gdLst/>
              <a:ahLst/>
              <a:rect l="l" t="t" r="r" b="b"/>
              <a:pathLst>
                <a:path w="28" h="227">
                  <a:moveTo>
                    <a:pt x="28" y="0"/>
                  </a:moveTo>
                  <a:cubicBezTo>
                    <a:pt x="14" y="38"/>
                    <a:pt x="0" y="76"/>
                    <a:pt x="0" y="114"/>
                  </a:cubicBezTo>
                  <a:cubicBezTo>
                    <a:pt x="0" y="152"/>
                    <a:pt x="14" y="189"/>
                    <a:pt x="28" y="227"/>
                  </a:cubicBezTo>
                </a:path>
              </a:pathLst>
            </a:custGeom>
            <a:noFill/>
            <a:ln w="5724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04880" y="836640"/>
            <a:ext cx="1099800" cy="1539360"/>
            <a:chOff x="704880" y="836640"/>
            <a:chExt cx="1099800" cy="1539360"/>
          </a:xfrm>
        </p:grpSpPr>
        <p:sp>
          <p:nvSpPr>
            <p:cNvPr id="463" name=""/>
            <p:cNvSpPr/>
            <p:nvPr/>
          </p:nvSpPr>
          <p:spPr>
            <a:xfrm>
              <a:off x="850680" y="836640"/>
              <a:ext cx="659160" cy="438840"/>
            </a:xfrm>
            <a:custGeom>
              <a:avLst/>
              <a:gdLst/>
              <a:ahLst/>
              <a:rect l="l" t="t" r="r" b="b"/>
              <a:pathLst>
                <a:path w="510" h="340">
                  <a:moveTo>
                    <a:pt x="510" y="0"/>
                  </a:moveTo>
                  <a:lnTo>
                    <a:pt x="227" y="57"/>
                  </a:lnTo>
                  <a:lnTo>
                    <a:pt x="0" y="0"/>
                  </a:lnTo>
                  <a:lnTo>
                    <a:pt x="0" y="114"/>
                  </a:lnTo>
                  <a:lnTo>
                    <a:pt x="227" y="114"/>
                  </a:lnTo>
                  <a:lnTo>
                    <a:pt x="283" y="227"/>
                  </a:lnTo>
                  <a:lnTo>
                    <a:pt x="283" y="340"/>
                  </a:lnTo>
                  <a:lnTo>
                    <a:pt x="340" y="340"/>
                  </a:lnTo>
                  <a:lnTo>
                    <a:pt x="340" y="227"/>
                  </a:lnTo>
                  <a:lnTo>
                    <a:pt x="283" y="114"/>
                  </a:lnTo>
                  <a:lnTo>
                    <a:pt x="510" y="57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924480" y="200952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924480" y="208296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924480" y="200952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52120" y="17884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52120" y="186228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52120" y="17884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144080" y="1788480"/>
              <a:ext cx="36720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144080" y="186228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144080" y="1788480"/>
              <a:ext cx="367200" cy="36648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52120" y="15688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52120" y="164232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52120" y="15688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216440" y="1568880"/>
              <a:ext cx="36720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216440" y="164232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216440" y="1568880"/>
              <a:ext cx="367200" cy="36648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77240" y="1349280"/>
              <a:ext cx="366840" cy="36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77240" y="142308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77240" y="1349280"/>
              <a:ext cx="366840" cy="36684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070640" y="1349280"/>
              <a:ext cx="366840" cy="36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070640" y="142308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070640" y="1349280"/>
              <a:ext cx="366840" cy="36684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364040" y="1349280"/>
              <a:ext cx="366840" cy="36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364040" y="142308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64040" y="1349280"/>
              <a:ext cx="366840" cy="36684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04880" y="11296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04880" y="120312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04880" y="11296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070640" y="1129680"/>
              <a:ext cx="36684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070640" y="120312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070640" y="1129680"/>
              <a:ext cx="366840" cy="36648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437480" y="1129680"/>
              <a:ext cx="367200" cy="3664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437480" y="1203120"/>
              <a:ext cx="293400" cy="293040"/>
            </a:xfrm>
            <a:prstGeom prst="ellipse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437480" y="1129680"/>
              <a:ext cx="367200" cy="366480"/>
            </a:xfrm>
            <a:prstGeom prst="ellipse">
              <a:avLst/>
            </a:prstGeom>
            <a:noFill/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"/>
          <p:cNvGrpSpPr/>
          <p:nvPr/>
        </p:nvGrpSpPr>
        <p:grpSpPr>
          <a:xfrm>
            <a:off x="2289240" y="2781360"/>
            <a:ext cx="1593720" cy="1595520"/>
            <a:chOff x="2289240" y="2781360"/>
            <a:chExt cx="1593720" cy="1595520"/>
          </a:xfrm>
        </p:grpSpPr>
        <p:sp>
          <p:nvSpPr>
            <p:cNvPr id="498" name=""/>
            <p:cNvSpPr/>
            <p:nvPr/>
          </p:nvSpPr>
          <p:spPr>
            <a:xfrm>
              <a:off x="2289240" y="2889000"/>
              <a:ext cx="1487520" cy="14878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89240" y="2781360"/>
              <a:ext cx="1593720" cy="1594080"/>
            </a:xfrm>
            <a:prstGeom prst="ellipse">
              <a:avLst/>
            </a:prstGeom>
            <a:noFill/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2395440" y="2887560"/>
              <a:ext cx="1380960" cy="1381320"/>
              <a:chOff x="2395440" y="2887560"/>
              <a:chExt cx="1380960" cy="138132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2926080" y="2887560"/>
                <a:ext cx="325080" cy="1381320"/>
                <a:chOff x="2926080" y="2887560"/>
                <a:chExt cx="325080" cy="13813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2926080" y="2887560"/>
                  <a:ext cx="32004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rot="10800000">
                  <a:off x="2931120" y="3595320"/>
                  <a:ext cx="32004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2395440" y="3418200"/>
                <a:ext cx="1380960" cy="319320"/>
                <a:chOff x="2395440" y="3418200"/>
                <a:chExt cx="1380960" cy="319320"/>
              </a:xfrm>
            </p:grpSpPr>
            <p:sp>
              <p:nvSpPr>
                <p:cNvPr id="505" name=""/>
                <p:cNvSpPr/>
                <p:nvPr/>
              </p:nvSpPr>
              <p:spPr>
                <a:xfrm rot="5400000">
                  <a:off x="3282480" y="3238560"/>
                  <a:ext cx="31428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 rot="16200000">
                  <a:off x="2574720" y="3243600"/>
                  <a:ext cx="31428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07" name=""/>
            <p:cNvGrpSpPr/>
            <p:nvPr/>
          </p:nvGrpSpPr>
          <p:grpSpPr>
            <a:xfrm>
              <a:off x="2408400" y="2900160"/>
              <a:ext cx="1355760" cy="1359000"/>
              <a:chOff x="2408400" y="2900160"/>
              <a:chExt cx="1355760" cy="1359000"/>
            </a:xfrm>
          </p:grpSpPr>
          <p:grpSp>
            <p:nvGrpSpPr>
              <p:cNvPr id="508" name=""/>
              <p:cNvGrpSpPr/>
              <p:nvPr/>
            </p:nvGrpSpPr>
            <p:grpSpPr>
              <a:xfrm>
                <a:off x="2606760" y="2900160"/>
                <a:ext cx="963360" cy="1359000"/>
                <a:chOff x="2606760" y="2900160"/>
                <a:chExt cx="963360" cy="1359000"/>
              </a:xfrm>
            </p:grpSpPr>
            <p:sp>
              <p:nvSpPr>
                <p:cNvPr id="509" name=""/>
                <p:cNvSpPr/>
                <p:nvPr/>
              </p:nvSpPr>
              <p:spPr>
                <a:xfrm rot="1800000">
                  <a:off x="3102840" y="2934720"/>
                  <a:ext cx="32004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 rot="12600000">
                  <a:off x="2753640" y="3550680"/>
                  <a:ext cx="32004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2408400" y="3098880"/>
                <a:ext cx="1355760" cy="958320"/>
                <a:chOff x="2408400" y="3098880"/>
                <a:chExt cx="1355760" cy="958320"/>
              </a:xfrm>
            </p:grpSpPr>
            <p:sp>
              <p:nvSpPr>
                <p:cNvPr id="512" name=""/>
                <p:cNvSpPr/>
                <p:nvPr/>
              </p:nvSpPr>
              <p:spPr>
                <a:xfrm rot="7200000">
                  <a:off x="3236760" y="3416040"/>
                  <a:ext cx="31428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 rot="18000000">
                  <a:off x="2621160" y="3066480"/>
                  <a:ext cx="31428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4" name=""/>
            <p:cNvGrpSpPr/>
            <p:nvPr/>
          </p:nvGrpSpPr>
          <p:grpSpPr>
            <a:xfrm>
              <a:off x="2410560" y="2903040"/>
              <a:ext cx="1353600" cy="1351080"/>
              <a:chOff x="2410560" y="2903040"/>
              <a:chExt cx="1353600" cy="1351080"/>
            </a:xfrm>
          </p:grpSpPr>
          <p:grpSp>
            <p:nvGrpSpPr>
              <p:cNvPr id="515" name=""/>
              <p:cNvGrpSpPr/>
              <p:nvPr/>
            </p:nvGrpSpPr>
            <p:grpSpPr>
              <a:xfrm>
                <a:off x="2410560" y="3094560"/>
                <a:ext cx="1353600" cy="972000"/>
                <a:chOff x="2410560" y="3094560"/>
                <a:chExt cx="1353600" cy="972000"/>
              </a:xfrm>
            </p:grpSpPr>
            <p:sp>
              <p:nvSpPr>
                <p:cNvPr id="516" name=""/>
                <p:cNvSpPr/>
                <p:nvPr/>
              </p:nvSpPr>
              <p:spPr>
                <a:xfrm rot="3600000">
                  <a:off x="3232440" y="3064680"/>
                  <a:ext cx="32004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rot="14400000">
                  <a:off x="2621520" y="3422880"/>
                  <a:ext cx="32004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602440" y="2903040"/>
                <a:ext cx="967320" cy="1351080"/>
                <a:chOff x="2602440" y="2903040"/>
                <a:chExt cx="967320" cy="1351080"/>
              </a:xfrm>
            </p:grpSpPr>
            <p:sp>
              <p:nvSpPr>
                <p:cNvPr id="519" name=""/>
                <p:cNvSpPr/>
                <p:nvPr/>
              </p:nvSpPr>
              <p:spPr>
                <a:xfrm rot="9000000">
                  <a:off x="3107880" y="3546720"/>
                  <a:ext cx="31428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rot="19800000">
                  <a:off x="2749680" y="2936160"/>
                  <a:ext cx="31428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99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21" name=""/>
          <p:cNvGrpSpPr/>
          <p:nvPr/>
        </p:nvGrpSpPr>
        <p:grpSpPr>
          <a:xfrm>
            <a:off x="4160880" y="2781360"/>
            <a:ext cx="1593720" cy="1595520"/>
            <a:chOff x="4160880" y="2781360"/>
            <a:chExt cx="1593720" cy="1595520"/>
          </a:xfrm>
        </p:grpSpPr>
        <p:sp>
          <p:nvSpPr>
            <p:cNvPr id="522" name=""/>
            <p:cNvSpPr/>
            <p:nvPr/>
          </p:nvSpPr>
          <p:spPr>
            <a:xfrm>
              <a:off x="4160880" y="2889000"/>
              <a:ext cx="1487520" cy="1487880"/>
            </a:xfrm>
            <a:prstGeom prst="ellipse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60880" y="2781360"/>
              <a:ext cx="1593720" cy="159408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4267080" y="2887560"/>
              <a:ext cx="1380960" cy="1381320"/>
              <a:chOff x="4267080" y="2887560"/>
              <a:chExt cx="1380960" cy="1381320"/>
            </a:xfrm>
          </p:grpSpPr>
          <p:grpSp>
            <p:nvGrpSpPr>
              <p:cNvPr id="525" name=""/>
              <p:cNvGrpSpPr/>
              <p:nvPr/>
            </p:nvGrpSpPr>
            <p:grpSpPr>
              <a:xfrm>
                <a:off x="4797720" y="2887560"/>
                <a:ext cx="325080" cy="1381320"/>
                <a:chOff x="4797720" y="2887560"/>
                <a:chExt cx="325080" cy="13813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4797720" y="2887560"/>
                  <a:ext cx="32004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rot="10800000">
                  <a:off x="4802760" y="3595320"/>
                  <a:ext cx="32004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4267080" y="3418200"/>
                <a:ext cx="1380960" cy="319320"/>
                <a:chOff x="4267080" y="3418200"/>
                <a:chExt cx="1380960" cy="319320"/>
              </a:xfrm>
            </p:grpSpPr>
            <p:sp>
              <p:nvSpPr>
                <p:cNvPr id="529" name=""/>
                <p:cNvSpPr/>
                <p:nvPr/>
              </p:nvSpPr>
              <p:spPr>
                <a:xfrm rot="5400000">
                  <a:off x="5154120" y="3238560"/>
                  <a:ext cx="31428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rot="16200000">
                  <a:off x="4446360" y="3243600"/>
                  <a:ext cx="31428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4280040" y="2900160"/>
              <a:ext cx="1355760" cy="1359000"/>
              <a:chOff x="4280040" y="2900160"/>
              <a:chExt cx="1355760" cy="1359000"/>
            </a:xfrm>
          </p:grpSpPr>
          <p:grpSp>
            <p:nvGrpSpPr>
              <p:cNvPr id="532" name=""/>
              <p:cNvGrpSpPr/>
              <p:nvPr/>
            </p:nvGrpSpPr>
            <p:grpSpPr>
              <a:xfrm>
                <a:off x="4478400" y="2900160"/>
                <a:ext cx="963360" cy="1359000"/>
                <a:chOff x="4478400" y="2900160"/>
                <a:chExt cx="963360" cy="1359000"/>
              </a:xfrm>
            </p:grpSpPr>
            <p:sp>
              <p:nvSpPr>
                <p:cNvPr id="533" name=""/>
                <p:cNvSpPr/>
                <p:nvPr/>
              </p:nvSpPr>
              <p:spPr>
                <a:xfrm rot="1800000">
                  <a:off x="4974480" y="2934720"/>
                  <a:ext cx="32004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rot="12600000">
                  <a:off x="4625280" y="3550680"/>
                  <a:ext cx="32004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4280040" y="3098880"/>
                <a:ext cx="1355760" cy="958320"/>
                <a:chOff x="4280040" y="3098880"/>
                <a:chExt cx="1355760" cy="958320"/>
              </a:xfrm>
            </p:grpSpPr>
            <p:sp>
              <p:nvSpPr>
                <p:cNvPr id="536" name=""/>
                <p:cNvSpPr/>
                <p:nvPr/>
              </p:nvSpPr>
              <p:spPr>
                <a:xfrm rot="7200000">
                  <a:off x="5108400" y="3416040"/>
                  <a:ext cx="31428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 rot="18000000">
                  <a:off x="4492800" y="3066480"/>
                  <a:ext cx="31428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282200" y="2903040"/>
              <a:ext cx="1353600" cy="1351080"/>
              <a:chOff x="4282200" y="2903040"/>
              <a:chExt cx="1353600" cy="1351080"/>
            </a:xfrm>
          </p:grpSpPr>
          <p:grpSp>
            <p:nvGrpSpPr>
              <p:cNvPr id="539" name=""/>
              <p:cNvGrpSpPr/>
              <p:nvPr/>
            </p:nvGrpSpPr>
            <p:grpSpPr>
              <a:xfrm>
                <a:off x="4282200" y="3094560"/>
                <a:ext cx="1353600" cy="972000"/>
                <a:chOff x="4282200" y="3094560"/>
                <a:chExt cx="1353600" cy="972000"/>
              </a:xfrm>
            </p:grpSpPr>
            <p:sp>
              <p:nvSpPr>
                <p:cNvPr id="540" name=""/>
                <p:cNvSpPr/>
                <p:nvPr/>
              </p:nvSpPr>
              <p:spPr>
                <a:xfrm rot="3600000">
                  <a:off x="5104080" y="3064680"/>
                  <a:ext cx="32004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rot="14400000">
                  <a:off x="4493160" y="3422880"/>
                  <a:ext cx="320040" cy="67320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4474080" y="2903040"/>
                <a:ext cx="967320" cy="1351080"/>
                <a:chOff x="4474080" y="2903040"/>
                <a:chExt cx="967320" cy="1351080"/>
              </a:xfrm>
            </p:grpSpPr>
            <p:sp>
              <p:nvSpPr>
                <p:cNvPr id="543" name=""/>
                <p:cNvSpPr/>
                <p:nvPr/>
              </p:nvSpPr>
              <p:spPr>
                <a:xfrm rot="9000000">
                  <a:off x="4979520" y="3546720"/>
                  <a:ext cx="31428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rot="19800000">
                  <a:off x="4621320" y="2936160"/>
                  <a:ext cx="314280" cy="673560"/>
                </a:xfrm>
                <a:custGeom>
                  <a:avLst/>
                  <a:gdLst/>
                  <a:ahLst/>
                  <a:rect l="l" t="t" r="r" b="b"/>
                  <a:pathLst>
                    <a:path w="290" h="567">
                      <a:moveTo>
                        <a:pt x="5" y="57"/>
                      </a:moveTo>
                      <a:cubicBezTo>
                        <a:pt x="0" y="22"/>
                        <a:pt x="100" y="0"/>
                        <a:pt x="147" y="0"/>
                      </a:cubicBezTo>
                      <a:cubicBezTo>
                        <a:pt x="194" y="0"/>
                        <a:pt x="290" y="18"/>
                        <a:pt x="289" y="57"/>
                      </a:cubicBezTo>
                      <a:lnTo>
                        <a:pt x="147" y="567"/>
                      </a:lnTo>
                      <a:cubicBezTo>
                        <a:pt x="147" y="567"/>
                        <a:pt x="5" y="57"/>
                        <a:pt x="5" y="57"/>
                      </a:cubicBezTo>
                      <a:close/>
                    </a:path>
                  </a:pathLst>
                </a:custGeom>
                <a:noFill/>
                <a:ln w="5724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45" name=""/>
          <p:cNvGrpSpPr/>
          <p:nvPr/>
        </p:nvGrpSpPr>
        <p:grpSpPr>
          <a:xfrm>
            <a:off x="415800" y="2781360"/>
            <a:ext cx="1584360" cy="1584360"/>
            <a:chOff x="415800" y="2781360"/>
            <a:chExt cx="1584360" cy="1584360"/>
          </a:xfrm>
        </p:grpSpPr>
        <p:sp>
          <p:nvSpPr>
            <p:cNvPr id="546" name=""/>
            <p:cNvSpPr/>
            <p:nvPr/>
          </p:nvSpPr>
          <p:spPr>
            <a:xfrm>
              <a:off x="450360" y="2888280"/>
              <a:ext cx="1442520" cy="144252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5800" y="2781360"/>
              <a:ext cx="1584360" cy="158436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8" name=""/>
            <p:cNvGrpSpPr/>
            <p:nvPr/>
          </p:nvGrpSpPr>
          <p:grpSpPr>
            <a:xfrm>
              <a:off x="908280" y="3344760"/>
              <a:ext cx="525960" cy="525960"/>
              <a:chOff x="908280" y="3344760"/>
              <a:chExt cx="525960" cy="525960"/>
            </a:xfrm>
          </p:grpSpPr>
          <p:grpSp>
            <p:nvGrpSpPr>
              <p:cNvPr id="549" name=""/>
              <p:cNvGrpSpPr/>
              <p:nvPr/>
            </p:nvGrpSpPr>
            <p:grpSpPr>
              <a:xfrm>
                <a:off x="908280" y="3344760"/>
                <a:ext cx="525960" cy="525960"/>
                <a:chOff x="908280" y="3344760"/>
                <a:chExt cx="525960" cy="525960"/>
              </a:xfrm>
            </p:grpSpPr>
            <p:grpSp>
              <p:nvGrpSpPr>
                <p:cNvPr id="550" name=""/>
                <p:cNvGrpSpPr/>
                <p:nvPr/>
              </p:nvGrpSpPr>
              <p:grpSpPr>
                <a:xfrm>
                  <a:off x="1136520" y="3344760"/>
                  <a:ext cx="70560" cy="525960"/>
                  <a:chOff x="1136520" y="3344760"/>
                  <a:chExt cx="70560" cy="525960"/>
                </a:xfrm>
              </p:grpSpPr>
              <p:sp>
                <p:nvSpPr>
                  <p:cNvPr id="551" name=""/>
                  <p:cNvSpPr/>
                  <p:nvPr/>
                </p:nvSpPr>
                <p:spPr>
                  <a:xfrm>
                    <a:off x="1136520" y="3344760"/>
                    <a:ext cx="70560" cy="174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1136520" y="3695760"/>
                    <a:ext cx="70560" cy="174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3" name=""/>
                <p:cNvGrpSpPr/>
                <p:nvPr/>
              </p:nvGrpSpPr>
              <p:grpSpPr>
                <a:xfrm>
                  <a:off x="908280" y="3573000"/>
                  <a:ext cx="525960" cy="70560"/>
                  <a:chOff x="908280" y="3573000"/>
                  <a:chExt cx="525960" cy="70560"/>
                </a:xfrm>
              </p:grpSpPr>
              <p:sp>
                <p:nvSpPr>
                  <p:cNvPr id="554" name=""/>
                  <p:cNvSpPr/>
                  <p:nvPr/>
                </p:nvSpPr>
                <p:spPr>
                  <a:xfrm rot="16200000">
                    <a:off x="960120" y="3520800"/>
                    <a:ext cx="70560" cy="174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"/>
                  <p:cNvSpPr/>
                  <p:nvPr/>
                </p:nvSpPr>
                <p:spPr>
                  <a:xfrm rot="16200000">
                    <a:off x="1311480" y="3520800"/>
                    <a:ext cx="70560" cy="174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6" name=""/>
              <p:cNvGrpSpPr/>
              <p:nvPr/>
            </p:nvGrpSpPr>
            <p:grpSpPr>
              <a:xfrm>
                <a:off x="960120" y="3396960"/>
                <a:ext cx="422640" cy="422280"/>
                <a:chOff x="960120" y="3396960"/>
                <a:chExt cx="422640" cy="422280"/>
              </a:xfrm>
            </p:grpSpPr>
            <p:grpSp>
              <p:nvGrpSpPr>
                <p:cNvPr id="557" name=""/>
                <p:cNvGrpSpPr/>
                <p:nvPr/>
              </p:nvGrpSpPr>
              <p:grpSpPr>
                <a:xfrm>
                  <a:off x="960840" y="3397320"/>
                  <a:ext cx="421920" cy="421560"/>
                  <a:chOff x="960840" y="3397320"/>
                  <a:chExt cx="421920" cy="421560"/>
                </a:xfrm>
              </p:grpSpPr>
              <p:sp>
                <p:nvSpPr>
                  <p:cNvPr id="558" name=""/>
                  <p:cNvSpPr/>
                  <p:nvPr/>
                </p:nvSpPr>
                <p:spPr>
                  <a:xfrm rot="2700000">
                    <a:off x="1260360" y="3396600"/>
                    <a:ext cx="70560" cy="174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rot="2700000">
                    <a:off x="1012320" y="3644640"/>
                    <a:ext cx="70560" cy="174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0" name=""/>
                <p:cNvGrpSpPr/>
                <p:nvPr/>
              </p:nvGrpSpPr>
              <p:grpSpPr>
                <a:xfrm>
                  <a:off x="960120" y="3396960"/>
                  <a:ext cx="421920" cy="422280"/>
                  <a:chOff x="960120" y="3396960"/>
                  <a:chExt cx="421920" cy="422280"/>
                </a:xfrm>
              </p:grpSpPr>
              <p:sp>
                <p:nvSpPr>
                  <p:cNvPr id="561" name=""/>
                  <p:cNvSpPr/>
                  <p:nvPr/>
                </p:nvSpPr>
                <p:spPr>
                  <a:xfrm rot="18900000">
                    <a:off x="1011240" y="3396240"/>
                    <a:ext cx="70560" cy="17460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rot="18900000">
                    <a:off x="1260000" y="3644640"/>
                    <a:ext cx="70560" cy="1749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563" name=""/>
          <p:cNvGrpSpPr/>
          <p:nvPr/>
        </p:nvGrpSpPr>
        <p:grpSpPr>
          <a:xfrm>
            <a:off x="2380320" y="853560"/>
            <a:ext cx="1586160" cy="1751400"/>
            <a:chOff x="2380320" y="853560"/>
            <a:chExt cx="1586160" cy="1751400"/>
          </a:xfrm>
        </p:grpSpPr>
        <p:sp>
          <p:nvSpPr>
            <p:cNvPr id="564" name=""/>
            <p:cNvSpPr/>
            <p:nvPr/>
          </p:nvSpPr>
          <p:spPr>
            <a:xfrm rot="1800000">
              <a:off x="2657160" y="1073880"/>
              <a:ext cx="932760" cy="135720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1800000">
              <a:off x="2675520" y="1005120"/>
              <a:ext cx="995400" cy="144756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1800000">
              <a:off x="3507120" y="925920"/>
              <a:ext cx="119880" cy="180720"/>
            </a:xfrm>
            <a:custGeom>
              <a:avLst/>
              <a:gdLst/>
              <a:ahLst/>
              <a:rect l="l" t="t" r="r" b="b"/>
              <a:pathLst>
                <a:path w="113" h="170">
                  <a:moveTo>
                    <a:pt x="0" y="170"/>
                  </a:moveTo>
                  <a:lnTo>
                    <a:pt x="0" y="0"/>
                  </a:lnTo>
                  <a:lnTo>
                    <a:pt x="113" y="0"/>
                  </a:lnTo>
                  <a:lnTo>
                    <a:pt x="57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808000"/>
            </a:solidFill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488880" y="848160"/>
            <a:ext cx="1474560" cy="1535760"/>
            <a:chOff x="488880" y="848160"/>
            <a:chExt cx="1474560" cy="1535760"/>
          </a:xfrm>
        </p:grpSpPr>
        <p:sp>
          <p:nvSpPr>
            <p:cNvPr id="568" name=""/>
            <p:cNvSpPr/>
            <p:nvPr/>
          </p:nvSpPr>
          <p:spPr>
            <a:xfrm>
              <a:off x="488880" y="1117800"/>
              <a:ext cx="1370520" cy="126612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8880" y="1013760"/>
              <a:ext cx="1474560" cy="1370160"/>
            </a:xfrm>
            <a:prstGeom prst="ellipse">
              <a:avLst/>
            </a:prstGeom>
            <a:noFill/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900000">
              <a:off x="1015200" y="907560"/>
              <a:ext cx="526320" cy="500040"/>
            </a:xfrm>
            <a:prstGeom prst="star5">
              <a:avLst/>
            </a:prstGeom>
            <a:solidFill>
              <a:srgbClr val="99cc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" name=""/>
          <p:cNvGrpSpPr/>
          <p:nvPr/>
        </p:nvGrpSpPr>
        <p:grpSpPr>
          <a:xfrm>
            <a:off x="8048520" y="836640"/>
            <a:ext cx="1239840" cy="1595160"/>
            <a:chOff x="8048520" y="836640"/>
            <a:chExt cx="1239840" cy="1595160"/>
          </a:xfrm>
        </p:grpSpPr>
        <p:sp>
          <p:nvSpPr>
            <p:cNvPr id="572" name=""/>
            <p:cNvSpPr/>
            <p:nvPr/>
          </p:nvSpPr>
          <p:spPr>
            <a:xfrm>
              <a:off x="8472960" y="836640"/>
              <a:ext cx="580320" cy="354600"/>
            </a:xfrm>
            <a:custGeom>
              <a:avLst/>
              <a:gdLst/>
              <a:ahLst/>
              <a:rect l="l" t="t" r="r" b="b"/>
              <a:pathLst>
                <a:path w="465" h="284">
                  <a:moveTo>
                    <a:pt x="170" y="284"/>
                  </a:moveTo>
                  <a:lnTo>
                    <a:pt x="199" y="142"/>
                  </a:lnTo>
                  <a:lnTo>
                    <a:pt x="0" y="85"/>
                  </a:lnTo>
                  <a:lnTo>
                    <a:pt x="57" y="0"/>
                  </a:lnTo>
                  <a:lnTo>
                    <a:pt x="255" y="114"/>
                  </a:lnTo>
                  <a:lnTo>
                    <a:pt x="465" y="144"/>
                  </a:lnTo>
                  <a:lnTo>
                    <a:pt x="435" y="204"/>
                  </a:lnTo>
                  <a:lnTo>
                    <a:pt x="255" y="171"/>
                  </a:lnTo>
                  <a:lnTo>
                    <a:pt x="227" y="284"/>
                  </a:lnTo>
                  <a:lnTo>
                    <a:pt x="170" y="284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8048520" y="1297440"/>
              <a:ext cx="1097280" cy="109800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048520" y="1191240"/>
              <a:ext cx="1239840" cy="1240560"/>
            </a:xfrm>
            <a:prstGeom prst="ellipse">
              <a:avLst/>
            </a:pr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4232160" y="981000"/>
            <a:ext cx="1441440" cy="1440000"/>
            <a:chOff x="4232160" y="981000"/>
            <a:chExt cx="1441440" cy="1440000"/>
          </a:xfrm>
        </p:grpSpPr>
        <p:sp>
          <p:nvSpPr>
            <p:cNvPr id="576" name=""/>
            <p:cNvSpPr/>
            <p:nvPr/>
          </p:nvSpPr>
          <p:spPr>
            <a:xfrm>
              <a:off x="4232160" y="1125360"/>
              <a:ext cx="1295640" cy="12956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232160" y="1052640"/>
              <a:ext cx="1441440" cy="1368360"/>
            </a:xfrm>
            <a:prstGeom prst="ellipse">
              <a:avLst/>
            </a:prstGeom>
            <a:noFill/>
            <a:ln w="572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08520" y="981000"/>
              <a:ext cx="289080" cy="217440"/>
            </a:xfrm>
            <a:custGeom>
              <a:avLst/>
              <a:gdLst>
                <a:gd name="textAreaLeft" fmla="*/ 70200 w 289080"/>
                <a:gd name="textAreaRight" fmla="*/ 218880 w 289080"/>
                <a:gd name="textAreaTop" fmla="*/ 52920 h 217440"/>
                <a:gd name="textAreaBottom" fmla="*/ 164520 h 21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534" y="13736"/>
                  </a:lnTo>
                  <a:lnTo>
                    <a:pt x="3163" y="18437"/>
                  </a:lnTo>
                  <a:lnTo>
                    <a:pt x="7738" y="18014"/>
                  </a:lnTo>
                  <a:lnTo>
                    <a:pt x="10800" y="21600"/>
                  </a:lnTo>
                  <a:lnTo>
                    <a:pt x="13736" y="18066"/>
                  </a:lnTo>
                  <a:lnTo>
                    <a:pt x="18437" y="18437"/>
                  </a:lnTo>
                  <a:lnTo>
                    <a:pt x="18014" y="13862"/>
                  </a:lnTo>
                  <a:lnTo>
                    <a:pt x="21600" y="10800"/>
                  </a:lnTo>
                  <a:lnTo>
                    <a:pt x="18066" y="7864"/>
                  </a:lnTo>
                  <a:lnTo>
                    <a:pt x="18437" y="3163"/>
                  </a:lnTo>
                  <a:lnTo>
                    <a:pt x="13862" y="3586"/>
                  </a:lnTo>
                  <a:lnTo>
                    <a:pt x="10800" y="0"/>
                  </a:lnTo>
                  <a:lnTo>
                    <a:pt x="7864" y="3534"/>
                  </a:lnTo>
                  <a:lnTo>
                    <a:pt x="3163" y="3163"/>
                  </a:lnTo>
                  <a:lnTo>
                    <a:pt x="3586" y="773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6248520" y="836640"/>
            <a:ext cx="1057320" cy="1574280"/>
            <a:chOff x="6248520" y="836640"/>
            <a:chExt cx="1057320" cy="1574280"/>
          </a:xfrm>
        </p:grpSpPr>
        <p:sp>
          <p:nvSpPr>
            <p:cNvPr id="580" name=""/>
            <p:cNvSpPr/>
            <p:nvPr/>
          </p:nvSpPr>
          <p:spPr>
            <a:xfrm>
              <a:off x="6256800" y="1159200"/>
              <a:ext cx="965520" cy="1234080"/>
            </a:xfrm>
            <a:custGeom>
              <a:avLst/>
              <a:gdLst/>
              <a:ahLst/>
              <a:rect l="l" t="t" r="r" b="b"/>
              <a:pathLst>
                <a:path w="727" h="911">
                  <a:moveTo>
                    <a:pt x="348" y="0"/>
                  </a:moveTo>
                  <a:cubicBezTo>
                    <a:pt x="285" y="0"/>
                    <a:pt x="247" y="50"/>
                    <a:pt x="216" y="95"/>
                  </a:cubicBezTo>
                  <a:cubicBezTo>
                    <a:pt x="185" y="141"/>
                    <a:pt x="197" y="205"/>
                    <a:pt x="173" y="251"/>
                  </a:cubicBezTo>
                  <a:cubicBezTo>
                    <a:pt x="149" y="297"/>
                    <a:pt x="116" y="311"/>
                    <a:pt x="71" y="368"/>
                  </a:cubicBezTo>
                  <a:cubicBezTo>
                    <a:pt x="26" y="425"/>
                    <a:pt x="0" y="495"/>
                    <a:pt x="3" y="636"/>
                  </a:cubicBezTo>
                  <a:cubicBezTo>
                    <a:pt x="5" y="777"/>
                    <a:pt x="129" y="908"/>
                    <a:pt x="363" y="909"/>
                  </a:cubicBezTo>
                  <a:cubicBezTo>
                    <a:pt x="596" y="911"/>
                    <a:pt x="727" y="791"/>
                    <a:pt x="726" y="660"/>
                  </a:cubicBezTo>
                  <a:cubicBezTo>
                    <a:pt x="726" y="529"/>
                    <a:pt x="689" y="404"/>
                    <a:pt x="648" y="355"/>
                  </a:cubicBezTo>
                  <a:cubicBezTo>
                    <a:pt x="607" y="305"/>
                    <a:pt x="575" y="292"/>
                    <a:pt x="548" y="248"/>
                  </a:cubicBezTo>
                  <a:cubicBezTo>
                    <a:pt x="521" y="204"/>
                    <a:pt x="511" y="141"/>
                    <a:pt x="480" y="95"/>
                  </a:cubicBezTo>
                  <a:cubicBezTo>
                    <a:pt x="450" y="50"/>
                    <a:pt x="410" y="0"/>
                    <a:pt x="348" y="0"/>
                  </a:cubicBezTo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248520" y="1086840"/>
              <a:ext cx="1057320" cy="1324080"/>
            </a:xfrm>
            <a:custGeom>
              <a:avLst/>
              <a:gdLst/>
              <a:ahLst/>
              <a:rect l="l" t="t" r="r" b="b"/>
              <a:pathLst>
                <a:path w="727" h="911">
                  <a:moveTo>
                    <a:pt x="348" y="0"/>
                  </a:moveTo>
                  <a:cubicBezTo>
                    <a:pt x="285" y="0"/>
                    <a:pt x="247" y="50"/>
                    <a:pt x="216" y="95"/>
                  </a:cubicBezTo>
                  <a:cubicBezTo>
                    <a:pt x="185" y="141"/>
                    <a:pt x="197" y="205"/>
                    <a:pt x="173" y="251"/>
                  </a:cubicBezTo>
                  <a:cubicBezTo>
                    <a:pt x="149" y="297"/>
                    <a:pt x="116" y="311"/>
                    <a:pt x="71" y="368"/>
                  </a:cubicBezTo>
                  <a:cubicBezTo>
                    <a:pt x="26" y="425"/>
                    <a:pt x="0" y="495"/>
                    <a:pt x="3" y="636"/>
                  </a:cubicBezTo>
                  <a:cubicBezTo>
                    <a:pt x="5" y="777"/>
                    <a:pt x="129" y="908"/>
                    <a:pt x="363" y="909"/>
                  </a:cubicBezTo>
                  <a:cubicBezTo>
                    <a:pt x="596" y="911"/>
                    <a:pt x="727" y="791"/>
                    <a:pt x="726" y="660"/>
                  </a:cubicBezTo>
                  <a:cubicBezTo>
                    <a:pt x="726" y="529"/>
                    <a:pt x="689" y="404"/>
                    <a:pt x="648" y="355"/>
                  </a:cubicBezTo>
                  <a:cubicBezTo>
                    <a:pt x="607" y="305"/>
                    <a:pt x="575" y="292"/>
                    <a:pt x="548" y="248"/>
                  </a:cubicBezTo>
                  <a:cubicBezTo>
                    <a:pt x="521" y="204"/>
                    <a:pt x="511" y="141"/>
                    <a:pt x="480" y="95"/>
                  </a:cubicBezTo>
                  <a:cubicBezTo>
                    <a:pt x="450" y="50"/>
                    <a:pt x="410" y="0"/>
                    <a:pt x="348" y="0"/>
                  </a:cubicBezTo>
                  <a:close/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658200" y="1152000"/>
              <a:ext cx="197640" cy="65520"/>
            </a:xfrm>
            <a:custGeom>
              <a:avLst/>
              <a:gdLst/>
              <a:ahLst/>
              <a:rect l="l" t="t" r="r" b="b"/>
              <a:pathLst>
                <a:path w="90" h="45">
                  <a:moveTo>
                    <a:pt x="0" y="0"/>
                  </a:moveTo>
                  <a:cubicBezTo>
                    <a:pt x="15" y="22"/>
                    <a:pt x="30" y="45"/>
                    <a:pt x="45" y="45"/>
                  </a:cubicBezTo>
                  <a:cubicBezTo>
                    <a:pt x="60" y="45"/>
                    <a:pt x="75" y="22"/>
                    <a:pt x="90" y="0"/>
                  </a:cubicBezTo>
                </a:path>
              </a:pathLst>
            </a:custGeom>
            <a:noFill/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19800" bIns="19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739920" y="836640"/>
              <a:ext cx="197640" cy="329760"/>
            </a:xfrm>
            <a:custGeom>
              <a:avLst/>
              <a:gdLst/>
              <a:ahLst/>
              <a:rect l="l" t="t" r="r" b="b"/>
              <a:pathLst>
                <a:path w="136" h="227">
                  <a:moveTo>
                    <a:pt x="0" y="227"/>
                  </a:moveTo>
                  <a:lnTo>
                    <a:pt x="45" y="0"/>
                  </a:lnTo>
                  <a:lnTo>
                    <a:pt x="136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6265800" y="2781360"/>
            <a:ext cx="1217520" cy="1584000"/>
            <a:chOff x="6265800" y="2781360"/>
            <a:chExt cx="1217520" cy="1584000"/>
          </a:xfrm>
        </p:grpSpPr>
        <p:sp>
          <p:nvSpPr>
            <p:cNvPr id="585" name=""/>
            <p:cNvSpPr/>
            <p:nvPr/>
          </p:nvSpPr>
          <p:spPr>
            <a:xfrm>
              <a:off x="6799320" y="2781360"/>
              <a:ext cx="75600" cy="456120"/>
            </a:xfrm>
            <a:custGeom>
              <a:avLst/>
              <a:gdLst/>
              <a:ahLst/>
              <a:rect l="l" t="t" r="r" b="b"/>
              <a:pathLst>
                <a:path w="170" h="340">
                  <a:moveTo>
                    <a:pt x="57" y="340"/>
                  </a:moveTo>
                  <a:lnTo>
                    <a:pt x="0" y="0"/>
                  </a:lnTo>
                  <a:lnTo>
                    <a:pt x="170" y="0"/>
                  </a:lnTo>
                  <a:lnTo>
                    <a:pt x="114" y="340"/>
                  </a:lnTo>
                  <a:lnTo>
                    <a:pt x="57" y="340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874920" y="2857320"/>
              <a:ext cx="379800" cy="189720"/>
            </a:xfrm>
            <a:custGeom>
              <a:avLst/>
              <a:gdLst/>
              <a:ahLst/>
              <a:rect l="l" t="t" r="r" b="b"/>
              <a:pathLst>
                <a:path w="457" h="227">
                  <a:moveTo>
                    <a:pt x="0" y="114"/>
                  </a:moveTo>
                  <a:cubicBezTo>
                    <a:pt x="0" y="76"/>
                    <a:pt x="95" y="0"/>
                    <a:pt x="170" y="0"/>
                  </a:cubicBezTo>
                  <a:cubicBezTo>
                    <a:pt x="245" y="0"/>
                    <a:pt x="449" y="106"/>
                    <a:pt x="453" y="114"/>
                  </a:cubicBezTo>
                  <a:cubicBezTo>
                    <a:pt x="457" y="122"/>
                    <a:pt x="245" y="227"/>
                    <a:pt x="170" y="227"/>
                  </a:cubicBezTo>
                  <a:cubicBezTo>
                    <a:pt x="95" y="227"/>
                    <a:pt x="0" y="152"/>
                    <a:pt x="0" y="114"/>
                  </a:cubicBez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265800" y="3146400"/>
              <a:ext cx="1217520" cy="1218960"/>
            </a:xfrm>
            <a:prstGeom prst="ellipse">
              <a:avLst/>
            </a:prstGeom>
            <a:solidFill>
              <a:srgbClr val="ffff99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680520" y="3540240"/>
              <a:ext cx="413280" cy="48168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748920" y="3677040"/>
              <a:ext cx="68040" cy="2080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55920" y="3677040"/>
              <a:ext cx="68040" cy="20808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6887160" y="3263040"/>
              <a:ext cx="0" cy="1035360"/>
            </a:xfrm>
            <a:prstGeom prst="line">
              <a:avLst/>
            </a:prstGeom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7905600" y="2709720"/>
            <a:ext cx="1511280" cy="1511280"/>
            <a:chOff x="7905600" y="2709720"/>
            <a:chExt cx="1511280" cy="1511280"/>
          </a:xfrm>
        </p:grpSpPr>
        <p:sp>
          <p:nvSpPr>
            <p:cNvPr id="593" name=""/>
            <p:cNvSpPr/>
            <p:nvPr/>
          </p:nvSpPr>
          <p:spPr>
            <a:xfrm rot="10800000">
              <a:off x="7970760" y="2839680"/>
              <a:ext cx="1248480" cy="1380600"/>
            </a:xfrm>
            <a:prstGeom prst="blockArc">
              <a:avLst>
                <a:gd name="adj1" fmla="val 10945917"/>
                <a:gd name="adj2" fmla="val 21454083"/>
                <a:gd name="adj3" fmla="val 48801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10800000">
              <a:off x="7905600" y="2709720"/>
              <a:ext cx="1511280" cy="1511280"/>
            </a:xfrm>
            <a:prstGeom prst="blockArc">
              <a:avLst>
                <a:gd name="adj1" fmla="val 10945917"/>
                <a:gd name="adj2" fmla="val 21454083"/>
                <a:gd name="adj3" fmla="val 48801"/>
              </a:avLst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10800000">
              <a:off x="7905600" y="2709720"/>
              <a:ext cx="1511280" cy="1511280"/>
            </a:xfrm>
            <a:prstGeom prst="blockArc">
              <a:avLst>
                <a:gd name="adj1" fmla="val 10937151"/>
                <a:gd name="adj2" fmla="val 21462849"/>
                <a:gd name="adj3" fmla="val 5431"/>
              </a:avLst>
            </a:prstGeom>
            <a:solidFill>
              <a:srgbClr val="99cc00"/>
            </a:solidFill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364600" y="3629880"/>
              <a:ext cx="66600" cy="1314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561880" y="3826440"/>
              <a:ext cx="66600" cy="13176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759160" y="3694680"/>
              <a:ext cx="66600" cy="1314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022320" y="3629880"/>
              <a:ext cx="66600" cy="1314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8168040" y="3629880"/>
              <a:ext cx="66240" cy="1314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8880" y="4941720"/>
            <a:ext cx="1295640" cy="1295640"/>
          </a:xfrm>
          <a:custGeom>
            <a:avLst/>
            <a:gdLst/>
            <a:ahLst/>
            <a:rect l="l" t="t" r="r" b="b"/>
            <a:pathLst>
              <a:path w="923" h="931">
                <a:moveTo>
                  <a:pt x="390" y="915"/>
                </a:moveTo>
                <a:cubicBezTo>
                  <a:pt x="238" y="899"/>
                  <a:pt x="99" y="812"/>
                  <a:pt x="70" y="707"/>
                </a:cubicBezTo>
                <a:cubicBezTo>
                  <a:pt x="0" y="565"/>
                  <a:pt x="89" y="391"/>
                  <a:pt x="174" y="299"/>
                </a:cubicBezTo>
                <a:cubicBezTo>
                  <a:pt x="259" y="207"/>
                  <a:pt x="471" y="203"/>
                  <a:pt x="582" y="155"/>
                </a:cubicBezTo>
                <a:cubicBezTo>
                  <a:pt x="693" y="107"/>
                  <a:pt x="782" y="0"/>
                  <a:pt x="838" y="11"/>
                </a:cubicBezTo>
                <a:cubicBezTo>
                  <a:pt x="894" y="22"/>
                  <a:pt x="911" y="125"/>
                  <a:pt x="917" y="220"/>
                </a:cubicBezTo>
                <a:cubicBezTo>
                  <a:pt x="923" y="315"/>
                  <a:pt x="910" y="477"/>
                  <a:pt x="872" y="583"/>
                </a:cubicBezTo>
                <a:cubicBezTo>
                  <a:pt x="834" y="689"/>
                  <a:pt x="770" y="800"/>
                  <a:pt x="690" y="855"/>
                </a:cubicBezTo>
                <a:cubicBezTo>
                  <a:pt x="610" y="910"/>
                  <a:pt x="542" y="931"/>
                  <a:pt x="390" y="91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73040" y="4808520"/>
            <a:ext cx="1465200" cy="1478160"/>
          </a:xfrm>
          <a:custGeom>
            <a:avLst/>
            <a:gdLst/>
            <a:ahLst/>
            <a:rect l="l" t="t" r="r" b="b"/>
            <a:pathLst>
              <a:path w="923" h="931">
                <a:moveTo>
                  <a:pt x="390" y="915"/>
                </a:moveTo>
                <a:cubicBezTo>
                  <a:pt x="238" y="899"/>
                  <a:pt x="99" y="812"/>
                  <a:pt x="70" y="707"/>
                </a:cubicBezTo>
                <a:cubicBezTo>
                  <a:pt x="0" y="565"/>
                  <a:pt x="89" y="391"/>
                  <a:pt x="174" y="299"/>
                </a:cubicBezTo>
                <a:cubicBezTo>
                  <a:pt x="259" y="207"/>
                  <a:pt x="471" y="203"/>
                  <a:pt x="582" y="155"/>
                </a:cubicBezTo>
                <a:cubicBezTo>
                  <a:pt x="693" y="107"/>
                  <a:pt x="782" y="0"/>
                  <a:pt x="838" y="11"/>
                </a:cubicBezTo>
                <a:cubicBezTo>
                  <a:pt x="894" y="22"/>
                  <a:pt x="911" y="125"/>
                  <a:pt x="917" y="220"/>
                </a:cubicBezTo>
                <a:cubicBezTo>
                  <a:pt x="923" y="315"/>
                  <a:pt x="910" y="477"/>
                  <a:pt x="872" y="583"/>
                </a:cubicBezTo>
                <a:cubicBezTo>
                  <a:pt x="834" y="689"/>
                  <a:pt x="770" y="800"/>
                  <a:pt x="690" y="855"/>
                </a:cubicBezTo>
                <a:cubicBezTo>
                  <a:pt x="610" y="910"/>
                  <a:pt x="542" y="931"/>
                  <a:pt x="390" y="915"/>
                </a:cubicBezTo>
                <a:close/>
              </a:path>
            </a:pathLst>
          </a:custGeom>
          <a:noFill/>
          <a:ln w="57240">
            <a:solidFill>
              <a:srgbClr val="33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"/>
          <p:cNvGrpSpPr/>
          <p:nvPr/>
        </p:nvGrpSpPr>
        <p:grpSpPr>
          <a:xfrm>
            <a:off x="2264400" y="4797360"/>
            <a:ext cx="1440720" cy="1535760"/>
            <a:chOff x="2264400" y="4797360"/>
            <a:chExt cx="1440720" cy="1535760"/>
          </a:xfrm>
        </p:grpSpPr>
        <p:sp>
          <p:nvSpPr>
            <p:cNvPr id="604" name=""/>
            <p:cNvSpPr/>
            <p:nvPr/>
          </p:nvSpPr>
          <p:spPr>
            <a:xfrm>
              <a:off x="2289240" y="4869000"/>
              <a:ext cx="1295280" cy="1272960"/>
            </a:xfrm>
            <a:custGeom>
              <a:avLst/>
              <a:gdLst/>
              <a:ahLst/>
              <a:rect l="l" t="t" r="r" b="b"/>
              <a:pathLst>
                <a:path w="892" h="877">
                  <a:moveTo>
                    <a:pt x="514" y="98"/>
                  </a:moveTo>
                  <a:cubicBezTo>
                    <a:pt x="416" y="151"/>
                    <a:pt x="120" y="264"/>
                    <a:pt x="60" y="370"/>
                  </a:cubicBezTo>
                  <a:cubicBezTo>
                    <a:pt x="0" y="476"/>
                    <a:pt x="38" y="657"/>
                    <a:pt x="151" y="733"/>
                  </a:cubicBezTo>
                  <a:cubicBezTo>
                    <a:pt x="264" y="809"/>
                    <a:pt x="620" y="877"/>
                    <a:pt x="741" y="824"/>
                  </a:cubicBezTo>
                  <a:cubicBezTo>
                    <a:pt x="862" y="771"/>
                    <a:pt x="892" y="544"/>
                    <a:pt x="877" y="416"/>
                  </a:cubicBezTo>
                  <a:cubicBezTo>
                    <a:pt x="862" y="288"/>
                    <a:pt x="710" y="106"/>
                    <a:pt x="650" y="53"/>
                  </a:cubicBezTo>
                  <a:cubicBezTo>
                    <a:pt x="590" y="0"/>
                    <a:pt x="612" y="45"/>
                    <a:pt x="514" y="98"/>
                  </a:cubicBezTo>
                  <a:close/>
                </a:path>
              </a:pathLst>
            </a:cu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289240" y="4797360"/>
              <a:ext cx="1415880" cy="1392480"/>
            </a:xfrm>
            <a:custGeom>
              <a:avLst/>
              <a:gdLst/>
              <a:ahLst/>
              <a:rect l="l" t="t" r="r" b="b"/>
              <a:pathLst>
                <a:path w="892" h="877">
                  <a:moveTo>
                    <a:pt x="514" y="98"/>
                  </a:moveTo>
                  <a:cubicBezTo>
                    <a:pt x="416" y="151"/>
                    <a:pt x="120" y="264"/>
                    <a:pt x="60" y="370"/>
                  </a:cubicBezTo>
                  <a:cubicBezTo>
                    <a:pt x="0" y="476"/>
                    <a:pt x="38" y="657"/>
                    <a:pt x="151" y="733"/>
                  </a:cubicBezTo>
                  <a:cubicBezTo>
                    <a:pt x="264" y="809"/>
                    <a:pt x="620" y="877"/>
                    <a:pt x="741" y="824"/>
                  </a:cubicBezTo>
                  <a:cubicBezTo>
                    <a:pt x="862" y="771"/>
                    <a:pt x="892" y="544"/>
                    <a:pt x="877" y="416"/>
                  </a:cubicBezTo>
                  <a:cubicBezTo>
                    <a:pt x="862" y="288"/>
                    <a:pt x="710" y="106"/>
                    <a:pt x="650" y="53"/>
                  </a:cubicBezTo>
                  <a:cubicBezTo>
                    <a:pt x="590" y="0"/>
                    <a:pt x="612" y="45"/>
                    <a:pt x="514" y="98"/>
                  </a:cubicBez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1195200">
              <a:off x="2344320" y="5501880"/>
              <a:ext cx="1098720" cy="663480"/>
            </a:xfrm>
            <a:prstGeom prst="ellipse">
              <a:avLst/>
            </a:prstGeom>
            <a:solidFill>
              <a:srgbClr val="ededa5"/>
            </a:solidFill>
            <a:ln w="5724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7" name=""/>
          <p:cNvGrpSpPr/>
          <p:nvPr/>
        </p:nvGrpSpPr>
        <p:grpSpPr>
          <a:xfrm>
            <a:off x="4305240" y="4941720"/>
            <a:ext cx="1368000" cy="1207800"/>
            <a:chOff x="4305240" y="4941720"/>
            <a:chExt cx="1368000" cy="1207800"/>
          </a:xfrm>
        </p:grpSpPr>
        <p:sp>
          <p:nvSpPr>
            <p:cNvPr id="608" name=""/>
            <p:cNvSpPr/>
            <p:nvPr/>
          </p:nvSpPr>
          <p:spPr>
            <a:xfrm>
              <a:off x="4305240" y="4941720"/>
              <a:ext cx="1126800" cy="112680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546080" y="5009040"/>
              <a:ext cx="1127160" cy="112644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84800" y="5103360"/>
              <a:ext cx="966960" cy="966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546080" y="5103360"/>
              <a:ext cx="1046880" cy="1046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546080" y="5023080"/>
              <a:ext cx="1127160" cy="1126440"/>
            </a:xfrm>
            <a:prstGeom prst="ellipse">
              <a:avLst/>
            </a:prstGeom>
            <a:noFill/>
            <a:ln w="5724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6073560" y="4808160"/>
            <a:ext cx="1504800" cy="1512360"/>
            <a:chOff x="6073560" y="4808160"/>
            <a:chExt cx="1504800" cy="1512360"/>
          </a:xfrm>
        </p:grpSpPr>
        <p:sp>
          <p:nvSpPr>
            <p:cNvPr id="614" name=""/>
            <p:cNvSpPr/>
            <p:nvPr/>
          </p:nvSpPr>
          <p:spPr>
            <a:xfrm rot="900000">
              <a:off x="6197400" y="5062680"/>
              <a:ext cx="1162800" cy="1099080"/>
            </a:xfrm>
            <a:custGeom>
              <a:avLst/>
              <a:gdLst/>
              <a:ahLst/>
              <a:rect l="l" t="t" r="r" b="b"/>
              <a:pathLst>
                <a:path w="824" h="779">
                  <a:moveTo>
                    <a:pt x="408" y="0"/>
                  </a:moveTo>
                  <a:cubicBezTo>
                    <a:pt x="287" y="0"/>
                    <a:pt x="90" y="0"/>
                    <a:pt x="45" y="91"/>
                  </a:cubicBezTo>
                  <a:cubicBezTo>
                    <a:pt x="0" y="182"/>
                    <a:pt x="76" y="432"/>
                    <a:pt x="136" y="545"/>
                  </a:cubicBezTo>
                  <a:cubicBezTo>
                    <a:pt x="196" y="658"/>
                    <a:pt x="310" y="779"/>
                    <a:pt x="408" y="771"/>
                  </a:cubicBezTo>
                  <a:cubicBezTo>
                    <a:pt x="506" y="763"/>
                    <a:pt x="666" y="612"/>
                    <a:pt x="726" y="499"/>
                  </a:cubicBezTo>
                  <a:cubicBezTo>
                    <a:pt x="786" y="386"/>
                    <a:pt x="824" y="174"/>
                    <a:pt x="771" y="91"/>
                  </a:cubicBezTo>
                  <a:cubicBezTo>
                    <a:pt x="718" y="8"/>
                    <a:pt x="529" y="0"/>
                    <a:pt x="408" y="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900000">
              <a:off x="6929280" y="4831200"/>
              <a:ext cx="205200" cy="2044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0" y="136"/>
                  </a:moveTo>
                  <a:lnTo>
                    <a:pt x="0" y="0"/>
                  </a:lnTo>
                  <a:lnTo>
                    <a:pt x="136" y="0"/>
                  </a:lnTo>
                  <a:lnTo>
                    <a:pt x="91" y="136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9cc00"/>
            </a:solidFill>
            <a:ln w="572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900000">
              <a:off x="6204240" y="5004720"/>
              <a:ext cx="1243080" cy="1174680"/>
            </a:xfrm>
            <a:custGeom>
              <a:avLst/>
              <a:gdLst/>
              <a:ahLst/>
              <a:rect l="l" t="t" r="r" b="b"/>
              <a:pathLst>
                <a:path w="824" h="779">
                  <a:moveTo>
                    <a:pt x="408" y="0"/>
                  </a:moveTo>
                  <a:cubicBezTo>
                    <a:pt x="287" y="0"/>
                    <a:pt x="90" y="0"/>
                    <a:pt x="45" y="91"/>
                  </a:cubicBezTo>
                  <a:cubicBezTo>
                    <a:pt x="0" y="182"/>
                    <a:pt x="76" y="432"/>
                    <a:pt x="136" y="545"/>
                  </a:cubicBezTo>
                  <a:cubicBezTo>
                    <a:pt x="196" y="658"/>
                    <a:pt x="310" y="779"/>
                    <a:pt x="408" y="771"/>
                  </a:cubicBezTo>
                  <a:cubicBezTo>
                    <a:pt x="506" y="763"/>
                    <a:pt x="666" y="612"/>
                    <a:pt x="726" y="499"/>
                  </a:cubicBezTo>
                  <a:cubicBezTo>
                    <a:pt x="786" y="386"/>
                    <a:pt x="824" y="174"/>
                    <a:pt x="771" y="91"/>
                  </a:cubicBezTo>
                  <a:cubicBezTo>
                    <a:pt x="718" y="8"/>
                    <a:pt x="529" y="0"/>
                    <a:pt x="408" y="0"/>
                  </a:cubicBezTo>
                  <a:close/>
                </a:path>
              </a:pathLst>
            </a:custGeom>
            <a:noFill/>
            <a:ln w="57240">
              <a:solidFill>
                <a:srgbClr val="8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7977240" y="4941720"/>
            <a:ext cx="1368360" cy="1208160"/>
            <a:chOff x="7977240" y="4941720"/>
            <a:chExt cx="1368360" cy="1208160"/>
          </a:xfrm>
        </p:grpSpPr>
        <p:sp>
          <p:nvSpPr>
            <p:cNvPr id="618" name=""/>
            <p:cNvSpPr/>
            <p:nvPr/>
          </p:nvSpPr>
          <p:spPr>
            <a:xfrm>
              <a:off x="7977240" y="4941720"/>
              <a:ext cx="1127160" cy="1127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217000" y="5010120"/>
              <a:ext cx="1127160" cy="1127160"/>
            </a:xfrm>
            <a:prstGeom prst="ellipse">
              <a:avLst/>
            </a:prstGeom>
            <a:solidFill>
              <a:srgbClr val="ffffff"/>
            </a:solidFill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56440" y="5103720"/>
              <a:ext cx="968400" cy="9669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218440" y="5103720"/>
              <a:ext cx="1047960" cy="1046160"/>
            </a:xfrm>
            <a:prstGeom prst="ellipse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218440" y="5011560"/>
              <a:ext cx="1127160" cy="1127160"/>
            </a:xfrm>
            <a:prstGeom prst="ellipse">
              <a:avLst/>
            </a:prstGeom>
            <a:noFill/>
            <a:ln w="5724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11-14T07:03:54Z</dcterms:modified>
  <cp:revision>1</cp:revision>
  <dc:subject>PPT200_シンプルな野菜と果物</dc:subject>
  <dc:title>PPT200_シンプルな野菜と果物</dc:title>
</cp:coreProperties>
</file>