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472-070E-4533-8085-EC32DE8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541-5096-4A8B-9F2E-903DA9F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948-D6E7-4109-9790-885A5102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F29-62DE-45D1-9C00-40569198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AB3-CF5C-4DA7-A051-892BF08B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DB0-52A4-4911-97C0-99A27E01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A00-D5DD-4AE1-85D2-5346A68E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A3F-FD92-4EDE-BDAC-6FCC82BD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6C1-1D46-46DA-B2E1-B1066B2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C8C-965D-4C88-AE2B-BF2A26C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DEB-FB20-44BC-8FED-5F6927D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5A6-53F5-4BE9-9BC8-CC2B833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511A-5C19-4963-A93A-B919469C8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1280" y="968400"/>
          <a:ext cx="909000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9090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41280" y="968400"/>
          <a:ext cx="885996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885996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99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1280" y="968400"/>
          <a:ext cx="909000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9090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333399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41280" y="968400"/>
          <a:ext cx="909000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9090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cc00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99ff99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41280" y="968400"/>
          <a:ext cx="909000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9090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0066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41280" y="968400"/>
          <a:ext cx="885996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885996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99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1280" y="968400"/>
          <a:ext cx="885996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885996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333399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cc00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1280" y="968400"/>
          <a:ext cx="885996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885996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99ff99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0066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1280" y="968400"/>
          <a:ext cx="885996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885996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4520" y="404640"/>
            <a:ext cx="9145440" cy="6193080"/>
          </a:xfrm>
          <a:prstGeom prst="roundRect">
            <a:avLst>
              <a:gd name="adj" fmla="val 391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41280" y="968400"/>
          <a:ext cx="885996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68400"/>
                    <a:ext cx="885996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78800" y="9079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単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520" y="6206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 グラフタイト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0:51:30Z</dcterms:created>
  <dc:creator>http://www.digipot.net</dc:creator>
  <dc:description/>
  <dc:language>en-US</dc:language>
  <cp:lastModifiedBy>http://www.digipot.net</cp:lastModifiedBy>
  <dcterms:modified xsi:type="dcterms:W3CDTF">2012-11-13T06:30:23Z</dcterms:modified>
  <cp:revision>1</cp:revision>
  <dc:subject>PPT199_折れ線グラフ</dc:subject>
  <dc:title>PPT199_折れ線グラフ</dc:title>
</cp:coreProperties>
</file>