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160880" y="836640"/>
            <a:ext cx="1655640" cy="1297080"/>
            <a:chOff x="4160880" y="836640"/>
            <a:chExt cx="1655640" cy="1297080"/>
          </a:xfrm>
        </p:grpSpPr>
        <p:sp>
          <p:nvSpPr>
            <p:cNvPr id="55" name=""/>
            <p:cNvSpPr/>
            <p:nvPr/>
          </p:nvSpPr>
          <p:spPr>
            <a:xfrm>
              <a:off x="416088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088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32160" y="873000"/>
              <a:ext cx="1511640" cy="1079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32160" y="873000"/>
              <a:ext cx="151164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32160" y="90972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32160" y="90972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289240" y="836640"/>
            <a:ext cx="1655640" cy="1297080"/>
            <a:chOff x="2289240" y="836640"/>
            <a:chExt cx="1655640" cy="1297080"/>
          </a:xfrm>
        </p:grpSpPr>
        <p:sp>
          <p:nvSpPr>
            <p:cNvPr id="62" name=""/>
            <p:cNvSpPr/>
            <p:nvPr/>
          </p:nvSpPr>
          <p:spPr>
            <a:xfrm>
              <a:off x="228924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9240" y="83664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0520" y="87336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0520" y="87336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6052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052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032520" y="836640"/>
            <a:ext cx="1655640" cy="1297080"/>
            <a:chOff x="6032520" y="836640"/>
            <a:chExt cx="1655640" cy="1297080"/>
          </a:xfrm>
        </p:grpSpPr>
        <p:sp>
          <p:nvSpPr>
            <p:cNvPr id="69" name=""/>
            <p:cNvSpPr/>
            <p:nvPr/>
          </p:nvSpPr>
          <p:spPr>
            <a:xfrm>
              <a:off x="603252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3252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04160" y="87300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04160" y="87300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0416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416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905600" y="836640"/>
            <a:ext cx="1655640" cy="1297080"/>
            <a:chOff x="7905600" y="836640"/>
            <a:chExt cx="1655640" cy="1297080"/>
          </a:xfrm>
        </p:grpSpPr>
        <p:sp>
          <p:nvSpPr>
            <p:cNvPr id="76" name=""/>
            <p:cNvSpPr/>
            <p:nvPr/>
          </p:nvSpPr>
          <p:spPr>
            <a:xfrm>
              <a:off x="790560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76880" y="87300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6880" y="87300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7688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97688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5800" y="836640"/>
            <a:ext cx="1655640" cy="1297080"/>
            <a:chOff x="415800" y="836640"/>
            <a:chExt cx="1655640" cy="1297080"/>
          </a:xfrm>
        </p:grpSpPr>
        <p:sp>
          <p:nvSpPr>
            <p:cNvPr id="83" name=""/>
            <p:cNvSpPr/>
            <p:nvPr/>
          </p:nvSpPr>
          <p:spPr>
            <a:xfrm>
              <a:off x="41580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5800" y="83664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080" y="87336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080" y="87336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8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08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60880" y="2781360"/>
            <a:ext cx="1655640" cy="1306440"/>
            <a:chOff x="4160880" y="2781360"/>
            <a:chExt cx="1655640" cy="1306440"/>
          </a:xfrm>
        </p:grpSpPr>
        <p:sp>
          <p:nvSpPr>
            <p:cNvPr id="90" name=""/>
            <p:cNvSpPr/>
            <p:nvPr/>
          </p:nvSpPr>
          <p:spPr>
            <a:xfrm>
              <a:off x="416088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6088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2160" y="2817720"/>
              <a:ext cx="1511640" cy="1079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2160" y="2817720"/>
              <a:ext cx="151164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32160" y="285444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2160" y="285444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411800" y="2889360"/>
              <a:ext cx="1188720" cy="757080"/>
              <a:chOff x="4411800" y="2889360"/>
              <a:chExt cx="1188720" cy="757080"/>
            </a:xfrm>
          </p:grpSpPr>
          <p:sp>
            <p:nvSpPr>
              <p:cNvPr id="97" name=""/>
              <p:cNvSpPr/>
              <p:nvPr/>
            </p:nvSpPr>
            <p:spPr>
              <a:xfrm>
                <a:off x="441180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24988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8956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1180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160880" y="279072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60880" y="279072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32160" y="2827440"/>
              <a:ext cx="1511640" cy="1079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32160" y="2827440"/>
              <a:ext cx="151164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32160" y="286380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2160" y="286380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411800" y="2898720"/>
              <a:ext cx="1188720" cy="757080"/>
              <a:chOff x="4411800" y="2898720"/>
              <a:chExt cx="1188720" cy="75708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1800" y="314604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249880" y="314604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89560" y="344772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11800" y="289872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289240" y="2781360"/>
            <a:ext cx="1655640" cy="1306440"/>
            <a:chOff x="2289240" y="2781360"/>
            <a:chExt cx="1655640" cy="1306440"/>
          </a:xfrm>
        </p:grpSpPr>
        <p:sp>
          <p:nvSpPr>
            <p:cNvPr id="113" name=""/>
            <p:cNvSpPr/>
            <p:nvPr/>
          </p:nvSpPr>
          <p:spPr>
            <a:xfrm>
              <a:off x="228924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240" y="278136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0520" y="281808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0520" y="281808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052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052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540160" y="2889360"/>
              <a:ext cx="1188720" cy="757080"/>
              <a:chOff x="2540160" y="2889360"/>
              <a:chExt cx="1188720" cy="7570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4016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37824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1792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4016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289240" y="2791080"/>
              <a:ext cx="1655640" cy="12967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9240" y="27910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0520" y="28274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0520" y="28274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0520" y="28641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0520" y="28641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540160" y="2899080"/>
              <a:ext cx="1188720" cy="757080"/>
              <a:chOff x="2540160" y="2899080"/>
              <a:chExt cx="1188720" cy="757080"/>
            </a:xfrm>
          </p:grpSpPr>
          <p:sp>
            <p:nvSpPr>
              <p:cNvPr id="131" name=""/>
              <p:cNvSpPr/>
              <p:nvPr/>
            </p:nvSpPr>
            <p:spPr>
              <a:xfrm>
                <a:off x="2540160" y="314640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378240" y="314640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17920" y="344808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0160" y="289908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6032520" y="2781360"/>
            <a:ext cx="1655640" cy="1306440"/>
            <a:chOff x="6032520" y="2781360"/>
            <a:chExt cx="1655640" cy="1306440"/>
          </a:xfrm>
        </p:grpSpPr>
        <p:sp>
          <p:nvSpPr>
            <p:cNvPr id="136" name=""/>
            <p:cNvSpPr/>
            <p:nvPr/>
          </p:nvSpPr>
          <p:spPr>
            <a:xfrm>
              <a:off x="603252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252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04160" y="281772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04160" y="281772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0416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0416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283440" y="2889360"/>
              <a:ext cx="1188720" cy="757080"/>
              <a:chOff x="6283440" y="2889360"/>
              <a:chExt cx="1188720" cy="757080"/>
            </a:xfrm>
          </p:grpSpPr>
          <p:sp>
            <p:nvSpPr>
              <p:cNvPr id="143" name=""/>
              <p:cNvSpPr/>
              <p:nvPr/>
            </p:nvSpPr>
            <p:spPr>
              <a:xfrm>
                <a:off x="628344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12152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6120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8344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032520" y="279072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32520" y="279072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4160" y="282744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04160" y="282744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4160" y="286380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4160" y="286380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283440" y="2898720"/>
              <a:ext cx="1188720" cy="757080"/>
              <a:chOff x="6283440" y="2898720"/>
              <a:chExt cx="1188720" cy="757080"/>
            </a:xfrm>
          </p:grpSpPr>
          <p:sp>
            <p:nvSpPr>
              <p:cNvPr id="154" name=""/>
              <p:cNvSpPr/>
              <p:nvPr/>
            </p:nvSpPr>
            <p:spPr>
              <a:xfrm>
                <a:off x="6283440" y="314604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121520" y="314604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61200" y="344772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83440" y="289872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7905600" y="2781360"/>
            <a:ext cx="1655640" cy="1306440"/>
            <a:chOff x="7905600" y="2781360"/>
            <a:chExt cx="1655640" cy="1306440"/>
          </a:xfrm>
        </p:grpSpPr>
        <p:sp>
          <p:nvSpPr>
            <p:cNvPr id="159" name=""/>
            <p:cNvSpPr/>
            <p:nvPr/>
          </p:nvSpPr>
          <p:spPr>
            <a:xfrm>
              <a:off x="790560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560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76880" y="281772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76880" y="281772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7688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7688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156160" y="2889360"/>
              <a:ext cx="1188720" cy="757080"/>
              <a:chOff x="8156160" y="2889360"/>
              <a:chExt cx="1188720" cy="757080"/>
            </a:xfrm>
          </p:grpSpPr>
          <p:sp>
            <p:nvSpPr>
              <p:cNvPr id="166" name=""/>
              <p:cNvSpPr/>
              <p:nvPr/>
            </p:nvSpPr>
            <p:spPr>
              <a:xfrm>
                <a:off x="815616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99424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3392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5616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905600" y="279072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05600" y="279072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76880" y="282744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76880" y="282744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76880" y="286380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76880" y="286380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8156160" y="2898720"/>
              <a:ext cx="1188720" cy="757080"/>
              <a:chOff x="8156160" y="2898720"/>
              <a:chExt cx="1188720" cy="757080"/>
            </a:xfrm>
          </p:grpSpPr>
          <p:sp>
            <p:nvSpPr>
              <p:cNvPr id="177" name=""/>
              <p:cNvSpPr/>
              <p:nvPr/>
            </p:nvSpPr>
            <p:spPr>
              <a:xfrm>
                <a:off x="8156160" y="314604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994240" y="314604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33920" y="344772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56160" y="289872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415800" y="2781360"/>
            <a:ext cx="1655640" cy="1306440"/>
            <a:chOff x="415800" y="2781360"/>
            <a:chExt cx="1655640" cy="1306440"/>
          </a:xfrm>
        </p:grpSpPr>
        <p:sp>
          <p:nvSpPr>
            <p:cNvPr id="182" name=""/>
            <p:cNvSpPr/>
            <p:nvPr/>
          </p:nvSpPr>
          <p:spPr>
            <a:xfrm>
              <a:off x="41580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5800" y="278136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080" y="281808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080" y="281808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08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08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66720" y="2889360"/>
              <a:ext cx="1188720" cy="757080"/>
              <a:chOff x="666720" y="2889360"/>
              <a:chExt cx="1188720" cy="757080"/>
            </a:xfrm>
          </p:grpSpPr>
          <p:sp>
            <p:nvSpPr>
              <p:cNvPr id="189" name=""/>
              <p:cNvSpPr/>
              <p:nvPr/>
            </p:nvSpPr>
            <p:spPr>
              <a:xfrm>
                <a:off x="66672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50480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448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672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15800" y="2791080"/>
              <a:ext cx="1655640" cy="129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5800" y="27910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080" y="28274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7080" y="28274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080" y="28641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080" y="28641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68160" y="2889360"/>
              <a:ext cx="1188720" cy="757080"/>
              <a:chOff x="668160" y="2889360"/>
              <a:chExt cx="1188720" cy="757080"/>
            </a:xfrm>
          </p:grpSpPr>
          <p:sp>
            <p:nvSpPr>
              <p:cNvPr id="200" name=""/>
              <p:cNvSpPr/>
              <p:nvPr/>
            </p:nvSpPr>
            <p:spPr>
              <a:xfrm>
                <a:off x="668160" y="3136680"/>
                <a:ext cx="35064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506240" y="3136680"/>
                <a:ext cx="349200" cy="18900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408" y="227"/>
                    </a:moveTo>
                    <a:lnTo>
                      <a:pt x="408" y="204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408" y="2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5920" y="3438360"/>
                <a:ext cx="1052280" cy="208080"/>
              </a:xfrm>
              <a:custGeom>
                <a:avLst/>
                <a:gdLst/>
                <a:ahLst/>
                <a:rect l="l" t="t" r="r" b="b"/>
                <a:pathLst>
                  <a:path w="1225" h="249">
                    <a:moveTo>
                      <a:pt x="0" y="249"/>
                    </a:moveTo>
                    <a:lnTo>
                      <a:pt x="0" y="226"/>
                    </a:lnTo>
                    <a:lnTo>
                      <a:pt x="590" y="0"/>
                    </a:lnTo>
                    <a:lnTo>
                      <a:pt x="1225" y="226"/>
                    </a:lnTo>
                    <a:lnTo>
                      <a:pt x="1225" y="249"/>
                    </a:lnTo>
                    <a:lnTo>
                      <a:pt x="590" y="22"/>
                    </a:lnTo>
                    <a:lnTo>
                      <a:pt x="0" y="2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160" y="2889360"/>
                <a:ext cx="1188720" cy="738000"/>
              </a:xfrm>
              <a:custGeom>
                <a:avLst/>
                <a:gdLst/>
                <a:ahLst/>
                <a:rect l="l" t="t" r="r" b="b"/>
                <a:pathLst>
                  <a:path w="1384" h="887">
                    <a:moveTo>
                      <a:pt x="698" y="0"/>
                    </a:moveTo>
                    <a:lnTo>
                      <a:pt x="522" y="297"/>
                    </a:lnTo>
                    <a:lnTo>
                      <a:pt x="0" y="297"/>
                    </a:lnTo>
                    <a:lnTo>
                      <a:pt x="409" y="501"/>
                    </a:lnTo>
                    <a:lnTo>
                      <a:pt x="91" y="887"/>
                    </a:lnTo>
                    <a:lnTo>
                      <a:pt x="681" y="660"/>
                    </a:lnTo>
                    <a:lnTo>
                      <a:pt x="1316" y="887"/>
                    </a:lnTo>
                    <a:lnTo>
                      <a:pt x="998" y="501"/>
                    </a:lnTo>
                    <a:lnTo>
                      <a:pt x="1384" y="297"/>
                    </a:lnTo>
                    <a:lnTo>
                      <a:pt x="862" y="297"/>
                    </a:lnTo>
                    <a:lnTo>
                      <a:pt x="69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415800" y="4724280"/>
            <a:ext cx="1655640" cy="1296720"/>
            <a:chOff x="415800" y="4724280"/>
            <a:chExt cx="1655640" cy="1296720"/>
          </a:xfrm>
        </p:grpSpPr>
        <p:sp>
          <p:nvSpPr>
            <p:cNvPr id="205" name=""/>
            <p:cNvSpPr/>
            <p:nvPr/>
          </p:nvSpPr>
          <p:spPr>
            <a:xfrm>
              <a:off x="415800" y="4724280"/>
              <a:ext cx="1655640" cy="129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800" y="47242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080" y="47606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080" y="47606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080" y="4797000"/>
              <a:ext cx="1511280" cy="1043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080" y="4797000"/>
              <a:ext cx="1511280" cy="1043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31440" y="4911480"/>
              <a:ext cx="118908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289240" y="4724280"/>
            <a:ext cx="1655640" cy="1296720"/>
            <a:chOff x="2289240" y="4724280"/>
            <a:chExt cx="1655640" cy="1296720"/>
          </a:xfrm>
        </p:grpSpPr>
        <p:sp>
          <p:nvSpPr>
            <p:cNvPr id="213" name=""/>
            <p:cNvSpPr/>
            <p:nvPr/>
          </p:nvSpPr>
          <p:spPr>
            <a:xfrm>
              <a:off x="2289240" y="4724280"/>
              <a:ext cx="1655640" cy="12967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9240" y="47242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0520" y="47606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0520" y="47606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0520" y="4797000"/>
              <a:ext cx="1511280" cy="1043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0520" y="4797000"/>
              <a:ext cx="1511280" cy="1043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2530440" y="4912920"/>
              <a:ext cx="118908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a800"/>
                      </a:gs>
                      <a:gs pos="100000">
                        <a:srgbClr val="825600"/>
                      </a:gs>
                    </a:gsLst>
                    <a:lin ang="13500000"/>
                  </a:gradFill>
                  <a:latin typeface="Impact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160880" y="4724280"/>
            <a:ext cx="1655640" cy="1297080"/>
            <a:chOff x="4160880" y="4724280"/>
            <a:chExt cx="1655640" cy="1297080"/>
          </a:xfrm>
        </p:grpSpPr>
        <p:sp>
          <p:nvSpPr>
            <p:cNvPr id="221" name=""/>
            <p:cNvSpPr/>
            <p:nvPr/>
          </p:nvSpPr>
          <p:spPr>
            <a:xfrm>
              <a:off x="416088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0880" y="4724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2160" y="4761000"/>
              <a:ext cx="1511640" cy="1079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2160" y="4761000"/>
              <a:ext cx="151164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32160" y="479736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2160" y="479736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402080" y="4913280"/>
              <a:ext cx="118908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032520" y="4724280"/>
            <a:ext cx="1655640" cy="1297080"/>
            <a:chOff x="6032520" y="4724280"/>
            <a:chExt cx="1655640" cy="1297080"/>
          </a:xfrm>
        </p:grpSpPr>
        <p:sp>
          <p:nvSpPr>
            <p:cNvPr id="229" name=""/>
            <p:cNvSpPr/>
            <p:nvPr/>
          </p:nvSpPr>
          <p:spPr>
            <a:xfrm>
              <a:off x="603252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2520" y="4724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04160" y="4761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04160" y="4761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416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0416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237360" y="4948200"/>
              <a:ext cx="118908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latin typeface="Impact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05600" y="4724280"/>
            <a:ext cx="1655640" cy="1297080"/>
            <a:chOff x="7905600" y="4724280"/>
            <a:chExt cx="1655640" cy="1297080"/>
          </a:xfrm>
        </p:grpSpPr>
        <p:sp>
          <p:nvSpPr>
            <p:cNvPr id="237" name=""/>
            <p:cNvSpPr/>
            <p:nvPr/>
          </p:nvSpPr>
          <p:spPr>
            <a:xfrm>
              <a:off x="790560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0" y="4724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76880" y="4761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880" y="4761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688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7688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8127720" y="4949640"/>
              <a:ext cx="118908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e6e6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15800" y="836640"/>
            <a:ext cx="1655640" cy="1297080"/>
            <a:chOff x="415800" y="836640"/>
            <a:chExt cx="1655640" cy="1297080"/>
          </a:xfrm>
        </p:grpSpPr>
        <p:sp>
          <p:nvSpPr>
            <p:cNvPr id="245" name=""/>
            <p:cNvSpPr/>
            <p:nvPr/>
          </p:nvSpPr>
          <p:spPr>
            <a:xfrm>
              <a:off x="41580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83664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080" y="87336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080" y="87336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08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8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5400000">
              <a:off x="811800" y="72936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560160" y="1089360"/>
              <a:ext cx="133200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884160" y="1162080"/>
              <a:ext cx="71892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9240" y="836640"/>
            <a:ext cx="1655640" cy="1297080"/>
            <a:chOff x="2289240" y="836640"/>
            <a:chExt cx="1655640" cy="1297080"/>
          </a:xfrm>
        </p:grpSpPr>
        <p:sp>
          <p:nvSpPr>
            <p:cNvPr id="255" name=""/>
            <p:cNvSpPr/>
            <p:nvPr/>
          </p:nvSpPr>
          <p:spPr>
            <a:xfrm>
              <a:off x="228924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9240" y="83664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60520" y="87336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60520" y="87336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052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6052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5400000">
              <a:off x="2710800" y="72936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459160" y="1089360"/>
              <a:ext cx="133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782800" y="1162080"/>
              <a:ext cx="719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89240" y="836640"/>
            <a:ext cx="1655640" cy="1297080"/>
            <a:chOff x="4089240" y="836640"/>
            <a:chExt cx="1655640" cy="1297080"/>
          </a:xfrm>
        </p:grpSpPr>
        <p:sp>
          <p:nvSpPr>
            <p:cNvPr id="265" name=""/>
            <p:cNvSpPr/>
            <p:nvPr/>
          </p:nvSpPr>
          <p:spPr>
            <a:xfrm>
              <a:off x="408924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8924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60520" y="873000"/>
              <a:ext cx="1511640" cy="1079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60520" y="873000"/>
              <a:ext cx="151164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60520" y="90972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60520" y="90972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 rot="5400000">
              <a:off x="4489920" y="72936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238640" y="108900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4562280" y="116208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032520" y="836640"/>
            <a:ext cx="1655640" cy="1297080"/>
            <a:chOff x="6032520" y="836640"/>
            <a:chExt cx="1655640" cy="1297080"/>
          </a:xfrm>
        </p:grpSpPr>
        <p:sp>
          <p:nvSpPr>
            <p:cNvPr id="275" name=""/>
            <p:cNvSpPr/>
            <p:nvPr/>
          </p:nvSpPr>
          <p:spPr>
            <a:xfrm>
              <a:off x="603252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3252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04160" y="87300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04160" y="87300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416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0416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5400000">
              <a:off x="6437880" y="72936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6186600" y="1089000"/>
              <a:ext cx="133200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510240" y="116208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905600" y="836640"/>
            <a:ext cx="1655640" cy="1297080"/>
            <a:chOff x="7905600" y="836640"/>
            <a:chExt cx="1655640" cy="1297080"/>
          </a:xfrm>
        </p:grpSpPr>
        <p:sp>
          <p:nvSpPr>
            <p:cNvPr id="285" name=""/>
            <p:cNvSpPr/>
            <p:nvPr/>
          </p:nvSpPr>
          <p:spPr>
            <a:xfrm>
              <a:off x="7905600" y="83664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0" y="83664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76880" y="87300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76880" y="87300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76880" y="90972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76880" y="90972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 rot="5400000">
              <a:off x="8304480" y="72936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8053200" y="108900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8376840" y="116208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15800" y="2781360"/>
            <a:ext cx="1655640" cy="1297080"/>
            <a:chOff x="415800" y="2781360"/>
            <a:chExt cx="1655640" cy="1297080"/>
          </a:xfrm>
        </p:grpSpPr>
        <p:sp>
          <p:nvSpPr>
            <p:cNvPr id="295" name=""/>
            <p:cNvSpPr/>
            <p:nvPr/>
          </p:nvSpPr>
          <p:spPr>
            <a:xfrm>
              <a:off x="41580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5800" y="278136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080" y="281808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080" y="281808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08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08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5400000">
              <a:off x="811800" y="267444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560160" y="3034080"/>
              <a:ext cx="133200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884160" y="3106800"/>
              <a:ext cx="71892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289240" y="2781360"/>
            <a:ext cx="1655640" cy="1297080"/>
            <a:chOff x="2289240" y="2781360"/>
            <a:chExt cx="1655640" cy="1297080"/>
          </a:xfrm>
        </p:grpSpPr>
        <p:sp>
          <p:nvSpPr>
            <p:cNvPr id="305" name=""/>
            <p:cNvSpPr/>
            <p:nvPr/>
          </p:nvSpPr>
          <p:spPr>
            <a:xfrm>
              <a:off x="228924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9240" y="278136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0520" y="281808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0520" y="281808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052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052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5400000">
              <a:off x="2710800" y="267444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459160" y="3034080"/>
              <a:ext cx="133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782800" y="3106800"/>
              <a:ext cx="719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089240" y="2781360"/>
            <a:ext cx="1655640" cy="1297080"/>
            <a:chOff x="4089240" y="2781360"/>
            <a:chExt cx="1655640" cy="1297080"/>
          </a:xfrm>
        </p:grpSpPr>
        <p:sp>
          <p:nvSpPr>
            <p:cNvPr id="315" name=""/>
            <p:cNvSpPr/>
            <p:nvPr/>
          </p:nvSpPr>
          <p:spPr>
            <a:xfrm>
              <a:off x="408924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924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0520" y="2817720"/>
              <a:ext cx="1511640" cy="1079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60520" y="2817720"/>
              <a:ext cx="151164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60520" y="285444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60520" y="285444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 rot="5400000">
              <a:off x="4489920" y="267408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238640" y="303372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562280" y="310680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32520" y="2781360"/>
            <a:ext cx="1655640" cy="1297080"/>
            <a:chOff x="6032520" y="2781360"/>
            <a:chExt cx="1655640" cy="1297080"/>
          </a:xfrm>
        </p:grpSpPr>
        <p:sp>
          <p:nvSpPr>
            <p:cNvPr id="325" name=""/>
            <p:cNvSpPr/>
            <p:nvPr/>
          </p:nvSpPr>
          <p:spPr>
            <a:xfrm>
              <a:off x="603252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3252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04160" y="281772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04160" y="281772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0416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0416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5400000">
              <a:off x="6437880" y="267408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186600" y="3033720"/>
              <a:ext cx="133200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6510240" y="310680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905600" y="2781360"/>
            <a:ext cx="1655640" cy="1297080"/>
            <a:chOff x="7905600" y="2781360"/>
            <a:chExt cx="1655640" cy="1297080"/>
          </a:xfrm>
        </p:grpSpPr>
        <p:sp>
          <p:nvSpPr>
            <p:cNvPr id="335" name=""/>
            <p:cNvSpPr/>
            <p:nvPr/>
          </p:nvSpPr>
          <p:spPr>
            <a:xfrm>
              <a:off x="7905600" y="278136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05600" y="278136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6880" y="281772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76880" y="281772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76880" y="285444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76880" y="285444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 rot="5400000">
              <a:off x="8304480" y="267408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8053200" y="303372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8376840" y="310680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5800" y="4724280"/>
            <a:ext cx="1655640" cy="1297080"/>
            <a:chOff x="415800" y="4724280"/>
            <a:chExt cx="1655640" cy="1297080"/>
          </a:xfrm>
        </p:grpSpPr>
        <p:sp>
          <p:nvSpPr>
            <p:cNvPr id="345" name=""/>
            <p:cNvSpPr/>
            <p:nvPr/>
          </p:nvSpPr>
          <p:spPr>
            <a:xfrm>
              <a:off x="41580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5800" y="4724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080" y="4761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080" y="4761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708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708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5400000">
              <a:off x="811800" y="461736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60160" y="4977000"/>
              <a:ext cx="133200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884160" y="5049720"/>
              <a:ext cx="71892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f7f7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Impact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289240" y="4724280"/>
            <a:ext cx="1655640" cy="1297080"/>
            <a:chOff x="2289240" y="4724280"/>
            <a:chExt cx="1655640" cy="1297080"/>
          </a:xfrm>
        </p:grpSpPr>
        <p:sp>
          <p:nvSpPr>
            <p:cNvPr id="355" name=""/>
            <p:cNvSpPr/>
            <p:nvPr/>
          </p:nvSpPr>
          <p:spPr>
            <a:xfrm>
              <a:off x="228924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9240" y="4724280"/>
              <a:ext cx="1655640" cy="118764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0520" y="4761000"/>
              <a:ext cx="1511280" cy="107928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0520" y="4761000"/>
              <a:ext cx="1511280" cy="107928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052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052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 rot="5400000">
              <a:off x="2710800" y="4617360"/>
              <a:ext cx="90000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2459160" y="4977000"/>
              <a:ext cx="133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2782800" y="5049720"/>
              <a:ext cx="719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ffa800"/>
                      </a:gs>
                    </a:gsLst>
                    <a:lin ang="13500000"/>
                  </a:gradFill>
                  <a:latin typeface="Impact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089240" y="4724280"/>
            <a:ext cx="1655640" cy="1297080"/>
            <a:chOff x="4089240" y="4724280"/>
            <a:chExt cx="1655640" cy="1297080"/>
          </a:xfrm>
        </p:grpSpPr>
        <p:sp>
          <p:nvSpPr>
            <p:cNvPr id="365" name=""/>
            <p:cNvSpPr/>
            <p:nvPr/>
          </p:nvSpPr>
          <p:spPr>
            <a:xfrm>
              <a:off x="408924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9240" y="47242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0520" y="4760640"/>
              <a:ext cx="1511640" cy="107964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60520" y="4760640"/>
              <a:ext cx="151164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0520" y="4797360"/>
              <a:ext cx="1511640" cy="104292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60520" y="4797360"/>
              <a:ext cx="151164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 rot="5400000">
              <a:off x="4489920" y="461700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4238640" y="497664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562280" y="504972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dcac"/>
                      </a:gs>
                      <a:gs pos="50000">
                        <a:srgbClr val="e6dcac"/>
                      </a:gs>
                      <a:gs pos="100000">
                        <a:srgbClr val="e6dcac"/>
                      </a:gs>
                    </a:gsLst>
                    <a:lin ang="13500000"/>
                  </a:gradFill>
                  <a:latin typeface="Impact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2520" y="4724280"/>
            <a:ext cx="1655640" cy="1297080"/>
            <a:chOff x="6032520" y="4724280"/>
            <a:chExt cx="1655640" cy="1297080"/>
          </a:xfrm>
        </p:grpSpPr>
        <p:sp>
          <p:nvSpPr>
            <p:cNvPr id="375" name=""/>
            <p:cNvSpPr/>
            <p:nvPr/>
          </p:nvSpPr>
          <p:spPr>
            <a:xfrm>
              <a:off x="603252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5000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2520" y="47242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4160" y="47606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4160" y="47606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0416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416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5400000">
              <a:off x="6437880" y="461700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6186600" y="4976640"/>
              <a:ext cx="133200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6510240" y="504972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e3b7"/>
                      </a:gs>
                      <a:gs pos="100000">
                        <a:srgbClr val="fbe4ae"/>
                      </a:gs>
                    </a:gsLst>
                    <a:lin ang="13500000"/>
                  </a:gradFill>
                  <a:latin typeface="Impact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05600" y="4724280"/>
            <a:ext cx="1655640" cy="1297080"/>
            <a:chOff x="7905600" y="4724280"/>
            <a:chExt cx="1655640" cy="1297080"/>
          </a:xfrm>
        </p:grpSpPr>
        <p:sp>
          <p:nvSpPr>
            <p:cNvPr id="385" name=""/>
            <p:cNvSpPr/>
            <p:nvPr/>
          </p:nvSpPr>
          <p:spPr>
            <a:xfrm>
              <a:off x="7905600" y="4724280"/>
              <a:ext cx="1655640" cy="129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05600" y="4724280"/>
              <a:ext cx="1655640" cy="11872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76880" y="4760640"/>
              <a:ext cx="1511280" cy="10796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76880" y="4760640"/>
              <a:ext cx="1511280" cy="1079640"/>
            </a:xfrm>
            <a:prstGeom prst="ellipse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76880" y="4797360"/>
              <a:ext cx="1511280" cy="104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76880" y="4797360"/>
              <a:ext cx="1511280" cy="10429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 rot="5400000">
              <a:off x="8304480" y="4617000"/>
              <a:ext cx="900360" cy="13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7080094"/>
                  <a:gd name="adj2" fmla="val 682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8100000"/>
                  </a:gradFill>
                  <a:latin typeface="Impact"/>
                </a:rPr>
                <a:t>Anniversar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8100000"/>
                </a:gradFill>
                <a:latin typeface="Impact"/>
                <a:ea typeface="Impact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8053200" y="4976640"/>
              <a:ext cx="1331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21414664"/>
                  <a:gd name="adj2" fmla="val 69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http://www.digipot.net/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8376840" y="5049720"/>
              <a:ext cx="719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106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atin typeface="Impact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631800" y="765360"/>
            <a:ext cx="1116000" cy="2016000"/>
            <a:chOff x="631800" y="765360"/>
            <a:chExt cx="1116000" cy="2016000"/>
          </a:xfrm>
        </p:grpSpPr>
        <p:sp>
          <p:nvSpPr>
            <p:cNvPr id="395" name=""/>
            <p:cNvSpPr/>
            <p:nvPr/>
          </p:nvSpPr>
          <p:spPr>
            <a:xfrm>
              <a:off x="849240" y="2421000"/>
              <a:ext cx="64764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31800" y="765360"/>
              <a:ext cx="1116000" cy="1655640"/>
              <a:chOff x="631800" y="765360"/>
              <a:chExt cx="1116000" cy="1655640"/>
            </a:xfrm>
          </p:grpSpPr>
          <p:sp>
            <p:nvSpPr>
              <p:cNvPr id="397" name=""/>
              <p:cNvSpPr/>
              <p:nvPr/>
            </p:nvSpPr>
            <p:spPr>
              <a:xfrm rot="16200000">
                <a:off x="361800" y="103500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314640" y="1082160"/>
                <a:ext cx="1655640" cy="10216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00000">
                <a:off x="371520" y="1129680"/>
                <a:ext cx="1511280" cy="92844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200000">
                <a:off x="371520" y="1129680"/>
                <a:ext cx="1511280" cy="92844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200000">
                <a:off x="387360" y="1145520"/>
                <a:ext cx="1511280" cy="8971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387360" y="1145520"/>
                <a:ext cx="151128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2505240" y="765360"/>
            <a:ext cx="1116000" cy="2016000"/>
            <a:chOff x="2505240" y="765360"/>
            <a:chExt cx="1116000" cy="2016000"/>
          </a:xfrm>
        </p:grpSpPr>
        <p:grpSp>
          <p:nvGrpSpPr>
            <p:cNvPr id="404" name=""/>
            <p:cNvGrpSpPr/>
            <p:nvPr/>
          </p:nvGrpSpPr>
          <p:grpSpPr>
            <a:xfrm>
              <a:off x="2505240" y="765360"/>
              <a:ext cx="1116000" cy="1655640"/>
              <a:chOff x="2505240" y="765360"/>
              <a:chExt cx="1116000" cy="1655640"/>
            </a:xfrm>
          </p:grpSpPr>
          <p:sp>
            <p:nvSpPr>
              <p:cNvPr id="405" name=""/>
              <p:cNvSpPr/>
              <p:nvPr/>
            </p:nvSpPr>
            <p:spPr>
              <a:xfrm rot="16200000">
                <a:off x="2235240" y="103500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00000">
                <a:off x="2188080" y="1082160"/>
                <a:ext cx="1655640" cy="102168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00000">
                <a:off x="2244960" y="1129680"/>
                <a:ext cx="1511280" cy="92844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2244960" y="1129680"/>
                <a:ext cx="1511280" cy="92844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200000">
                <a:off x="2260800" y="1145520"/>
                <a:ext cx="1511280" cy="89712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200000">
                <a:off x="2260800" y="1145520"/>
                <a:ext cx="151128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2720880" y="2421000"/>
              <a:ext cx="64764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376880" y="765360"/>
            <a:ext cx="1116000" cy="2016000"/>
            <a:chOff x="4376880" y="765360"/>
            <a:chExt cx="1116000" cy="2016000"/>
          </a:xfrm>
        </p:grpSpPr>
        <p:grpSp>
          <p:nvGrpSpPr>
            <p:cNvPr id="413" name=""/>
            <p:cNvGrpSpPr/>
            <p:nvPr/>
          </p:nvGrpSpPr>
          <p:grpSpPr>
            <a:xfrm>
              <a:off x="4376880" y="765360"/>
              <a:ext cx="1116000" cy="1655640"/>
              <a:chOff x="4376880" y="765360"/>
              <a:chExt cx="1116000" cy="1655640"/>
            </a:xfrm>
          </p:grpSpPr>
          <p:sp>
            <p:nvSpPr>
              <p:cNvPr id="414" name=""/>
              <p:cNvSpPr/>
              <p:nvPr/>
            </p:nvSpPr>
            <p:spPr>
              <a:xfrm rot="16200000">
                <a:off x="4106880" y="103500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200000">
                <a:off x="4059720" y="1082520"/>
                <a:ext cx="1655640" cy="102132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4116240" y="1129320"/>
                <a:ext cx="1511640" cy="92880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6200000">
                <a:off x="4116240" y="1129320"/>
                <a:ext cx="1511640" cy="92880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00000">
                <a:off x="4132080" y="1145160"/>
                <a:ext cx="1511640" cy="897120"/>
              </a:xfrm>
              <a:prstGeom prst="ellipse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200000">
                <a:off x="4132080" y="1145160"/>
                <a:ext cx="151164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592520" y="2421000"/>
              <a:ext cx="64764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48520" y="765360"/>
            <a:ext cx="1116000" cy="2016000"/>
            <a:chOff x="6248520" y="765360"/>
            <a:chExt cx="1116000" cy="2016000"/>
          </a:xfrm>
        </p:grpSpPr>
        <p:grpSp>
          <p:nvGrpSpPr>
            <p:cNvPr id="422" name=""/>
            <p:cNvGrpSpPr/>
            <p:nvPr/>
          </p:nvGrpSpPr>
          <p:grpSpPr>
            <a:xfrm>
              <a:off x="6248520" y="765360"/>
              <a:ext cx="1116000" cy="1655640"/>
              <a:chOff x="6248520" y="765360"/>
              <a:chExt cx="1116000" cy="1655640"/>
            </a:xfrm>
          </p:grpSpPr>
          <p:sp>
            <p:nvSpPr>
              <p:cNvPr id="423" name=""/>
              <p:cNvSpPr/>
              <p:nvPr/>
            </p:nvSpPr>
            <p:spPr>
              <a:xfrm rot="16200000">
                <a:off x="5978520" y="103500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fae3b7"/>
                  </a:gs>
                  <a:gs pos="50000">
                    <a:srgbClr val="fbe4ae"/>
                  </a:gs>
                  <a:gs pos="100000">
                    <a:srgbClr val="fae3b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5931360" y="1082520"/>
                <a:ext cx="1655640" cy="1021320"/>
              </a:xfrm>
              <a:prstGeom prst="ellipse">
                <a:avLst/>
              </a:pr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6200000">
                <a:off x="5988240" y="1129320"/>
                <a:ext cx="1511280" cy="928800"/>
              </a:xfrm>
              <a:prstGeom prst="ellipse">
                <a:avLst/>
              </a:pr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6200000">
                <a:off x="5988240" y="1129320"/>
                <a:ext cx="1511280" cy="92880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6200000">
                <a:off x="6004080" y="1145160"/>
                <a:ext cx="1511280" cy="897120"/>
              </a:xfrm>
              <a:prstGeom prst="ellipse">
                <a:avLst/>
              </a:pr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6200000">
                <a:off x="6004080" y="1145160"/>
                <a:ext cx="151128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464160" y="2421000"/>
              <a:ext cx="64800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121600" y="765360"/>
            <a:ext cx="1116000" cy="2016000"/>
            <a:chOff x="8121600" y="765360"/>
            <a:chExt cx="1116000" cy="2016000"/>
          </a:xfrm>
        </p:grpSpPr>
        <p:grpSp>
          <p:nvGrpSpPr>
            <p:cNvPr id="431" name=""/>
            <p:cNvGrpSpPr/>
            <p:nvPr/>
          </p:nvGrpSpPr>
          <p:grpSpPr>
            <a:xfrm>
              <a:off x="8121600" y="765360"/>
              <a:ext cx="1116000" cy="1655640"/>
              <a:chOff x="8121600" y="765360"/>
              <a:chExt cx="1116000" cy="1655640"/>
            </a:xfrm>
          </p:grpSpPr>
          <p:sp>
            <p:nvSpPr>
              <p:cNvPr id="432" name=""/>
              <p:cNvSpPr/>
              <p:nvPr/>
            </p:nvSpPr>
            <p:spPr>
              <a:xfrm rot="16200000">
                <a:off x="7851600" y="103500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6200000">
                <a:off x="7804440" y="1082520"/>
                <a:ext cx="1655640" cy="102132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7861320" y="1129680"/>
                <a:ext cx="1511280" cy="92880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6200000">
                <a:off x="7861320" y="1129680"/>
                <a:ext cx="1511280" cy="92880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200000">
                <a:off x="7877160" y="1145520"/>
                <a:ext cx="1511280" cy="89712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200000">
                <a:off x="7877160" y="1145520"/>
                <a:ext cx="151128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337600" y="2421000"/>
              <a:ext cx="64764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04880" y="2781000"/>
            <a:ext cx="1116000" cy="2016360"/>
            <a:chOff x="704880" y="2781000"/>
            <a:chExt cx="1116000" cy="2016360"/>
          </a:xfrm>
        </p:grpSpPr>
        <p:sp>
          <p:nvSpPr>
            <p:cNvPr id="440" name=""/>
            <p:cNvSpPr/>
            <p:nvPr/>
          </p:nvSpPr>
          <p:spPr>
            <a:xfrm>
              <a:off x="922320" y="4437000"/>
              <a:ext cx="647640" cy="3603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704880" y="2781000"/>
              <a:ext cx="1116000" cy="1655640"/>
              <a:chOff x="704880" y="2781000"/>
              <a:chExt cx="1116000" cy="1655640"/>
            </a:xfrm>
          </p:grpSpPr>
          <p:sp>
            <p:nvSpPr>
              <p:cNvPr id="442" name=""/>
              <p:cNvSpPr/>
              <p:nvPr/>
            </p:nvSpPr>
            <p:spPr>
              <a:xfrm rot="16200000">
                <a:off x="434880" y="3050640"/>
                <a:ext cx="1655640" cy="11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00000">
                <a:off x="387720" y="3097800"/>
                <a:ext cx="1655640" cy="102168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6200000">
                <a:off x="444600" y="3145320"/>
                <a:ext cx="1511280" cy="92844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6200000">
                <a:off x="444600" y="3145320"/>
                <a:ext cx="1511280" cy="928440"/>
              </a:xfrm>
              <a:prstGeom prst="ellipse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6200000">
                <a:off x="460440" y="3161160"/>
                <a:ext cx="1511280" cy="8971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6200000">
                <a:off x="460440" y="3161160"/>
                <a:ext cx="1511280" cy="8971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794520" y="3322080"/>
              <a:ext cx="857520" cy="941040"/>
              <a:chOff x="794520" y="3322080"/>
              <a:chExt cx="857520" cy="94104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794520" y="3322080"/>
                <a:ext cx="857520" cy="941040"/>
                <a:chOff x="794520" y="3322080"/>
                <a:chExt cx="857520" cy="941040"/>
              </a:xfrm>
            </p:grpSpPr>
            <p:sp>
              <p:nvSpPr>
                <p:cNvPr id="450" name=""/>
                <p:cNvSpPr/>
                <p:nvPr/>
              </p:nvSpPr>
              <p:spPr>
                <a:xfrm rot="14400000">
                  <a:off x="837000" y="3520080"/>
                  <a:ext cx="772200" cy="544680"/>
                </a:xfrm>
                <a:prstGeom prst="blockArc">
                  <a:avLst>
                    <a:gd name="adj1" fmla="val 12949067"/>
                    <a:gd name="adj2" fmla="val 19450933"/>
                    <a:gd name="adj3" fmla="val 310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153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rot="7200000">
                  <a:off x="837000" y="3520440"/>
                  <a:ext cx="772200" cy="544320"/>
                </a:xfrm>
                <a:prstGeom prst="blockArc">
                  <a:avLst>
                    <a:gd name="adj1" fmla="val 12949067"/>
                    <a:gd name="adj2" fmla="val 19450933"/>
                    <a:gd name="adj3" fmla="val 310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153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971280" y="4140720"/>
                  <a:ext cx="146160" cy="69120"/>
                  <a:chOff x="971280" y="4140720"/>
                  <a:chExt cx="146160" cy="691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6200000">
                    <a:off x="1009800" y="4102200"/>
                    <a:ext cx="6912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9" h="658">
                        <a:moveTo>
                          <a:pt x="232" y="658"/>
                        </a:moveTo>
                        <a:cubicBezTo>
                          <a:pt x="156" y="658"/>
                          <a:pt x="5" y="563"/>
                          <a:pt x="5" y="454"/>
                        </a:cubicBezTo>
                        <a:cubicBezTo>
                          <a:pt x="0" y="201"/>
                          <a:pt x="215" y="0"/>
                          <a:pt x="232" y="1"/>
                        </a:cubicBezTo>
                        <a:cubicBezTo>
                          <a:pt x="254" y="2"/>
                          <a:pt x="455" y="198"/>
                          <a:pt x="459" y="454"/>
                        </a:cubicBezTo>
                        <a:cubicBezTo>
                          <a:pt x="459" y="567"/>
                          <a:pt x="308" y="658"/>
                          <a:pt x="232" y="65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f7f7f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36147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0-26T08:12:58Z</dcterms:modified>
  <cp:revision>1</cp:revision>
  <dc:subject>PPT196_メダル</dc:subject>
  <dc:title>PPT196_メダル</dc:title>
</cp:coreProperties>
</file>