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8920" y="166680"/>
            <a:ext cx="557208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920" y="166680"/>
            <a:ext cx="55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021360" y="106200"/>
            <a:ext cx="709560" cy="382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320" y="969156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33280" y="452520"/>
            <a:ext cx="6345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110760" y="3618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3280" y="689040"/>
            <a:ext cx="6345360" cy="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10760" y="59832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914400"/>
            <a:ext cx="6345360" cy="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10760" y="8240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3280" y="1251000"/>
            <a:ext cx="63453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10760" y="11606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3280" y="1487520"/>
            <a:ext cx="6345360" cy="0"/>
          </a:xfrm>
          <a:prstGeom prst="line">
            <a:avLst/>
          </a:prstGeom>
          <a:ln w="1260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10760" y="139716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3280" y="1712880"/>
            <a:ext cx="6345360" cy="0"/>
          </a:xfrm>
          <a:prstGeom prst="line">
            <a:avLst/>
          </a:prstGeom>
          <a:ln w="12600">
            <a:solidFill>
              <a:srgbClr val="c0c0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10760" y="162252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3280" y="2071800"/>
            <a:ext cx="6345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10760" y="198108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3280" y="2308320"/>
            <a:ext cx="634536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10760" y="22176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3280" y="2533680"/>
            <a:ext cx="6345360" cy="0"/>
          </a:xfrm>
          <a:prstGeom prst="line">
            <a:avLst/>
          </a:prstGeom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10760" y="244332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881440"/>
            <a:ext cx="6345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0760" y="279072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3280" y="3117960"/>
            <a:ext cx="6345360" cy="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10760" y="30272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3280" y="3343320"/>
            <a:ext cx="6345360" cy="0"/>
          </a:xfrm>
          <a:prstGeom prst="line">
            <a:avLst/>
          </a:prstGeom>
          <a:ln cap="rnd" w="57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10760" y="325296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89000" y="3733920"/>
            <a:ext cx="6345000" cy="44280"/>
            <a:chOff x="189000" y="3733920"/>
            <a:chExt cx="6345000" cy="44280"/>
          </a:xfrm>
        </p:grpSpPr>
        <p:grpSp>
          <p:nvGrpSpPr>
            <p:cNvPr id="64" name=""/>
            <p:cNvGrpSpPr/>
            <p:nvPr/>
          </p:nvGrpSpPr>
          <p:grpSpPr>
            <a:xfrm>
              <a:off x="189000" y="3733920"/>
              <a:ext cx="6345000" cy="44280"/>
              <a:chOff x="189000" y="3733920"/>
              <a:chExt cx="6345000" cy="44280"/>
            </a:xfrm>
          </p:grpSpPr>
          <p:sp>
            <p:nvSpPr>
              <p:cNvPr id="65" name=""/>
              <p:cNvSpPr/>
              <p:nvPr/>
            </p:nvSpPr>
            <p:spPr>
              <a:xfrm>
                <a:off x="50472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900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3508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4936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6544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7972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39544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70972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2580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65616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7044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8616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0044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1652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3080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4508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85936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17544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900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89720" y="3733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340080" y="3733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79360" y="3755880"/>
              <a:ext cx="6167520" cy="0"/>
              <a:chOff x="279360" y="3755880"/>
              <a:chExt cx="6167520" cy="0"/>
            </a:xfrm>
          </p:grpSpPr>
          <p:sp>
            <p:nvSpPr>
              <p:cNvPr id="87" name=""/>
              <p:cNvSpPr/>
              <p:nvPr/>
            </p:nvSpPr>
            <p:spPr>
              <a:xfrm>
                <a:off x="27936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5440" y="375588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909720" y="375588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22544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53972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5580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7008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486160" y="375588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800440" y="375588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4652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080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76880" y="375588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91160" y="375588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0688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1972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35800" y="375588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50080" y="375588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6580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1472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37558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189000" y="3959280"/>
            <a:ext cx="6345000" cy="44280"/>
            <a:chOff x="189000" y="3959280"/>
            <a:chExt cx="6345000" cy="44280"/>
          </a:xfrm>
        </p:grpSpPr>
        <p:grpSp>
          <p:nvGrpSpPr>
            <p:cNvPr id="108" name=""/>
            <p:cNvGrpSpPr/>
            <p:nvPr/>
          </p:nvGrpSpPr>
          <p:grpSpPr>
            <a:xfrm>
              <a:off x="189000" y="3959280"/>
              <a:ext cx="6345000" cy="44280"/>
              <a:chOff x="189000" y="3959280"/>
              <a:chExt cx="6345000" cy="44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0472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1900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3508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936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6544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7972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39544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0972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2580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65616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7044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8616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60044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1652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3080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4508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5936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7544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900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89720" y="395928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40080" y="395928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79360" y="3981600"/>
              <a:ext cx="6167520" cy="0"/>
              <a:chOff x="279360" y="3981600"/>
              <a:chExt cx="6167520" cy="0"/>
            </a:xfrm>
          </p:grpSpPr>
          <p:sp>
            <p:nvSpPr>
              <p:cNvPr id="131" name=""/>
              <p:cNvSpPr/>
              <p:nvPr/>
            </p:nvSpPr>
            <p:spPr>
              <a:xfrm>
                <a:off x="27936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95440" y="3981600"/>
                <a:ext cx="18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09720" y="3981600"/>
                <a:ext cx="18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2544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3972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5580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7008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86160" y="3981600"/>
                <a:ext cx="18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00440" y="3981600"/>
                <a:ext cx="18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4652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06080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6880" y="3981600"/>
                <a:ext cx="18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91160" y="3981600"/>
                <a:ext cx="18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0688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1972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35800" y="3981600"/>
                <a:ext cx="18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50080" y="3981600"/>
                <a:ext cx="18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6580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1472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29000" y="3981600"/>
                <a:ext cx="1810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189000" y="4187880"/>
            <a:ext cx="6345000" cy="44280"/>
            <a:chOff x="189000" y="4187880"/>
            <a:chExt cx="6345000" cy="44280"/>
          </a:xfrm>
        </p:grpSpPr>
        <p:grpSp>
          <p:nvGrpSpPr>
            <p:cNvPr id="152" name=""/>
            <p:cNvGrpSpPr/>
            <p:nvPr/>
          </p:nvGrpSpPr>
          <p:grpSpPr>
            <a:xfrm>
              <a:off x="189000" y="4187880"/>
              <a:ext cx="6345000" cy="44280"/>
              <a:chOff x="189000" y="4187880"/>
              <a:chExt cx="6345000" cy="44280"/>
            </a:xfrm>
          </p:grpSpPr>
          <p:sp>
            <p:nvSpPr>
              <p:cNvPr id="153" name=""/>
              <p:cNvSpPr/>
              <p:nvPr/>
            </p:nvSpPr>
            <p:spPr>
              <a:xfrm>
                <a:off x="50472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900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3508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936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6544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7972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9544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0972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2580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65616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7044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8616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0044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1652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3080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54508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5936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7544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900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89720" y="418788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40080" y="418788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79360" y="4209840"/>
              <a:ext cx="6167520" cy="0"/>
              <a:chOff x="279360" y="4209840"/>
              <a:chExt cx="6167520" cy="0"/>
            </a:xfrm>
          </p:grpSpPr>
          <p:sp>
            <p:nvSpPr>
              <p:cNvPr id="175" name=""/>
              <p:cNvSpPr/>
              <p:nvPr/>
            </p:nvSpPr>
            <p:spPr>
              <a:xfrm>
                <a:off x="27936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5440" y="4209840"/>
                <a:ext cx="18072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909720" y="4209840"/>
                <a:ext cx="18072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22544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3972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5580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7008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86160" y="4209840"/>
                <a:ext cx="18072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00440" y="4209840"/>
                <a:ext cx="18072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4652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06080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376880" y="4209840"/>
                <a:ext cx="18072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91160" y="4209840"/>
                <a:ext cx="18072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0688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31972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35800" y="4209840"/>
                <a:ext cx="18072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50080" y="4209840"/>
                <a:ext cx="18072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6580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1472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29000" y="4209840"/>
                <a:ext cx="181080" cy="0"/>
              </a:xfrm>
              <a:prstGeom prst="line">
                <a:avLst/>
              </a:prstGeom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109320" y="36482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09320" y="38736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09320" y="41432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9000" y="6165720"/>
            <a:ext cx="6389640" cy="271080"/>
            <a:chOff x="189000" y="6165720"/>
            <a:chExt cx="6389640" cy="271080"/>
          </a:xfrm>
        </p:grpSpPr>
        <p:sp>
          <p:nvSpPr>
            <p:cNvPr id="199" name=""/>
            <p:cNvSpPr/>
            <p:nvPr/>
          </p:nvSpPr>
          <p:spPr>
            <a:xfrm>
              <a:off x="189000" y="6165720"/>
              <a:ext cx="6389640" cy="269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6240" y="6211440"/>
              <a:ext cx="516600" cy="14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lt;</a:t>
              </a:r>
              <a:r>
                <a:rPr b="1" lang="zh-CN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ココまで</a:t>
              </a: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000" y="6435360"/>
              <a:ext cx="6389640" cy="1440"/>
            </a:xfrm>
            <a:prstGeom prst="line">
              <a:avLst/>
            </a:prstGeom>
            <a:ln w="1908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89000" y="5762520"/>
            <a:ext cx="6389640" cy="271440"/>
            <a:chOff x="189000" y="5762520"/>
            <a:chExt cx="6389640" cy="271440"/>
          </a:xfrm>
        </p:grpSpPr>
        <p:sp>
          <p:nvSpPr>
            <p:cNvPr id="203" name=""/>
            <p:cNvSpPr/>
            <p:nvPr/>
          </p:nvSpPr>
          <p:spPr>
            <a:xfrm>
              <a:off x="189000" y="5762520"/>
              <a:ext cx="6389640" cy="270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6240" y="5808600"/>
              <a:ext cx="516600" cy="14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lt;</a:t>
              </a:r>
              <a:r>
                <a:rPr b="1" lang="zh-CN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ココまで</a:t>
              </a: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000" y="6032520"/>
              <a:ext cx="6389640" cy="144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89000" y="5357880"/>
            <a:ext cx="6389640" cy="271440"/>
            <a:chOff x="189000" y="5357880"/>
            <a:chExt cx="6389640" cy="271440"/>
          </a:xfrm>
        </p:grpSpPr>
        <p:sp>
          <p:nvSpPr>
            <p:cNvPr id="207" name=""/>
            <p:cNvSpPr/>
            <p:nvPr/>
          </p:nvSpPr>
          <p:spPr>
            <a:xfrm>
              <a:off x="189000" y="5357880"/>
              <a:ext cx="6389640" cy="270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6240" y="5403960"/>
              <a:ext cx="516600" cy="14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lt;</a:t>
              </a:r>
              <a:r>
                <a:rPr b="1" lang="zh-CN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ココまで</a:t>
              </a: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000" y="5627880"/>
              <a:ext cx="638964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89000" y="6753240"/>
            <a:ext cx="6391080" cy="44280"/>
          </a:xfrm>
          <a:custGeom>
            <a:avLst/>
            <a:gdLst/>
            <a:ahLst/>
            <a:rect l="l" t="t" r="r" b="b"/>
            <a:pathLst>
              <a:path w="4082" h="56">
                <a:moveTo>
                  <a:pt x="0" y="56"/>
                </a:moveTo>
                <a:cubicBezTo>
                  <a:pt x="18" y="28"/>
                  <a:pt x="37" y="0"/>
                  <a:pt x="56" y="0"/>
                </a:cubicBezTo>
                <a:cubicBezTo>
                  <a:pt x="75" y="0"/>
                  <a:pt x="94" y="56"/>
                  <a:pt x="113" y="56"/>
                </a:cubicBezTo>
                <a:cubicBezTo>
                  <a:pt x="132" y="56"/>
                  <a:pt x="151" y="0"/>
                  <a:pt x="170" y="0"/>
                </a:cubicBezTo>
                <a:cubicBezTo>
                  <a:pt x="189" y="0"/>
                  <a:pt x="208" y="56"/>
                  <a:pt x="227" y="56"/>
                </a:cubicBezTo>
                <a:cubicBezTo>
                  <a:pt x="246" y="56"/>
                  <a:pt x="264" y="0"/>
                  <a:pt x="283" y="0"/>
                </a:cubicBezTo>
                <a:cubicBezTo>
                  <a:pt x="302" y="0"/>
                  <a:pt x="321" y="56"/>
                  <a:pt x="340" y="56"/>
                </a:cubicBezTo>
                <a:cubicBezTo>
                  <a:pt x="359" y="56"/>
                  <a:pt x="378" y="0"/>
                  <a:pt x="397" y="0"/>
                </a:cubicBezTo>
                <a:cubicBezTo>
                  <a:pt x="416" y="0"/>
                  <a:pt x="434" y="56"/>
                  <a:pt x="453" y="56"/>
                </a:cubicBezTo>
                <a:cubicBezTo>
                  <a:pt x="472" y="56"/>
                  <a:pt x="491" y="0"/>
                  <a:pt x="510" y="0"/>
                </a:cubicBezTo>
                <a:cubicBezTo>
                  <a:pt x="529" y="0"/>
                  <a:pt x="548" y="56"/>
                  <a:pt x="567" y="56"/>
                </a:cubicBezTo>
                <a:cubicBezTo>
                  <a:pt x="586" y="56"/>
                  <a:pt x="604" y="0"/>
                  <a:pt x="623" y="0"/>
                </a:cubicBezTo>
                <a:cubicBezTo>
                  <a:pt x="642" y="0"/>
                  <a:pt x="661" y="56"/>
                  <a:pt x="680" y="56"/>
                </a:cubicBezTo>
                <a:cubicBezTo>
                  <a:pt x="699" y="56"/>
                  <a:pt x="718" y="0"/>
                  <a:pt x="737" y="0"/>
                </a:cubicBezTo>
                <a:cubicBezTo>
                  <a:pt x="756" y="0"/>
                  <a:pt x="775" y="56"/>
                  <a:pt x="794" y="56"/>
                </a:cubicBezTo>
                <a:cubicBezTo>
                  <a:pt x="813" y="56"/>
                  <a:pt x="831" y="0"/>
                  <a:pt x="850" y="0"/>
                </a:cubicBezTo>
                <a:cubicBezTo>
                  <a:pt x="869" y="0"/>
                  <a:pt x="888" y="56"/>
                  <a:pt x="907" y="56"/>
                </a:cubicBezTo>
                <a:cubicBezTo>
                  <a:pt x="926" y="56"/>
                  <a:pt x="945" y="0"/>
                  <a:pt x="964" y="0"/>
                </a:cubicBezTo>
                <a:cubicBezTo>
                  <a:pt x="983" y="0"/>
                  <a:pt x="1001" y="56"/>
                  <a:pt x="1020" y="56"/>
                </a:cubicBezTo>
                <a:cubicBezTo>
                  <a:pt x="1039" y="56"/>
                  <a:pt x="1058" y="0"/>
                  <a:pt x="1077" y="0"/>
                </a:cubicBezTo>
                <a:cubicBezTo>
                  <a:pt x="1096" y="0"/>
                  <a:pt x="1115" y="56"/>
                  <a:pt x="1134" y="56"/>
                </a:cubicBezTo>
                <a:cubicBezTo>
                  <a:pt x="1153" y="56"/>
                  <a:pt x="1171" y="0"/>
                  <a:pt x="1190" y="0"/>
                </a:cubicBezTo>
                <a:cubicBezTo>
                  <a:pt x="1209" y="0"/>
                  <a:pt x="1228" y="56"/>
                  <a:pt x="1247" y="56"/>
                </a:cubicBezTo>
                <a:cubicBezTo>
                  <a:pt x="1266" y="56"/>
                  <a:pt x="1285" y="0"/>
                  <a:pt x="1304" y="0"/>
                </a:cubicBezTo>
                <a:cubicBezTo>
                  <a:pt x="1323" y="0"/>
                  <a:pt x="1342" y="56"/>
                  <a:pt x="1361" y="56"/>
                </a:cubicBezTo>
                <a:cubicBezTo>
                  <a:pt x="1380" y="56"/>
                  <a:pt x="1398" y="0"/>
                  <a:pt x="1417" y="0"/>
                </a:cubicBezTo>
                <a:cubicBezTo>
                  <a:pt x="1436" y="0"/>
                  <a:pt x="1455" y="56"/>
                  <a:pt x="1474" y="56"/>
                </a:cubicBezTo>
                <a:cubicBezTo>
                  <a:pt x="1493" y="56"/>
                  <a:pt x="1512" y="0"/>
                  <a:pt x="1531" y="0"/>
                </a:cubicBezTo>
                <a:cubicBezTo>
                  <a:pt x="1550" y="0"/>
                  <a:pt x="1568" y="56"/>
                  <a:pt x="1587" y="56"/>
                </a:cubicBezTo>
                <a:cubicBezTo>
                  <a:pt x="1606" y="56"/>
                  <a:pt x="1625" y="0"/>
                  <a:pt x="1644" y="0"/>
                </a:cubicBezTo>
                <a:cubicBezTo>
                  <a:pt x="1663" y="0"/>
                  <a:pt x="1682" y="56"/>
                  <a:pt x="1701" y="56"/>
                </a:cubicBezTo>
                <a:cubicBezTo>
                  <a:pt x="1720" y="56"/>
                  <a:pt x="1738" y="0"/>
                  <a:pt x="1757" y="0"/>
                </a:cubicBezTo>
                <a:cubicBezTo>
                  <a:pt x="1776" y="0"/>
                  <a:pt x="1795" y="56"/>
                  <a:pt x="1814" y="56"/>
                </a:cubicBezTo>
                <a:cubicBezTo>
                  <a:pt x="1833" y="56"/>
                  <a:pt x="1852" y="0"/>
                  <a:pt x="1871" y="0"/>
                </a:cubicBezTo>
                <a:cubicBezTo>
                  <a:pt x="1890" y="0"/>
                  <a:pt x="1909" y="56"/>
                  <a:pt x="1928" y="56"/>
                </a:cubicBezTo>
                <a:cubicBezTo>
                  <a:pt x="1947" y="56"/>
                  <a:pt x="1965" y="0"/>
                  <a:pt x="1984" y="0"/>
                </a:cubicBezTo>
                <a:cubicBezTo>
                  <a:pt x="2003" y="0"/>
                  <a:pt x="2022" y="56"/>
                  <a:pt x="2041" y="56"/>
                </a:cubicBezTo>
                <a:cubicBezTo>
                  <a:pt x="2060" y="56"/>
                  <a:pt x="2079" y="0"/>
                  <a:pt x="2098" y="0"/>
                </a:cubicBezTo>
                <a:cubicBezTo>
                  <a:pt x="2117" y="0"/>
                  <a:pt x="2135" y="56"/>
                  <a:pt x="2154" y="56"/>
                </a:cubicBezTo>
                <a:cubicBezTo>
                  <a:pt x="2173" y="56"/>
                  <a:pt x="2192" y="0"/>
                  <a:pt x="2211" y="0"/>
                </a:cubicBezTo>
                <a:cubicBezTo>
                  <a:pt x="2230" y="0"/>
                  <a:pt x="2249" y="56"/>
                  <a:pt x="2268" y="56"/>
                </a:cubicBezTo>
                <a:cubicBezTo>
                  <a:pt x="2287" y="56"/>
                  <a:pt x="2306" y="0"/>
                  <a:pt x="2325" y="0"/>
                </a:cubicBezTo>
                <a:cubicBezTo>
                  <a:pt x="2344" y="0"/>
                  <a:pt x="2362" y="56"/>
                  <a:pt x="2381" y="56"/>
                </a:cubicBezTo>
                <a:cubicBezTo>
                  <a:pt x="2400" y="56"/>
                  <a:pt x="2419" y="0"/>
                  <a:pt x="2438" y="0"/>
                </a:cubicBezTo>
                <a:cubicBezTo>
                  <a:pt x="2457" y="0"/>
                  <a:pt x="2476" y="56"/>
                  <a:pt x="2495" y="56"/>
                </a:cubicBezTo>
                <a:cubicBezTo>
                  <a:pt x="2514" y="56"/>
                  <a:pt x="2532" y="0"/>
                  <a:pt x="2551" y="0"/>
                </a:cubicBezTo>
                <a:cubicBezTo>
                  <a:pt x="2570" y="0"/>
                  <a:pt x="2589" y="56"/>
                  <a:pt x="2608" y="56"/>
                </a:cubicBezTo>
                <a:cubicBezTo>
                  <a:pt x="2627" y="56"/>
                  <a:pt x="2646" y="0"/>
                  <a:pt x="2665" y="0"/>
                </a:cubicBezTo>
                <a:cubicBezTo>
                  <a:pt x="2684" y="0"/>
                  <a:pt x="2702" y="56"/>
                  <a:pt x="2721" y="56"/>
                </a:cubicBezTo>
                <a:cubicBezTo>
                  <a:pt x="2740" y="56"/>
                  <a:pt x="2759" y="0"/>
                  <a:pt x="2778" y="0"/>
                </a:cubicBezTo>
                <a:cubicBezTo>
                  <a:pt x="2797" y="0"/>
                  <a:pt x="2816" y="56"/>
                  <a:pt x="2835" y="56"/>
                </a:cubicBezTo>
                <a:cubicBezTo>
                  <a:pt x="2854" y="56"/>
                  <a:pt x="2873" y="0"/>
                  <a:pt x="2892" y="0"/>
                </a:cubicBezTo>
                <a:cubicBezTo>
                  <a:pt x="2911" y="0"/>
                  <a:pt x="2929" y="56"/>
                  <a:pt x="2948" y="56"/>
                </a:cubicBezTo>
                <a:cubicBezTo>
                  <a:pt x="2967" y="56"/>
                  <a:pt x="2986" y="0"/>
                  <a:pt x="3005" y="0"/>
                </a:cubicBezTo>
                <a:cubicBezTo>
                  <a:pt x="3024" y="0"/>
                  <a:pt x="3043" y="56"/>
                  <a:pt x="3062" y="56"/>
                </a:cubicBezTo>
                <a:cubicBezTo>
                  <a:pt x="3081" y="56"/>
                  <a:pt x="3099" y="0"/>
                  <a:pt x="3118" y="0"/>
                </a:cubicBezTo>
                <a:cubicBezTo>
                  <a:pt x="3137" y="0"/>
                  <a:pt x="3156" y="56"/>
                  <a:pt x="3175" y="56"/>
                </a:cubicBezTo>
                <a:cubicBezTo>
                  <a:pt x="3194" y="56"/>
                  <a:pt x="3213" y="0"/>
                  <a:pt x="3232" y="0"/>
                </a:cubicBezTo>
                <a:cubicBezTo>
                  <a:pt x="3251" y="0"/>
                  <a:pt x="3269" y="56"/>
                  <a:pt x="3288" y="56"/>
                </a:cubicBezTo>
                <a:cubicBezTo>
                  <a:pt x="3307" y="56"/>
                  <a:pt x="3326" y="0"/>
                  <a:pt x="3345" y="0"/>
                </a:cubicBezTo>
                <a:cubicBezTo>
                  <a:pt x="3364" y="0"/>
                  <a:pt x="3383" y="56"/>
                  <a:pt x="3402" y="56"/>
                </a:cubicBezTo>
                <a:cubicBezTo>
                  <a:pt x="3421" y="56"/>
                  <a:pt x="3440" y="0"/>
                  <a:pt x="3459" y="0"/>
                </a:cubicBezTo>
                <a:cubicBezTo>
                  <a:pt x="3478" y="0"/>
                  <a:pt x="3496" y="56"/>
                  <a:pt x="3515" y="56"/>
                </a:cubicBezTo>
                <a:cubicBezTo>
                  <a:pt x="3534" y="56"/>
                  <a:pt x="3553" y="0"/>
                  <a:pt x="3572" y="0"/>
                </a:cubicBezTo>
                <a:cubicBezTo>
                  <a:pt x="3591" y="0"/>
                  <a:pt x="3610" y="56"/>
                  <a:pt x="3629" y="56"/>
                </a:cubicBezTo>
                <a:cubicBezTo>
                  <a:pt x="3648" y="56"/>
                  <a:pt x="3666" y="0"/>
                  <a:pt x="3685" y="0"/>
                </a:cubicBezTo>
                <a:cubicBezTo>
                  <a:pt x="3704" y="0"/>
                  <a:pt x="3723" y="56"/>
                  <a:pt x="3742" y="56"/>
                </a:cubicBezTo>
                <a:cubicBezTo>
                  <a:pt x="3761" y="56"/>
                  <a:pt x="3780" y="0"/>
                  <a:pt x="3799" y="0"/>
                </a:cubicBezTo>
                <a:cubicBezTo>
                  <a:pt x="3818" y="0"/>
                  <a:pt x="3836" y="56"/>
                  <a:pt x="3855" y="56"/>
                </a:cubicBezTo>
                <a:cubicBezTo>
                  <a:pt x="3874" y="56"/>
                  <a:pt x="3893" y="0"/>
                  <a:pt x="3912" y="0"/>
                </a:cubicBezTo>
                <a:cubicBezTo>
                  <a:pt x="3931" y="0"/>
                  <a:pt x="3950" y="56"/>
                  <a:pt x="3969" y="56"/>
                </a:cubicBezTo>
                <a:cubicBezTo>
                  <a:pt x="3988" y="56"/>
                  <a:pt x="4007" y="0"/>
                  <a:pt x="4026" y="0"/>
                </a:cubicBezTo>
                <a:cubicBezTo>
                  <a:pt x="4045" y="0"/>
                  <a:pt x="4063" y="28"/>
                  <a:pt x="4082" y="5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9000" y="6977160"/>
            <a:ext cx="6391080" cy="44280"/>
          </a:xfrm>
          <a:custGeom>
            <a:avLst/>
            <a:gdLst/>
            <a:ahLst/>
            <a:rect l="l" t="t" r="r" b="b"/>
            <a:pathLst>
              <a:path w="4082" h="56">
                <a:moveTo>
                  <a:pt x="0" y="56"/>
                </a:moveTo>
                <a:cubicBezTo>
                  <a:pt x="18" y="28"/>
                  <a:pt x="37" y="0"/>
                  <a:pt x="56" y="0"/>
                </a:cubicBezTo>
                <a:cubicBezTo>
                  <a:pt x="75" y="0"/>
                  <a:pt x="94" y="56"/>
                  <a:pt x="113" y="56"/>
                </a:cubicBezTo>
                <a:cubicBezTo>
                  <a:pt x="132" y="56"/>
                  <a:pt x="151" y="0"/>
                  <a:pt x="170" y="0"/>
                </a:cubicBezTo>
                <a:cubicBezTo>
                  <a:pt x="189" y="0"/>
                  <a:pt x="208" y="56"/>
                  <a:pt x="227" y="56"/>
                </a:cubicBezTo>
                <a:cubicBezTo>
                  <a:pt x="246" y="56"/>
                  <a:pt x="264" y="0"/>
                  <a:pt x="283" y="0"/>
                </a:cubicBezTo>
                <a:cubicBezTo>
                  <a:pt x="302" y="0"/>
                  <a:pt x="321" y="56"/>
                  <a:pt x="340" y="56"/>
                </a:cubicBezTo>
                <a:cubicBezTo>
                  <a:pt x="359" y="56"/>
                  <a:pt x="378" y="0"/>
                  <a:pt x="397" y="0"/>
                </a:cubicBezTo>
                <a:cubicBezTo>
                  <a:pt x="416" y="0"/>
                  <a:pt x="434" y="56"/>
                  <a:pt x="453" y="56"/>
                </a:cubicBezTo>
                <a:cubicBezTo>
                  <a:pt x="472" y="56"/>
                  <a:pt x="491" y="0"/>
                  <a:pt x="510" y="0"/>
                </a:cubicBezTo>
                <a:cubicBezTo>
                  <a:pt x="529" y="0"/>
                  <a:pt x="548" y="56"/>
                  <a:pt x="567" y="56"/>
                </a:cubicBezTo>
                <a:cubicBezTo>
                  <a:pt x="586" y="56"/>
                  <a:pt x="604" y="0"/>
                  <a:pt x="623" y="0"/>
                </a:cubicBezTo>
                <a:cubicBezTo>
                  <a:pt x="642" y="0"/>
                  <a:pt x="661" y="56"/>
                  <a:pt x="680" y="56"/>
                </a:cubicBezTo>
                <a:cubicBezTo>
                  <a:pt x="699" y="56"/>
                  <a:pt x="718" y="0"/>
                  <a:pt x="737" y="0"/>
                </a:cubicBezTo>
                <a:cubicBezTo>
                  <a:pt x="756" y="0"/>
                  <a:pt x="775" y="56"/>
                  <a:pt x="794" y="56"/>
                </a:cubicBezTo>
                <a:cubicBezTo>
                  <a:pt x="813" y="56"/>
                  <a:pt x="831" y="0"/>
                  <a:pt x="850" y="0"/>
                </a:cubicBezTo>
                <a:cubicBezTo>
                  <a:pt x="869" y="0"/>
                  <a:pt x="888" y="56"/>
                  <a:pt x="907" y="56"/>
                </a:cubicBezTo>
                <a:cubicBezTo>
                  <a:pt x="926" y="56"/>
                  <a:pt x="945" y="0"/>
                  <a:pt x="964" y="0"/>
                </a:cubicBezTo>
                <a:cubicBezTo>
                  <a:pt x="983" y="0"/>
                  <a:pt x="1001" y="56"/>
                  <a:pt x="1020" y="56"/>
                </a:cubicBezTo>
                <a:cubicBezTo>
                  <a:pt x="1039" y="56"/>
                  <a:pt x="1058" y="0"/>
                  <a:pt x="1077" y="0"/>
                </a:cubicBezTo>
                <a:cubicBezTo>
                  <a:pt x="1096" y="0"/>
                  <a:pt x="1115" y="56"/>
                  <a:pt x="1134" y="56"/>
                </a:cubicBezTo>
                <a:cubicBezTo>
                  <a:pt x="1153" y="56"/>
                  <a:pt x="1171" y="0"/>
                  <a:pt x="1190" y="0"/>
                </a:cubicBezTo>
                <a:cubicBezTo>
                  <a:pt x="1209" y="0"/>
                  <a:pt x="1228" y="56"/>
                  <a:pt x="1247" y="56"/>
                </a:cubicBezTo>
                <a:cubicBezTo>
                  <a:pt x="1266" y="56"/>
                  <a:pt x="1285" y="0"/>
                  <a:pt x="1304" y="0"/>
                </a:cubicBezTo>
                <a:cubicBezTo>
                  <a:pt x="1323" y="0"/>
                  <a:pt x="1342" y="56"/>
                  <a:pt x="1361" y="56"/>
                </a:cubicBezTo>
                <a:cubicBezTo>
                  <a:pt x="1380" y="56"/>
                  <a:pt x="1398" y="0"/>
                  <a:pt x="1417" y="0"/>
                </a:cubicBezTo>
                <a:cubicBezTo>
                  <a:pt x="1436" y="0"/>
                  <a:pt x="1455" y="56"/>
                  <a:pt x="1474" y="56"/>
                </a:cubicBezTo>
                <a:cubicBezTo>
                  <a:pt x="1493" y="56"/>
                  <a:pt x="1512" y="0"/>
                  <a:pt x="1531" y="0"/>
                </a:cubicBezTo>
                <a:cubicBezTo>
                  <a:pt x="1550" y="0"/>
                  <a:pt x="1568" y="56"/>
                  <a:pt x="1587" y="56"/>
                </a:cubicBezTo>
                <a:cubicBezTo>
                  <a:pt x="1606" y="56"/>
                  <a:pt x="1625" y="0"/>
                  <a:pt x="1644" y="0"/>
                </a:cubicBezTo>
                <a:cubicBezTo>
                  <a:pt x="1663" y="0"/>
                  <a:pt x="1682" y="56"/>
                  <a:pt x="1701" y="56"/>
                </a:cubicBezTo>
                <a:cubicBezTo>
                  <a:pt x="1720" y="56"/>
                  <a:pt x="1738" y="0"/>
                  <a:pt x="1757" y="0"/>
                </a:cubicBezTo>
                <a:cubicBezTo>
                  <a:pt x="1776" y="0"/>
                  <a:pt x="1795" y="56"/>
                  <a:pt x="1814" y="56"/>
                </a:cubicBezTo>
                <a:cubicBezTo>
                  <a:pt x="1833" y="56"/>
                  <a:pt x="1852" y="0"/>
                  <a:pt x="1871" y="0"/>
                </a:cubicBezTo>
                <a:cubicBezTo>
                  <a:pt x="1890" y="0"/>
                  <a:pt x="1909" y="56"/>
                  <a:pt x="1928" y="56"/>
                </a:cubicBezTo>
                <a:cubicBezTo>
                  <a:pt x="1947" y="56"/>
                  <a:pt x="1965" y="0"/>
                  <a:pt x="1984" y="0"/>
                </a:cubicBezTo>
                <a:cubicBezTo>
                  <a:pt x="2003" y="0"/>
                  <a:pt x="2022" y="56"/>
                  <a:pt x="2041" y="56"/>
                </a:cubicBezTo>
                <a:cubicBezTo>
                  <a:pt x="2060" y="56"/>
                  <a:pt x="2079" y="0"/>
                  <a:pt x="2098" y="0"/>
                </a:cubicBezTo>
                <a:cubicBezTo>
                  <a:pt x="2117" y="0"/>
                  <a:pt x="2135" y="56"/>
                  <a:pt x="2154" y="56"/>
                </a:cubicBezTo>
                <a:cubicBezTo>
                  <a:pt x="2173" y="56"/>
                  <a:pt x="2192" y="0"/>
                  <a:pt x="2211" y="0"/>
                </a:cubicBezTo>
                <a:cubicBezTo>
                  <a:pt x="2230" y="0"/>
                  <a:pt x="2249" y="56"/>
                  <a:pt x="2268" y="56"/>
                </a:cubicBezTo>
                <a:cubicBezTo>
                  <a:pt x="2287" y="56"/>
                  <a:pt x="2306" y="0"/>
                  <a:pt x="2325" y="0"/>
                </a:cubicBezTo>
                <a:cubicBezTo>
                  <a:pt x="2344" y="0"/>
                  <a:pt x="2362" y="56"/>
                  <a:pt x="2381" y="56"/>
                </a:cubicBezTo>
                <a:cubicBezTo>
                  <a:pt x="2400" y="56"/>
                  <a:pt x="2419" y="0"/>
                  <a:pt x="2438" y="0"/>
                </a:cubicBezTo>
                <a:cubicBezTo>
                  <a:pt x="2457" y="0"/>
                  <a:pt x="2476" y="56"/>
                  <a:pt x="2495" y="56"/>
                </a:cubicBezTo>
                <a:cubicBezTo>
                  <a:pt x="2514" y="56"/>
                  <a:pt x="2532" y="0"/>
                  <a:pt x="2551" y="0"/>
                </a:cubicBezTo>
                <a:cubicBezTo>
                  <a:pt x="2570" y="0"/>
                  <a:pt x="2589" y="56"/>
                  <a:pt x="2608" y="56"/>
                </a:cubicBezTo>
                <a:cubicBezTo>
                  <a:pt x="2627" y="56"/>
                  <a:pt x="2646" y="0"/>
                  <a:pt x="2665" y="0"/>
                </a:cubicBezTo>
                <a:cubicBezTo>
                  <a:pt x="2684" y="0"/>
                  <a:pt x="2702" y="56"/>
                  <a:pt x="2721" y="56"/>
                </a:cubicBezTo>
                <a:cubicBezTo>
                  <a:pt x="2740" y="56"/>
                  <a:pt x="2759" y="0"/>
                  <a:pt x="2778" y="0"/>
                </a:cubicBezTo>
                <a:cubicBezTo>
                  <a:pt x="2797" y="0"/>
                  <a:pt x="2816" y="56"/>
                  <a:pt x="2835" y="56"/>
                </a:cubicBezTo>
                <a:cubicBezTo>
                  <a:pt x="2854" y="56"/>
                  <a:pt x="2873" y="0"/>
                  <a:pt x="2892" y="0"/>
                </a:cubicBezTo>
                <a:cubicBezTo>
                  <a:pt x="2911" y="0"/>
                  <a:pt x="2929" y="56"/>
                  <a:pt x="2948" y="56"/>
                </a:cubicBezTo>
                <a:cubicBezTo>
                  <a:pt x="2967" y="56"/>
                  <a:pt x="2986" y="0"/>
                  <a:pt x="3005" y="0"/>
                </a:cubicBezTo>
                <a:cubicBezTo>
                  <a:pt x="3024" y="0"/>
                  <a:pt x="3043" y="56"/>
                  <a:pt x="3062" y="56"/>
                </a:cubicBezTo>
                <a:cubicBezTo>
                  <a:pt x="3081" y="56"/>
                  <a:pt x="3099" y="0"/>
                  <a:pt x="3118" y="0"/>
                </a:cubicBezTo>
                <a:cubicBezTo>
                  <a:pt x="3137" y="0"/>
                  <a:pt x="3156" y="56"/>
                  <a:pt x="3175" y="56"/>
                </a:cubicBezTo>
                <a:cubicBezTo>
                  <a:pt x="3194" y="56"/>
                  <a:pt x="3213" y="0"/>
                  <a:pt x="3232" y="0"/>
                </a:cubicBezTo>
                <a:cubicBezTo>
                  <a:pt x="3251" y="0"/>
                  <a:pt x="3269" y="56"/>
                  <a:pt x="3288" y="56"/>
                </a:cubicBezTo>
                <a:cubicBezTo>
                  <a:pt x="3307" y="56"/>
                  <a:pt x="3326" y="0"/>
                  <a:pt x="3345" y="0"/>
                </a:cubicBezTo>
                <a:cubicBezTo>
                  <a:pt x="3364" y="0"/>
                  <a:pt x="3383" y="56"/>
                  <a:pt x="3402" y="56"/>
                </a:cubicBezTo>
                <a:cubicBezTo>
                  <a:pt x="3421" y="56"/>
                  <a:pt x="3440" y="0"/>
                  <a:pt x="3459" y="0"/>
                </a:cubicBezTo>
                <a:cubicBezTo>
                  <a:pt x="3478" y="0"/>
                  <a:pt x="3496" y="56"/>
                  <a:pt x="3515" y="56"/>
                </a:cubicBezTo>
                <a:cubicBezTo>
                  <a:pt x="3534" y="56"/>
                  <a:pt x="3553" y="0"/>
                  <a:pt x="3572" y="0"/>
                </a:cubicBezTo>
                <a:cubicBezTo>
                  <a:pt x="3591" y="0"/>
                  <a:pt x="3610" y="56"/>
                  <a:pt x="3629" y="56"/>
                </a:cubicBezTo>
                <a:cubicBezTo>
                  <a:pt x="3648" y="56"/>
                  <a:pt x="3666" y="0"/>
                  <a:pt x="3685" y="0"/>
                </a:cubicBezTo>
                <a:cubicBezTo>
                  <a:pt x="3704" y="0"/>
                  <a:pt x="3723" y="56"/>
                  <a:pt x="3742" y="56"/>
                </a:cubicBezTo>
                <a:cubicBezTo>
                  <a:pt x="3761" y="56"/>
                  <a:pt x="3780" y="0"/>
                  <a:pt x="3799" y="0"/>
                </a:cubicBezTo>
                <a:cubicBezTo>
                  <a:pt x="3818" y="0"/>
                  <a:pt x="3836" y="56"/>
                  <a:pt x="3855" y="56"/>
                </a:cubicBezTo>
                <a:cubicBezTo>
                  <a:pt x="3874" y="56"/>
                  <a:pt x="3893" y="0"/>
                  <a:pt x="3912" y="0"/>
                </a:cubicBezTo>
                <a:cubicBezTo>
                  <a:pt x="3931" y="0"/>
                  <a:pt x="3950" y="56"/>
                  <a:pt x="3969" y="56"/>
                </a:cubicBezTo>
                <a:cubicBezTo>
                  <a:pt x="3988" y="56"/>
                  <a:pt x="4007" y="0"/>
                  <a:pt x="4026" y="0"/>
                </a:cubicBezTo>
                <a:cubicBezTo>
                  <a:pt x="4045" y="0"/>
                  <a:pt x="4063" y="28"/>
                  <a:pt x="4082" y="56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9000" y="7202520"/>
            <a:ext cx="6391080" cy="44280"/>
          </a:xfrm>
          <a:custGeom>
            <a:avLst/>
            <a:gdLst/>
            <a:ahLst/>
            <a:rect l="l" t="t" r="r" b="b"/>
            <a:pathLst>
              <a:path w="4082" h="56">
                <a:moveTo>
                  <a:pt x="0" y="56"/>
                </a:moveTo>
                <a:cubicBezTo>
                  <a:pt x="18" y="28"/>
                  <a:pt x="37" y="0"/>
                  <a:pt x="56" y="0"/>
                </a:cubicBezTo>
                <a:cubicBezTo>
                  <a:pt x="75" y="0"/>
                  <a:pt x="94" y="56"/>
                  <a:pt x="113" y="56"/>
                </a:cubicBezTo>
                <a:cubicBezTo>
                  <a:pt x="132" y="56"/>
                  <a:pt x="151" y="0"/>
                  <a:pt x="170" y="0"/>
                </a:cubicBezTo>
                <a:cubicBezTo>
                  <a:pt x="189" y="0"/>
                  <a:pt x="208" y="56"/>
                  <a:pt x="227" y="56"/>
                </a:cubicBezTo>
                <a:cubicBezTo>
                  <a:pt x="246" y="56"/>
                  <a:pt x="264" y="0"/>
                  <a:pt x="283" y="0"/>
                </a:cubicBezTo>
                <a:cubicBezTo>
                  <a:pt x="302" y="0"/>
                  <a:pt x="321" y="56"/>
                  <a:pt x="340" y="56"/>
                </a:cubicBezTo>
                <a:cubicBezTo>
                  <a:pt x="359" y="56"/>
                  <a:pt x="378" y="0"/>
                  <a:pt x="397" y="0"/>
                </a:cubicBezTo>
                <a:cubicBezTo>
                  <a:pt x="416" y="0"/>
                  <a:pt x="434" y="56"/>
                  <a:pt x="453" y="56"/>
                </a:cubicBezTo>
                <a:cubicBezTo>
                  <a:pt x="472" y="56"/>
                  <a:pt x="491" y="0"/>
                  <a:pt x="510" y="0"/>
                </a:cubicBezTo>
                <a:cubicBezTo>
                  <a:pt x="529" y="0"/>
                  <a:pt x="548" y="56"/>
                  <a:pt x="567" y="56"/>
                </a:cubicBezTo>
                <a:cubicBezTo>
                  <a:pt x="586" y="56"/>
                  <a:pt x="604" y="0"/>
                  <a:pt x="623" y="0"/>
                </a:cubicBezTo>
                <a:cubicBezTo>
                  <a:pt x="642" y="0"/>
                  <a:pt x="661" y="56"/>
                  <a:pt x="680" y="56"/>
                </a:cubicBezTo>
                <a:cubicBezTo>
                  <a:pt x="699" y="56"/>
                  <a:pt x="718" y="0"/>
                  <a:pt x="737" y="0"/>
                </a:cubicBezTo>
                <a:cubicBezTo>
                  <a:pt x="756" y="0"/>
                  <a:pt x="775" y="56"/>
                  <a:pt x="794" y="56"/>
                </a:cubicBezTo>
                <a:cubicBezTo>
                  <a:pt x="813" y="56"/>
                  <a:pt x="831" y="0"/>
                  <a:pt x="850" y="0"/>
                </a:cubicBezTo>
                <a:cubicBezTo>
                  <a:pt x="869" y="0"/>
                  <a:pt x="888" y="56"/>
                  <a:pt x="907" y="56"/>
                </a:cubicBezTo>
                <a:cubicBezTo>
                  <a:pt x="926" y="56"/>
                  <a:pt x="945" y="0"/>
                  <a:pt x="964" y="0"/>
                </a:cubicBezTo>
                <a:cubicBezTo>
                  <a:pt x="983" y="0"/>
                  <a:pt x="1001" y="56"/>
                  <a:pt x="1020" y="56"/>
                </a:cubicBezTo>
                <a:cubicBezTo>
                  <a:pt x="1039" y="56"/>
                  <a:pt x="1058" y="0"/>
                  <a:pt x="1077" y="0"/>
                </a:cubicBezTo>
                <a:cubicBezTo>
                  <a:pt x="1096" y="0"/>
                  <a:pt x="1115" y="56"/>
                  <a:pt x="1134" y="56"/>
                </a:cubicBezTo>
                <a:cubicBezTo>
                  <a:pt x="1153" y="56"/>
                  <a:pt x="1171" y="0"/>
                  <a:pt x="1190" y="0"/>
                </a:cubicBezTo>
                <a:cubicBezTo>
                  <a:pt x="1209" y="0"/>
                  <a:pt x="1228" y="56"/>
                  <a:pt x="1247" y="56"/>
                </a:cubicBezTo>
                <a:cubicBezTo>
                  <a:pt x="1266" y="56"/>
                  <a:pt x="1285" y="0"/>
                  <a:pt x="1304" y="0"/>
                </a:cubicBezTo>
                <a:cubicBezTo>
                  <a:pt x="1323" y="0"/>
                  <a:pt x="1342" y="56"/>
                  <a:pt x="1361" y="56"/>
                </a:cubicBezTo>
                <a:cubicBezTo>
                  <a:pt x="1380" y="56"/>
                  <a:pt x="1398" y="0"/>
                  <a:pt x="1417" y="0"/>
                </a:cubicBezTo>
                <a:cubicBezTo>
                  <a:pt x="1436" y="0"/>
                  <a:pt x="1455" y="56"/>
                  <a:pt x="1474" y="56"/>
                </a:cubicBezTo>
                <a:cubicBezTo>
                  <a:pt x="1493" y="56"/>
                  <a:pt x="1512" y="0"/>
                  <a:pt x="1531" y="0"/>
                </a:cubicBezTo>
                <a:cubicBezTo>
                  <a:pt x="1550" y="0"/>
                  <a:pt x="1568" y="56"/>
                  <a:pt x="1587" y="56"/>
                </a:cubicBezTo>
                <a:cubicBezTo>
                  <a:pt x="1606" y="56"/>
                  <a:pt x="1625" y="0"/>
                  <a:pt x="1644" y="0"/>
                </a:cubicBezTo>
                <a:cubicBezTo>
                  <a:pt x="1663" y="0"/>
                  <a:pt x="1682" y="56"/>
                  <a:pt x="1701" y="56"/>
                </a:cubicBezTo>
                <a:cubicBezTo>
                  <a:pt x="1720" y="56"/>
                  <a:pt x="1738" y="0"/>
                  <a:pt x="1757" y="0"/>
                </a:cubicBezTo>
                <a:cubicBezTo>
                  <a:pt x="1776" y="0"/>
                  <a:pt x="1795" y="56"/>
                  <a:pt x="1814" y="56"/>
                </a:cubicBezTo>
                <a:cubicBezTo>
                  <a:pt x="1833" y="56"/>
                  <a:pt x="1852" y="0"/>
                  <a:pt x="1871" y="0"/>
                </a:cubicBezTo>
                <a:cubicBezTo>
                  <a:pt x="1890" y="0"/>
                  <a:pt x="1909" y="56"/>
                  <a:pt x="1928" y="56"/>
                </a:cubicBezTo>
                <a:cubicBezTo>
                  <a:pt x="1947" y="56"/>
                  <a:pt x="1965" y="0"/>
                  <a:pt x="1984" y="0"/>
                </a:cubicBezTo>
                <a:cubicBezTo>
                  <a:pt x="2003" y="0"/>
                  <a:pt x="2022" y="56"/>
                  <a:pt x="2041" y="56"/>
                </a:cubicBezTo>
                <a:cubicBezTo>
                  <a:pt x="2060" y="56"/>
                  <a:pt x="2079" y="0"/>
                  <a:pt x="2098" y="0"/>
                </a:cubicBezTo>
                <a:cubicBezTo>
                  <a:pt x="2117" y="0"/>
                  <a:pt x="2135" y="56"/>
                  <a:pt x="2154" y="56"/>
                </a:cubicBezTo>
                <a:cubicBezTo>
                  <a:pt x="2173" y="56"/>
                  <a:pt x="2192" y="0"/>
                  <a:pt x="2211" y="0"/>
                </a:cubicBezTo>
                <a:cubicBezTo>
                  <a:pt x="2230" y="0"/>
                  <a:pt x="2249" y="56"/>
                  <a:pt x="2268" y="56"/>
                </a:cubicBezTo>
                <a:cubicBezTo>
                  <a:pt x="2287" y="56"/>
                  <a:pt x="2306" y="0"/>
                  <a:pt x="2325" y="0"/>
                </a:cubicBezTo>
                <a:cubicBezTo>
                  <a:pt x="2344" y="0"/>
                  <a:pt x="2362" y="56"/>
                  <a:pt x="2381" y="56"/>
                </a:cubicBezTo>
                <a:cubicBezTo>
                  <a:pt x="2400" y="56"/>
                  <a:pt x="2419" y="0"/>
                  <a:pt x="2438" y="0"/>
                </a:cubicBezTo>
                <a:cubicBezTo>
                  <a:pt x="2457" y="0"/>
                  <a:pt x="2476" y="56"/>
                  <a:pt x="2495" y="56"/>
                </a:cubicBezTo>
                <a:cubicBezTo>
                  <a:pt x="2514" y="56"/>
                  <a:pt x="2532" y="0"/>
                  <a:pt x="2551" y="0"/>
                </a:cubicBezTo>
                <a:cubicBezTo>
                  <a:pt x="2570" y="0"/>
                  <a:pt x="2589" y="56"/>
                  <a:pt x="2608" y="56"/>
                </a:cubicBezTo>
                <a:cubicBezTo>
                  <a:pt x="2627" y="56"/>
                  <a:pt x="2646" y="0"/>
                  <a:pt x="2665" y="0"/>
                </a:cubicBezTo>
                <a:cubicBezTo>
                  <a:pt x="2684" y="0"/>
                  <a:pt x="2702" y="56"/>
                  <a:pt x="2721" y="56"/>
                </a:cubicBezTo>
                <a:cubicBezTo>
                  <a:pt x="2740" y="56"/>
                  <a:pt x="2759" y="0"/>
                  <a:pt x="2778" y="0"/>
                </a:cubicBezTo>
                <a:cubicBezTo>
                  <a:pt x="2797" y="0"/>
                  <a:pt x="2816" y="56"/>
                  <a:pt x="2835" y="56"/>
                </a:cubicBezTo>
                <a:cubicBezTo>
                  <a:pt x="2854" y="56"/>
                  <a:pt x="2873" y="0"/>
                  <a:pt x="2892" y="0"/>
                </a:cubicBezTo>
                <a:cubicBezTo>
                  <a:pt x="2911" y="0"/>
                  <a:pt x="2929" y="56"/>
                  <a:pt x="2948" y="56"/>
                </a:cubicBezTo>
                <a:cubicBezTo>
                  <a:pt x="2967" y="56"/>
                  <a:pt x="2986" y="0"/>
                  <a:pt x="3005" y="0"/>
                </a:cubicBezTo>
                <a:cubicBezTo>
                  <a:pt x="3024" y="0"/>
                  <a:pt x="3043" y="56"/>
                  <a:pt x="3062" y="56"/>
                </a:cubicBezTo>
                <a:cubicBezTo>
                  <a:pt x="3081" y="56"/>
                  <a:pt x="3099" y="0"/>
                  <a:pt x="3118" y="0"/>
                </a:cubicBezTo>
                <a:cubicBezTo>
                  <a:pt x="3137" y="0"/>
                  <a:pt x="3156" y="56"/>
                  <a:pt x="3175" y="56"/>
                </a:cubicBezTo>
                <a:cubicBezTo>
                  <a:pt x="3194" y="56"/>
                  <a:pt x="3213" y="0"/>
                  <a:pt x="3232" y="0"/>
                </a:cubicBezTo>
                <a:cubicBezTo>
                  <a:pt x="3251" y="0"/>
                  <a:pt x="3269" y="56"/>
                  <a:pt x="3288" y="56"/>
                </a:cubicBezTo>
                <a:cubicBezTo>
                  <a:pt x="3307" y="56"/>
                  <a:pt x="3326" y="0"/>
                  <a:pt x="3345" y="0"/>
                </a:cubicBezTo>
                <a:cubicBezTo>
                  <a:pt x="3364" y="0"/>
                  <a:pt x="3383" y="56"/>
                  <a:pt x="3402" y="56"/>
                </a:cubicBezTo>
                <a:cubicBezTo>
                  <a:pt x="3421" y="56"/>
                  <a:pt x="3440" y="0"/>
                  <a:pt x="3459" y="0"/>
                </a:cubicBezTo>
                <a:cubicBezTo>
                  <a:pt x="3478" y="0"/>
                  <a:pt x="3496" y="56"/>
                  <a:pt x="3515" y="56"/>
                </a:cubicBezTo>
                <a:cubicBezTo>
                  <a:pt x="3534" y="56"/>
                  <a:pt x="3553" y="0"/>
                  <a:pt x="3572" y="0"/>
                </a:cubicBezTo>
                <a:cubicBezTo>
                  <a:pt x="3591" y="0"/>
                  <a:pt x="3610" y="56"/>
                  <a:pt x="3629" y="56"/>
                </a:cubicBezTo>
                <a:cubicBezTo>
                  <a:pt x="3648" y="56"/>
                  <a:pt x="3666" y="0"/>
                  <a:pt x="3685" y="0"/>
                </a:cubicBezTo>
                <a:cubicBezTo>
                  <a:pt x="3704" y="0"/>
                  <a:pt x="3723" y="56"/>
                  <a:pt x="3742" y="56"/>
                </a:cubicBezTo>
                <a:cubicBezTo>
                  <a:pt x="3761" y="56"/>
                  <a:pt x="3780" y="0"/>
                  <a:pt x="3799" y="0"/>
                </a:cubicBezTo>
                <a:cubicBezTo>
                  <a:pt x="3818" y="0"/>
                  <a:pt x="3836" y="56"/>
                  <a:pt x="3855" y="56"/>
                </a:cubicBezTo>
                <a:cubicBezTo>
                  <a:pt x="3874" y="56"/>
                  <a:pt x="3893" y="0"/>
                  <a:pt x="3912" y="0"/>
                </a:cubicBezTo>
                <a:cubicBezTo>
                  <a:pt x="3931" y="0"/>
                  <a:pt x="3950" y="56"/>
                  <a:pt x="3969" y="56"/>
                </a:cubicBezTo>
                <a:cubicBezTo>
                  <a:pt x="3988" y="56"/>
                  <a:pt x="4007" y="0"/>
                  <a:pt x="4026" y="0"/>
                </a:cubicBezTo>
                <a:cubicBezTo>
                  <a:pt x="4045" y="0"/>
                  <a:pt x="4063" y="28"/>
                  <a:pt x="4082" y="56"/>
                </a:cubicBezTo>
              </a:path>
            </a:pathLst>
          </a:custGeom>
          <a:noFill/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09320" y="666288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09320" y="68882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09320" y="711216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9000" y="7518240"/>
            <a:ext cx="6389640" cy="9072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9000" y="774396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9000" y="796932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2600">
            <a:solidFill>
              <a:srgbClr val="c0c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9000" y="828360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9000" y="850896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908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9000" y="8734320"/>
            <a:ext cx="6389640" cy="9072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908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9000" y="9048600"/>
            <a:ext cx="6389640" cy="9072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9000" y="927432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cap="rnd" w="38160">
            <a:solidFill>
              <a:srgbClr val="80808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9000" y="949968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cap="rnd" w="3816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09320" y="74390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09320" y="769788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09320" y="79344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09320" y="82026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09320" y="84614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09320" y="869796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09320" y="89568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09320" y="921528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09320" y="94518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9000" y="4470480"/>
            <a:ext cx="6345000" cy="215640"/>
            <a:chOff x="189000" y="4470480"/>
            <a:chExt cx="6345000" cy="215640"/>
          </a:xfrm>
        </p:grpSpPr>
        <p:grpSp>
          <p:nvGrpSpPr>
            <p:cNvPr id="235" name=""/>
            <p:cNvGrpSpPr/>
            <p:nvPr/>
          </p:nvGrpSpPr>
          <p:grpSpPr>
            <a:xfrm>
              <a:off x="189000" y="4556160"/>
              <a:ext cx="6345000" cy="44280"/>
              <a:chOff x="189000" y="4556160"/>
              <a:chExt cx="6345000" cy="44280"/>
            </a:xfrm>
          </p:grpSpPr>
          <p:sp>
            <p:nvSpPr>
              <p:cNvPr id="236" name=""/>
              <p:cNvSpPr/>
              <p:nvPr/>
            </p:nvSpPr>
            <p:spPr>
              <a:xfrm>
                <a:off x="50472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900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508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4936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6544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7972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9544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0972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2580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5616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7044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8616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0044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91652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080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4508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5936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7544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8900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489720" y="455616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40080" y="455616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79360" y="4578480"/>
              <a:ext cx="6167520" cy="0"/>
              <a:chOff x="279360" y="4578480"/>
              <a:chExt cx="6167520" cy="0"/>
            </a:xfrm>
          </p:grpSpPr>
          <p:sp>
            <p:nvSpPr>
              <p:cNvPr id="258" name=""/>
              <p:cNvSpPr/>
              <p:nvPr/>
            </p:nvSpPr>
            <p:spPr>
              <a:xfrm>
                <a:off x="27936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5440" y="4578480"/>
                <a:ext cx="1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909720" y="4578480"/>
                <a:ext cx="1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2544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3972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85580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7008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86160" y="4578480"/>
                <a:ext cx="1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00440" y="4578480"/>
                <a:ext cx="1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4652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6080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76880" y="4578480"/>
                <a:ext cx="1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91160" y="4578480"/>
                <a:ext cx="1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00688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1972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35800" y="4578480"/>
                <a:ext cx="1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50080" y="4578480"/>
                <a:ext cx="18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6580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1472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29000" y="4578480"/>
                <a:ext cx="1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09320" y="4470480"/>
              <a:ext cx="5886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lt;</a:t>
              </a:r>
              <a:r>
                <a:rPr b="1" lang="zh-CN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ココまで</a:t>
              </a: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89000" y="4695840"/>
            <a:ext cx="6345000" cy="215640"/>
            <a:chOff x="189000" y="4695840"/>
            <a:chExt cx="6345000" cy="215640"/>
          </a:xfrm>
        </p:grpSpPr>
        <p:grpSp>
          <p:nvGrpSpPr>
            <p:cNvPr id="280" name=""/>
            <p:cNvGrpSpPr/>
            <p:nvPr/>
          </p:nvGrpSpPr>
          <p:grpSpPr>
            <a:xfrm>
              <a:off x="189000" y="4781520"/>
              <a:ext cx="6345000" cy="44280"/>
              <a:chOff x="189000" y="4781520"/>
              <a:chExt cx="6345000" cy="44280"/>
            </a:xfrm>
          </p:grpSpPr>
          <p:sp>
            <p:nvSpPr>
              <p:cNvPr id="281" name=""/>
              <p:cNvSpPr/>
              <p:nvPr/>
            </p:nvSpPr>
            <p:spPr>
              <a:xfrm>
                <a:off x="50472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1900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3508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44936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6544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07972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9544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0972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2580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5616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7044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8616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0044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91652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3080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4508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5936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17544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900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89720" y="4781520"/>
                <a:ext cx="4428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40080" y="4781520"/>
                <a:ext cx="44640" cy="4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79360" y="4803840"/>
              <a:ext cx="6167520" cy="0"/>
              <a:chOff x="279360" y="4803840"/>
              <a:chExt cx="6167520" cy="0"/>
            </a:xfrm>
          </p:grpSpPr>
          <p:sp>
            <p:nvSpPr>
              <p:cNvPr id="303" name=""/>
              <p:cNvSpPr/>
              <p:nvPr/>
            </p:nvSpPr>
            <p:spPr>
              <a:xfrm>
                <a:off x="27936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5440" y="4803840"/>
                <a:ext cx="18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909720" y="4803840"/>
                <a:ext cx="18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22544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3972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5580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7008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486160" y="4803840"/>
                <a:ext cx="18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00440" y="4803840"/>
                <a:ext cx="18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4652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06080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76880" y="4803840"/>
                <a:ext cx="18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91160" y="4803840"/>
                <a:ext cx="18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0688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1972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35800" y="4803840"/>
                <a:ext cx="18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50080" y="4803840"/>
                <a:ext cx="18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6580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1472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429000" y="4803840"/>
                <a:ext cx="1810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109320" y="4695840"/>
              <a:ext cx="5886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lt;</a:t>
              </a:r>
              <a:r>
                <a:rPr b="1" lang="zh-CN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ココまで</a:t>
              </a: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89000" y="4965840"/>
            <a:ext cx="6345000" cy="215640"/>
            <a:chOff x="189000" y="4965840"/>
            <a:chExt cx="6345000" cy="215640"/>
          </a:xfrm>
        </p:grpSpPr>
        <p:grpSp>
          <p:nvGrpSpPr>
            <p:cNvPr id="325" name=""/>
            <p:cNvGrpSpPr/>
            <p:nvPr/>
          </p:nvGrpSpPr>
          <p:grpSpPr>
            <a:xfrm>
              <a:off x="189000" y="5010120"/>
              <a:ext cx="6345000" cy="44280"/>
              <a:chOff x="189000" y="5010120"/>
              <a:chExt cx="6345000" cy="44280"/>
            </a:xfrm>
          </p:grpSpPr>
          <p:sp>
            <p:nvSpPr>
              <p:cNvPr id="326" name=""/>
              <p:cNvSpPr/>
              <p:nvPr/>
            </p:nvSpPr>
            <p:spPr>
              <a:xfrm>
                <a:off x="50472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1900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3508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4936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6544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7972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9544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70972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2580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5616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7044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8616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60044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1652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3080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4508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85936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7544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8900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89720" y="5010120"/>
                <a:ext cx="4428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40080" y="5010120"/>
                <a:ext cx="44640" cy="442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79360" y="5032440"/>
              <a:ext cx="6167520" cy="0"/>
              <a:chOff x="279360" y="5032440"/>
              <a:chExt cx="6167520" cy="0"/>
            </a:xfrm>
          </p:grpSpPr>
          <p:sp>
            <p:nvSpPr>
              <p:cNvPr id="348" name=""/>
              <p:cNvSpPr/>
              <p:nvPr/>
            </p:nvSpPr>
            <p:spPr>
              <a:xfrm>
                <a:off x="27936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95440" y="5032440"/>
                <a:ext cx="18072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09720" y="5032440"/>
                <a:ext cx="18072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2544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3972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5580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17008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86160" y="5032440"/>
                <a:ext cx="18072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00440" y="5032440"/>
                <a:ext cx="18072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4652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06080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76880" y="5032440"/>
                <a:ext cx="18072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91160" y="5032440"/>
                <a:ext cx="18072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0688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1972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35800" y="5032440"/>
                <a:ext cx="18072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0080" y="5032440"/>
                <a:ext cx="18072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26580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11472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29000" y="5032440"/>
                <a:ext cx="181080" cy="0"/>
              </a:xfrm>
              <a:prstGeom prst="line">
                <a:avLst/>
              </a:prstGeom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109320" y="4965840"/>
              <a:ext cx="5886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lt;</a:t>
              </a:r>
              <a:r>
                <a:rPr b="1" lang="zh-CN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ココまで</a:t>
              </a:r>
              <a:r>
                <a:rPr b="1" lang="en-US" sz="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33280" y="452520"/>
            <a:ext cx="6345360" cy="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10760" y="3618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3280" y="689040"/>
            <a:ext cx="6345360" cy="0"/>
          </a:xfrm>
          <a:prstGeom prst="line">
            <a:avLst/>
          </a:prstGeom>
          <a:ln w="2844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10760" y="59832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3280" y="914400"/>
            <a:ext cx="6345360" cy="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10760" y="8240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3280" y="1251000"/>
            <a:ext cx="6345360" cy="0"/>
          </a:xfrm>
          <a:prstGeom prst="line">
            <a:avLst/>
          </a:prstGeom>
          <a:ln w="1260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10760" y="11606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3280" y="1487520"/>
            <a:ext cx="6345360" cy="0"/>
          </a:xfrm>
          <a:prstGeom prst="line">
            <a:avLst/>
          </a:prstGeom>
          <a:ln w="12600">
            <a:solidFill>
              <a:srgbClr val="3366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10760" y="139716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3280" y="1712880"/>
            <a:ext cx="6345360" cy="0"/>
          </a:xfrm>
          <a:prstGeom prst="line">
            <a:avLst/>
          </a:prstGeom>
          <a:ln w="12600">
            <a:solidFill>
              <a:srgbClr val="99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10760" y="162252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3280" y="2071800"/>
            <a:ext cx="6345360" cy="0"/>
          </a:xfrm>
          <a:prstGeom prst="line">
            <a:avLst/>
          </a:prstGeom>
          <a:ln cap="rnd" w="1908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10760" y="198108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3280" y="2308320"/>
            <a:ext cx="6345360" cy="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10760" y="22176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3280" y="2533680"/>
            <a:ext cx="6345360" cy="0"/>
          </a:xfrm>
          <a:prstGeom prst="line">
            <a:avLst/>
          </a:prstGeom>
          <a:ln cap="rnd" w="1908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10760" y="244332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3280" y="2881440"/>
            <a:ext cx="6345360" cy="0"/>
          </a:xfrm>
          <a:prstGeom prst="line">
            <a:avLst/>
          </a:prstGeom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10760" y="279072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3280" y="3117960"/>
            <a:ext cx="6345360" cy="0"/>
          </a:xfrm>
          <a:prstGeom prst="line">
            <a:avLst/>
          </a:prstGeom>
          <a:ln cap="rnd" w="5724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10760" y="30272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3280" y="3343320"/>
            <a:ext cx="6345360" cy="0"/>
          </a:xfrm>
          <a:prstGeom prst="line">
            <a:avLst/>
          </a:prstGeom>
          <a:ln cap="rnd" w="5724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10760" y="325296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89000" y="3733920"/>
            <a:ext cx="6345000" cy="44280"/>
            <a:chOff x="189000" y="3733920"/>
            <a:chExt cx="6345000" cy="44280"/>
          </a:xfrm>
        </p:grpSpPr>
        <p:sp>
          <p:nvSpPr>
            <p:cNvPr id="394" name=""/>
            <p:cNvSpPr/>
            <p:nvPr/>
          </p:nvSpPr>
          <p:spPr>
            <a:xfrm>
              <a:off x="50472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900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3508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4936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6544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7972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9544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0972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2580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5616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7044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8616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1652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080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4508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5936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7544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900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89720" y="373392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40080" y="373392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79360" y="3755880"/>
            <a:ext cx="6167520" cy="0"/>
            <a:chOff x="279360" y="3755880"/>
            <a:chExt cx="6167520" cy="0"/>
          </a:xfrm>
        </p:grpSpPr>
        <p:sp>
          <p:nvSpPr>
            <p:cNvPr id="416" name=""/>
            <p:cNvSpPr/>
            <p:nvPr/>
          </p:nvSpPr>
          <p:spPr>
            <a:xfrm>
              <a:off x="27936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5440" y="3755880"/>
              <a:ext cx="18072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9720" y="3755880"/>
              <a:ext cx="18072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2544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3972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5580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7008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86160" y="3755880"/>
              <a:ext cx="18072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00440" y="3755880"/>
              <a:ext cx="18072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4652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6080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76880" y="3755880"/>
              <a:ext cx="18072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91160" y="3755880"/>
              <a:ext cx="18072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0688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1972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35800" y="3755880"/>
              <a:ext cx="18072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0080" y="3755880"/>
              <a:ext cx="18072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6580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1472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3755880"/>
              <a:ext cx="18108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89000" y="3959280"/>
            <a:ext cx="6345000" cy="44280"/>
            <a:chOff x="189000" y="3959280"/>
            <a:chExt cx="6345000" cy="44280"/>
          </a:xfrm>
        </p:grpSpPr>
        <p:sp>
          <p:nvSpPr>
            <p:cNvPr id="437" name=""/>
            <p:cNvSpPr/>
            <p:nvPr/>
          </p:nvSpPr>
          <p:spPr>
            <a:xfrm>
              <a:off x="50472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900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3508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4936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6544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7972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9544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0972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2580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5616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7044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8616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0044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1652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080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4508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5936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7544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900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89720" y="395928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40080" y="395928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79360" y="3981600"/>
            <a:ext cx="6167520" cy="0"/>
            <a:chOff x="279360" y="3981600"/>
            <a:chExt cx="6167520" cy="0"/>
          </a:xfrm>
        </p:grpSpPr>
        <p:sp>
          <p:nvSpPr>
            <p:cNvPr id="459" name=""/>
            <p:cNvSpPr/>
            <p:nvPr/>
          </p:nvSpPr>
          <p:spPr>
            <a:xfrm>
              <a:off x="27936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5440" y="3981600"/>
              <a:ext cx="1807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9720" y="3981600"/>
              <a:ext cx="1807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544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972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5580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7008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86160" y="3981600"/>
              <a:ext cx="1807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0440" y="3981600"/>
              <a:ext cx="1807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4652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080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76880" y="3981600"/>
              <a:ext cx="1807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91160" y="3981600"/>
              <a:ext cx="1807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0688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1972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35800" y="3981600"/>
              <a:ext cx="1807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50080" y="3981600"/>
              <a:ext cx="18072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6580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1472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9000" y="3981600"/>
              <a:ext cx="18108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89000" y="4187880"/>
            <a:ext cx="6345000" cy="44280"/>
            <a:chOff x="189000" y="4187880"/>
            <a:chExt cx="6345000" cy="44280"/>
          </a:xfrm>
        </p:grpSpPr>
        <p:sp>
          <p:nvSpPr>
            <p:cNvPr id="480" name=""/>
            <p:cNvSpPr/>
            <p:nvPr/>
          </p:nvSpPr>
          <p:spPr>
            <a:xfrm>
              <a:off x="50472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900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3508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4936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6544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7972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544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0972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2580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5616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7044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8616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0044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1652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3080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4508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5936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7544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900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89720" y="418788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40080" y="418788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79360" y="4210200"/>
            <a:ext cx="6167520" cy="0"/>
            <a:chOff x="279360" y="4210200"/>
            <a:chExt cx="6167520" cy="0"/>
          </a:xfrm>
        </p:grpSpPr>
        <p:sp>
          <p:nvSpPr>
            <p:cNvPr id="502" name=""/>
            <p:cNvSpPr/>
            <p:nvPr/>
          </p:nvSpPr>
          <p:spPr>
            <a:xfrm>
              <a:off x="27936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5440" y="4210200"/>
              <a:ext cx="180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09720" y="4210200"/>
              <a:ext cx="180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2544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3972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5580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7008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86160" y="4210200"/>
              <a:ext cx="180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00440" y="4210200"/>
              <a:ext cx="180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4652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6080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76880" y="4210200"/>
              <a:ext cx="180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91160" y="4210200"/>
              <a:ext cx="180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0688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1972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35800" y="4210200"/>
              <a:ext cx="180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0080" y="4210200"/>
              <a:ext cx="18072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6580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1472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29000" y="4210200"/>
              <a:ext cx="181080" cy="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109320" y="36482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09320" y="38736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09320" y="41432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89000" y="6165720"/>
            <a:ext cx="6389640" cy="271080"/>
            <a:chOff x="189000" y="6165720"/>
            <a:chExt cx="6389640" cy="271080"/>
          </a:xfrm>
        </p:grpSpPr>
        <p:sp>
          <p:nvSpPr>
            <p:cNvPr id="526" name=""/>
            <p:cNvSpPr/>
            <p:nvPr/>
          </p:nvSpPr>
          <p:spPr>
            <a:xfrm>
              <a:off x="189000" y="6165720"/>
              <a:ext cx="6389640" cy="269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26240" y="6211440"/>
              <a:ext cx="516600" cy="14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9cc00"/>
                  </a:solidFill>
                  <a:latin typeface="メイリオ"/>
                  <a:ea typeface="メイリオ"/>
                </a:rPr>
                <a:t>&lt;</a:t>
              </a:r>
              <a:r>
                <a:rPr b="1" lang="zh-CN" sz="800" spc="-1" strike="noStrike">
                  <a:solidFill>
                    <a:srgbClr val="99cc00"/>
                  </a:solidFill>
                  <a:latin typeface="メイリオ"/>
                  <a:ea typeface="メイリオ"/>
                </a:rPr>
                <a:t>ココまで</a:t>
              </a:r>
              <a:r>
                <a:rPr b="1" lang="en-US" sz="800" spc="-1" strike="noStrike">
                  <a:solidFill>
                    <a:srgbClr val="99cc00"/>
                  </a:solidFill>
                  <a:latin typeface="メイリオ"/>
                  <a:ea typeface="メイリオ"/>
                </a:rPr>
                <a:t>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9000" y="6435360"/>
              <a:ext cx="6389640" cy="1440"/>
            </a:xfrm>
            <a:prstGeom prst="line">
              <a:avLst/>
            </a:prstGeom>
            <a:ln w="19080">
              <a:solidFill>
                <a:srgbClr val="99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89000" y="5762520"/>
            <a:ext cx="6389640" cy="271440"/>
            <a:chOff x="189000" y="5762520"/>
            <a:chExt cx="6389640" cy="271440"/>
          </a:xfrm>
        </p:grpSpPr>
        <p:sp>
          <p:nvSpPr>
            <p:cNvPr id="530" name=""/>
            <p:cNvSpPr/>
            <p:nvPr/>
          </p:nvSpPr>
          <p:spPr>
            <a:xfrm>
              <a:off x="189000" y="5762520"/>
              <a:ext cx="6389640" cy="270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6240" y="5808600"/>
              <a:ext cx="516600" cy="14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66ff"/>
                  </a:solidFill>
                  <a:latin typeface="メイリオ"/>
                  <a:ea typeface="メイリオ"/>
                </a:rPr>
                <a:t>&lt;</a:t>
              </a:r>
              <a:r>
                <a:rPr b="1" lang="zh-CN" sz="800" spc="-1" strike="noStrike">
                  <a:solidFill>
                    <a:srgbClr val="0066ff"/>
                  </a:solidFill>
                  <a:latin typeface="メイリオ"/>
                  <a:ea typeface="メイリオ"/>
                </a:rPr>
                <a:t>ココまで</a:t>
              </a:r>
              <a:r>
                <a:rPr b="1" lang="en-US" sz="800" spc="-1" strike="noStrike">
                  <a:solidFill>
                    <a:srgbClr val="0066ff"/>
                  </a:solidFill>
                  <a:latin typeface="メイリオ"/>
                  <a:ea typeface="メイリオ"/>
                </a:rPr>
                <a:t>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9000" y="6032520"/>
              <a:ext cx="6389640" cy="1440"/>
            </a:xfrm>
            <a:prstGeom prst="line">
              <a:avLst/>
            </a:prstGeom>
            <a:ln w="1908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89000" y="5357880"/>
            <a:ext cx="6389640" cy="271440"/>
            <a:chOff x="189000" y="5357880"/>
            <a:chExt cx="6389640" cy="271440"/>
          </a:xfrm>
        </p:grpSpPr>
        <p:sp>
          <p:nvSpPr>
            <p:cNvPr id="534" name=""/>
            <p:cNvSpPr/>
            <p:nvPr/>
          </p:nvSpPr>
          <p:spPr>
            <a:xfrm>
              <a:off x="189000" y="5357880"/>
              <a:ext cx="6389640" cy="270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26240" y="5403960"/>
              <a:ext cx="516600" cy="14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メイリオ"/>
                  <a:ea typeface="メイリオ"/>
                </a:rPr>
                <a:t>&lt;</a:t>
              </a:r>
              <a:r>
                <a:rPr b="1" lang="zh-CN" sz="800" spc="-1" strike="noStrike">
                  <a:solidFill>
                    <a:srgbClr val="ff6600"/>
                  </a:solidFill>
                  <a:latin typeface="メイリオ"/>
                  <a:ea typeface="メイリオ"/>
                </a:rPr>
                <a:t>ココまで</a:t>
              </a:r>
              <a:r>
                <a:rPr b="1" lang="en-US" sz="800" spc="-1" strike="noStrike">
                  <a:solidFill>
                    <a:srgbClr val="ff6600"/>
                  </a:solidFill>
                  <a:latin typeface="メイリオ"/>
                  <a:ea typeface="メイリオ"/>
                </a:rPr>
                <a:t>&gt;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9000" y="5627880"/>
              <a:ext cx="6389640" cy="1440"/>
            </a:xfrm>
            <a:prstGeom prst="line">
              <a:avLst/>
            </a:prstGeom>
            <a:ln w="1908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189000" y="6753240"/>
            <a:ext cx="6391080" cy="44280"/>
          </a:xfrm>
          <a:custGeom>
            <a:avLst/>
            <a:gdLst/>
            <a:ahLst/>
            <a:rect l="l" t="t" r="r" b="b"/>
            <a:pathLst>
              <a:path w="4082" h="56">
                <a:moveTo>
                  <a:pt x="0" y="56"/>
                </a:moveTo>
                <a:cubicBezTo>
                  <a:pt x="18" y="28"/>
                  <a:pt x="37" y="0"/>
                  <a:pt x="56" y="0"/>
                </a:cubicBezTo>
                <a:cubicBezTo>
                  <a:pt x="75" y="0"/>
                  <a:pt x="94" y="56"/>
                  <a:pt x="113" y="56"/>
                </a:cubicBezTo>
                <a:cubicBezTo>
                  <a:pt x="132" y="56"/>
                  <a:pt x="151" y="0"/>
                  <a:pt x="170" y="0"/>
                </a:cubicBezTo>
                <a:cubicBezTo>
                  <a:pt x="189" y="0"/>
                  <a:pt x="208" y="56"/>
                  <a:pt x="227" y="56"/>
                </a:cubicBezTo>
                <a:cubicBezTo>
                  <a:pt x="246" y="56"/>
                  <a:pt x="264" y="0"/>
                  <a:pt x="283" y="0"/>
                </a:cubicBezTo>
                <a:cubicBezTo>
                  <a:pt x="302" y="0"/>
                  <a:pt x="321" y="56"/>
                  <a:pt x="340" y="56"/>
                </a:cubicBezTo>
                <a:cubicBezTo>
                  <a:pt x="359" y="56"/>
                  <a:pt x="378" y="0"/>
                  <a:pt x="397" y="0"/>
                </a:cubicBezTo>
                <a:cubicBezTo>
                  <a:pt x="416" y="0"/>
                  <a:pt x="434" y="56"/>
                  <a:pt x="453" y="56"/>
                </a:cubicBezTo>
                <a:cubicBezTo>
                  <a:pt x="472" y="56"/>
                  <a:pt x="491" y="0"/>
                  <a:pt x="510" y="0"/>
                </a:cubicBezTo>
                <a:cubicBezTo>
                  <a:pt x="529" y="0"/>
                  <a:pt x="548" y="56"/>
                  <a:pt x="567" y="56"/>
                </a:cubicBezTo>
                <a:cubicBezTo>
                  <a:pt x="586" y="56"/>
                  <a:pt x="604" y="0"/>
                  <a:pt x="623" y="0"/>
                </a:cubicBezTo>
                <a:cubicBezTo>
                  <a:pt x="642" y="0"/>
                  <a:pt x="661" y="56"/>
                  <a:pt x="680" y="56"/>
                </a:cubicBezTo>
                <a:cubicBezTo>
                  <a:pt x="699" y="56"/>
                  <a:pt x="718" y="0"/>
                  <a:pt x="737" y="0"/>
                </a:cubicBezTo>
                <a:cubicBezTo>
                  <a:pt x="756" y="0"/>
                  <a:pt x="775" y="56"/>
                  <a:pt x="794" y="56"/>
                </a:cubicBezTo>
                <a:cubicBezTo>
                  <a:pt x="813" y="56"/>
                  <a:pt x="831" y="0"/>
                  <a:pt x="850" y="0"/>
                </a:cubicBezTo>
                <a:cubicBezTo>
                  <a:pt x="869" y="0"/>
                  <a:pt x="888" y="56"/>
                  <a:pt x="907" y="56"/>
                </a:cubicBezTo>
                <a:cubicBezTo>
                  <a:pt x="926" y="56"/>
                  <a:pt x="945" y="0"/>
                  <a:pt x="964" y="0"/>
                </a:cubicBezTo>
                <a:cubicBezTo>
                  <a:pt x="983" y="0"/>
                  <a:pt x="1001" y="56"/>
                  <a:pt x="1020" y="56"/>
                </a:cubicBezTo>
                <a:cubicBezTo>
                  <a:pt x="1039" y="56"/>
                  <a:pt x="1058" y="0"/>
                  <a:pt x="1077" y="0"/>
                </a:cubicBezTo>
                <a:cubicBezTo>
                  <a:pt x="1096" y="0"/>
                  <a:pt x="1115" y="56"/>
                  <a:pt x="1134" y="56"/>
                </a:cubicBezTo>
                <a:cubicBezTo>
                  <a:pt x="1153" y="56"/>
                  <a:pt x="1171" y="0"/>
                  <a:pt x="1190" y="0"/>
                </a:cubicBezTo>
                <a:cubicBezTo>
                  <a:pt x="1209" y="0"/>
                  <a:pt x="1228" y="56"/>
                  <a:pt x="1247" y="56"/>
                </a:cubicBezTo>
                <a:cubicBezTo>
                  <a:pt x="1266" y="56"/>
                  <a:pt x="1285" y="0"/>
                  <a:pt x="1304" y="0"/>
                </a:cubicBezTo>
                <a:cubicBezTo>
                  <a:pt x="1323" y="0"/>
                  <a:pt x="1342" y="56"/>
                  <a:pt x="1361" y="56"/>
                </a:cubicBezTo>
                <a:cubicBezTo>
                  <a:pt x="1380" y="56"/>
                  <a:pt x="1398" y="0"/>
                  <a:pt x="1417" y="0"/>
                </a:cubicBezTo>
                <a:cubicBezTo>
                  <a:pt x="1436" y="0"/>
                  <a:pt x="1455" y="56"/>
                  <a:pt x="1474" y="56"/>
                </a:cubicBezTo>
                <a:cubicBezTo>
                  <a:pt x="1493" y="56"/>
                  <a:pt x="1512" y="0"/>
                  <a:pt x="1531" y="0"/>
                </a:cubicBezTo>
                <a:cubicBezTo>
                  <a:pt x="1550" y="0"/>
                  <a:pt x="1568" y="56"/>
                  <a:pt x="1587" y="56"/>
                </a:cubicBezTo>
                <a:cubicBezTo>
                  <a:pt x="1606" y="56"/>
                  <a:pt x="1625" y="0"/>
                  <a:pt x="1644" y="0"/>
                </a:cubicBezTo>
                <a:cubicBezTo>
                  <a:pt x="1663" y="0"/>
                  <a:pt x="1682" y="56"/>
                  <a:pt x="1701" y="56"/>
                </a:cubicBezTo>
                <a:cubicBezTo>
                  <a:pt x="1720" y="56"/>
                  <a:pt x="1738" y="0"/>
                  <a:pt x="1757" y="0"/>
                </a:cubicBezTo>
                <a:cubicBezTo>
                  <a:pt x="1776" y="0"/>
                  <a:pt x="1795" y="56"/>
                  <a:pt x="1814" y="56"/>
                </a:cubicBezTo>
                <a:cubicBezTo>
                  <a:pt x="1833" y="56"/>
                  <a:pt x="1852" y="0"/>
                  <a:pt x="1871" y="0"/>
                </a:cubicBezTo>
                <a:cubicBezTo>
                  <a:pt x="1890" y="0"/>
                  <a:pt x="1909" y="56"/>
                  <a:pt x="1928" y="56"/>
                </a:cubicBezTo>
                <a:cubicBezTo>
                  <a:pt x="1947" y="56"/>
                  <a:pt x="1965" y="0"/>
                  <a:pt x="1984" y="0"/>
                </a:cubicBezTo>
                <a:cubicBezTo>
                  <a:pt x="2003" y="0"/>
                  <a:pt x="2022" y="56"/>
                  <a:pt x="2041" y="56"/>
                </a:cubicBezTo>
                <a:cubicBezTo>
                  <a:pt x="2060" y="56"/>
                  <a:pt x="2079" y="0"/>
                  <a:pt x="2098" y="0"/>
                </a:cubicBezTo>
                <a:cubicBezTo>
                  <a:pt x="2117" y="0"/>
                  <a:pt x="2135" y="56"/>
                  <a:pt x="2154" y="56"/>
                </a:cubicBezTo>
                <a:cubicBezTo>
                  <a:pt x="2173" y="56"/>
                  <a:pt x="2192" y="0"/>
                  <a:pt x="2211" y="0"/>
                </a:cubicBezTo>
                <a:cubicBezTo>
                  <a:pt x="2230" y="0"/>
                  <a:pt x="2249" y="56"/>
                  <a:pt x="2268" y="56"/>
                </a:cubicBezTo>
                <a:cubicBezTo>
                  <a:pt x="2287" y="56"/>
                  <a:pt x="2306" y="0"/>
                  <a:pt x="2325" y="0"/>
                </a:cubicBezTo>
                <a:cubicBezTo>
                  <a:pt x="2344" y="0"/>
                  <a:pt x="2362" y="56"/>
                  <a:pt x="2381" y="56"/>
                </a:cubicBezTo>
                <a:cubicBezTo>
                  <a:pt x="2400" y="56"/>
                  <a:pt x="2419" y="0"/>
                  <a:pt x="2438" y="0"/>
                </a:cubicBezTo>
                <a:cubicBezTo>
                  <a:pt x="2457" y="0"/>
                  <a:pt x="2476" y="56"/>
                  <a:pt x="2495" y="56"/>
                </a:cubicBezTo>
                <a:cubicBezTo>
                  <a:pt x="2514" y="56"/>
                  <a:pt x="2532" y="0"/>
                  <a:pt x="2551" y="0"/>
                </a:cubicBezTo>
                <a:cubicBezTo>
                  <a:pt x="2570" y="0"/>
                  <a:pt x="2589" y="56"/>
                  <a:pt x="2608" y="56"/>
                </a:cubicBezTo>
                <a:cubicBezTo>
                  <a:pt x="2627" y="56"/>
                  <a:pt x="2646" y="0"/>
                  <a:pt x="2665" y="0"/>
                </a:cubicBezTo>
                <a:cubicBezTo>
                  <a:pt x="2684" y="0"/>
                  <a:pt x="2702" y="56"/>
                  <a:pt x="2721" y="56"/>
                </a:cubicBezTo>
                <a:cubicBezTo>
                  <a:pt x="2740" y="56"/>
                  <a:pt x="2759" y="0"/>
                  <a:pt x="2778" y="0"/>
                </a:cubicBezTo>
                <a:cubicBezTo>
                  <a:pt x="2797" y="0"/>
                  <a:pt x="2816" y="56"/>
                  <a:pt x="2835" y="56"/>
                </a:cubicBezTo>
                <a:cubicBezTo>
                  <a:pt x="2854" y="56"/>
                  <a:pt x="2873" y="0"/>
                  <a:pt x="2892" y="0"/>
                </a:cubicBezTo>
                <a:cubicBezTo>
                  <a:pt x="2911" y="0"/>
                  <a:pt x="2929" y="56"/>
                  <a:pt x="2948" y="56"/>
                </a:cubicBezTo>
                <a:cubicBezTo>
                  <a:pt x="2967" y="56"/>
                  <a:pt x="2986" y="0"/>
                  <a:pt x="3005" y="0"/>
                </a:cubicBezTo>
                <a:cubicBezTo>
                  <a:pt x="3024" y="0"/>
                  <a:pt x="3043" y="56"/>
                  <a:pt x="3062" y="56"/>
                </a:cubicBezTo>
                <a:cubicBezTo>
                  <a:pt x="3081" y="56"/>
                  <a:pt x="3099" y="0"/>
                  <a:pt x="3118" y="0"/>
                </a:cubicBezTo>
                <a:cubicBezTo>
                  <a:pt x="3137" y="0"/>
                  <a:pt x="3156" y="56"/>
                  <a:pt x="3175" y="56"/>
                </a:cubicBezTo>
                <a:cubicBezTo>
                  <a:pt x="3194" y="56"/>
                  <a:pt x="3213" y="0"/>
                  <a:pt x="3232" y="0"/>
                </a:cubicBezTo>
                <a:cubicBezTo>
                  <a:pt x="3251" y="0"/>
                  <a:pt x="3269" y="56"/>
                  <a:pt x="3288" y="56"/>
                </a:cubicBezTo>
                <a:cubicBezTo>
                  <a:pt x="3307" y="56"/>
                  <a:pt x="3326" y="0"/>
                  <a:pt x="3345" y="0"/>
                </a:cubicBezTo>
                <a:cubicBezTo>
                  <a:pt x="3364" y="0"/>
                  <a:pt x="3383" y="56"/>
                  <a:pt x="3402" y="56"/>
                </a:cubicBezTo>
                <a:cubicBezTo>
                  <a:pt x="3421" y="56"/>
                  <a:pt x="3440" y="0"/>
                  <a:pt x="3459" y="0"/>
                </a:cubicBezTo>
                <a:cubicBezTo>
                  <a:pt x="3478" y="0"/>
                  <a:pt x="3496" y="56"/>
                  <a:pt x="3515" y="56"/>
                </a:cubicBezTo>
                <a:cubicBezTo>
                  <a:pt x="3534" y="56"/>
                  <a:pt x="3553" y="0"/>
                  <a:pt x="3572" y="0"/>
                </a:cubicBezTo>
                <a:cubicBezTo>
                  <a:pt x="3591" y="0"/>
                  <a:pt x="3610" y="56"/>
                  <a:pt x="3629" y="56"/>
                </a:cubicBezTo>
                <a:cubicBezTo>
                  <a:pt x="3648" y="56"/>
                  <a:pt x="3666" y="0"/>
                  <a:pt x="3685" y="0"/>
                </a:cubicBezTo>
                <a:cubicBezTo>
                  <a:pt x="3704" y="0"/>
                  <a:pt x="3723" y="56"/>
                  <a:pt x="3742" y="56"/>
                </a:cubicBezTo>
                <a:cubicBezTo>
                  <a:pt x="3761" y="56"/>
                  <a:pt x="3780" y="0"/>
                  <a:pt x="3799" y="0"/>
                </a:cubicBezTo>
                <a:cubicBezTo>
                  <a:pt x="3818" y="0"/>
                  <a:pt x="3836" y="56"/>
                  <a:pt x="3855" y="56"/>
                </a:cubicBezTo>
                <a:cubicBezTo>
                  <a:pt x="3874" y="56"/>
                  <a:pt x="3893" y="0"/>
                  <a:pt x="3912" y="0"/>
                </a:cubicBezTo>
                <a:cubicBezTo>
                  <a:pt x="3931" y="0"/>
                  <a:pt x="3950" y="56"/>
                  <a:pt x="3969" y="56"/>
                </a:cubicBezTo>
                <a:cubicBezTo>
                  <a:pt x="3988" y="56"/>
                  <a:pt x="4007" y="0"/>
                  <a:pt x="4026" y="0"/>
                </a:cubicBezTo>
                <a:cubicBezTo>
                  <a:pt x="4045" y="0"/>
                  <a:pt x="4063" y="28"/>
                  <a:pt x="4082" y="56"/>
                </a:cubicBez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89000" y="6977160"/>
            <a:ext cx="6391080" cy="44280"/>
          </a:xfrm>
          <a:custGeom>
            <a:avLst/>
            <a:gdLst/>
            <a:ahLst/>
            <a:rect l="l" t="t" r="r" b="b"/>
            <a:pathLst>
              <a:path w="4082" h="56">
                <a:moveTo>
                  <a:pt x="0" y="56"/>
                </a:moveTo>
                <a:cubicBezTo>
                  <a:pt x="18" y="28"/>
                  <a:pt x="37" y="0"/>
                  <a:pt x="56" y="0"/>
                </a:cubicBezTo>
                <a:cubicBezTo>
                  <a:pt x="75" y="0"/>
                  <a:pt x="94" y="56"/>
                  <a:pt x="113" y="56"/>
                </a:cubicBezTo>
                <a:cubicBezTo>
                  <a:pt x="132" y="56"/>
                  <a:pt x="151" y="0"/>
                  <a:pt x="170" y="0"/>
                </a:cubicBezTo>
                <a:cubicBezTo>
                  <a:pt x="189" y="0"/>
                  <a:pt x="208" y="56"/>
                  <a:pt x="227" y="56"/>
                </a:cubicBezTo>
                <a:cubicBezTo>
                  <a:pt x="246" y="56"/>
                  <a:pt x="264" y="0"/>
                  <a:pt x="283" y="0"/>
                </a:cubicBezTo>
                <a:cubicBezTo>
                  <a:pt x="302" y="0"/>
                  <a:pt x="321" y="56"/>
                  <a:pt x="340" y="56"/>
                </a:cubicBezTo>
                <a:cubicBezTo>
                  <a:pt x="359" y="56"/>
                  <a:pt x="378" y="0"/>
                  <a:pt x="397" y="0"/>
                </a:cubicBezTo>
                <a:cubicBezTo>
                  <a:pt x="416" y="0"/>
                  <a:pt x="434" y="56"/>
                  <a:pt x="453" y="56"/>
                </a:cubicBezTo>
                <a:cubicBezTo>
                  <a:pt x="472" y="56"/>
                  <a:pt x="491" y="0"/>
                  <a:pt x="510" y="0"/>
                </a:cubicBezTo>
                <a:cubicBezTo>
                  <a:pt x="529" y="0"/>
                  <a:pt x="548" y="56"/>
                  <a:pt x="567" y="56"/>
                </a:cubicBezTo>
                <a:cubicBezTo>
                  <a:pt x="586" y="56"/>
                  <a:pt x="604" y="0"/>
                  <a:pt x="623" y="0"/>
                </a:cubicBezTo>
                <a:cubicBezTo>
                  <a:pt x="642" y="0"/>
                  <a:pt x="661" y="56"/>
                  <a:pt x="680" y="56"/>
                </a:cubicBezTo>
                <a:cubicBezTo>
                  <a:pt x="699" y="56"/>
                  <a:pt x="718" y="0"/>
                  <a:pt x="737" y="0"/>
                </a:cubicBezTo>
                <a:cubicBezTo>
                  <a:pt x="756" y="0"/>
                  <a:pt x="775" y="56"/>
                  <a:pt x="794" y="56"/>
                </a:cubicBezTo>
                <a:cubicBezTo>
                  <a:pt x="813" y="56"/>
                  <a:pt x="831" y="0"/>
                  <a:pt x="850" y="0"/>
                </a:cubicBezTo>
                <a:cubicBezTo>
                  <a:pt x="869" y="0"/>
                  <a:pt x="888" y="56"/>
                  <a:pt x="907" y="56"/>
                </a:cubicBezTo>
                <a:cubicBezTo>
                  <a:pt x="926" y="56"/>
                  <a:pt x="945" y="0"/>
                  <a:pt x="964" y="0"/>
                </a:cubicBezTo>
                <a:cubicBezTo>
                  <a:pt x="983" y="0"/>
                  <a:pt x="1001" y="56"/>
                  <a:pt x="1020" y="56"/>
                </a:cubicBezTo>
                <a:cubicBezTo>
                  <a:pt x="1039" y="56"/>
                  <a:pt x="1058" y="0"/>
                  <a:pt x="1077" y="0"/>
                </a:cubicBezTo>
                <a:cubicBezTo>
                  <a:pt x="1096" y="0"/>
                  <a:pt x="1115" y="56"/>
                  <a:pt x="1134" y="56"/>
                </a:cubicBezTo>
                <a:cubicBezTo>
                  <a:pt x="1153" y="56"/>
                  <a:pt x="1171" y="0"/>
                  <a:pt x="1190" y="0"/>
                </a:cubicBezTo>
                <a:cubicBezTo>
                  <a:pt x="1209" y="0"/>
                  <a:pt x="1228" y="56"/>
                  <a:pt x="1247" y="56"/>
                </a:cubicBezTo>
                <a:cubicBezTo>
                  <a:pt x="1266" y="56"/>
                  <a:pt x="1285" y="0"/>
                  <a:pt x="1304" y="0"/>
                </a:cubicBezTo>
                <a:cubicBezTo>
                  <a:pt x="1323" y="0"/>
                  <a:pt x="1342" y="56"/>
                  <a:pt x="1361" y="56"/>
                </a:cubicBezTo>
                <a:cubicBezTo>
                  <a:pt x="1380" y="56"/>
                  <a:pt x="1398" y="0"/>
                  <a:pt x="1417" y="0"/>
                </a:cubicBezTo>
                <a:cubicBezTo>
                  <a:pt x="1436" y="0"/>
                  <a:pt x="1455" y="56"/>
                  <a:pt x="1474" y="56"/>
                </a:cubicBezTo>
                <a:cubicBezTo>
                  <a:pt x="1493" y="56"/>
                  <a:pt x="1512" y="0"/>
                  <a:pt x="1531" y="0"/>
                </a:cubicBezTo>
                <a:cubicBezTo>
                  <a:pt x="1550" y="0"/>
                  <a:pt x="1568" y="56"/>
                  <a:pt x="1587" y="56"/>
                </a:cubicBezTo>
                <a:cubicBezTo>
                  <a:pt x="1606" y="56"/>
                  <a:pt x="1625" y="0"/>
                  <a:pt x="1644" y="0"/>
                </a:cubicBezTo>
                <a:cubicBezTo>
                  <a:pt x="1663" y="0"/>
                  <a:pt x="1682" y="56"/>
                  <a:pt x="1701" y="56"/>
                </a:cubicBezTo>
                <a:cubicBezTo>
                  <a:pt x="1720" y="56"/>
                  <a:pt x="1738" y="0"/>
                  <a:pt x="1757" y="0"/>
                </a:cubicBezTo>
                <a:cubicBezTo>
                  <a:pt x="1776" y="0"/>
                  <a:pt x="1795" y="56"/>
                  <a:pt x="1814" y="56"/>
                </a:cubicBezTo>
                <a:cubicBezTo>
                  <a:pt x="1833" y="56"/>
                  <a:pt x="1852" y="0"/>
                  <a:pt x="1871" y="0"/>
                </a:cubicBezTo>
                <a:cubicBezTo>
                  <a:pt x="1890" y="0"/>
                  <a:pt x="1909" y="56"/>
                  <a:pt x="1928" y="56"/>
                </a:cubicBezTo>
                <a:cubicBezTo>
                  <a:pt x="1947" y="56"/>
                  <a:pt x="1965" y="0"/>
                  <a:pt x="1984" y="0"/>
                </a:cubicBezTo>
                <a:cubicBezTo>
                  <a:pt x="2003" y="0"/>
                  <a:pt x="2022" y="56"/>
                  <a:pt x="2041" y="56"/>
                </a:cubicBezTo>
                <a:cubicBezTo>
                  <a:pt x="2060" y="56"/>
                  <a:pt x="2079" y="0"/>
                  <a:pt x="2098" y="0"/>
                </a:cubicBezTo>
                <a:cubicBezTo>
                  <a:pt x="2117" y="0"/>
                  <a:pt x="2135" y="56"/>
                  <a:pt x="2154" y="56"/>
                </a:cubicBezTo>
                <a:cubicBezTo>
                  <a:pt x="2173" y="56"/>
                  <a:pt x="2192" y="0"/>
                  <a:pt x="2211" y="0"/>
                </a:cubicBezTo>
                <a:cubicBezTo>
                  <a:pt x="2230" y="0"/>
                  <a:pt x="2249" y="56"/>
                  <a:pt x="2268" y="56"/>
                </a:cubicBezTo>
                <a:cubicBezTo>
                  <a:pt x="2287" y="56"/>
                  <a:pt x="2306" y="0"/>
                  <a:pt x="2325" y="0"/>
                </a:cubicBezTo>
                <a:cubicBezTo>
                  <a:pt x="2344" y="0"/>
                  <a:pt x="2362" y="56"/>
                  <a:pt x="2381" y="56"/>
                </a:cubicBezTo>
                <a:cubicBezTo>
                  <a:pt x="2400" y="56"/>
                  <a:pt x="2419" y="0"/>
                  <a:pt x="2438" y="0"/>
                </a:cubicBezTo>
                <a:cubicBezTo>
                  <a:pt x="2457" y="0"/>
                  <a:pt x="2476" y="56"/>
                  <a:pt x="2495" y="56"/>
                </a:cubicBezTo>
                <a:cubicBezTo>
                  <a:pt x="2514" y="56"/>
                  <a:pt x="2532" y="0"/>
                  <a:pt x="2551" y="0"/>
                </a:cubicBezTo>
                <a:cubicBezTo>
                  <a:pt x="2570" y="0"/>
                  <a:pt x="2589" y="56"/>
                  <a:pt x="2608" y="56"/>
                </a:cubicBezTo>
                <a:cubicBezTo>
                  <a:pt x="2627" y="56"/>
                  <a:pt x="2646" y="0"/>
                  <a:pt x="2665" y="0"/>
                </a:cubicBezTo>
                <a:cubicBezTo>
                  <a:pt x="2684" y="0"/>
                  <a:pt x="2702" y="56"/>
                  <a:pt x="2721" y="56"/>
                </a:cubicBezTo>
                <a:cubicBezTo>
                  <a:pt x="2740" y="56"/>
                  <a:pt x="2759" y="0"/>
                  <a:pt x="2778" y="0"/>
                </a:cubicBezTo>
                <a:cubicBezTo>
                  <a:pt x="2797" y="0"/>
                  <a:pt x="2816" y="56"/>
                  <a:pt x="2835" y="56"/>
                </a:cubicBezTo>
                <a:cubicBezTo>
                  <a:pt x="2854" y="56"/>
                  <a:pt x="2873" y="0"/>
                  <a:pt x="2892" y="0"/>
                </a:cubicBezTo>
                <a:cubicBezTo>
                  <a:pt x="2911" y="0"/>
                  <a:pt x="2929" y="56"/>
                  <a:pt x="2948" y="56"/>
                </a:cubicBezTo>
                <a:cubicBezTo>
                  <a:pt x="2967" y="56"/>
                  <a:pt x="2986" y="0"/>
                  <a:pt x="3005" y="0"/>
                </a:cubicBezTo>
                <a:cubicBezTo>
                  <a:pt x="3024" y="0"/>
                  <a:pt x="3043" y="56"/>
                  <a:pt x="3062" y="56"/>
                </a:cubicBezTo>
                <a:cubicBezTo>
                  <a:pt x="3081" y="56"/>
                  <a:pt x="3099" y="0"/>
                  <a:pt x="3118" y="0"/>
                </a:cubicBezTo>
                <a:cubicBezTo>
                  <a:pt x="3137" y="0"/>
                  <a:pt x="3156" y="56"/>
                  <a:pt x="3175" y="56"/>
                </a:cubicBezTo>
                <a:cubicBezTo>
                  <a:pt x="3194" y="56"/>
                  <a:pt x="3213" y="0"/>
                  <a:pt x="3232" y="0"/>
                </a:cubicBezTo>
                <a:cubicBezTo>
                  <a:pt x="3251" y="0"/>
                  <a:pt x="3269" y="56"/>
                  <a:pt x="3288" y="56"/>
                </a:cubicBezTo>
                <a:cubicBezTo>
                  <a:pt x="3307" y="56"/>
                  <a:pt x="3326" y="0"/>
                  <a:pt x="3345" y="0"/>
                </a:cubicBezTo>
                <a:cubicBezTo>
                  <a:pt x="3364" y="0"/>
                  <a:pt x="3383" y="56"/>
                  <a:pt x="3402" y="56"/>
                </a:cubicBezTo>
                <a:cubicBezTo>
                  <a:pt x="3421" y="56"/>
                  <a:pt x="3440" y="0"/>
                  <a:pt x="3459" y="0"/>
                </a:cubicBezTo>
                <a:cubicBezTo>
                  <a:pt x="3478" y="0"/>
                  <a:pt x="3496" y="56"/>
                  <a:pt x="3515" y="56"/>
                </a:cubicBezTo>
                <a:cubicBezTo>
                  <a:pt x="3534" y="56"/>
                  <a:pt x="3553" y="0"/>
                  <a:pt x="3572" y="0"/>
                </a:cubicBezTo>
                <a:cubicBezTo>
                  <a:pt x="3591" y="0"/>
                  <a:pt x="3610" y="56"/>
                  <a:pt x="3629" y="56"/>
                </a:cubicBezTo>
                <a:cubicBezTo>
                  <a:pt x="3648" y="56"/>
                  <a:pt x="3666" y="0"/>
                  <a:pt x="3685" y="0"/>
                </a:cubicBezTo>
                <a:cubicBezTo>
                  <a:pt x="3704" y="0"/>
                  <a:pt x="3723" y="56"/>
                  <a:pt x="3742" y="56"/>
                </a:cubicBezTo>
                <a:cubicBezTo>
                  <a:pt x="3761" y="56"/>
                  <a:pt x="3780" y="0"/>
                  <a:pt x="3799" y="0"/>
                </a:cubicBezTo>
                <a:cubicBezTo>
                  <a:pt x="3818" y="0"/>
                  <a:pt x="3836" y="56"/>
                  <a:pt x="3855" y="56"/>
                </a:cubicBezTo>
                <a:cubicBezTo>
                  <a:pt x="3874" y="56"/>
                  <a:pt x="3893" y="0"/>
                  <a:pt x="3912" y="0"/>
                </a:cubicBezTo>
                <a:cubicBezTo>
                  <a:pt x="3931" y="0"/>
                  <a:pt x="3950" y="56"/>
                  <a:pt x="3969" y="56"/>
                </a:cubicBezTo>
                <a:cubicBezTo>
                  <a:pt x="3988" y="56"/>
                  <a:pt x="4007" y="0"/>
                  <a:pt x="4026" y="0"/>
                </a:cubicBezTo>
                <a:cubicBezTo>
                  <a:pt x="4045" y="0"/>
                  <a:pt x="4063" y="28"/>
                  <a:pt x="4082" y="56"/>
                </a:cubicBezTo>
              </a:path>
            </a:pathLst>
          </a:custGeom>
          <a:noFill/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000" y="7202520"/>
            <a:ext cx="6391080" cy="44280"/>
          </a:xfrm>
          <a:custGeom>
            <a:avLst/>
            <a:gdLst/>
            <a:ahLst/>
            <a:rect l="l" t="t" r="r" b="b"/>
            <a:pathLst>
              <a:path w="4082" h="56">
                <a:moveTo>
                  <a:pt x="0" y="56"/>
                </a:moveTo>
                <a:cubicBezTo>
                  <a:pt x="18" y="28"/>
                  <a:pt x="37" y="0"/>
                  <a:pt x="56" y="0"/>
                </a:cubicBezTo>
                <a:cubicBezTo>
                  <a:pt x="75" y="0"/>
                  <a:pt x="94" y="56"/>
                  <a:pt x="113" y="56"/>
                </a:cubicBezTo>
                <a:cubicBezTo>
                  <a:pt x="132" y="56"/>
                  <a:pt x="151" y="0"/>
                  <a:pt x="170" y="0"/>
                </a:cubicBezTo>
                <a:cubicBezTo>
                  <a:pt x="189" y="0"/>
                  <a:pt x="208" y="56"/>
                  <a:pt x="227" y="56"/>
                </a:cubicBezTo>
                <a:cubicBezTo>
                  <a:pt x="246" y="56"/>
                  <a:pt x="264" y="0"/>
                  <a:pt x="283" y="0"/>
                </a:cubicBezTo>
                <a:cubicBezTo>
                  <a:pt x="302" y="0"/>
                  <a:pt x="321" y="56"/>
                  <a:pt x="340" y="56"/>
                </a:cubicBezTo>
                <a:cubicBezTo>
                  <a:pt x="359" y="56"/>
                  <a:pt x="378" y="0"/>
                  <a:pt x="397" y="0"/>
                </a:cubicBezTo>
                <a:cubicBezTo>
                  <a:pt x="416" y="0"/>
                  <a:pt x="434" y="56"/>
                  <a:pt x="453" y="56"/>
                </a:cubicBezTo>
                <a:cubicBezTo>
                  <a:pt x="472" y="56"/>
                  <a:pt x="491" y="0"/>
                  <a:pt x="510" y="0"/>
                </a:cubicBezTo>
                <a:cubicBezTo>
                  <a:pt x="529" y="0"/>
                  <a:pt x="548" y="56"/>
                  <a:pt x="567" y="56"/>
                </a:cubicBezTo>
                <a:cubicBezTo>
                  <a:pt x="586" y="56"/>
                  <a:pt x="604" y="0"/>
                  <a:pt x="623" y="0"/>
                </a:cubicBezTo>
                <a:cubicBezTo>
                  <a:pt x="642" y="0"/>
                  <a:pt x="661" y="56"/>
                  <a:pt x="680" y="56"/>
                </a:cubicBezTo>
                <a:cubicBezTo>
                  <a:pt x="699" y="56"/>
                  <a:pt x="718" y="0"/>
                  <a:pt x="737" y="0"/>
                </a:cubicBezTo>
                <a:cubicBezTo>
                  <a:pt x="756" y="0"/>
                  <a:pt x="775" y="56"/>
                  <a:pt x="794" y="56"/>
                </a:cubicBezTo>
                <a:cubicBezTo>
                  <a:pt x="813" y="56"/>
                  <a:pt x="831" y="0"/>
                  <a:pt x="850" y="0"/>
                </a:cubicBezTo>
                <a:cubicBezTo>
                  <a:pt x="869" y="0"/>
                  <a:pt x="888" y="56"/>
                  <a:pt x="907" y="56"/>
                </a:cubicBezTo>
                <a:cubicBezTo>
                  <a:pt x="926" y="56"/>
                  <a:pt x="945" y="0"/>
                  <a:pt x="964" y="0"/>
                </a:cubicBezTo>
                <a:cubicBezTo>
                  <a:pt x="983" y="0"/>
                  <a:pt x="1001" y="56"/>
                  <a:pt x="1020" y="56"/>
                </a:cubicBezTo>
                <a:cubicBezTo>
                  <a:pt x="1039" y="56"/>
                  <a:pt x="1058" y="0"/>
                  <a:pt x="1077" y="0"/>
                </a:cubicBezTo>
                <a:cubicBezTo>
                  <a:pt x="1096" y="0"/>
                  <a:pt x="1115" y="56"/>
                  <a:pt x="1134" y="56"/>
                </a:cubicBezTo>
                <a:cubicBezTo>
                  <a:pt x="1153" y="56"/>
                  <a:pt x="1171" y="0"/>
                  <a:pt x="1190" y="0"/>
                </a:cubicBezTo>
                <a:cubicBezTo>
                  <a:pt x="1209" y="0"/>
                  <a:pt x="1228" y="56"/>
                  <a:pt x="1247" y="56"/>
                </a:cubicBezTo>
                <a:cubicBezTo>
                  <a:pt x="1266" y="56"/>
                  <a:pt x="1285" y="0"/>
                  <a:pt x="1304" y="0"/>
                </a:cubicBezTo>
                <a:cubicBezTo>
                  <a:pt x="1323" y="0"/>
                  <a:pt x="1342" y="56"/>
                  <a:pt x="1361" y="56"/>
                </a:cubicBezTo>
                <a:cubicBezTo>
                  <a:pt x="1380" y="56"/>
                  <a:pt x="1398" y="0"/>
                  <a:pt x="1417" y="0"/>
                </a:cubicBezTo>
                <a:cubicBezTo>
                  <a:pt x="1436" y="0"/>
                  <a:pt x="1455" y="56"/>
                  <a:pt x="1474" y="56"/>
                </a:cubicBezTo>
                <a:cubicBezTo>
                  <a:pt x="1493" y="56"/>
                  <a:pt x="1512" y="0"/>
                  <a:pt x="1531" y="0"/>
                </a:cubicBezTo>
                <a:cubicBezTo>
                  <a:pt x="1550" y="0"/>
                  <a:pt x="1568" y="56"/>
                  <a:pt x="1587" y="56"/>
                </a:cubicBezTo>
                <a:cubicBezTo>
                  <a:pt x="1606" y="56"/>
                  <a:pt x="1625" y="0"/>
                  <a:pt x="1644" y="0"/>
                </a:cubicBezTo>
                <a:cubicBezTo>
                  <a:pt x="1663" y="0"/>
                  <a:pt x="1682" y="56"/>
                  <a:pt x="1701" y="56"/>
                </a:cubicBezTo>
                <a:cubicBezTo>
                  <a:pt x="1720" y="56"/>
                  <a:pt x="1738" y="0"/>
                  <a:pt x="1757" y="0"/>
                </a:cubicBezTo>
                <a:cubicBezTo>
                  <a:pt x="1776" y="0"/>
                  <a:pt x="1795" y="56"/>
                  <a:pt x="1814" y="56"/>
                </a:cubicBezTo>
                <a:cubicBezTo>
                  <a:pt x="1833" y="56"/>
                  <a:pt x="1852" y="0"/>
                  <a:pt x="1871" y="0"/>
                </a:cubicBezTo>
                <a:cubicBezTo>
                  <a:pt x="1890" y="0"/>
                  <a:pt x="1909" y="56"/>
                  <a:pt x="1928" y="56"/>
                </a:cubicBezTo>
                <a:cubicBezTo>
                  <a:pt x="1947" y="56"/>
                  <a:pt x="1965" y="0"/>
                  <a:pt x="1984" y="0"/>
                </a:cubicBezTo>
                <a:cubicBezTo>
                  <a:pt x="2003" y="0"/>
                  <a:pt x="2022" y="56"/>
                  <a:pt x="2041" y="56"/>
                </a:cubicBezTo>
                <a:cubicBezTo>
                  <a:pt x="2060" y="56"/>
                  <a:pt x="2079" y="0"/>
                  <a:pt x="2098" y="0"/>
                </a:cubicBezTo>
                <a:cubicBezTo>
                  <a:pt x="2117" y="0"/>
                  <a:pt x="2135" y="56"/>
                  <a:pt x="2154" y="56"/>
                </a:cubicBezTo>
                <a:cubicBezTo>
                  <a:pt x="2173" y="56"/>
                  <a:pt x="2192" y="0"/>
                  <a:pt x="2211" y="0"/>
                </a:cubicBezTo>
                <a:cubicBezTo>
                  <a:pt x="2230" y="0"/>
                  <a:pt x="2249" y="56"/>
                  <a:pt x="2268" y="56"/>
                </a:cubicBezTo>
                <a:cubicBezTo>
                  <a:pt x="2287" y="56"/>
                  <a:pt x="2306" y="0"/>
                  <a:pt x="2325" y="0"/>
                </a:cubicBezTo>
                <a:cubicBezTo>
                  <a:pt x="2344" y="0"/>
                  <a:pt x="2362" y="56"/>
                  <a:pt x="2381" y="56"/>
                </a:cubicBezTo>
                <a:cubicBezTo>
                  <a:pt x="2400" y="56"/>
                  <a:pt x="2419" y="0"/>
                  <a:pt x="2438" y="0"/>
                </a:cubicBezTo>
                <a:cubicBezTo>
                  <a:pt x="2457" y="0"/>
                  <a:pt x="2476" y="56"/>
                  <a:pt x="2495" y="56"/>
                </a:cubicBezTo>
                <a:cubicBezTo>
                  <a:pt x="2514" y="56"/>
                  <a:pt x="2532" y="0"/>
                  <a:pt x="2551" y="0"/>
                </a:cubicBezTo>
                <a:cubicBezTo>
                  <a:pt x="2570" y="0"/>
                  <a:pt x="2589" y="56"/>
                  <a:pt x="2608" y="56"/>
                </a:cubicBezTo>
                <a:cubicBezTo>
                  <a:pt x="2627" y="56"/>
                  <a:pt x="2646" y="0"/>
                  <a:pt x="2665" y="0"/>
                </a:cubicBezTo>
                <a:cubicBezTo>
                  <a:pt x="2684" y="0"/>
                  <a:pt x="2702" y="56"/>
                  <a:pt x="2721" y="56"/>
                </a:cubicBezTo>
                <a:cubicBezTo>
                  <a:pt x="2740" y="56"/>
                  <a:pt x="2759" y="0"/>
                  <a:pt x="2778" y="0"/>
                </a:cubicBezTo>
                <a:cubicBezTo>
                  <a:pt x="2797" y="0"/>
                  <a:pt x="2816" y="56"/>
                  <a:pt x="2835" y="56"/>
                </a:cubicBezTo>
                <a:cubicBezTo>
                  <a:pt x="2854" y="56"/>
                  <a:pt x="2873" y="0"/>
                  <a:pt x="2892" y="0"/>
                </a:cubicBezTo>
                <a:cubicBezTo>
                  <a:pt x="2911" y="0"/>
                  <a:pt x="2929" y="56"/>
                  <a:pt x="2948" y="56"/>
                </a:cubicBezTo>
                <a:cubicBezTo>
                  <a:pt x="2967" y="56"/>
                  <a:pt x="2986" y="0"/>
                  <a:pt x="3005" y="0"/>
                </a:cubicBezTo>
                <a:cubicBezTo>
                  <a:pt x="3024" y="0"/>
                  <a:pt x="3043" y="56"/>
                  <a:pt x="3062" y="56"/>
                </a:cubicBezTo>
                <a:cubicBezTo>
                  <a:pt x="3081" y="56"/>
                  <a:pt x="3099" y="0"/>
                  <a:pt x="3118" y="0"/>
                </a:cubicBezTo>
                <a:cubicBezTo>
                  <a:pt x="3137" y="0"/>
                  <a:pt x="3156" y="56"/>
                  <a:pt x="3175" y="56"/>
                </a:cubicBezTo>
                <a:cubicBezTo>
                  <a:pt x="3194" y="56"/>
                  <a:pt x="3213" y="0"/>
                  <a:pt x="3232" y="0"/>
                </a:cubicBezTo>
                <a:cubicBezTo>
                  <a:pt x="3251" y="0"/>
                  <a:pt x="3269" y="56"/>
                  <a:pt x="3288" y="56"/>
                </a:cubicBezTo>
                <a:cubicBezTo>
                  <a:pt x="3307" y="56"/>
                  <a:pt x="3326" y="0"/>
                  <a:pt x="3345" y="0"/>
                </a:cubicBezTo>
                <a:cubicBezTo>
                  <a:pt x="3364" y="0"/>
                  <a:pt x="3383" y="56"/>
                  <a:pt x="3402" y="56"/>
                </a:cubicBezTo>
                <a:cubicBezTo>
                  <a:pt x="3421" y="56"/>
                  <a:pt x="3440" y="0"/>
                  <a:pt x="3459" y="0"/>
                </a:cubicBezTo>
                <a:cubicBezTo>
                  <a:pt x="3478" y="0"/>
                  <a:pt x="3496" y="56"/>
                  <a:pt x="3515" y="56"/>
                </a:cubicBezTo>
                <a:cubicBezTo>
                  <a:pt x="3534" y="56"/>
                  <a:pt x="3553" y="0"/>
                  <a:pt x="3572" y="0"/>
                </a:cubicBezTo>
                <a:cubicBezTo>
                  <a:pt x="3591" y="0"/>
                  <a:pt x="3610" y="56"/>
                  <a:pt x="3629" y="56"/>
                </a:cubicBezTo>
                <a:cubicBezTo>
                  <a:pt x="3648" y="56"/>
                  <a:pt x="3666" y="0"/>
                  <a:pt x="3685" y="0"/>
                </a:cubicBezTo>
                <a:cubicBezTo>
                  <a:pt x="3704" y="0"/>
                  <a:pt x="3723" y="56"/>
                  <a:pt x="3742" y="56"/>
                </a:cubicBezTo>
                <a:cubicBezTo>
                  <a:pt x="3761" y="56"/>
                  <a:pt x="3780" y="0"/>
                  <a:pt x="3799" y="0"/>
                </a:cubicBezTo>
                <a:cubicBezTo>
                  <a:pt x="3818" y="0"/>
                  <a:pt x="3836" y="56"/>
                  <a:pt x="3855" y="56"/>
                </a:cubicBezTo>
                <a:cubicBezTo>
                  <a:pt x="3874" y="56"/>
                  <a:pt x="3893" y="0"/>
                  <a:pt x="3912" y="0"/>
                </a:cubicBezTo>
                <a:cubicBezTo>
                  <a:pt x="3931" y="0"/>
                  <a:pt x="3950" y="56"/>
                  <a:pt x="3969" y="56"/>
                </a:cubicBezTo>
                <a:cubicBezTo>
                  <a:pt x="3988" y="56"/>
                  <a:pt x="4007" y="0"/>
                  <a:pt x="4026" y="0"/>
                </a:cubicBezTo>
                <a:cubicBezTo>
                  <a:pt x="4045" y="0"/>
                  <a:pt x="4063" y="28"/>
                  <a:pt x="4082" y="56"/>
                </a:cubicBez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09320" y="666288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109320" y="68882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09320" y="711216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9000" y="7518240"/>
            <a:ext cx="6389640" cy="9072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260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9000" y="774396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260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9000" y="796932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260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9000" y="828360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908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9000" y="850896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9080">
            <a:solidFill>
              <a:srgbClr val="00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000" y="8734320"/>
            <a:ext cx="6389640" cy="9072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w="19080">
            <a:solidFill>
              <a:srgbClr val="99cc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89000" y="9048600"/>
            <a:ext cx="6389640" cy="9072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cap="rnd" w="38160">
            <a:solidFill>
              <a:srgbClr val="ff66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9000" y="927432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cap="rnd" w="38160">
            <a:solidFill>
              <a:srgbClr val="0066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89000" y="9499680"/>
            <a:ext cx="6389640" cy="90360"/>
          </a:xfrm>
          <a:custGeom>
            <a:avLst/>
            <a:gdLst/>
            <a:ahLst/>
            <a:rect l="l" t="t" r="r" b="b"/>
            <a:pathLst>
              <a:path w="4082" h="114">
                <a:moveTo>
                  <a:pt x="0" y="114"/>
                </a:moveTo>
                <a:cubicBezTo>
                  <a:pt x="76" y="57"/>
                  <a:pt x="152" y="0"/>
                  <a:pt x="227" y="0"/>
                </a:cubicBezTo>
                <a:cubicBezTo>
                  <a:pt x="302" y="0"/>
                  <a:pt x="378" y="114"/>
                  <a:pt x="453" y="114"/>
                </a:cubicBezTo>
                <a:cubicBezTo>
                  <a:pt x="528" y="114"/>
                  <a:pt x="604" y="0"/>
                  <a:pt x="680" y="0"/>
                </a:cubicBezTo>
                <a:cubicBezTo>
                  <a:pt x="756" y="0"/>
                  <a:pt x="831" y="114"/>
                  <a:pt x="907" y="114"/>
                </a:cubicBezTo>
                <a:cubicBezTo>
                  <a:pt x="983" y="114"/>
                  <a:pt x="1058" y="0"/>
                  <a:pt x="1134" y="0"/>
                </a:cubicBezTo>
                <a:cubicBezTo>
                  <a:pt x="1210" y="0"/>
                  <a:pt x="1286" y="114"/>
                  <a:pt x="1361" y="114"/>
                </a:cubicBezTo>
                <a:cubicBezTo>
                  <a:pt x="1436" y="114"/>
                  <a:pt x="1512" y="0"/>
                  <a:pt x="1587" y="0"/>
                </a:cubicBezTo>
                <a:cubicBezTo>
                  <a:pt x="1662" y="0"/>
                  <a:pt x="1738" y="114"/>
                  <a:pt x="1814" y="114"/>
                </a:cubicBezTo>
                <a:cubicBezTo>
                  <a:pt x="1890" y="114"/>
                  <a:pt x="1965" y="0"/>
                  <a:pt x="2041" y="0"/>
                </a:cubicBezTo>
                <a:cubicBezTo>
                  <a:pt x="2117" y="0"/>
                  <a:pt x="2192" y="114"/>
                  <a:pt x="2268" y="114"/>
                </a:cubicBezTo>
                <a:cubicBezTo>
                  <a:pt x="2344" y="114"/>
                  <a:pt x="2420" y="0"/>
                  <a:pt x="2495" y="0"/>
                </a:cubicBezTo>
                <a:cubicBezTo>
                  <a:pt x="2570" y="0"/>
                  <a:pt x="2646" y="114"/>
                  <a:pt x="2721" y="114"/>
                </a:cubicBezTo>
                <a:cubicBezTo>
                  <a:pt x="2796" y="114"/>
                  <a:pt x="2872" y="0"/>
                  <a:pt x="2948" y="0"/>
                </a:cubicBezTo>
                <a:cubicBezTo>
                  <a:pt x="3024" y="0"/>
                  <a:pt x="3099" y="114"/>
                  <a:pt x="3175" y="114"/>
                </a:cubicBezTo>
                <a:cubicBezTo>
                  <a:pt x="3251" y="114"/>
                  <a:pt x="3326" y="0"/>
                  <a:pt x="3402" y="0"/>
                </a:cubicBezTo>
                <a:cubicBezTo>
                  <a:pt x="3478" y="0"/>
                  <a:pt x="3554" y="114"/>
                  <a:pt x="3629" y="114"/>
                </a:cubicBezTo>
                <a:cubicBezTo>
                  <a:pt x="3704" y="114"/>
                  <a:pt x="3780" y="0"/>
                  <a:pt x="3855" y="0"/>
                </a:cubicBezTo>
                <a:cubicBezTo>
                  <a:pt x="3930" y="0"/>
                  <a:pt x="4006" y="57"/>
                  <a:pt x="4082" y="114"/>
                </a:cubicBez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09320" y="74390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09320" y="769788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109320" y="79344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109320" y="82026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109320" y="84614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109320" y="869796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09320" y="89568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09320" y="921528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109320" y="945180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89000" y="4556160"/>
            <a:ext cx="6345000" cy="44280"/>
            <a:chOff x="189000" y="4556160"/>
            <a:chExt cx="6345000" cy="44280"/>
          </a:xfrm>
        </p:grpSpPr>
        <p:sp>
          <p:nvSpPr>
            <p:cNvPr id="562" name=""/>
            <p:cNvSpPr/>
            <p:nvPr/>
          </p:nvSpPr>
          <p:spPr>
            <a:xfrm>
              <a:off x="50472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900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3508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4936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6544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7972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9544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0972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2580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616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7044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8616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0044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91652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3080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4508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5936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544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900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89720" y="4556160"/>
              <a:ext cx="4428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40080" y="4556160"/>
              <a:ext cx="44640" cy="442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279360" y="4578480"/>
            <a:ext cx="6167520" cy="0"/>
            <a:chOff x="279360" y="4578480"/>
            <a:chExt cx="6167520" cy="0"/>
          </a:xfrm>
        </p:grpSpPr>
        <p:sp>
          <p:nvSpPr>
            <p:cNvPr id="584" name=""/>
            <p:cNvSpPr/>
            <p:nvPr/>
          </p:nvSpPr>
          <p:spPr>
            <a:xfrm>
              <a:off x="27936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5440" y="4578480"/>
              <a:ext cx="180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09720" y="4578480"/>
              <a:ext cx="180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2544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3972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5580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7008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86160" y="4578480"/>
              <a:ext cx="180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00440" y="4578480"/>
              <a:ext cx="180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4652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6080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76880" y="4578480"/>
              <a:ext cx="180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91160" y="4578480"/>
              <a:ext cx="180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0688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1972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635800" y="4578480"/>
              <a:ext cx="180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50080" y="4578480"/>
              <a:ext cx="180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6580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1472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9000" y="4578480"/>
              <a:ext cx="181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109320" y="447048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ff66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89000" y="4781520"/>
            <a:ext cx="6345000" cy="44280"/>
            <a:chOff x="189000" y="4781520"/>
            <a:chExt cx="6345000" cy="44280"/>
          </a:xfrm>
        </p:grpSpPr>
        <p:sp>
          <p:nvSpPr>
            <p:cNvPr id="606" name=""/>
            <p:cNvSpPr/>
            <p:nvPr/>
          </p:nvSpPr>
          <p:spPr>
            <a:xfrm>
              <a:off x="50472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900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3508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4936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6544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7972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9544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0972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2580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5616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7044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8616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0044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1652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3080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4508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5936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7544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900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89720" y="4781520"/>
              <a:ext cx="4428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40080" y="4781520"/>
              <a:ext cx="44640" cy="442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79360" y="4803840"/>
            <a:ext cx="6167520" cy="0"/>
            <a:chOff x="279360" y="4803840"/>
            <a:chExt cx="6167520" cy="0"/>
          </a:xfrm>
        </p:grpSpPr>
        <p:sp>
          <p:nvSpPr>
            <p:cNvPr id="628" name=""/>
            <p:cNvSpPr/>
            <p:nvPr/>
          </p:nvSpPr>
          <p:spPr>
            <a:xfrm>
              <a:off x="27936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5440" y="4803840"/>
              <a:ext cx="1807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09720" y="4803840"/>
              <a:ext cx="1807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544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3972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5580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7008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86160" y="4803840"/>
              <a:ext cx="1807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800440" y="4803840"/>
              <a:ext cx="1807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74652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6080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6880" y="4803840"/>
              <a:ext cx="1807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91160" y="4803840"/>
              <a:ext cx="1807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0688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1972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35800" y="4803840"/>
              <a:ext cx="1807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50080" y="4803840"/>
              <a:ext cx="1807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26580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1472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29000" y="4803840"/>
              <a:ext cx="18108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3109320" y="46958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0066ff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9000" y="5010120"/>
            <a:ext cx="6345000" cy="44280"/>
            <a:chOff x="189000" y="5010120"/>
            <a:chExt cx="6345000" cy="44280"/>
          </a:xfrm>
        </p:grpSpPr>
        <p:sp>
          <p:nvSpPr>
            <p:cNvPr id="650" name=""/>
            <p:cNvSpPr/>
            <p:nvPr/>
          </p:nvSpPr>
          <p:spPr>
            <a:xfrm>
              <a:off x="50472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900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3508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4936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76544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7972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9544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70972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2580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5616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7044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8616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0044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1652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23080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4508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85936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7544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900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89720" y="5010120"/>
              <a:ext cx="4428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40080" y="5010120"/>
              <a:ext cx="44640" cy="44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79360" y="5032440"/>
            <a:ext cx="6167520" cy="0"/>
            <a:chOff x="279360" y="5032440"/>
            <a:chExt cx="6167520" cy="0"/>
          </a:xfrm>
        </p:grpSpPr>
        <p:sp>
          <p:nvSpPr>
            <p:cNvPr id="672" name=""/>
            <p:cNvSpPr/>
            <p:nvPr/>
          </p:nvSpPr>
          <p:spPr>
            <a:xfrm>
              <a:off x="27936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5440" y="5032440"/>
              <a:ext cx="18072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9720" y="5032440"/>
              <a:ext cx="18072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2544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53972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580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7008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486160" y="5032440"/>
              <a:ext cx="18072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00440" y="5032440"/>
              <a:ext cx="18072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4652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6080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6880" y="5032440"/>
              <a:ext cx="18072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691160" y="5032440"/>
              <a:ext cx="18072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0688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1972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635800" y="5032440"/>
              <a:ext cx="18072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50080" y="5032440"/>
              <a:ext cx="18072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6580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1472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29000" y="5032440"/>
              <a:ext cx="18108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109320" y="4965840"/>
            <a:ext cx="588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lt;</a:t>
            </a:r>
            <a:r>
              <a:rPr b="1" lang="zh-CN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ココまで</a:t>
            </a:r>
            <a:r>
              <a:rPr b="1" lang="en-US" sz="800" spc="-1" strike="noStrike">
                <a:solidFill>
                  <a:srgbClr val="99cc00"/>
                </a:solidFill>
                <a:latin typeface="メイリオ"/>
                <a:ea typeface="メイリオ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06-20T07:06:03Z</dcterms:modified>
  <cp:revision>1</cp:revision>
  <dc:subject>PPT176_区切り線</dc:subject>
  <dc:title>PPT176_区切り線</dc:title>
</cp:coreProperties>
</file>