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88880" y="2997360"/>
            <a:ext cx="1440000" cy="1274040"/>
            <a:chOff x="488880" y="2997360"/>
            <a:chExt cx="1440000" cy="1274040"/>
          </a:xfrm>
        </p:grpSpPr>
        <p:grpSp>
          <p:nvGrpSpPr>
            <p:cNvPr id="55" name=""/>
            <p:cNvGrpSpPr/>
            <p:nvPr/>
          </p:nvGrpSpPr>
          <p:grpSpPr>
            <a:xfrm>
              <a:off x="710640" y="2997360"/>
              <a:ext cx="1153080" cy="789480"/>
              <a:chOff x="710640" y="2997360"/>
              <a:chExt cx="1153080" cy="789480"/>
            </a:xfrm>
          </p:grpSpPr>
          <p:sp>
            <p:nvSpPr>
              <p:cNvPr id="56" name=""/>
              <p:cNvSpPr/>
              <p:nvPr/>
            </p:nvSpPr>
            <p:spPr>
              <a:xfrm>
                <a:off x="710640" y="3019680"/>
                <a:ext cx="1153080" cy="76716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c58d8d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760320" y="2997360"/>
                <a:ext cx="1056240" cy="767160"/>
                <a:chOff x="760320" y="2997360"/>
                <a:chExt cx="1056240" cy="7671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76032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2908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9820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96732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3536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10448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17360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24236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31112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38024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44936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1848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58652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65564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72476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793520" y="2997360"/>
                  <a:ext cx="23040" cy="76716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160"/>
                    <a:gd name="textAreaBottom" fmla="*/ 763920 h 767160"/>
                  </a:gdLst>
                  <a:ahLst/>
                  <a:rect l="textAreaLeft" t="textAreaTop" r="textAreaRight" b="textAreaBottom"/>
                  <a:pathLst>
                    <a:path w="21600" h="708480">
                      <a:moveTo>
                        <a:pt x="10800" y="0"/>
                      </a:moveTo>
                      <a:arcTo wR="10800" hR="10800" stAng="16200000" swAng="-5400000"/>
                      <a:lnTo>
                        <a:pt x="0" y="697680"/>
                      </a:lnTo>
                      <a:arcTo wR="10800" hR="10800" stAng="10800000" swAng="-5400000"/>
                      <a:lnTo>
                        <a:pt x="10800" y="7084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"/>
            <p:cNvGrpSpPr/>
            <p:nvPr/>
          </p:nvGrpSpPr>
          <p:grpSpPr>
            <a:xfrm>
              <a:off x="488880" y="3408120"/>
              <a:ext cx="1440000" cy="863280"/>
              <a:chOff x="488880" y="3408120"/>
              <a:chExt cx="1440000" cy="863280"/>
            </a:xfrm>
          </p:grpSpPr>
          <p:sp>
            <p:nvSpPr>
              <p:cNvPr id="75" name=""/>
              <p:cNvSpPr/>
              <p:nvPr/>
            </p:nvSpPr>
            <p:spPr>
              <a:xfrm>
                <a:off x="488880" y="3455280"/>
                <a:ext cx="1440000" cy="81612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e2e2e2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25120" y="3423600"/>
                <a:ext cx="1055880" cy="76752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333333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25120" y="3408120"/>
                <a:ext cx="1055880" cy="76716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e2e2e2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18040" y="3455280"/>
                <a:ext cx="258120" cy="745200"/>
              </a:xfrm>
              <a:custGeom>
                <a:avLst/>
                <a:gdLst>
                  <a:gd name="textAreaLeft" fmla="*/ 34920 w 258120"/>
                  <a:gd name="textAreaRight" fmla="*/ 223200 w 258120"/>
                  <a:gd name="textAreaTop" fmla="*/ 34920 h 745200"/>
                  <a:gd name="textAreaBottom" fmla="*/ 710280 h 745200"/>
                </a:gdLst>
                <a:ahLst/>
                <a:rect l="textAreaLeft" t="textAreaTop" r="textAreaRight" b="textAreaBottom"/>
                <a:pathLst>
                  <a:path w="21600" h="62303">
                    <a:moveTo>
                      <a:pt x="10035" y="0"/>
                    </a:moveTo>
                    <a:arcTo wR="10035" hR="10035" stAng="16200000" swAng="-5400000"/>
                    <a:lnTo>
                      <a:pt x="0" y="52268"/>
                    </a:lnTo>
                    <a:arcTo wR="10035" hR="10035" stAng="10800000" swAng="-5400000"/>
                    <a:lnTo>
                      <a:pt x="11565" y="62303"/>
                    </a:lnTo>
                    <a:arcTo wR="10035" hR="10035" stAng="5400000" swAng="-5400000"/>
                    <a:lnTo>
                      <a:pt x="21600" y="10035"/>
                    </a:lnTo>
                    <a:arcTo wR="10035" hR="1003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72640" y="3745080"/>
                <a:ext cx="383040" cy="3823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895680" y="3768120"/>
                <a:ext cx="336960" cy="336240"/>
                <a:chOff x="895680" y="3768120"/>
                <a:chExt cx="336960" cy="3362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896040" y="3768480"/>
                  <a:ext cx="336600" cy="33588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10800000">
                  <a:off x="895680" y="3768120"/>
                  <a:ext cx="336600" cy="33588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5400000">
                  <a:off x="896040" y="3768120"/>
                  <a:ext cx="335880" cy="33660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6200000">
                  <a:off x="896400" y="3767760"/>
                  <a:ext cx="335880" cy="33660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992160" y="3863520"/>
                  <a:ext cx="144000" cy="14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921240" y="3504240"/>
                <a:ext cx="863280" cy="19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44640" y="3527280"/>
                <a:ext cx="815760" cy="1436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d0e78d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04280" y="374400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97240" y="374400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688760" y="374400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04280" y="383940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97240" y="383940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88760" y="383940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04280" y="393552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97240" y="393552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88760" y="393552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04280" y="4031640"/>
                <a:ext cx="145080" cy="4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97240" y="4031640"/>
                <a:ext cx="144720" cy="4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88760" y="4031640"/>
                <a:ext cx="144720" cy="4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27760" y="3408120"/>
                <a:ext cx="238680" cy="767160"/>
              </a:xfrm>
              <a:custGeom>
                <a:avLst/>
                <a:gdLst>
                  <a:gd name="textAreaLeft" fmla="*/ 32400 w 238680"/>
                  <a:gd name="textAreaRight" fmla="*/ 206280 w 238680"/>
                  <a:gd name="textAreaTop" fmla="*/ 32400 h 767160"/>
                  <a:gd name="textAreaBottom" fmla="*/ 734760 h 767160"/>
                </a:gdLst>
                <a:ahLst/>
                <a:rect l="textAreaLeft" t="textAreaTop" r="textAreaRight" b="textAreaBottom"/>
                <a:pathLst>
                  <a:path w="21600" h="69354">
                    <a:moveTo>
                      <a:pt x="10035" y="0"/>
                    </a:moveTo>
                    <a:arcTo wR="10035" hR="10035" stAng="16200000" swAng="-5400000"/>
                    <a:lnTo>
                      <a:pt x="0" y="59319"/>
                    </a:lnTo>
                    <a:arcTo wR="10035" hR="10035" stAng="10800000" swAng="-5400000"/>
                    <a:lnTo>
                      <a:pt x="11565" y="69354"/>
                    </a:lnTo>
                    <a:arcTo wR="10035" hR="10035" stAng="5400000" swAng="-5400000"/>
                    <a:lnTo>
                      <a:pt x="21600" y="10035"/>
                    </a:lnTo>
                    <a:arcTo wR="10035" hR="1003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2e2e2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87440" y="1079640"/>
            <a:ext cx="1441440" cy="1275840"/>
            <a:chOff x="487440" y="1079640"/>
            <a:chExt cx="1441440" cy="1275840"/>
          </a:xfrm>
        </p:grpSpPr>
        <p:grpSp>
          <p:nvGrpSpPr>
            <p:cNvPr id="102" name=""/>
            <p:cNvGrpSpPr/>
            <p:nvPr/>
          </p:nvGrpSpPr>
          <p:grpSpPr>
            <a:xfrm>
              <a:off x="676440" y="1079640"/>
              <a:ext cx="1153440" cy="790560"/>
              <a:chOff x="676440" y="1079640"/>
              <a:chExt cx="1153440" cy="790560"/>
            </a:xfrm>
          </p:grpSpPr>
          <p:sp>
            <p:nvSpPr>
              <p:cNvPr id="103" name=""/>
              <p:cNvSpPr/>
              <p:nvPr/>
            </p:nvSpPr>
            <p:spPr>
              <a:xfrm>
                <a:off x="676440" y="1101960"/>
                <a:ext cx="1153440" cy="76824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c58d8d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724680" y="1079640"/>
                <a:ext cx="1056240" cy="768240"/>
                <a:chOff x="724680" y="1079640"/>
                <a:chExt cx="1056240" cy="7682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72468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9344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6256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93168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99972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06884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13796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0672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27548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34460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1372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48284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55088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62000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68912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757880" y="1079640"/>
                  <a:ext cx="23040" cy="76824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240"/>
                    <a:gd name="textAreaBottom" fmla="*/ 765000 h 768240"/>
                  </a:gdLst>
                  <a:ahLst/>
                  <a:rect l="textAreaLeft" t="textAreaTop" r="textAreaRight" b="textAreaBottom"/>
                  <a:pathLst>
                    <a:path w="21600" h="709477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677"/>
                      </a:lnTo>
                      <a:arcTo wR="10800" hR="10800" stAng="10800000" swAng="-5400000"/>
                      <a:lnTo>
                        <a:pt x="10800" y="70947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"/>
            <p:cNvGrpSpPr/>
            <p:nvPr/>
          </p:nvGrpSpPr>
          <p:grpSpPr>
            <a:xfrm>
              <a:off x="487440" y="1490760"/>
              <a:ext cx="1441440" cy="864720"/>
              <a:chOff x="487440" y="1490760"/>
              <a:chExt cx="1441440" cy="864720"/>
            </a:xfrm>
          </p:grpSpPr>
          <p:sp>
            <p:nvSpPr>
              <p:cNvPr id="122" name=""/>
              <p:cNvSpPr/>
              <p:nvPr/>
            </p:nvSpPr>
            <p:spPr>
              <a:xfrm>
                <a:off x="487440" y="1538280"/>
                <a:ext cx="1441440" cy="81720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4c4c4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24040" y="1490760"/>
                <a:ext cx="1056960" cy="76824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4c4c4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6960" y="1538280"/>
                <a:ext cx="258120" cy="746280"/>
              </a:xfrm>
              <a:custGeom>
                <a:avLst/>
                <a:gdLst>
                  <a:gd name="textAreaLeft" fmla="*/ 34920 w 258120"/>
                  <a:gd name="textAreaRight" fmla="*/ 223200 w 258120"/>
                  <a:gd name="textAreaTop" fmla="*/ 34920 h 746280"/>
                  <a:gd name="textAreaBottom" fmla="*/ 711360 h 746280"/>
                </a:gdLst>
                <a:ahLst/>
                <a:rect l="textAreaLeft" t="textAreaTop" r="textAreaRight" b="textAreaBottom"/>
                <a:pathLst>
                  <a:path w="21600" h="62393">
                    <a:moveTo>
                      <a:pt x="10035" y="0"/>
                    </a:moveTo>
                    <a:arcTo wR="10035" hR="10035" stAng="16200000" swAng="-5400000"/>
                    <a:lnTo>
                      <a:pt x="0" y="52358"/>
                    </a:lnTo>
                    <a:arcTo wR="10035" hR="10035" stAng="10800000" swAng="-5400000"/>
                    <a:lnTo>
                      <a:pt x="11565" y="62393"/>
                    </a:lnTo>
                    <a:arcTo wR="10035" hR="10035" stAng="5400000" swAng="-5400000"/>
                    <a:lnTo>
                      <a:pt x="21600" y="10035"/>
                    </a:lnTo>
                    <a:arcTo wR="10035" hR="10035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71920" y="1828080"/>
                <a:ext cx="383040" cy="3834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464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894600" y="1851120"/>
                <a:ext cx="336960" cy="336960"/>
                <a:chOff x="894600" y="1851120"/>
                <a:chExt cx="336960" cy="336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894960" y="1851480"/>
                  <a:ext cx="336600" cy="33660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0800000">
                  <a:off x="894600" y="1851120"/>
                  <a:ext cx="336600" cy="33660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5400000">
                  <a:off x="894600" y="1851480"/>
                  <a:ext cx="336600" cy="33660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6200000">
                  <a:off x="894960" y="1851120"/>
                  <a:ext cx="336600" cy="33660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91080" y="1946520"/>
                  <a:ext cx="14400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920520" y="1586880"/>
                <a:ext cx="864000" cy="19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43920" y="1610280"/>
                <a:ext cx="816120" cy="1440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d0e78d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03920" y="182736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96520" y="182736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88400" y="182736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03920" y="192240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96520" y="192240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88400" y="192240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03920" y="201888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96520" y="201888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88400" y="201888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03920" y="211500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96520" y="211500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688400" y="211500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6320" y="1490760"/>
                <a:ext cx="239400" cy="768240"/>
              </a:xfrm>
              <a:custGeom>
                <a:avLst/>
                <a:gdLst>
                  <a:gd name="textAreaLeft" fmla="*/ 32400 w 239400"/>
                  <a:gd name="textAreaRight" fmla="*/ 207000 w 239400"/>
                  <a:gd name="textAreaTop" fmla="*/ 32400 h 768240"/>
                  <a:gd name="textAreaBottom" fmla="*/ 735840 h 768240"/>
                </a:gdLst>
                <a:ahLst/>
                <a:rect l="textAreaLeft" t="textAreaTop" r="textAreaRight" b="textAreaBottom"/>
                <a:pathLst>
                  <a:path w="21600" h="69243">
                    <a:moveTo>
                      <a:pt x="10035" y="0"/>
                    </a:moveTo>
                    <a:arcTo wR="10035" hR="10035" stAng="16200000" swAng="-5400000"/>
                    <a:lnTo>
                      <a:pt x="0" y="59208"/>
                    </a:lnTo>
                    <a:arcTo wR="10035" hR="10035" stAng="10800000" swAng="-5400000"/>
                    <a:lnTo>
                      <a:pt x="11565" y="69243"/>
                    </a:lnTo>
                    <a:arcTo wR="10035" hR="10035" stAng="5400000" swAng="-5400000"/>
                    <a:lnTo>
                      <a:pt x="21600" y="10035"/>
                    </a:lnTo>
                    <a:arcTo wR="10035" hR="1003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c4c4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2360520" y="977760"/>
            <a:ext cx="1440000" cy="1377360"/>
            <a:chOff x="2360520" y="977760"/>
            <a:chExt cx="1440000" cy="1377360"/>
          </a:xfrm>
        </p:grpSpPr>
        <p:grpSp>
          <p:nvGrpSpPr>
            <p:cNvPr id="148" name=""/>
            <p:cNvGrpSpPr/>
            <p:nvPr/>
          </p:nvGrpSpPr>
          <p:grpSpPr>
            <a:xfrm>
              <a:off x="2549160" y="1080360"/>
              <a:ext cx="1152720" cy="789840"/>
              <a:chOff x="2549160" y="1080360"/>
              <a:chExt cx="1152720" cy="789840"/>
            </a:xfrm>
          </p:grpSpPr>
          <p:sp>
            <p:nvSpPr>
              <p:cNvPr id="149" name=""/>
              <p:cNvSpPr/>
              <p:nvPr/>
            </p:nvSpPr>
            <p:spPr>
              <a:xfrm>
                <a:off x="2549160" y="1102680"/>
                <a:ext cx="1152720" cy="76752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c58d8d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2597400" y="1080360"/>
                <a:ext cx="1055880" cy="767520"/>
                <a:chOff x="2597400" y="1080360"/>
                <a:chExt cx="1055880" cy="7675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59740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66616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3528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80404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87244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94120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01032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07944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14784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1696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28608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5484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42324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49200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56112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630240" y="1080360"/>
                  <a:ext cx="23040" cy="76752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7520"/>
                    <a:gd name="textAreaBottom" fmla="*/ 764280 h 767520"/>
                  </a:gdLst>
                  <a:ahLst/>
                  <a:rect l="textAreaLeft" t="textAreaTop" r="textAreaRight" b="textAreaBottom"/>
                  <a:pathLst>
                    <a:path w="21600" h="708812">
                      <a:moveTo>
                        <a:pt x="10800" y="0"/>
                      </a:moveTo>
                      <a:arcTo wR="10800" hR="10800" stAng="16200000" swAng="-5400000"/>
                      <a:lnTo>
                        <a:pt x="0" y="698012"/>
                      </a:lnTo>
                      <a:arcTo wR="10800" hR="10800" stAng="10800000" swAng="-5400000"/>
                      <a:lnTo>
                        <a:pt x="10800" y="70881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2736720" y="977760"/>
              <a:ext cx="821520" cy="753840"/>
              <a:chOff x="2736720" y="977760"/>
              <a:chExt cx="821520" cy="753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736720" y="977760"/>
                <a:ext cx="821520" cy="75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c1c1"/>
                  </a:gs>
                </a:gsLst>
                <a:lin ang="5400000"/>
              </a:gra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3009960" y="1045800"/>
                <a:ext cx="327600" cy="12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808080"/>
                    </a:solidFill>
                    <a:latin typeface="ＭＳ Ｐゴシック"/>
                  </a:rPr>
                  <a:t>FAX</a:t>
                </a:r>
                <a:endParaRPr b="0" lang="en-US" sz="1800" spc="1" strike="noStrike">
                  <a:ln w="0">
                    <a:noFill/>
                  </a:ln>
                  <a:solidFill>
                    <a:srgbClr val="808080"/>
                  </a:solidFill>
                  <a:latin typeface="ＭＳ Ｐゴシック"/>
                  <a:ea typeface="ＭＳ Ｐゴシック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04400" y="1251360"/>
                <a:ext cx="685800" cy="69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04400" y="1386720"/>
                <a:ext cx="685800" cy="69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360520" y="1491480"/>
              <a:ext cx="1440000" cy="863640"/>
              <a:chOff x="2360520" y="1491480"/>
              <a:chExt cx="1440000" cy="863640"/>
            </a:xfrm>
          </p:grpSpPr>
          <p:sp>
            <p:nvSpPr>
              <p:cNvPr id="173" name=""/>
              <p:cNvSpPr/>
              <p:nvPr/>
            </p:nvSpPr>
            <p:spPr>
              <a:xfrm>
                <a:off x="2360520" y="1538640"/>
                <a:ext cx="1440000" cy="81648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4c4c4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96760" y="1491480"/>
                <a:ext cx="1055880" cy="76788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4c4c4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89680" y="1538640"/>
                <a:ext cx="258120" cy="745560"/>
              </a:xfrm>
              <a:custGeom>
                <a:avLst/>
                <a:gdLst>
                  <a:gd name="textAreaLeft" fmla="*/ 34920 w 258120"/>
                  <a:gd name="textAreaRight" fmla="*/ 223200 w 258120"/>
                  <a:gd name="textAreaTop" fmla="*/ 34920 h 745560"/>
                  <a:gd name="textAreaBottom" fmla="*/ 710640 h 745560"/>
                </a:gdLst>
                <a:ahLst/>
                <a:rect l="textAreaLeft" t="textAreaTop" r="textAreaRight" b="textAreaBottom"/>
                <a:pathLst>
                  <a:path w="21600" h="62333">
                    <a:moveTo>
                      <a:pt x="10035" y="0"/>
                    </a:moveTo>
                    <a:arcTo wR="10035" hR="10035" stAng="16200000" swAng="-5400000"/>
                    <a:lnTo>
                      <a:pt x="0" y="52298"/>
                    </a:lnTo>
                    <a:arcTo wR="10035" hR="10035" stAng="10800000" swAng="-5400000"/>
                    <a:lnTo>
                      <a:pt x="11565" y="62333"/>
                    </a:lnTo>
                    <a:arcTo wR="10035" hR="10035" stAng="5400000" swAng="-5400000"/>
                    <a:lnTo>
                      <a:pt x="21600" y="10035"/>
                    </a:lnTo>
                    <a:arcTo wR="10035" hR="10035" stAng="0" swAng="-5400000"/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44640" y="1828440"/>
                <a:ext cx="382680" cy="383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464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2767680" y="1851840"/>
                <a:ext cx="336240" cy="336240"/>
                <a:chOff x="2767680" y="1851840"/>
                <a:chExt cx="336240" cy="336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767680" y="1851840"/>
                  <a:ext cx="336240" cy="33624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0800000">
                  <a:off x="2767680" y="1851840"/>
                  <a:ext cx="336240" cy="33624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5400000">
                  <a:off x="2767680" y="1851840"/>
                  <a:ext cx="336240" cy="33624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6200000">
                  <a:off x="2767680" y="1851840"/>
                  <a:ext cx="336240" cy="33624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63800" y="1946880"/>
                  <a:ext cx="143640" cy="14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2793240" y="1587600"/>
                <a:ext cx="863280" cy="19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16640" y="1610640"/>
                <a:ext cx="815400" cy="1436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d0e78d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76280" y="1827720"/>
                <a:ext cx="144720" cy="4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68520" y="1827720"/>
                <a:ext cx="145080" cy="4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60400" y="1827720"/>
                <a:ext cx="144720" cy="4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76280" y="1922760"/>
                <a:ext cx="144720" cy="4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68520" y="1922760"/>
                <a:ext cx="145080" cy="4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60400" y="1922760"/>
                <a:ext cx="144720" cy="4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76280" y="201924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68520" y="201924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60400" y="201924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76280" y="211536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68520" y="211536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60400" y="2115360"/>
                <a:ext cx="14472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99400" y="1491480"/>
                <a:ext cx="239040" cy="767880"/>
              </a:xfrm>
              <a:custGeom>
                <a:avLst/>
                <a:gdLst>
                  <a:gd name="textAreaLeft" fmla="*/ 32400 w 239040"/>
                  <a:gd name="textAreaRight" fmla="*/ 206640 w 239040"/>
                  <a:gd name="textAreaTop" fmla="*/ 32400 h 767880"/>
                  <a:gd name="textAreaBottom" fmla="*/ 735480 h 767880"/>
                </a:gdLst>
                <a:ahLst/>
                <a:rect l="textAreaLeft" t="textAreaTop" r="textAreaRight" b="textAreaBottom"/>
                <a:pathLst>
                  <a:path w="21600" h="69315">
                    <a:moveTo>
                      <a:pt x="10035" y="0"/>
                    </a:moveTo>
                    <a:arcTo wR="10035" hR="10035" stAng="16200000" swAng="-5400000"/>
                    <a:lnTo>
                      <a:pt x="0" y="59280"/>
                    </a:lnTo>
                    <a:arcTo wR="10035" hR="10035" stAng="10800000" swAng="-5400000"/>
                    <a:lnTo>
                      <a:pt x="11565" y="69315"/>
                    </a:lnTo>
                    <a:arcTo wR="10035" hR="10035" stAng="5400000" swAng="-5400000"/>
                    <a:lnTo>
                      <a:pt x="21600" y="10035"/>
                    </a:lnTo>
                    <a:arcTo wR="10035" hR="1003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c4c4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2360520" y="2852640"/>
            <a:ext cx="1441440" cy="1414080"/>
            <a:chOff x="2360520" y="2852640"/>
            <a:chExt cx="1441440" cy="1414080"/>
          </a:xfrm>
        </p:grpSpPr>
        <p:grpSp>
          <p:nvGrpSpPr>
            <p:cNvPr id="199" name=""/>
            <p:cNvGrpSpPr/>
            <p:nvPr/>
          </p:nvGrpSpPr>
          <p:grpSpPr>
            <a:xfrm>
              <a:off x="2582640" y="2990160"/>
              <a:ext cx="1153800" cy="790920"/>
              <a:chOff x="2582640" y="2990160"/>
              <a:chExt cx="1153800" cy="790920"/>
            </a:xfrm>
          </p:grpSpPr>
          <p:sp>
            <p:nvSpPr>
              <p:cNvPr id="200" name=""/>
              <p:cNvSpPr/>
              <p:nvPr/>
            </p:nvSpPr>
            <p:spPr>
              <a:xfrm>
                <a:off x="2582640" y="3012480"/>
                <a:ext cx="1153800" cy="76860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c58d8d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2632320" y="2990160"/>
                <a:ext cx="1056960" cy="768600"/>
                <a:chOff x="2632320" y="2990160"/>
                <a:chExt cx="1056960" cy="7686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63232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70108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77056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83932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90772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7648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04596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11472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18384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25260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32208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39084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5924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52800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748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666240" y="2990160"/>
                  <a:ext cx="23040" cy="768600"/>
                </a:xfrm>
                <a:custGeom>
                  <a:avLst/>
                  <a:gdLst>
                    <a:gd name="textAreaLeft" fmla="*/ 3240 w 23040"/>
                    <a:gd name="textAreaRight" fmla="*/ 19800 w 23040"/>
                    <a:gd name="textAreaTop" fmla="*/ 3240 h 768600"/>
                    <a:gd name="textAreaBottom" fmla="*/ 765360 h 768600"/>
                  </a:gdLst>
                  <a:ahLst/>
                  <a:rect l="textAreaLeft" t="textAreaTop" r="textAreaRight" b="textAreaBottom"/>
                  <a:pathLst>
                    <a:path w="21600" h="709809">
                      <a:moveTo>
                        <a:pt x="10800" y="0"/>
                      </a:moveTo>
                      <a:arcTo wR="10800" hR="10800" stAng="16200000" swAng="-5400000"/>
                      <a:lnTo>
                        <a:pt x="0" y="699009"/>
                      </a:lnTo>
                      <a:arcTo wR="10800" hR="10800" stAng="10800000" swAng="-5400000"/>
                      <a:lnTo>
                        <a:pt x="10800" y="70980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c58d8d"/>
                    </a:gs>
                    <a:gs pos="100000">
                      <a:srgbClr val="8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2772000" y="2852640"/>
              <a:ext cx="822240" cy="754920"/>
              <a:chOff x="2772000" y="2852640"/>
              <a:chExt cx="822240" cy="754920"/>
            </a:xfrm>
          </p:grpSpPr>
          <p:sp>
            <p:nvSpPr>
              <p:cNvPr id="219" name=""/>
              <p:cNvSpPr/>
              <p:nvPr/>
            </p:nvSpPr>
            <p:spPr>
              <a:xfrm>
                <a:off x="2772000" y="2852640"/>
                <a:ext cx="822240" cy="754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c1c1"/>
                  </a:gs>
                </a:gsLst>
                <a:lin ang="5400000"/>
              </a:gra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3045600" y="2920680"/>
                <a:ext cx="327960" cy="12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808080"/>
                    </a:solidFill>
                    <a:latin typeface="ＭＳ Ｐゴシック"/>
                  </a:rPr>
                  <a:t>FAX</a:t>
                </a:r>
                <a:endParaRPr b="0" lang="en-US" sz="1800" spc="1" strike="noStrike">
                  <a:ln w="0">
                    <a:noFill/>
                  </a:ln>
                  <a:solidFill>
                    <a:srgbClr val="808080"/>
                  </a:solidFill>
                  <a:latin typeface="ＭＳ Ｐゴシック"/>
                  <a:ea typeface="ＭＳ Ｐゴシック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39680" y="3126600"/>
                <a:ext cx="686160" cy="69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39680" y="3262320"/>
                <a:ext cx="686160" cy="69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360520" y="3401640"/>
              <a:ext cx="1441440" cy="865080"/>
              <a:chOff x="2360520" y="3401640"/>
              <a:chExt cx="1441440" cy="865080"/>
            </a:xfrm>
          </p:grpSpPr>
          <p:sp>
            <p:nvSpPr>
              <p:cNvPr id="224" name=""/>
              <p:cNvSpPr/>
              <p:nvPr/>
            </p:nvSpPr>
            <p:spPr>
              <a:xfrm>
                <a:off x="2360520" y="3449160"/>
                <a:ext cx="1441440" cy="81756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e2e2e2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97120" y="3417480"/>
                <a:ext cx="1056960" cy="76860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333333"/>
                  </a:gs>
                  <a:gs pos="100000">
                    <a:srgbClr val="a3a3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697120" y="3401640"/>
                <a:ext cx="1056960" cy="768600"/>
              </a:xfrm>
              <a:prstGeom prst="roundRect">
                <a:avLst>
                  <a:gd name="adj" fmla="val 10056"/>
                </a:avLst>
              </a:prstGeom>
              <a:gradFill rotWithShape="0">
                <a:gsLst>
                  <a:gs pos="0">
                    <a:srgbClr val="e2e2e2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90040" y="3449160"/>
                <a:ext cx="258120" cy="746280"/>
              </a:xfrm>
              <a:custGeom>
                <a:avLst/>
                <a:gdLst>
                  <a:gd name="textAreaLeft" fmla="*/ 34920 w 258120"/>
                  <a:gd name="textAreaRight" fmla="*/ 223200 w 258120"/>
                  <a:gd name="textAreaTop" fmla="*/ 34920 h 746280"/>
                  <a:gd name="textAreaBottom" fmla="*/ 711360 h 746280"/>
                </a:gdLst>
                <a:ahLst/>
                <a:rect l="textAreaLeft" t="textAreaTop" r="textAreaRight" b="textAreaBottom"/>
                <a:pathLst>
                  <a:path w="21600" h="62393">
                    <a:moveTo>
                      <a:pt x="10035" y="0"/>
                    </a:moveTo>
                    <a:arcTo wR="10035" hR="10035" stAng="16200000" swAng="-5400000"/>
                    <a:lnTo>
                      <a:pt x="0" y="52358"/>
                    </a:lnTo>
                    <a:arcTo wR="10035" hR="10035" stAng="10800000" swAng="-5400000"/>
                    <a:lnTo>
                      <a:pt x="11565" y="62393"/>
                    </a:lnTo>
                    <a:arcTo wR="10035" hR="10035" stAng="5400000" swAng="-5400000"/>
                    <a:lnTo>
                      <a:pt x="21600" y="10035"/>
                    </a:lnTo>
                    <a:arcTo wR="10035" hR="1003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44640" y="3739320"/>
                <a:ext cx="383400" cy="3830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768040" y="3762360"/>
                <a:ext cx="336960" cy="336960"/>
                <a:chOff x="2768040" y="3762360"/>
                <a:chExt cx="336960" cy="3369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2768040" y="3762720"/>
                  <a:ext cx="336960" cy="33660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0800000">
                  <a:off x="2768040" y="3762360"/>
                  <a:ext cx="336960" cy="33660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5400000">
                  <a:off x="2768040" y="3762360"/>
                  <a:ext cx="336600" cy="33696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6200000">
                  <a:off x="2768040" y="3762000"/>
                  <a:ext cx="336600" cy="33696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864160" y="3857760"/>
                  <a:ext cx="14400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2793600" y="3497760"/>
                <a:ext cx="864000" cy="19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16640" y="3521160"/>
                <a:ext cx="816480" cy="1440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50000">
                    <a:srgbClr val="d0e78d"/>
                  </a:gs>
                  <a:gs pos="100000">
                    <a:srgbClr val="99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77000" y="373824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369600" y="373824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61480" y="373824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77000" y="383328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69600" y="383328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561480" y="383328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77000" y="392976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369600" y="392976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61480" y="392976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77000" y="402624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69600" y="402624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61480" y="4026240"/>
                <a:ext cx="145080" cy="47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99400" y="3401640"/>
                <a:ext cx="239040" cy="768600"/>
              </a:xfrm>
              <a:custGeom>
                <a:avLst/>
                <a:gdLst>
                  <a:gd name="textAreaLeft" fmla="*/ 32400 w 239040"/>
                  <a:gd name="textAreaRight" fmla="*/ 206640 w 239040"/>
                  <a:gd name="textAreaTop" fmla="*/ 32400 h 768600"/>
                  <a:gd name="textAreaBottom" fmla="*/ 736200 h 768600"/>
                </a:gdLst>
                <a:ahLst/>
                <a:rect l="textAreaLeft" t="textAreaTop" r="textAreaRight" b="textAreaBottom"/>
                <a:pathLst>
                  <a:path w="21600" h="69380">
                    <a:moveTo>
                      <a:pt x="10035" y="0"/>
                    </a:moveTo>
                    <a:arcTo wR="10035" hR="10035" stAng="16200000" swAng="-5400000"/>
                    <a:lnTo>
                      <a:pt x="0" y="59345"/>
                    </a:lnTo>
                    <a:arcTo wR="10035" hR="10035" stAng="10800000" swAng="-5400000"/>
                    <a:lnTo>
                      <a:pt x="11565" y="69380"/>
                    </a:lnTo>
                    <a:arcTo wR="10035" hR="10035" stAng="5400000" swAng="-5400000"/>
                    <a:lnTo>
                      <a:pt x="21600" y="10035"/>
                    </a:lnTo>
                    <a:arcTo wR="10035" hR="1003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2e2e2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7905600" y="981000"/>
            <a:ext cx="1510920" cy="1325160"/>
            <a:chOff x="7905600" y="981000"/>
            <a:chExt cx="1510920" cy="1325160"/>
          </a:xfrm>
        </p:grpSpPr>
        <p:grpSp>
          <p:nvGrpSpPr>
            <p:cNvPr id="251" name=""/>
            <p:cNvGrpSpPr/>
            <p:nvPr/>
          </p:nvGrpSpPr>
          <p:grpSpPr>
            <a:xfrm>
              <a:off x="7905600" y="981000"/>
              <a:ext cx="1510920" cy="1325160"/>
              <a:chOff x="7905600" y="981000"/>
              <a:chExt cx="1510920" cy="1325160"/>
            </a:xfrm>
          </p:grpSpPr>
          <p:sp>
            <p:nvSpPr>
              <p:cNvPr id="252" name=""/>
              <p:cNvSpPr/>
              <p:nvPr/>
            </p:nvSpPr>
            <p:spPr>
              <a:xfrm>
                <a:off x="8333280" y="2205000"/>
                <a:ext cx="1007640" cy="1011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05600" y="129672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905600" y="160452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9315720" y="1199880"/>
                <a:ext cx="100800" cy="857160"/>
              </a:xfrm>
              <a:custGeom>
                <a:avLst/>
                <a:gdLst>
                  <a:gd name="textAreaLeft" fmla="*/ 2160 w 100800"/>
                  <a:gd name="textAreaRight" fmla="*/ 98640 w 100800"/>
                  <a:gd name="textAreaTop" fmla="*/ 2160 h 857160"/>
                  <a:gd name="textAreaBottom" fmla="*/ 855000 h 857160"/>
                </a:gdLst>
                <a:ahLst/>
                <a:rect l="textAreaLeft" t="textAreaTop" r="textAreaRight" b="textAreaBottom"/>
                <a:pathLst>
                  <a:path w="21600" h="183100">
                    <a:moveTo>
                      <a:pt x="1703" y="0"/>
                    </a:moveTo>
                    <a:arcTo wR="1703" hR="1703" stAng="16200000" swAng="-5400000"/>
                    <a:lnTo>
                      <a:pt x="0" y="181397"/>
                    </a:lnTo>
                    <a:arcTo wR="1703" hR="1703" stAng="10800000" swAng="-5400000"/>
                    <a:lnTo>
                      <a:pt x="19897" y="183100"/>
                    </a:lnTo>
                    <a:arcTo wR="1703" hR="1703" stAng="5400000" swAng="-5400000"/>
                    <a:lnTo>
                      <a:pt x="21600" y="1703"/>
                    </a:lnTo>
                    <a:arcTo wR="1703" hR="1703" stAng="0" swAng="-5400000"/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307720" y="2002680"/>
                <a:ext cx="10591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07720" y="1704960"/>
                <a:ext cx="10591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760960" y="1401120"/>
                <a:ext cx="6055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307720" y="1150200"/>
                <a:ext cx="10591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711280" y="1902600"/>
                <a:ext cx="252000" cy="4968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11280" y="2205000"/>
                <a:ext cx="252000" cy="5004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307720" y="994320"/>
                <a:ext cx="1059120" cy="1008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8358840" y="981000"/>
                <a:ext cx="302400" cy="99720"/>
                <a:chOff x="8358840" y="981000"/>
                <a:chExt cx="302400" cy="997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358840" y="98280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58840" y="98100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72160" y="1023840"/>
                  <a:ext cx="109800" cy="48960"/>
                </a:xfrm>
                <a:prstGeom prst="ellipse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8378640" y="1026720"/>
                  <a:ext cx="96480" cy="43200"/>
                  <a:chOff x="8378640" y="1026720"/>
                  <a:chExt cx="96480" cy="43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8379000" y="102708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10800000">
                    <a:off x="8378640" y="102672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5400000">
                    <a:off x="8405280" y="100044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16200000">
                    <a:off x="8405640" y="100008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8406360" y="1038960"/>
                    <a:ext cx="41040" cy="183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3" name=""/>
                <p:cNvSpPr/>
                <p:nvPr/>
              </p:nvSpPr>
              <p:spPr>
                <a:xfrm>
                  <a:off x="8385840" y="993240"/>
                  <a:ext cx="247680" cy="24120"/>
                </a:xfrm>
                <a:prstGeom prst="rect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393040" y="996120"/>
                  <a:ext cx="234000" cy="18360"/>
                </a:xfrm>
                <a:prstGeom prst="rect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96000" y="1023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551080" y="1023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606160" y="1023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496000" y="1036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551080" y="1036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606160" y="1036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496000" y="1048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551080" y="1048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606160" y="1048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496000" y="1060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551080" y="1060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606160" y="1060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8307720" y="1956240"/>
                <a:ext cx="1059120" cy="543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307720" y="1653480"/>
                <a:ext cx="1059120" cy="543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307720" y="1098720"/>
                <a:ext cx="1059120" cy="543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905600" y="981000"/>
              <a:ext cx="1510920" cy="1325160"/>
              <a:chOff x="7905600" y="981000"/>
              <a:chExt cx="1510920" cy="1325160"/>
            </a:xfrm>
          </p:grpSpPr>
          <p:sp>
            <p:nvSpPr>
              <p:cNvPr id="291" name=""/>
              <p:cNvSpPr/>
              <p:nvPr/>
            </p:nvSpPr>
            <p:spPr>
              <a:xfrm>
                <a:off x="8333280" y="2205000"/>
                <a:ext cx="1007640" cy="1011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1c1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05600" y="129672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05600" y="160452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315720" y="1199880"/>
                <a:ext cx="100800" cy="857160"/>
              </a:xfrm>
              <a:custGeom>
                <a:avLst/>
                <a:gdLst>
                  <a:gd name="textAreaLeft" fmla="*/ 2160 w 100800"/>
                  <a:gd name="textAreaRight" fmla="*/ 98640 w 100800"/>
                  <a:gd name="textAreaTop" fmla="*/ 2160 h 857160"/>
                  <a:gd name="textAreaBottom" fmla="*/ 855000 h 857160"/>
                </a:gdLst>
                <a:ahLst/>
                <a:rect l="textAreaLeft" t="textAreaTop" r="textAreaRight" b="textAreaBottom"/>
                <a:pathLst>
                  <a:path w="21600" h="183100">
                    <a:moveTo>
                      <a:pt x="1703" y="0"/>
                    </a:moveTo>
                    <a:arcTo wR="1703" hR="1703" stAng="16200000" swAng="-5400000"/>
                    <a:lnTo>
                      <a:pt x="0" y="181397"/>
                    </a:lnTo>
                    <a:arcTo wR="1703" hR="1703" stAng="10800000" swAng="-5400000"/>
                    <a:lnTo>
                      <a:pt x="19897" y="183100"/>
                    </a:lnTo>
                    <a:arcTo wR="1703" hR="1703" stAng="5400000" swAng="-5400000"/>
                    <a:lnTo>
                      <a:pt x="21600" y="1703"/>
                    </a:lnTo>
                    <a:arcTo wR="1703" hR="170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307720" y="2002680"/>
                <a:ext cx="10591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307720" y="1704960"/>
                <a:ext cx="10591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760960" y="1401120"/>
                <a:ext cx="6055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07720" y="1150200"/>
                <a:ext cx="10591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711280" y="1902600"/>
                <a:ext cx="252000" cy="4968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711280" y="2205000"/>
                <a:ext cx="252000" cy="5004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307720" y="994320"/>
                <a:ext cx="1059120" cy="1008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8358840" y="981000"/>
                <a:ext cx="302400" cy="99720"/>
                <a:chOff x="8358840" y="981000"/>
                <a:chExt cx="302400" cy="997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358840" y="98280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a3a3a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358840" y="98100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372160" y="1023840"/>
                  <a:ext cx="109800" cy="4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c5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8378640" y="1026720"/>
                  <a:ext cx="96480" cy="43200"/>
                  <a:chOff x="8378640" y="1026720"/>
                  <a:chExt cx="96480" cy="432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8379000" y="102708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10800000">
                    <a:off x="8378640" y="102672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rot="5400000">
                    <a:off x="8405280" y="100044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16200000">
                    <a:off x="8405640" y="100008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8406360" y="1038960"/>
                    <a:ext cx="41040" cy="18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2" name=""/>
                <p:cNvSpPr/>
                <p:nvPr/>
              </p:nvSpPr>
              <p:spPr>
                <a:xfrm>
                  <a:off x="8385840" y="993240"/>
                  <a:ext cx="24768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393040" y="996120"/>
                  <a:ext cx="234000" cy="1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/>
                    </a:gs>
                    <a:gs pos="50000">
                      <a:srgbClr val="d0e78d"/>
                    </a:gs>
                    <a:gs pos="100000">
                      <a:srgbClr val="99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8496000" y="1023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551080" y="1023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606160" y="1023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496000" y="1036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551080" y="1036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606160" y="1036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496000" y="1048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551080" y="1048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606160" y="1048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496000" y="1060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551080" y="1060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606160" y="1060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8307720" y="1956240"/>
                <a:ext cx="1059120" cy="543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307720" y="1653480"/>
                <a:ext cx="1059120" cy="543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307720" y="1098720"/>
                <a:ext cx="1059120" cy="543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7905600" y="2924280"/>
            <a:ext cx="1510920" cy="1325160"/>
            <a:chOff x="7905600" y="2924280"/>
            <a:chExt cx="1510920" cy="1325160"/>
          </a:xfrm>
        </p:grpSpPr>
        <p:grpSp>
          <p:nvGrpSpPr>
            <p:cNvPr id="330" name=""/>
            <p:cNvGrpSpPr/>
            <p:nvPr/>
          </p:nvGrpSpPr>
          <p:grpSpPr>
            <a:xfrm>
              <a:off x="7905600" y="3404520"/>
              <a:ext cx="461880" cy="186120"/>
              <a:chOff x="7905600" y="3404520"/>
              <a:chExt cx="461880" cy="18612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7905600" y="3404520"/>
                <a:ext cx="461880" cy="185040"/>
                <a:chOff x="7905600" y="3404520"/>
                <a:chExt cx="461880" cy="1850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905600" y="340452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905600" y="341208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905600" y="342216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905600" y="342972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905600" y="343656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905600" y="344448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05600" y="345420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905600" y="346212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905600" y="347436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905600" y="348192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905600" y="349200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905600" y="349992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905600" y="350640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905600" y="351432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905600" y="352440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905600" y="353196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7905600" y="3405240"/>
                <a:ext cx="461880" cy="185400"/>
                <a:chOff x="7905600" y="3405240"/>
                <a:chExt cx="461880" cy="1854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905600" y="340524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905600" y="341280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905600" y="342288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905600" y="343044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05600" y="343728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905600" y="344520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905600" y="345492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905600" y="346284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905600" y="347544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905600" y="348300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905600" y="349308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905600" y="350064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905600" y="350748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905600" y="3515040"/>
                  <a:ext cx="46188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905600" y="352512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905600" y="3533040"/>
                  <a:ext cx="46188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5" name=""/>
            <p:cNvGrpSpPr/>
            <p:nvPr/>
          </p:nvGrpSpPr>
          <p:grpSpPr>
            <a:xfrm>
              <a:off x="7905600" y="2924280"/>
              <a:ext cx="1510920" cy="1325160"/>
              <a:chOff x="7905600" y="2924280"/>
              <a:chExt cx="1510920" cy="1325160"/>
            </a:xfrm>
          </p:grpSpPr>
          <p:sp>
            <p:nvSpPr>
              <p:cNvPr id="366" name=""/>
              <p:cNvSpPr/>
              <p:nvPr/>
            </p:nvSpPr>
            <p:spPr>
              <a:xfrm>
                <a:off x="8333280" y="4148280"/>
                <a:ext cx="1007640" cy="1011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905600" y="324000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905600" y="354780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315720" y="3143160"/>
                <a:ext cx="100800" cy="857160"/>
              </a:xfrm>
              <a:custGeom>
                <a:avLst/>
                <a:gdLst>
                  <a:gd name="textAreaLeft" fmla="*/ 2160 w 100800"/>
                  <a:gd name="textAreaRight" fmla="*/ 98640 w 100800"/>
                  <a:gd name="textAreaTop" fmla="*/ 2160 h 857160"/>
                  <a:gd name="textAreaBottom" fmla="*/ 855000 h 857160"/>
                </a:gdLst>
                <a:ahLst/>
                <a:rect l="textAreaLeft" t="textAreaTop" r="textAreaRight" b="textAreaBottom"/>
                <a:pathLst>
                  <a:path w="21600" h="183100">
                    <a:moveTo>
                      <a:pt x="1703" y="0"/>
                    </a:moveTo>
                    <a:arcTo wR="1703" hR="1703" stAng="16200000" swAng="-5400000"/>
                    <a:lnTo>
                      <a:pt x="0" y="181397"/>
                    </a:lnTo>
                    <a:arcTo wR="1703" hR="1703" stAng="10800000" swAng="-5400000"/>
                    <a:lnTo>
                      <a:pt x="19897" y="183100"/>
                    </a:lnTo>
                    <a:arcTo wR="1703" hR="1703" stAng="5400000" swAng="-5400000"/>
                    <a:lnTo>
                      <a:pt x="21600" y="1703"/>
                    </a:lnTo>
                    <a:arcTo wR="1703" hR="1703" stAng="0" swAng="-5400000"/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07720" y="3945960"/>
                <a:ext cx="10591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07720" y="3648240"/>
                <a:ext cx="10591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60960" y="3344400"/>
                <a:ext cx="6055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307720" y="3093480"/>
                <a:ext cx="10591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711280" y="3845880"/>
                <a:ext cx="252000" cy="4968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711280" y="4148280"/>
                <a:ext cx="252000" cy="5004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307720" y="2937600"/>
                <a:ext cx="1059120" cy="1008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8358840" y="2924280"/>
                <a:ext cx="302400" cy="99720"/>
                <a:chOff x="8358840" y="2924280"/>
                <a:chExt cx="302400" cy="997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8358840" y="292608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358840" y="292428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372160" y="2967120"/>
                  <a:ext cx="109800" cy="48960"/>
                </a:xfrm>
                <a:prstGeom prst="ellipse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1" name=""/>
                <p:cNvGrpSpPr/>
                <p:nvPr/>
              </p:nvGrpSpPr>
              <p:grpSpPr>
                <a:xfrm>
                  <a:off x="8378640" y="2970000"/>
                  <a:ext cx="96480" cy="43200"/>
                  <a:chOff x="8378640" y="2970000"/>
                  <a:chExt cx="96480" cy="4320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8379000" y="297036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10800000">
                    <a:off x="8378640" y="297000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5400000">
                    <a:off x="8405280" y="294372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6200000">
                    <a:off x="8405640" y="294336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406360" y="2982240"/>
                    <a:ext cx="41040" cy="183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385840" y="2936520"/>
                  <a:ext cx="247680" cy="24120"/>
                </a:xfrm>
                <a:prstGeom prst="rect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393040" y="2939400"/>
                  <a:ext cx="234000" cy="18360"/>
                </a:xfrm>
                <a:prstGeom prst="rect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496000" y="296712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551080" y="296712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606160" y="296712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496000" y="297936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551080" y="297936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606160" y="297936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496000" y="299160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551080" y="299160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606160" y="299160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496000" y="300384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51080" y="300384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606160" y="300384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8307720" y="3899520"/>
                <a:ext cx="1059120" cy="543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307720" y="3596760"/>
                <a:ext cx="1059120" cy="543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307720" y="3042000"/>
                <a:ext cx="1059120" cy="543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905600" y="2924280"/>
              <a:ext cx="1510920" cy="1325160"/>
              <a:chOff x="7905600" y="2924280"/>
              <a:chExt cx="1510920" cy="1325160"/>
            </a:xfrm>
          </p:grpSpPr>
          <p:sp>
            <p:nvSpPr>
              <p:cNvPr id="405" name=""/>
              <p:cNvSpPr/>
              <p:nvPr/>
            </p:nvSpPr>
            <p:spPr>
              <a:xfrm>
                <a:off x="8333280" y="4148280"/>
                <a:ext cx="1007640" cy="1011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1c1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905600" y="324000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05600" y="354780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315720" y="3143160"/>
                <a:ext cx="100800" cy="857160"/>
              </a:xfrm>
              <a:custGeom>
                <a:avLst/>
                <a:gdLst>
                  <a:gd name="textAreaLeft" fmla="*/ 2160 w 100800"/>
                  <a:gd name="textAreaRight" fmla="*/ 98640 w 100800"/>
                  <a:gd name="textAreaTop" fmla="*/ 2160 h 857160"/>
                  <a:gd name="textAreaBottom" fmla="*/ 855000 h 857160"/>
                </a:gdLst>
                <a:ahLst/>
                <a:rect l="textAreaLeft" t="textAreaTop" r="textAreaRight" b="textAreaBottom"/>
                <a:pathLst>
                  <a:path w="21600" h="183100">
                    <a:moveTo>
                      <a:pt x="1703" y="0"/>
                    </a:moveTo>
                    <a:arcTo wR="1703" hR="1703" stAng="16200000" swAng="-5400000"/>
                    <a:lnTo>
                      <a:pt x="0" y="181397"/>
                    </a:lnTo>
                    <a:arcTo wR="1703" hR="1703" stAng="10800000" swAng="-5400000"/>
                    <a:lnTo>
                      <a:pt x="19897" y="183100"/>
                    </a:lnTo>
                    <a:arcTo wR="1703" hR="1703" stAng="5400000" swAng="-5400000"/>
                    <a:lnTo>
                      <a:pt x="21600" y="1703"/>
                    </a:lnTo>
                    <a:arcTo wR="1703" hR="170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307720" y="3945960"/>
                <a:ext cx="10591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307720" y="3648240"/>
                <a:ext cx="10591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760960" y="3344400"/>
                <a:ext cx="6055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307720" y="3093480"/>
                <a:ext cx="10591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711280" y="3845880"/>
                <a:ext cx="252000" cy="4968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711280" y="4148280"/>
                <a:ext cx="252000" cy="5004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307720" y="2937600"/>
                <a:ext cx="1059120" cy="1008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8358840" y="2924280"/>
                <a:ext cx="302400" cy="99720"/>
                <a:chOff x="8358840" y="2924280"/>
                <a:chExt cx="302400" cy="997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358840" y="292608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a3a3a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358840" y="292428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372160" y="2967120"/>
                  <a:ext cx="109800" cy="4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c5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8378640" y="2970000"/>
                  <a:ext cx="96480" cy="43200"/>
                  <a:chOff x="8378640" y="2970000"/>
                  <a:chExt cx="96480" cy="4320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8379000" y="297036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10800000">
                    <a:off x="8378640" y="297000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5400000">
                    <a:off x="8405280" y="294372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16200000">
                    <a:off x="8405640" y="294336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406360" y="2982240"/>
                    <a:ext cx="41040" cy="18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6" name=""/>
                <p:cNvSpPr/>
                <p:nvPr/>
              </p:nvSpPr>
              <p:spPr>
                <a:xfrm>
                  <a:off x="8385840" y="2936520"/>
                  <a:ext cx="24768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393040" y="2939400"/>
                  <a:ext cx="234000" cy="1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/>
                    </a:gs>
                    <a:gs pos="50000">
                      <a:srgbClr val="d0e78d"/>
                    </a:gs>
                    <a:gs pos="100000">
                      <a:srgbClr val="99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496000" y="296712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551080" y="296712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606160" y="296712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496000" y="297936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551080" y="297936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606160" y="297936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496000" y="299160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551080" y="299160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606160" y="299160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496000" y="300384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551080" y="300384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606160" y="300384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8307720" y="3899520"/>
                <a:ext cx="1059120" cy="543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307720" y="3596760"/>
                <a:ext cx="1059120" cy="543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307720" y="3042000"/>
                <a:ext cx="1059120" cy="543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7905600" y="4869000"/>
            <a:ext cx="1510920" cy="1325160"/>
            <a:chOff x="7905600" y="4869000"/>
            <a:chExt cx="1510920" cy="1325160"/>
          </a:xfrm>
        </p:grpSpPr>
        <p:grpSp>
          <p:nvGrpSpPr>
            <p:cNvPr id="444" name=""/>
            <p:cNvGrpSpPr/>
            <p:nvPr/>
          </p:nvGrpSpPr>
          <p:grpSpPr>
            <a:xfrm>
              <a:off x="7905600" y="5349240"/>
              <a:ext cx="462240" cy="186120"/>
              <a:chOff x="7905600" y="5349240"/>
              <a:chExt cx="462240" cy="1861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7905600" y="5349240"/>
                <a:ext cx="462240" cy="185040"/>
                <a:chOff x="7905600" y="5349240"/>
                <a:chExt cx="462240" cy="1850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7905600" y="534924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905600" y="535680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905600" y="536688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905600" y="537444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905600" y="538128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905600" y="538920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905600" y="539892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905600" y="540684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905600" y="541908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905600" y="542664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905600" y="543672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905600" y="544464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905600" y="545112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905600" y="545904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905600" y="546912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905600" y="547668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2232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7905600" y="5349960"/>
                <a:ext cx="462240" cy="185400"/>
                <a:chOff x="7905600" y="5349960"/>
                <a:chExt cx="462240" cy="185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7905600" y="534996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905600" y="535752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905600" y="536760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905600" y="537516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905600" y="538200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905600" y="538992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905600" y="539964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905600" y="540756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905600" y="542016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905600" y="542772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905600" y="543780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905600" y="544536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905600" y="545220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905600" y="5459760"/>
                  <a:ext cx="462240" cy="5796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905600" y="546984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05600" y="5477760"/>
                  <a:ext cx="462240" cy="57600"/>
                </a:xfrm>
                <a:custGeom>
                  <a:avLst/>
                  <a:gdLst/>
                  <a:ahLst/>
                  <a:rect l="l" t="t" r="r" b="b"/>
                  <a:pathLst>
                    <a:path w="590" h="240">
                      <a:moveTo>
                        <a:pt x="0" y="7"/>
                      </a:moveTo>
                      <a:cubicBezTo>
                        <a:pt x="0" y="0"/>
                        <a:pt x="220" y="14"/>
                        <a:pt x="318" y="52"/>
                      </a:cubicBezTo>
                      <a:cubicBezTo>
                        <a:pt x="416" y="90"/>
                        <a:pt x="590" y="226"/>
                        <a:pt x="590" y="233"/>
                      </a:cubicBezTo>
                      <a:cubicBezTo>
                        <a:pt x="590" y="240"/>
                        <a:pt x="416" y="135"/>
                        <a:pt x="318" y="97"/>
                      </a:cubicBezTo>
                      <a:cubicBezTo>
                        <a:pt x="220" y="59"/>
                        <a:pt x="0" y="14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7905600" y="4869000"/>
              <a:ext cx="1510920" cy="1325160"/>
              <a:chOff x="7905600" y="4869000"/>
              <a:chExt cx="1510920" cy="1325160"/>
            </a:xfrm>
          </p:grpSpPr>
          <p:sp>
            <p:nvSpPr>
              <p:cNvPr id="480" name=""/>
              <p:cNvSpPr/>
              <p:nvPr/>
            </p:nvSpPr>
            <p:spPr>
              <a:xfrm>
                <a:off x="8333280" y="6093000"/>
                <a:ext cx="1007640" cy="1011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05600" y="518472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05600" y="549252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9315720" y="5087880"/>
                <a:ext cx="100800" cy="857160"/>
              </a:xfrm>
              <a:custGeom>
                <a:avLst/>
                <a:gdLst>
                  <a:gd name="textAreaLeft" fmla="*/ 2160 w 100800"/>
                  <a:gd name="textAreaRight" fmla="*/ 98640 w 100800"/>
                  <a:gd name="textAreaTop" fmla="*/ 2160 h 857160"/>
                  <a:gd name="textAreaBottom" fmla="*/ 855000 h 857160"/>
                </a:gdLst>
                <a:ahLst/>
                <a:rect l="textAreaLeft" t="textAreaTop" r="textAreaRight" b="textAreaBottom"/>
                <a:pathLst>
                  <a:path w="21600" h="183100">
                    <a:moveTo>
                      <a:pt x="1703" y="0"/>
                    </a:moveTo>
                    <a:arcTo wR="1703" hR="1703" stAng="16200000" swAng="-5400000"/>
                    <a:lnTo>
                      <a:pt x="0" y="181397"/>
                    </a:lnTo>
                    <a:arcTo wR="1703" hR="1703" stAng="10800000" swAng="-5400000"/>
                    <a:lnTo>
                      <a:pt x="19897" y="183100"/>
                    </a:lnTo>
                    <a:arcTo wR="1703" hR="1703" stAng="5400000" swAng="-5400000"/>
                    <a:lnTo>
                      <a:pt x="21600" y="1703"/>
                    </a:lnTo>
                    <a:arcTo wR="1703" hR="1703" stAng="0" swAng="-5400000"/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307720" y="5890680"/>
                <a:ext cx="10591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07720" y="5592960"/>
                <a:ext cx="10591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760960" y="5289120"/>
                <a:ext cx="6055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307720" y="5038200"/>
                <a:ext cx="1059120" cy="255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711280" y="5790600"/>
                <a:ext cx="252000" cy="4968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711280" y="6093000"/>
                <a:ext cx="252000" cy="5004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307720" y="4882320"/>
                <a:ext cx="1059120" cy="1008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8358840" y="4869000"/>
                <a:ext cx="302400" cy="99720"/>
                <a:chOff x="8358840" y="4869000"/>
                <a:chExt cx="302400" cy="997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8358840" y="487080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358840" y="486900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372160" y="4911840"/>
                  <a:ext cx="109800" cy="48960"/>
                </a:xfrm>
                <a:prstGeom prst="ellipse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"/>
                <p:cNvGrpSpPr/>
                <p:nvPr/>
              </p:nvGrpSpPr>
              <p:grpSpPr>
                <a:xfrm>
                  <a:off x="8378640" y="4914720"/>
                  <a:ext cx="96480" cy="43200"/>
                  <a:chOff x="8378640" y="4914720"/>
                  <a:chExt cx="96480" cy="4320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8379000" y="491508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0800000">
                    <a:off x="8378640" y="491472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5400000">
                    <a:off x="8405280" y="488844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6200000">
                    <a:off x="8405640" y="488808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8406360" y="4926960"/>
                    <a:ext cx="41040" cy="183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1" name=""/>
                <p:cNvSpPr/>
                <p:nvPr/>
              </p:nvSpPr>
              <p:spPr>
                <a:xfrm>
                  <a:off x="8385840" y="4881240"/>
                  <a:ext cx="247680" cy="24120"/>
                </a:xfrm>
                <a:prstGeom prst="rect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393040" y="4884120"/>
                  <a:ext cx="234000" cy="18360"/>
                </a:xfrm>
                <a:prstGeom prst="rect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496000" y="4911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551080" y="4911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606160" y="4911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496000" y="4924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551080" y="4924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606160" y="4924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496000" y="4936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551080" y="4936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606160" y="4936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496000" y="4948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551080" y="4948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606160" y="4948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8307720" y="5844240"/>
                <a:ext cx="1059120" cy="543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307720" y="5541480"/>
                <a:ext cx="1059120" cy="543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307720" y="4986720"/>
                <a:ext cx="1059120" cy="5436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905600" y="4869000"/>
              <a:ext cx="1510920" cy="1325160"/>
              <a:chOff x="7905600" y="4869000"/>
              <a:chExt cx="1510920" cy="1325160"/>
            </a:xfrm>
          </p:grpSpPr>
          <p:sp>
            <p:nvSpPr>
              <p:cNvPr id="519" name=""/>
              <p:cNvSpPr/>
              <p:nvPr/>
            </p:nvSpPr>
            <p:spPr>
              <a:xfrm>
                <a:off x="8333280" y="6093000"/>
                <a:ext cx="1007640" cy="1011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1c1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905600" y="518472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05600" y="5492520"/>
                <a:ext cx="453240" cy="10080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315720" y="5087880"/>
                <a:ext cx="100800" cy="857160"/>
              </a:xfrm>
              <a:custGeom>
                <a:avLst/>
                <a:gdLst>
                  <a:gd name="textAreaLeft" fmla="*/ 2160 w 100800"/>
                  <a:gd name="textAreaRight" fmla="*/ 98640 w 100800"/>
                  <a:gd name="textAreaTop" fmla="*/ 2160 h 857160"/>
                  <a:gd name="textAreaBottom" fmla="*/ 855000 h 857160"/>
                </a:gdLst>
                <a:ahLst/>
                <a:rect l="textAreaLeft" t="textAreaTop" r="textAreaRight" b="textAreaBottom"/>
                <a:pathLst>
                  <a:path w="21600" h="183100">
                    <a:moveTo>
                      <a:pt x="1703" y="0"/>
                    </a:moveTo>
                    <a:arcTo wR="1703" hR="1703" stAng="16200000" swAng="-5400000"/>
                    <a:lnTo>
                      <a:pt x="0" y="181397"/>
                    </a:lnTo>
                    <a:arcTo wR="1703" hR="1703" stAng="10800000" swAng="-5400000"/>
                    <a:lnTo>
                      <a:pt x="19897" y="183100"/>
                    </a:lnTo>
                    <a:arcTo wR="1703" hR="1703" stAng="5400000" swAng="-5400000"/>
                    <a:lnTo>
                      <a:pt x="21600" y="1703"/>
                    </a:lnTo>
                    <a:arcTo wR="1703" hR="170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307720" y="5890680"/>
                <a:ext cx="10591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307720" y="5592960"/>
                <a:ext cx="10591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760960" y="5289120"/>
                <a:ext cx="6055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07720" y="5038200"/>
                <a:ext cx="1059120" cy="255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711280" y="5790600"/>
                <a:ext cx="252000" cy="4968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11280" y="6093000"/>
                <a:ext cx="252000" cy="5004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307720" y="4882320"/>
                <a:ext cx="1059120" cy="1008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8358840" y="4869000"/>
                <a:ext cx="302400" cy="99720"/>
                <a:chOff x="8358840" y="4869000"/>
                <a:chExt cx="302400" cy="997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8358840" y="487080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a3a3a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358840" y="4869000"/>
                  <a:ext cx="302400" cy="97920"/>
                </a:xfrm>
                <a:prstGeom prst="roundRect">
                  <a:avLst>
                    <a:gd name="adj" fmla="val 10056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372160" y="4911840"/>
                  <a:ext cx="109800" cy="4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c5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8378640" y="4914720"/>
                  <a:ext cx="96480" cy="43200"/>
                  <a:chOff x="8378640" y="4914720"/>
                  <a:chExt cx="96480" cy="4320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>
                    <a:off x="8379000" y="491508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rot="10800000">
                    <a:off x="8378640" y="4914720"/>
                    <a:ext cx="96120" cy="42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5400000">
                    <a:off x="8405280" y="488844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rot="16200000">
                    <a:off x="8405640" y="4888080"/>
                    <a:ext cx="42840" cy="9612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8406360" y="4926960"/>
                    <a:ext cx="41040" cy="18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"/>
                <p:cNvSpPr/>
                <p:nvPr/>
              </p:nvSpPr>
              <p:spPr>
                <a:xfrm>
                  <a:off x="8385840" y="4881240"/>
                  <a:ext cx="247680" cy="2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393040" y="4884120"/>
                  <a:ext cx="234000" cy="1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/>
                    </a:gs>
                    <a:gs pos="50000">
                      <a:srgbClr val="d0e78d"/>
                    </a:gs>
                    <a:gs pos="100000">
                      <a:srgbClr val="99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496000" y="4911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551080" y="4911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606160" y="491184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496000" y="4924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551080" y="4924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606160" y="4924080"/>
                  <a:ext cx="41400" cy="5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496000" y="4936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551080" y="4936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606160" y="493632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496000" y="4948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551080" y="4948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606160" y="4948560"/>
                  <a:ext cx="41400" cy="6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8307720" y="5844240"/>
                <a:ext cx="1059120" cy="543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307720" y="5541480"/>
                <a:ext cx="1059120" cy="543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307720" y="4986720"/>
                <a:ext cx="1059120" cy="5436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"/>
          <p:cNvGrpSpPr/>
          <p:nvPr/>
        </p:nvGrpSpPr>
        <p:grpSpPr>
          <a:xfrm>
            <a:off x="4305240" y="836640"/>
            <a:ext cx="1199880" cy="1550520"/>
            <a:chOff x="4305240" y="836640"/>
            <a:chExt cx="1199880" cy="1550520"/>
          </a:xfrm>
        </p:grpSpPr>
        <p:grpSp>
          <p:nvGrpSpPr>
            <p:cNvPr id="558" name=""/>
            <p:cNvGrpSpPr/>
            <p:nvPr/>
          </p:nvGrpSpPr>
          <p:grpSpPr>
            <a:xfrm>
              <a:off x="4305240" y="836640"/>
              <a:ext cx="1199880" cy="1550520"/>
              <a:chOff x="4305240" y="836640"/>
              <a:chExt cx="1199880" cy="1550520"/>
            </a:xfrm>
          </p:grpSpPr>
          <p:sp>
            <p:nvSpPr>
              <p:cNvPr id="559" name=""/>
              <p:cNvSpPr/>
              <p:nvPr/>
            </p:nvSpPr>
            <p:spPr>
              <a:xfrm>
                <a:off x="4704840" y="1426680"/>
                <a:ext cx="479880" cy="79920"/>
              </a:xfrm>
              <a:custGeom>
                <a:avLst/>
                <a:gdLst/>
                <a:ahLst/>
                <a:rect l="l" t="t" r="r" b="b"/>
                <a:pathLst>
                  <a:path w="734" h="91">
                    <a:moveTo>
                      <a:pt x="0" y="91"/>
                    </a:moveTo>
                    <a:lnTo>
                      <a:pt x="46" y="0"/>
                    </a:lnTo>
                    <a:lnTo>
                      <a:pt x="681" y="0"/>
                    </a:lnTo>
                    <a:lnTo>
                      <a:pt x="734" y="91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4852440" y="836640"/>
                <a:ext cx="4806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665240" y="866520"/>
                <a:ext cx="279720" cy="119880"/>
              </a:xfrm>
              <a:custGeom>
                <a:avLst/>
                <a:gdLst/>
                <a:ahLst/>
                <a:rect l="l" t="t" r="r" b="b"/>
                <a:pathLst>
                  <a:path w="734" h="91">
                    <a:moveTo>
                      <a:pt x="0" y="91"/>
                    </a:moveTo>
                    <a:lnTo>
                      <a:pt x="46" y="0"/>
                    </a:lnTo>
                    <a:lnTo>
                      <a:pt x="681" y="0"/>
                    </a:lnTo>
                    <a:lnTo>
                      <a:pt x="734" y="91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645800" y="2226960"/>
                <a:ext cx="800280" cy="828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305240" y="1197360"/>
                <a:ext cx="3600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305240" y="1441800"/>
                <a:ext cx="3600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840" y="1120680"/>
                <a:ext cx="80280" cy="680040"/>
              </a:xfrm>
              <a:custGeom>
                <a:avLst/>
                <a:gdLst>
                  <a:gd name="textAreaLeft" fmla="*/ 1800 w 80280"/>
                  <a:gd name="textAreaRight" fmla="*/ 78480 w 80280"/>
                  <a:gd name="textAreaTop" fmla="*/ 1800 h 680040"/>
                  <a:gd name="textAreaBottom" fmla="*/ 678240 h 680040"/>
                </a:gdLst>
                <a:ahLst/>
                <a:rect l="textAreaLeft" t="textAreaTop" r="textAreaRight" b="textAreaBottom"/>
                <a:pathLst>
                  <a:path w="21600" h="182250">
                    <a:moveTo>
                      <a:pt x="1703" y="0"/>
                    </a:moveTo>
                    <a:arcTo wR="1703" hR="1703" stAng="16200000" swAng="-5400000"/>
                    <a:lnTo>
                      <a:pt x="0" y="180547"/>
                    </a:lnTo>
                    <a:arcTo wR="1703" hR="1703" stAng="10800000" swAng="-5400000"/>
                    <a:lnTo>
                      <a:pt x="19897" y="182250"/>
                    </a:lnTo>
                    <a:arcTo wR="1703" hR="1703" stAng="5400000" swAng="-5400000"/>
                    <a:lnTo>
                      <a:pt x="21600" y="1703"/>
                    </a:lnTo>
                    <a:arcTo wR="1703" hR="1703" stAng="0" swAng="-5400000"/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24560" y="1757520"/>
                <a:ext cx="840960" cy="20268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24560" y="1521000"/>
                <a:ext cx="840960" cy="20268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84560" y="1280160"/>
                <a:ext cx="480600" cy="20268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624560" y="1080720"/>
                <a:ext cx="840960" cy="20304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44960" y="1678320"/>
                <a:ext cx="200160" cy="39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44960" y="1906560"/>
                <a:ext cx="200160" cy="39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24560" y="957240"/>
                <a:ext cx="840960" cy="7992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665240" y="946800"/>
                <a:ext cx="159480" cy="79200"/>
                <a:chOff x="4665240" y="946800"/>
                <a:chExt cx="159480" cy="7920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665240" y="948240"/>
                  <a:ext cx="159480" cy="7776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665240" y="946800"/>
                  <a:ext cx="159480" cy="7776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672080" y="980640"/>
                  <a:ext cx="57960" cy="38880"/>
                </a:xfrm>
                <a:prstGeom prst="ellipse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7" name=""/>
                <p:cNvGrpSpPr/>
                <p:nvPr/>
              </p:nvGrpSpPr>
              <p:grpSpPr>
                <a:xfrm>
                  <a:off x="4675320" y="983160"/>
                  <a:ext cx="51120" cy="33840"/>
                  <a:chOff x="4675320" y="983160"/>
                  <a:chExt cx="51120" cy="3384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4675680" y="983160"/>
                    <a:ext cx="50760" cy="33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rot="10800000">
                    <a:off x="4675320" y="983160"/>
                    <a:ext cx="50760" cy="33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5400000">
                    <a:off x="4683600" y="974520"/>
                    <a:ext cx="33840" cy="5076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6200000">
                    <a:off x="4683960" y="974520"/>
                    <a:ext cx="33840" cy="5076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4690080" y="992520"/>
                    <a:ext cx="2160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3" name=""/>
                <p:cNvSpPr/>
                <p:nvPr/>
              </p:nvSpPr>
              <p:spPr>
                <a:xfrm>
                  <a:off x="4679640" y="956520"/>
                  <a:ext cx="130680" cy="19080"/>
                </a:xfrm>
                <a:prstGeom prst="rect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683240" y="958680"/>
                  <a:ext cx="123480" cy="14400"/>
                </a:xfrm>
                <a:prstGeom prst="rect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73760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76676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79592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73760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76676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79592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73760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76676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79592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73760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76676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79592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4624560" y="1720800"/>
                <a:ext cx="840960" cy="432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24560" y="1480680"/>
                <a:ext cx="840960" cy="432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24560" y="1040400"/>
                <a:ext cx="840960" cy="432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25640" y="1986840"/>
                <a:ext cx="840960" cy="1224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46040" y="2067480"/>
                <a:ext cx="200160" cy="39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25640" y="1947240"/>
                <a:ext cx="840960" cy="432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25640" y="2146680"/>
                <a:ext cx="840960" cy="1224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46040" y="2226960"/>
                <a:ext cx="200160" cy="39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25640" y="2107080"/>
                <a:ext cx="840960" cy="432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4665240" y="2307240"/>
                <a:ext cx="79920" cy="79920"/>
                <a:chOff x="4665240" y="2307240"/>
                <a:chExt cx="79920" cy="799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678560" y="2320560"/>
                  <a:ext cx="53280" cy="53280"/>
                </a:xfrm>
                <a:prstGeom prst="ellipse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665240" y="2307240"/>
                  <a:ext cx="79920" cy="79920"/>
                </a:xfrm>
                <a:prstGeom prst="blockArc">
                  <a:avLst>
                    <a:gd name="adj1" fmla="val 10899038"/>
                    <a:gd name="adj2" fmla="val 21500962"/>
                    <a:gd name="adj3" fmla="val 1175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5345640" y="2307240"/>
                <a:ext cx="79920" cy="79920"/>
                <a:chOff x="5345640" y="2307240"/>
                <a:chExt cx="79920" cy="799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358960" y="2320560"/>
                  <a:ext cx="53280" cy="53280"/>
                </a:xfrm>
                <a:prstGeom prst="ellipse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345640" y="2307240"/>
                  <a:ext cx="79920" cy="79920"/>
                </a:xfrm>
                <a:prstGeom prst="blockArc">
                  <a:avLst>
                    <a:gd name="adj1" fmla="val 10899038"/>
                    <a:gd name="adj2" fmla="val 21500962"/>
                    <a:gd name="adj3" fmla="val 1175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2" name=""/>
            <p:cNvGrpSpPr/>
            <p:nvPr/>
          </p:nvGrpSpPr>
          <p:grpSpPr>
            <a:xfrm>
              <a:off x="4305240" y="836640"/>
              <a:ext cx="1199880" cy="1550520"/>
              <a:chOff x="4305240" y="836640"/>
              <a:chExt cx="1199880" cy="1550520"/>
            </a:xfrm>
          </p:grpSpPr>
          <p:sp>
            <p:nvSpPr>
              <p:cNvPr id="613" name=""/>
              <p:cNvSpPr/>
              <p:nvPr/>
            </p:nvSpPr>
            <p:spPr>
              <a:xfrm>
                <a:off x="4704840" y="1426680"/>
                <a:ext cx="479880" cy="79920"/>
              </a:xfrm>
              <a:custGeom>
                <a:avLst/>
                <a:gdLst/>
                <a:ahLst/>
                <a:rect l="l" t="t" r="r" b="b"/>
                <a:pathLst>
                  <a:path w="734" h="91">
                    <a:moveTo>
                      <a:pt x="0" y="91"/>
                    </a:moveTo>
                    <a:lnTo>
                      <a:pt x="46" y="0"/>
                    </a:lnTo>
                    <a:lnTo>
                      <a:pt x="681" y="0"/>
                    </a:lnTo>
                    <a:lnTo>
                      <a:pt x="734" y="91"/>
                    </a:lnTo>
                    <a:lnTo>
                      <a:pt x="0" y="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4852440" y="836640"/>
                <a:ext cx="4806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65240" y="866520"/>
                <a:ext cx="279720" cy="119880"/>
              </a:xfrm>
              <a:custGeom>
                <a:avLst/>
                <a:gdLst/>
                <a:ahLst/>
                <a:rect l="l" t="t" r="r" b="b"/>
                <a:pathLst>
                  <a:path w="734" h="91">
                    <a:moveTo>
                      <a:pt x="0" y="91"/>
                    </a:moveTo>
                    <a:lnTo>
                      <a:pt x="46" y="0"/>
                    </a:lnTo>
                    <a:lnTo>
                      <a:pt x="681" y="0"/>
                    </a:lnTo>
                    <a:lnTo>
                      <a:pt x="734" y="91"/>
                    </a:lnTo>
                    <a:lnTo>
                      <a:pt x="0" y="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45800" y="2226960"/>
                <a:ext cx="800280" cy="828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1c1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305240" y="1197360"/>
                <a:ext cx="3600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305240" y="1441800"/>
                <a:ext cx="3600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24840" y="1120680"/>
                <a:ext cx="80280" cy="680040"/>
              </a:xfrm>
              <a:custGeom>
                <a:avLst/>
                <a:gdLst>
                  <a:gd name="textAreaLeft" fmla="*/ 1800 w 80280"/>
                  <a:gd name="textAreaRight" fmla="*/ 78480 w 80280"/>
                  <a:gd name="textAreaTop" fmla="*/ 1800 h 680040"/>
                  <a:gd name="textAreaBottom" fmla="*/ 678240 h 680040"/>
                </a:gdLst>
                <a:ahLst/>
                <a:rect l="textAreaLeft" t="textAreaTop" r="textAreaRight" b="textAreaBottom"/>
                <a:pathLst>
                  <a:path w="21600" h="182250">
                    <a:moveTo>
                      <a:pt x="1703" y="0"/>
                    </a:moveTo>
                    <a:arcTo wR="1703" hR="1703" stAng="16200000" swAng="-5400000"/>
                    <a:lnTo>
                      <a:pt x="0" y="180547"/>
                    </a:lnTo>
                    <a:arcTo wR="1703" hR="1703" stAng="10800000" swAng="-5400000"/>
                    <a:lnTo>
                      <a:pt x="19897" y="182250"/>
                    </a:lnTo>
                    <a:arcTo wR="1703" hR="1703" stAng="5400000" swAng="-5400000"/>
                    <a:lnTo>
                      <a:pt x="21600" y="1703"/>
                    </a:lnTo>
                    <a:arcTo wR="1703" hR="170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24560" y="1757520"/>
                <a:ext cx="840960" cy="20268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24560" y="1521000"/>
                <a:ext cx="840960" cy="20268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984560" y="1280160"/>
                <a:ext cx="480600" cy="20268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24560" y="1080720"/>
                <a:ext cx="840960" cy="20304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44960" y="1678320"/>
                <a:ext cx="200160" cy="39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944960" y="1906560"/>
                <a:ext cx="200160" cy="39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24560" y="957240"/>
                <a:ext cx="840960" cy="7992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4665240" y="946800"/>
                <a:ext cx="159480" cy="79200"/>
                <a:chOff x="4665240" y="946800"/>
                <a:chExt cx="159480" cy="79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665240" y="948240"/>
                  <a:ext cx="159480" cy="77760"/>
                </a:xfrm>
                <a:prstGeom prst="roundRect">
                  <a:avLst>
                    <a:gd name="adj" fmla="val 10056"/>
                  </a:avLst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a3a3a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665240" y="946800"/>
                  <a:ext cx="159480" cy="77760"/>
                </a:xfrm>
                <a:prstGeom prst="roundRect">
                  <a:avLst>
                    <a:gd name="adj" fmla="val 10056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672080" y="980640"/>
                  <a:ext cx="57960" cy="3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c5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4675320" y="983160"/>
                  <a:ext cx="51120" cy="33840"/>
                  <a:chOff x="4675320" y="983160"/>
                  <a:chExt cx="51120" cy="338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4675680" y="983160"/>
                    <a:ext cx="50760" cy="33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rot="10800000">
                    <a:off x="4675320" y="983160"/>
                    <a:ext cx="50760" cy="33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rot="5400000">
                    <a:off x="4683600" y="974520"/>
                    <a:ext cx="33840" cy="5076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rot="16200000">
                    <a:off x="4683960" y="974520"/>
                    <a:ext cx="33840" cy="5076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4690080" y="992520"/>
                    <a:ext cx="21600" cy="1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7" name=""/>
                <p:cNvSpPr/>
                <p:nvPr/>
              </p:nvSpPr>
              <p:spPr>
                <a:xfrm>
                  <a:off x="4679640" y="956520"/>
                  <a:ext cx="1306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683240" y="958680"/>
                  <a:ext cx="123480" cy="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/>
                    </a:gs>
                    <a:gs pos="50000">
                      <a:srgbClr val="d0e78d"/>
                    </a:gs>
                    <a:gs pos="100000">
                      <a:srgbClr val="99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73760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6676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79592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73760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76676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79592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73760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76676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79592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73760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76676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79592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4624560" y="1720800"/>
                <a:ext cx="840960" cy="432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624560" y="1480680"/>
                <a:ext cx="840960" cy="432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624560" y="1040400"/>
                <a:ext cx="840960" cy="432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625640" y="1986840"/>
                <a:ext cx="840960" cy="1224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946040" y="2067480"/>
                <a:ext cx="200160" cy="39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625640" y="1947240"/>
                <a:ext cx="840960" cy="432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625640" y="2146680"/>
                <a:ext cx="840960" cy="1224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e5e5fe"/>
                  </a:gs>
                  <a:gs pos="100000">
                    <a:srgbClr val="cc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946040" y="2226960"/>
                <a:ext cx="200160" cy="39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25640" y="2107080"/>
                <a:ext cx="840960" cy="432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0" name=""/>
              <p:cNvGrpSpPr/>
              <p:nvPr/>
            </p:nvGrpSpPr>
            <p:grpSpPr>
              <a:xfrm>
                <a:off x="4665240" y="2307240"/>
                <a:ext cx="79920" cy="79920"/>
                <a:chOff x="4665240" y="2307240"/>
                <a:chExt cx="79920" cy="799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678560" y="2320560"/>
                  <a:ext cx="53280" cy="5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3b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665240" y="2307240"/>
                  <a:ext cx="79920" cy="79920"/>
                </a:xfrm>
                <a:prstGeom prst="blockArc">
                  <a:avLst>
                    <a:gd name="adj1" fmla="val 10899038"/>
                    <a:gd name="adj2" fmla="val 21500962"/>
                    <a:gd name="adj3" fmla="val 1175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5345640" y="2307240"/>
                <a:ext cx="79920" cy="79920"/>
                <a:chOff x="5345640" y="2307240"/>
                <a:chExt cx="79920" cy="7992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358960" y="2320560"/>
                  <a:ext cx="53280" cy="5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3b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345640" y="2307240"/>
                  <a:ext cx="79920" cy="79920"/>
                </a:xfrm>
                <a:prstGeom prst="blockArc">
                  <a:avLst>
                    <a:gd name="adj1" fmla="val 10899038"/>
                    <a:gd name="adj2" fmla="val 21500962"/>
                    <a:gd name="adj3" fmla="val 1175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6" name=""/>
          <p:cNvGrpSpPr/>
          <p:nvPr/>
        </p:nvGrpSpPr>
        <p:grpSpPr>
          <a:xfrm>
            <a:off x="6176880" y="836640"/>
            <a:ext cx="1199880" cy="1550520"/>
            <a:chOff x="6176880" y="836640"/>
            <a:chExt cx="1199880" cy="1550520"/>
          </a:xfrm>
        </p:grpSpPr>
        <p:grpSp>
          <p:nvGrpSpPr>
            <p:cNvPr id="667" name=""/>
            <p:cNvGrpSpPr/>
            <p:nvPr/>
          </p:nvGrpSpPr>
          <p:grpSpPr>
            <a:xfrm>
              <a:off x="6176880" y="836640"/>
              <a:ext cx="1199880" cy="1550520"/>
              <a:chOff x="6176880" y="836640"/>
              <a:chExt cx="1199880" cy="1550520"/>
            </a:xfrm>
          </p:grpSpPr>
          <p:sp>
            <p:nvSpPr>
              <p:cNvPr id="668" name=""/>
              <p:cNvSpPr/>
              <p:nvPr/>
            </p:nvSpPr>
            <p:spPr>
              <a:xfrm>
                <a:off x="6576480" y="1426680"/>
                <a:ext cx="479880" cy="79920"/>
              </a:xfrm>
              <a:custGeom>
                <a:avLst/>
                <a:gdLst/>
                <a:ahLst/>
                <a:rect l="l" t="t" r="r" b="b"/>
                <a:pathLst>
                  <a:path w="734" h="91">
                    <a:moveTo>
                      <a:pt x="0" y="91"/>
                    </a:moveTo>
                    <a:lnTo>
                      <a:pt x="46" y="0"/>
                    </a:lnTo>
                    <a:lnTo>
                      <a:pt x="681" y="0"/>
                    </a:lnTo>
                    <a:lnTo>
                      <a:pt x="734" y="91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6724080" y="836640"/>
                <a:ext cx="4806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536880" y="866520"/>
                <a:ext cx="279720" cy="119880"/>
              </a:xfrm>
              <a:custGeom>
                <a:avLst/>
                <a:gdLst/>
                <a:ahLst/>
                <a:rect l="l" t="t" r="r" b="b"/>
                <a:pathLst>
                  <a:path w="734" h="91">
                    <a:moveTo>
                      <a:pt x="0" y="91"/>
                    </a:moveTo>
                    <a:lnTo>
                      <a:pt x="46" y="0"/>
                    </a:lnTo>
                    <a:lnTo>
                      <a:pt x="681" y="0"/>
                    </a:lnTo>
                    <a:lnTo>
                      <a:pt x="734" y="91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517440" y="2226960"/>
                <a:ext cx="800280" cy="828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176880" y="1197360"/>
                <a:ext cx="3600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176880" y="1441800"/>
                <a:ext cx="3600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296480" y="1120680"/>
                <a:ext cx="80280" cy="680040"/>
              </a:xfrm>
              <a:custGeom>
                <a:avLst/>
                <a:gdLst>
                  <a:gd name="textAreaLeft" fmla="*/ 1800 w 80280"/>
                  <a:gd name="textAreaRight" fmla="*/ 78480 w 80280"/>
                  <a:gd name="textAreaTop" fmla="*/ 1800 h 680040"/>
                  <a:gd name="textAreaBottom" fmla="*/ 678240 h 680040"/>
                </a:gdLst>
                <a:ahLst/>
                <a:rect l="textAreaLeft" t="textAreaTop" r="textAreaRight" b="textAreaBottom"/>
                <a:pathLst>
                  <a:path w="21600" h="182250">
                    <a:moveTo>
                      <a:pt x="1703" y="0"/>
                    </a:moveTo>
                    <a:arcTo wR="1703" hR="1703" stAng="16200000" swAng="-5400000"/>
                    <a:lnTo>
                      <a:pt x="0" y="180547"/>
                    </a:lnTo>
                    <a:arcTo wR="1703" hR="1703" stAng="10800000" swAng="-5400000"/>
                    <a:lnTo>
                      <a:pt x="19897" y="182250"/>
                    </a:lnTo>
                    <a:arcTo wR="1703" hR="1703" stAng="5400000" swAng="-5400000"/>
                    <a:lnTo>
                      <a:pt x="21600" y="1703"/>
                    </a:lnTo>
                    <a:arcTo wR="1703" hR="1703" stAng="0" swAng="-5400000"/>
                    <a:close/>
                  </a:path>
                </a:pathLst>
              </a:cu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496200" y="1757520"/>
                <a:ext cx="840960" cy="20268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496200" y="1521000"/>
                <a:ext cx="840960" cy="20268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856200" y="1280160"/>
                <a:ext cx="480600" cy="20268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496200" y="1080720"/>
                <a:ext cx="840960" cy="20304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816600" y="1678320"/>
                <a:ext cx="200160" cy="39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816600" y="1906560"/>
                <a:ext cx="200160" cy="39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496200" y="957240"/>
                <a:ext cx="840960" cy="7992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"/>
              <p:cNvGrpSpPr/>
              <p:nvPr/>
            </p:nvGrpSpPr>
            <p:grpSpPr>
              <a:xfrm>
                <a:off x="6536880" y="946800"/>
                <a:ext cx="159480" cy="79200"/>
                <a:chOff x="6536880" y="946800"/>
                <a:chExt cx="159480" cy="7920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536880" y="948240"/>
                  <a:ext cx="159480" cy="7776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36880" y="946800"/>
                  <a:ext cx="159480" cy="7776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543720" y="980640"/>
                  <a:ext cx="57960" cy="38880"/>
                </a:xfrm>
                <a:prstGeom prst="ellipse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6" name=""/>
                <p:cNvGrpSpPr/>
                <p:nvPr/>
              </p:nvGrpSpPr>
              <p:grpSpPr>
                <a:xfrm>
                  <a:off x="6546960" y="983160"/>
                  <a:ext cx="51120" cy="33840"/>
                  <a:chOff x="6546960" y="983160"/>
                  <a:chExt cx="51120" cy="3384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>
                    <a:off x="6547320" y="983160"/>
                    <a:ext cx="50760" cy="33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rot="10800000">
                    <a:off x="6546960" y="983160"/>
                    <a:ext cx="50760" cy="33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rot="5400000">
                    <a:off x="6555240" y="974520"/>
                    <a:ext cx="33840" cy="5076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rot="16200000">
                    <a:off x="6555600" y="974520"/>
                    <a:ext cx="33840" cy="5076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561720" y="992520"/>
                    <a:ext cx="2160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381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" name=""/>
                <p:cNvSpPr/>
                <p:nvPr/>
              </p:nvSpPr>
              <p:spPr>
                <a:xfrm>
                  <a:off x="6551280" y="956520"/>
                  <a:ext cx="130680" cy="19080"/>
                </a:xfrm>
                <a:prstGeom prst="rect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554880" y="958680"/>
                  <a:ext cx="123480" cy="14400"/>
                </a:xfrm>
                <a:prstGeom prst="rect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60924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63840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66756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60924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63840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66756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60924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63840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66756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24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63840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66756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>
                <a:off x="6496200" y="1720800"/>
                <a:ext cx="840960" cy="432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496200" y="1480680"/>
                <a:ext cx="840960" cy="432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496200" y="1040400"/>
                <a:ext cx="840960" cy="432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97280" y="1986840"/>
                <a:ext cx="840960" cy="1224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817680" y="2067480"/>
                <a:ext cx="200160" cy="39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97280" y="1947240"/>
                <a:ext cx="840960" cy="432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497280" y="2146680"/>
                <a:ext cx="840960" cy="1224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17680" y="2226960"/>
                <a:ext cx="200160" cy="396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97280" y="2107080"/>
                <a:ext cx="840960" cy="43200"/>
              </a:xfrm>
              <a:prstGeom prst="roundRect">
                <a:avLst>
                  <a:gd name="adj" fmla="val 7884"/>
                </a:avLst>
              </a:prstGeom>
              <a:solidFill>
                <a:srgbClr val="333333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5" name=""/>
              <p:cNvGrpSpPr/>
              <p:nvPr/>
            </p:nvGrpSpPr>
            <p:grpSpPr>
              <a:xfrm>
                <a:off x="6536880" y="2307240"/>
                <a:ext cx="79920" cy="79920"/>
                <a:chOff x="6536880" y="2307240"/>
                <a:chExt cx="79920" cy="799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550200" y="2320560"/>
                  <a:ext cx="53280" cy="53280"/>
                </a:xfrm>
                <a:prstGeom prst="ellipse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36880" y="2307240"/>
                  <a:ext cx="79920" cy="79920"/>
                </a:xfrm>
                <a:prstGeom prst="blockArc">
                  <a:avLst>
                    <a:gd name="adj1" fmla="val 10899038"/>
                    <a:gd name="adj2" fmla="val 21500962"/>
                    <a:gd name="adj3" fmla="val 1175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217280" y="2307240"/>
                <a:ext cx="79920" cy="79920"/>
                <a:chOff x="7217280" y="2307240"/>
                <a:chExt cx="79920" cy="799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230600" y="2320560"/>
                  <a:ext cx="53280" cy="53280"/>
                </a:xfrm>
                <a:prstGeom prst="ellipse">
                  <a:avLst/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217280" y="2307240"/>
                  <a:ext cx="79920" cy="79920"/>
                </a:xfrm>
                <a:prstGeom prst="blockArc">
                  <a:avLst>
                    <a:gd name="adj1" fmla="val 10899038"/>
                    <a:gd name="adj2" fmla="val 21500962"/>
                    <a:gd name="adj3" fmla="val 11750"/>
                  </a:avLst>
                </a:prstGeom>
                <a:solidFill>
                  <a:srgbClr val="333333"/>
                </a:solidFill>
                <a:ln w="381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1" name=""/>
            <p:cNvGrpSpPr/>
            <p:nvPr/>
          </p:nvGrpSpPr>
          <p:grpSpPr>
            <a:xfrm>
              <a:off x="6176880" y="836640"/>
              <a:ext cx="1199880" cy="1550520"/>
              <a:chOff x="6176880" y="836640"/>
              <a:chExt cx="1199880" cy="1550520"/>
            </a:xfrm>
          </p:grpSpPr>
          <p:sp>
            <p:nvSpPr>
              <p:cNvPr id="722" name=""/>
              <p:cNvSpPr/>
              <p:nvPr/>
            </p:nvSpPr>
            <p:spPr>
              <a:xfrm>
                <a:off x="6576480" y="1426680"/>
                <a:ext cx="479880" cy="79920"/>
              </a:xfrm>
              <a:custGeom>
                <a:avLst/>
                <a:gdLst/>
                <a:ahLst/>
                <a:rect l="l" t="t" r="r" b="b"/>
                <a:pathLst>
                  <a:path w="734" h="91">
                    <a:moveTo>
                      <a:pt x="0" y="91"/>
                    </a:moveTo>
                    <a:lnTo>
                      <a:pt x="46" y="0"/>
                    </a:lnTo>
                    <a:lnTo>
                      <a:pt x="681" y="0"/>
                    </a:lnTo>
                    <a:lnTo>
                      <a:pt x="734" y="91"/>
                    </a:lnTo>
                    <a:lnTo>
                      <a:pt x="0" y="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724080" y="836640"/>
                <a:ext cx="4806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536880" y="866520"/>
                <a:ext cx="279720" cy="119880"/>
              </a:xfrm>
              <a:custGeom>
                <a:avLst/>
                <a:gdLst/>
                <a:ahLst/>
                <a:rect l="l" t="t" r="r" b="b"/>
                <a:pathLst>
                  <a:path w="734" h="91">
                    <a:moveTo>
                      <a:pt x="0" y="91"/>
                    </a:moveTo>
                    <a:lnTo>
                      <a:pt x="46" y="0"/>
                    </a:lnTo>
                    <a:lnTo>
                      <a:pt x="681" y="0"/>
                    </a:lnTo>
                    <a:lnTo>
                      <a:pt x="734" y="91"/>
                    </a:lnTo>
                    <a:lnTo>
                      <a:pt x="0" y="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517440" y="2226960"/>
                <a:ext cx="800280" cy="828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1c1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76880" y="1197360"/>
                <a:ext cx="3600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76880" y="1441800"/>
                <a:ext cx="360000" cy="79920"/>
              </a:xfrm>
              <a:custGeom>
                <a:avLst/>
                <a:gdLst/>
                <a:ahLst/>
                <a:rect l="l" t="t" r="r" b="b"/>
                <a:pathLst>
                  <a:path w="544" h="181">
                    <a:moveTo>
                      <a:pt x="544" y="181"/>
                    </a:moveTo>
                    <a:lnTo>
                      <a:pt x="454" y="181"/>
                    </a:lnTo>
                    <a:lnTo>
                      <a:pt x="227" y="50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544" y="136"/>
                    </a:lnTo>
                    <a:lnTo>
                      <a:pt x="544" y="181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296480" y="1120680"/>
                <a:ext cx="80280" cy="680040"/>
              </a:xfrm>
              <a:custGeom>
                <a:avLst/>
                <a:gdLst>
                  <a:gd name="textAreaLeft" fmla="*/ 1800 w 80280"/>
                  <a:gd name="textAreaRight" fmla="*/ 78480 w 80280"/>
                  <a:gd name="textAreaTop" fmla="*/ 1800 h 680040"/>
                  <a:gd name="textAreaBottom" fmla="*/ 678240 h 680040"/>
                </a:gdLst>
                <a:ahLst/>
                <a:rect l="textAreaLeft" t="textAreaTop" r="textAreaRight" b="textAreaBottom"/>
                <a:pathLst>
                  <a:path w="21600" h="182250">
                    <a:moveTo>
                      <a:pt x="1703" y="0"/>
                    </a:moveTo>
                    <a:arcTo wR="1703" hR="1703" stAng="16200000" swAng="-5400000"/>
                    <a:lnTo>
                      <a:pt x="0" y="180547"/>
                    </a:lnTo>
                    <a:arcTo wR="1703" hR="1703" stAng="10800000" swAng="-5400000"/>
                    <a:lnTo>
                      <a:pt x="19897" y="182250"/>
                    </a:lnTo>
                    <a:arcTo wR="1703" hR="1703" stAng="5400000" swAng="-5400000"/>
                    <a:lnTo>
                      <a:pt x="21600" y="1703"/>
                    </a:lnTo>
                    <a:arcTo wR="1703" hR="170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96200" y="1757520"/>
                <a:ext cx="840960" cy="20268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496200" y="1521000"/>
                <a:ext cx="840960" cy="20268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856200" y="1280160"/>
                <a:ext cx="480600" cy="20268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496200" y="1080720"/>
                <a:ext cx="840960" cy="20304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816600" y="1678320"/>
                <a:ext cx="200160" cy="39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816600" y="1906560"/>
                <a:ext cx="200160" cy="39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496200" y="957240"/>
                <a:ext cx="840960" cy="7992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6536880" y="946800"/>
                <a:ext cx="159480" cy="79200"/>
                <a:chOff x="6536880" y="946800"/>
                <a:chExt cx="159480" cy="7920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6536880" y="948240"/>
                  <a:ext cx="159480" cy="77760"/>
                </a:xfrm>
                <a:prstGeom prst="roundRect">
                  <a:avLst>
                    <a:gd name="adj" fmla="val 10056"/>
                  </a:avLst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a3a3a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536880" y="946800"/>
                  <a:ext cx="159480" cy="77760"/>
                </a:xfrm>
                <a:prstGeom prst="roundRect">
                  <a:avLst>
                    <a:gd name="adj" fmla="val 10056"/>
                  </a:avLst>
                </a:prstGeom>
                <a:gradFill rotWithShape="0">
                  <a:gsLst>
                    <a:gs pos="0">
                      <a:srgbClr val="c5c5c5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543720" y="980640"/>
                  <a:ext cx="57960" cy="3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c5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0" name=""/>
                <p:cNvGrpSpPr/>
                <p:nvPr/>
              </p:nvGrpSpPr>
              <p:grpSpPr>
                <a:xfrm>
                  <a:off x="6546960" y="983160"/>
                  <a:ext cx="51120" cy="33840"/>
                  <a:chOff x="6546960" y="983160"/>
                  <a:chExt cx="51120" cy="3384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>
                    <a:off x="6547320" y="983160"/>
                    <a:ext cx="50760" cy="33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rot="10800000">
                    <a:off x="6546960" y="983160"/>
                    <a:ext cx="50760" cy="3384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rot="5400000">
                    <a:off x="6555240" y="974520"/>
                    <a:ext cx="33840" cy="5076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rot="16200000">
                    <a:off x="6555600" y="974520"/>
                    <a:ext cx="33840" cy="50760"/>
                  </a:xfrm>
                  <a:prstGeom prst="blockArc">
                    <a:avLst>
                      <a:gd name="adj1" fmla="val 13721312"/>
                      <a:gd name="adj2" fmla="val 18678688"/>
                      <a:gd name="adj3" fmla="val 22370"/>
                    </a:avLst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6561720" y="992520"/>
                    <a:ext cx="21600" cy="1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2e2e2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6" name=""/>
                <p:cNvSpPr/>
                <p:nvPr/>
              </p:nvSpPr>
              <p:spPr>
                <a:xfrm>
                  <a:off x="6551280" y="956520"/>
                  <a:ext cx="13068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554880" y="958680"/>
                  <a:ext cx="123480" cy="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/>
                    </a:gs>
                    <a:gs pos="50000">
                      <a:srgbClr val="d0e78d"/>
                    </a:gs>
                    <a:gs pos="100000">
                      <a:srgbClr val="99c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60924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63840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667560" y="98064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60924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63840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667560" y="99036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60924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63840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667560" y="100008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60924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63840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667560" y="1009800"/>
                  <a:ext cx="21600" cy="4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d8d8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0" name=""/>
              <p:cNvSpPr/>
              <p:nvPr/>
            </p:nvSpPr>
            <p:spPr>
              <a:xfrm>
                <a:off x="6496200" y="1720800"/>
                <a:ext cx="840960" cy="432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96200" y="1480680"/>
                <a:ext cx="840960" cy="432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496200" y="1040400"/>
                <a:ext cx="840960" cy="432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497280" y="1986840"/>
                <a:ext cx="840960" cy="1224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817680" y="2067480"/>
                <a:ext cx="200160" cy="39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497280" y="1947240"/>
                <a:ext cx="840960" cy="432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497280" y="2146680"/>
                <a:ext cx="840960" cy="1224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cccccc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817680" y="2226960"/>
                <a:ext cx="200160" cy="396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497280" y="2107080"/>
                <a:ext cx="840960" cy="43200"/>
              </a:xfrm>
              <a:prstGeom prst="roundRect">
                <a:avLst>
                  <a:gd name="adj" fmla="val 7884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"/>
              <p:cNvGrpSpPr/>
              <p:nvPr/>
            </p:nvGrpSpPr>
            <p:grpSpPr>
              <a:xfrm>
                <a:off x="6536880" y="2307240"/>
                <a:ext cx="79920" cy="79920"/>
                <a:chOff x="6536880" y="2307240"/>
                <a:chExt cx="79920" cy="799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550200" y="2320560"/>
                  <a:ext cx="53280" cy="5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3b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36880" y="2307240"/>
                  <a:ext cx="79920" cy="79920"/>
                </a:xfrm>
                <a:prstGeom prst="blockArc">
                  <a:avLst>
                    <a:gd name="adj1" fmla="val 10899038"/>
                    <a:gd name="adj2" fmla="val 21500962"/>
                    <a:gd name="adj3" fmla="val 1175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217280" y="2307240"/>
                <a:ext cx="79920" cy="79920"/>
                <a:chOff x="7217280" y="2307240"/>
                <a:chExt cx="79920" cy="799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230600" y="2320560"/>
                  <a:ext cx="53280" cy="5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3b3b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217280" y="2307240"/>
                  <a:ext cx="79920" cy="79920"/>
                </a:xfrm>
                <a:prstGeom prst="blockArc">
                  <a:avLst>
                    <a:gd name="adj1" fmla="val 10899038"/>
                    <a:gd name="adj2" fmla="val 21500962"/>
                    <a:gd name="adj3" fmla="val 11750"/>
                  </a:avLst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858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5" name=""/>
          <p:cNvGrpSpPr/>
          <p:nvPr/>
        </p:nvGrpSpPr>
        <p:grpSpPr>
          <a:xfrm>
            <a:off x="4305240" y="2997360"/>
            <a:ext cx="1297080" cy="1252080"/>
            <a:chOff x="4305240" y="2997360"/>
            <a:chExt cx="1297080" cy="1252080"/>
          </a:xfrm>
        </p:grpSpPr>
        <p:sp>
          <p:nvSpPr>
            <p:cNvPr id="776" name=""/>
            <p:cNvSpPr/>
            <p:nvPr/>
          </p:nvSpPr>
          <p:spPr>
            <a:xfrm>
              <a:off x="4608000" y="2997360"/>
              <a:ext cx="690840" cy="518040"/>
            </a:xfrm>
            <a:prstGeom prst="roundRect">
              <a:avLst>
                <a:gd name="adj" fmla="val 19301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126760" y="2997360"/>
              <a:ext cx="42480" cy="518040"/>
            </a:xfrm>
            <a:custGeom>
              <a:avLst/>
              <a:gdLst>
                <a:gd name="textAreaLeft" fmla="*/ 2160 w 42480"/>
                <a:gd name="textAreaRight" fmla="*/ 40320 w 42480"/>
                <a:gd name="textAreaTop" fmla="*/ 2160 h 518040"/>
                <a:gd name="textAreaBottom" fmla="*/ 515880 h 518040"/>
              </a:gdLst>
              <a:ahLst/>
              <a:rect l="textAreaLeft" t="textAreaTop" r="textAreaRight" b="textAreaBottom"/>
              <a:pathLst>
                <a:path w="21600" h="261378">
                  <a:moveTo>
                    <a:pt x="4169" y="0"/>
                  </a:moveTo>
                  <a:arcTo wR="4169" hR="4169" stAng="16200000" swAng="-5400000"/>
                  <a:lnTo>
                    <a:pt x="0" y="257209"/>
                  </a:lnTo>
                  <a:arcTo wR="4169" hR="4169" stAng="10800000" swAng="-5400000"/>
                  <a:lnTo>
                    <a:pt x="17431" y="261378"/>
                  </a:lnTo>
                  <a:arcTo wR="4169" hR="4169" stAng="5400000" swAng="-5400000"/>
                  <a:lnTo>
                    <a:pt x="21600" y="4169"/>
                  </a:lnTo>
                  <a:arcTo wR="4169" hR="4169" stAng="0" swAng="-5400000"/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434480" y="3212640"/>
              <a:ext cx="1037880" cy="259920"/>
            </a:xfrm>
            <a:prstGeom prst="roundRect">
              <a:avLst>
                <a:gd name="adj" fmla="val 3396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3d3d3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305240" y="3342240"/>
              <a:ext cx="1297080" cy="302760"/>
            </a:xfrm>
            <a:prstGeom prst="roundRect">
              <a:avLst>
                <a:gd name="adj" fmla="val 33963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34480" y="3386160"/>
              <a:ext cx="1037880" cy="129240"/>
            </a:xfrm>
            <a:prstGeom prst="roundRect">
              <a:avLst>
                <a:gd name="adj" fmla="val 28676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34480" y="3947760"/>
              <a:ext cx="1037880" cy="259200"/>
            </a:xfrm>
            <a:prstGeom prst="rect">
              <a:avLst/>
            </a:prstGeom>
            <a:gradFill rotWithShape="0">
              <a:gsLst>
                <a:gs pos="0">
                  <a:srgbClr val="eeeee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80800" y="4033440"/>
              <a:ext cx="345960" cy="12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b5b5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05240" y="3472560"/>
              <a:ext cx="129240" cy="73440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72720" y="3472560"/>
              <a:ext cx="129600" cy="7344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ede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80800" y="4120200"/>
              <a:ext cx="345960" cy="86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ede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434480" y="3687840"/>
              <a:ext cx="1037880" cy="259920"/>
            </a:xfrm>
            <a:prstGeom prst="rect">
              <a:avLst/>
            </a:prstGeom>
            <a:gradFill rotWithShape="0">
              <a:gsLst>
                <a:gs pos="0">
                  <a:srgbClr val="eeeee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34480" y="3645000"/>
              <a:ext cx="1037880" cy="42480"/>
            </a:xfrm>
            <a:prstGeom prst="rect">
              <a:avLst/>
            </a:prstGeom>
            <a:gradFill rotWithShape="0">
              <a:gsLst>
                <a:gs pos="0">
                  <a:srgbClr val="eeeee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34480" y="3602160"/>
              <a:ext cx="1037880" cy="42480"/>
            </a:xfrm>
            <a:prstGeom prst="rect">
              <a:avLst/>
            </a:prstGeom>
            <a:gradFill rotWithShape="0">
              <a:gsLst>
                <a:gs pos="0">
                  <a:srgbClr val="eeeee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34480" y="3558240"/>
              <a:ext cx="1037880" cy="42480"/>
            </a:xfrm>
            <a:prstGeom prst="rect">
              <a:avLst/>
            </a:prstGeom>
            <a:gradFill rotWithShape="0">
              <a:gsLst>
                <a:gs pos="0">
                  <a:srgbClr val="eeeee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34480" y="3472560"/>
              <a:ext cx="1037880" cy="85680"/>
            </a:xfrm>
            <a:prstGeom prst="rect">
              <a:avLst/>
            </a:prstGeom>
            <a:gradFill rotWithShape="0">
              <a:gsLst>
                <a:gs pos="0">
                  <a:srgbClr val="eeeee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78400" y="3687840"/>
              <a:ext cx="951120" cy="173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34480" y="3774600"/>
              <a:ext cx="1037880" cy="129240"/>
            </a:xfrm>
            <a:custGeom>
              <a:avLst/>
              <a:gdLst/>
              <a:ahLst/>
              <a:rect l="l" t="t" r="r" b="b"/>
              <a:pathLst>
                <a:path w="1089" h="136">
                  <a:moveTo>
                    <a:pt x="46" y="0"/>
                  </a:moveTo>
                  <a:lnTo>
                    <a:pt x="46" y="91"/>
                  </a:lnTo>
                  <a:lnTo>
                    <a:pt x="1044" y="91"/>
                  </a:lnTo>
                  <a:lnTo>
                    <a:pt x="1044" y="0"/>
                  </a:lnTo>
                  <a:lnTo>
                    <a:pt x="1089" y="0"/>
                  </a:lnTo>
                  <a:lnTo>
                    <a:pt x="1089" y="136"/>
                  </a:lnTo>
                  <a:lnTo>
                    <a:pt x="0" y="136"/>
                  </a:ln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21600" y="3817440"/>
              <a:ext cx="864360" cy="173160"/>
            </a:xfrm>
            <a:custGeom>
              <a:avLst/>
              <a:gdLst/>
              <a:ahLst/>
              <a:rect l="l" t="t" r="r" b="b"/>
              <a:pathLst>
                <a:path w="862" h="137">
                  <a:moveTo>
                    <a:pt x="91" y="0"/>
                  </a:moveTo>
                  <a:lnTo>
                    <a:pt x="0" y="137"/>
                  </a:lnTo>
                  <a:lnTo>
                    <a:pt x="862" y="137"/>
                  </a:lnTo>
                  <a:lnTo>
                    <a:pt x="771" y="0"/>
                  </a:lnTo>
                  <a:lnTo>
                    <a:pt x="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10400" y="3212640"/>
              <a:ext cx="475560" cy="129600"/>
            </a:xfrm>
            <a:prstGeom prst="roundRect">
              <a:avLst>
                <a:gd name="adj" fmla="val 22796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0034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4954320" y="3231720"/>
              <a:ext cx="258840" cy="86040"/>
              <a:chOff x="4954320" y="3231720"/>
              <a:chExt cx="258840" cy="86040"/>
            </a:xfrm>
          </p:grpSpPr>
          <p:sp>
            <p:nvSpPr>
              <p:cNvPr id="796" name=""/>
              <p:cNvSpPr/>
              <p:nvPr/>
            </p:nvSpPr>
            <p:spPr>
              <a:xfrm>
                <a:off x="4954320" y="3231720"/>
                <a:ext cx="258840" cy="349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4954320" y="3272760"/>
                <a:ext cx="258840" cy="45000"/>
                <a:chOff x="4954320" y="3272760"/>
                <a:chExt cx="258840" cy="4500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4954680" y="3272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025240" y="3272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095440" y="3272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166360" y="3272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954680" y="3290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025240" y="3290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095440" y="3290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166360" y="3290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954320" y="3308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024880" y="3308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095080" y="3308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165640" y="3308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0" name=""/>
            <p:cNvSpPr/>
            <p:nvPr/>
          </p:nvSpPr>
          <p:spPr>
            <a:xfrm>
              <a:off x="4305240" y="4206960"/>
              <a:ext cx="1297080" cy="42480"/>
            </a:xfrm>
            <a:custGeom>
              <a:avLst/>
              <a:gdLst/>
              <a:ahLst/>
              <a:rect l="l" t="t" r="r" b="b"/>
              <a:pathLst>
                <a:path w="1361" h="45">
                  <a:moveTo>
                    <a:pt x="1361" y="0"/>
                  </a:moveTo>
                  <a:lnTo>
                    <a:pt x="0" y="0"/>
                  </a:lnTo>
                  <a:lnTo>
                    <a:pt x="46" y="45"/>
                  </a:lnTo>
                  <a:lnTo>
                    <a:pt x="1316" y="45"/>
                  </a:lnTo>
                  <a:lnTo>
                    <a:pt x="1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dede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608000" y="3774600"/>
              <a:ext cx="691920" cy="173160"/>
            </a:xfrm>
            <a:custGeom>
              <a:avLst/>
              <a:gdLst/>
              <a:ahLst/>
              <a:rect l="l" t="t" r="r" b="b"/>
              <a:pathLst>
                <a:path w="862" h="137">
                  <a:moveTo>
                    <a:pt x="91" y="0"/>
                  </a:moveTo>
                  <a:lnTo>
                    <a:pt x="0" y="137"/>
                  </a:lnTo>
                  <a:lnTo>
                    <a:pt x="862" y="137"/>
                  </a:lnTo>
                  <a:lnTo>
                    <a:pt x="771" y="0"/>
                  </a:lnTo>
                  <a:lnTo>
                    <a:pt x="91" y="0"/>
                  </a:lnTo>
                  <a:close/>
                </a:path>
              </a:pathLst>
            </a:custGeom>
            <a:gradFill rotWithShape="0">
              <a:gsLst>
                <a:gs pos="0">
                  <a:srgbClr val="70707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176880" y="2997360"/>
            <a:ext cx="1297080" cy="1252080"/>
            <a:chOff x="6176880" y="2997360"/>
            <a:chExt cx="1297080" cy="1252080"/>
          </a:xfrm>
        </p:grpSpPr>
        <p:sp>
          <p:nvSpPr>
            <p:cNvPr id="813" name=""/>
            <p:cNvSpPr/>
            <p:nvPr/>
          </p:nvSpPr>
          <p:spPr>
            <a:xfrm>
              <a:off x="6479640" y="2997360"/>
              <a:ext cx="690840" cy="518040"/>
            </a:xfrm>
            <a:prstGeom prst="roundRect">
              <a:avLst>
                <a:gd name="adj" fmla="val 19301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998040" y="2997360"/>
              <a:ext cx="42480" cy="518040"/>
            </a:xfrm>
            <a:custGeom>
              <a:avLst/>
              <a:gdLst>
                <a:gd name="textAreaLeft" fmla="*/ 2160 w 42480"/>
                <a:gd name="textAreaRight" fmla="*/ 40320 w 42480"/>
                <a:gd name="textAreaTop" fmla="*/ 2160 h 518040"/>
                <a:gd name="textAreaBottom" fmla="*/ 515880 h 518040"/>
              </a:gdLst>
              <a:ahLst/>
              <a:rect l="textAreaLeft" t="textAreaTop" r="textAreaRight" b="textAreaBottom"/>
              <a:pathLst>
                <a:path w="21600" h="261378">
                  <a:moveTo>
                    <a:pt x="4169" y="0"/>
                  </a:moveTo>
                  <a:arcTo wR="4169" hR="4169" stAng="16200000" swAng="-5400000"/>
                  <a:lnTo>
                    <a:pt x="0" y="257209"/>
                  </a:lnTo>
                  <a:arcTo wR="4169" hR="4169" stAng="10800000" swAng="-5400000"/>
                  <a:lnTo>
                    <a:pt x="17431" y="261378"/>
                  </a:lnTo>
                  <a:arcTo wR="4169" hR="4169" stAng="5400000" swAng="-5400000"/>
                  <a:lnTo>
                    <a:pt x="21600" y="4169"/>
                  </a:lnTo>
                  <a:arcTo wR="4169" hR="4169" stAng="0" swAng="-5400000"/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06480" y="3212640"/>
              <a:ext cx="1037520" cy="259920"/>
            </a:xfrm>
            <a:prstGeom prst="roundRect">
              <a:avLst>
                <a:gd name="adj" fmla="val 3396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3d3d3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76880" y="3342240"/>
              <a:ext cx="1297080" cy="302760"/>
            </a:xfrm>
            <a:prstGeom prst="roundRect">
              <a:avLst>
                <a:gd name="adj" fmla="val 33963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06480" y="3386160"/>
              <a:ext cx="1037520" cy="129240"/>
            </a:xfrm>
            <a:prstGeom prst="roundRect">
              <a:avLst>
                <a:gd name="adj" fmla="val 28676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306480" y="3947760"/>
              <a:ext cx="1037520" cy="25920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52080" y="4033440"/>
              <a:ext cx="345960" cy="129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b5b5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76880" y="3472560"/>
              <a:ext cx="129600" cy="734400"/>
            </a:xfrm>
            <a:prstGeom prst="rect">
              <a:avLst/>
            </a:prstGeom>
            <a:gradFill rotWithShape="0">
              <a:gsLst>
                <a:gs pos="0">
                  <a:srgbClr val="7c7c7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44360" y="3472560"/>
              <a:ext cx="129600" cy="734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c7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52080" y="4120200"/>
              <a:ext cx="345960" cy="86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ede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06480" y="3687840"/>
              <a:ext cx="1037520" cy="25992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06480" y="3645000"/>
              <a:ext cx="1037520" cy="424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06480" y="3602160"/>
              <a:ext cx="1037520" cy="424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06480" y="3558240"/>
              <a:ext cx="1037520" cy="424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06480" y="3472560"/>
              <a:ext cx="1037520" cy="856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50040" y="3687840"/>
              <a:ext cx="951120" cy="173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06480" y="3774600"/>
              <a:ext cx="1037520" cy="129240"/>
            </a:xfrm>
            <a:custGeom>
              <a:avLst/>
              <a:gdLst/>
              <a:ahLst/>
              <a:rect l="l" t="t" r="r" b="b"/>
              <a:pathLst>
                <a:path w="1089" h="136">
                  <a:moveTo>
                    <a:pt x="46" y="0"/>
                  </a:moveTo>
                  <a:lnTo>
                    <a:pt x="46" y="91"/>
                  </a:lnTo>
                  <a:lnTo>
                    <a:pt x="1044" y="91"/>
                  </a:lnTo>
                  <a:lnTo>
                    <a:pt x="1044" y="0"/>
                  </a:lnTo>
                  <a:lnTo>
                    <a:pt x="1089" y="0"/>
                  </a:lnTo>
                  <a:lnTo>
                    <a:pt x="1089" y="136"/>
                  </a:lnTo>
                  <a:lnTo>
                    <a:pt x="0" y="136"/>
                  </a:ln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92880" y="3817440"/>
              <a:ext cx="864360" cy="173160"/>
            </a:xfrm>
            <a:custGeom>
              <a:avLst/>
              <a:gdLst/>
              <a:ahLst/>
              <a:rect l="l" t="t" r="r" b="b"/>
              <a:pathLst>
                <a:path w="862" h="137">
                  <a:moveTo>
                    <a:pt x="91" y="0"/>
                  </a:moveTo>
                  <a:lnTo>
                    <a:pt x="0" y="137"/>
                  </a:lnTo>
                  <a:lnTo>
                    <a:pt x="862" y="137"/>
                  </a:lnTo>
                  <a:lnTo>
                    <a:pt x="771" y="0"/>
                  </a:lnTo>
                  <a:lnTo>
                    <a:pt x="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782040" y="3212640"/>
              <a:ext cx="475560" cy="129600"/>
            </a:xfrm>
            <a:prstGeom prst="roundRect">
              <a:avLst>
                <a:gd name="adj" fmla="val 22796"/>
              </a:avLst>
            </a:prstGeom>
            <a:gradFill rotWithShape="0">
              <a:gsLst>
                <a:gs pos="0">
                  <a:srgbClr val="008080"/>
                </a:gs>
                <a:gs pos="100000">
                  <a:srgbClr val="0034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6825600" y="3231720"/>
              <a:ext cx="258840" cy="86040"/>
              <a:chOff x="6825600" y="3231720"/>
              <a:chExt cx="258840" cy="86040"/>
            </a:xfrm>
          </p:grpSpPr>
          <p:sp>
            <p:nvSpPr>
              <p:cNvPr id="833" name=""/>
              <p:cNvSpPr/>
              <p:nvPr/>
            </p:nvSpPr>
            <p:spPr>
              <a:xfrm>
                <a:off x="6825600" y="3231720"/>
                <a:ext cx="258840" cy="349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6825600" y="3272760"/>
                <a:ext cx="258840" cy="45000"/>
                <a:chOff x="6825600" y="3272760"/>
                <a:chExt cx="258840" cy="4500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6825960" y="3272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896520" y="3272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966720" y="3272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037640" y="3272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825960" y="3290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896520" y="3290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966720" y="3290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037640" y="3290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825600" y="3308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896160" y="3308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966360" y="3308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036920" y="3308760"/>
                  <a:ext cx="46800" cy="9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7" name=""/>
            <p:cNvSpPr/>
            <p:nvPr/>
          </p:nvSpPr>
          <p:spPr>
            <a:xfrm>
              <a:off x="6176880" y="4206960"/>
              <a:ext cx="1297080" cy="42480"/>
            </a:xfrm>
            <a:custGeom>
              <a:avLst/>
              <a:gdLst/>
              <a:ahLst/>
              <a:rect l="l" t="t" r="r" b="b"/>
              <a:pathLst>
                <a:path w="1361" h="45">
                  <a:moveTo>
                    <a:pt x="1361" y="0"/>
                  </a:moveTo>
                  <a:lnTo>
                    <a:pt x="0" y="0"/>
                  </a:lnTo>
                  <a:lnTo>
                    <a:pt x="46" y="45"/>
                  </a:lnTo>
                  <a:lnTo>
                    <a:pt x="1316" y="45"/>
                  </a:lnTo>
                  <a:lnTo>
                    <a:pt x="13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dede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79640" y="3774600"/>
              <a:ext cx="691920" cy="173160"/>
            </a:xfrm>
            <a:custGeom>
              <a:avLst/>
              <a:gdLst/>
              <a:ahLst/>
              <a:rect l="l" t="t" r="r" b="b"/>
              <a:pathLst>
                <a:path w="862" h="137">
                  <a:moveTo>
                    <a:pt x="91" y="0"/>
                  </a:moveTo>
                  <a:lnTo>
                    <a:pt x="0" y="137"/>
                  </a:lnTo>
                  <a:lnTo>
                    <a:pt x="862" y="137"/>
                  </a:lnTo>
                  <a:lnTo>
                    <a:pt x="771" y="0"/>
                  </a:lnTo>
                  <a:lnTo>
                    <a:pt x="91" y="0"/>
                  </a:lnTo>
                  <a:close/>
                </a:path>
              </a:pathLst>
            </a:custGeom>
            <a:gradFill rotWithShape="0">
              <a:gsLst>
                <a:gs pos="0">
                  <a:srgbClr val="70707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15800" y="5068800"/>
            <a:ext cx="1584000" cy="1193400"/>
            <a:chOff x="415800" y="5068800"/>
            <a:chExt cx="1584000" cy="1193400"/>
          </a:xfrm>
        </p:grpSpPr>
        <p:sp>
          <p:nvSpPr>
            <p:cNvPr id="850" name=""/>
            <p:cNvSpPr/>
            <p:nvPr/>
          </p:nvSpPr>
          <p:spPr>
            <a:xfrm>
              <a:off x="415800" y="5654520"/>
              <a:ext cx="351360" cy="587160"/>
            </a:xfrm>
            <a:custGeom>
              <a:avLst/>
              <a:gdLst>
                <a:gd name="textAreaLeft" fmla="*/ 20520 w 351360"/>
                <a:gd name="textAreaRight" fmla="*/ 330840 w 351360"/>
                <a:gd name="textAreaTop" fmla="*/ 20520 h 587160"/>
                <a:gd name="textAreaBottom" fmla="*/ 566640 h 587160"/>
              </a:gdLst>
              <a:ahLst/>
              <a:rect l="textAreaLeft" t="textAreaTop" r="textAreaRight" b="textAreaBottom"/>
              <a:pathLst>
                <a:path w="21600" h="36081">
                  <a:moveTo>
                    <a:pt x="4368" y="0"/>
                  </a:moveTo>
                  <a:arcTo wR="4368" hR="4368" stAng="16200000" swAng="-5400000"/>
                  <a:lnTo>
                    <a:pt x="0" y="31713"/>
                  </a:lnTo>
                  <a:arcTo wR="4368" hR="4368" stAng="10800000" swAng="-5400000"/>
                  <a:lnTo>
                    <a:pt x="17232" y="36081"/>
                  </a:lnTo>
                  <a:arcTo wR="4368" hR="4368" stAng="5400000" swAng="-5400000"/>
                  <a:lnTo>
                    <a:pt x="21600" y="4368"/>
                  </a:lnTo>
                  <a:arcTo wR="4368" hR="4368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f1f1fe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767160" y="5068800"/>
              <a:ext cx="1056600" cy="663480"/>
              <a:chOff x="767160" y="5068800"/>
              <a:chExt cx="1056600" cy="663480"/>
            </a:xfrm>
          </p:grpSpPr>
          <p:sp>
            <p:nvSpPr>
              <p:cNvPr id="852" name=""/>
              <p:cNvSpPr/>
              <p:nvPr/>
            </p:nvSpPr>
            <p:spPr>
              <a:xfrm>
                <a:off x="767160" y="5068800"/>
                <a:ext cx="1056600" cy="650880"/>
              </a:xfrm>
              <a:custGeom>
                <a:avLst/>
                <a:gdLst/>
                <a:ahLst/>
                <a:rect l="l" t="t" r="r" b="b"/>
                <a:pathLst>
                  <a:path w="862" h="680">
                    <a:moveTo>
                      <a:pt x="0" y="680"/>
                    </a:moveTo>
                    <a:lnTo>
                      <a:pt x="136" y="0"/>
                    </a:lnTo>
                    <a:lnTo>
                      <a:pt x="726" y="0"/>
                    </a:lnTo>
                    <a:lnTo>
                      <a:pt x="862" y="680"/>
                    </a:lnTo>
                    <a:lnTo>
                      <a:pt x="0" y="6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5e5e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3" name=""/>
              <p:cNvGrpSpPr/>
              <p:nvPr/>
            </p:nvGrpSpPr>
            <p:grpSpPr>
              <a:xfrm>
                <a:off x="942840" y="5068800"/>
                <a:ext cx="704160" cy="663480"/>
                <a:chOff x="942840" y="5068800"/>
                <a:chExt cx="704160" cy="663480"/>
              </a:xfrm>
            </p:grpSpPr>
            <p:grpSp>
              <p:nvGrpSpPr>
                <p:cNvPr id="854" name=""/>
                <p:cNvGrpSpPr/>
                <p:nvPr/>
              </p:nvGrpSpPr>
              <p:grpSpPr>
                <a:xfrm>
                  <a:off x="942840" y="5068800"/>
                  <a:ext cx="344160" cy="663480"/>
                  <a:chOff x="942840" y="5068800"/>
                  <a:chExt cx="344160" cy="66348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94284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97236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00224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03212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106164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1092240" y="5068800"/>
                    <a:ext cx="14760" cy="663480"/>
                  </a:xfrm>
                  <a:custGeom>
                    <a:avLst/>
                    <a:gdLst>
                      <a:gd name="textAreaLeft" fmla="*/ 2160 w 14760"/>
                      <a:gd name="textAreaRight" fmla="*/ 12600 w 1476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48343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37543"/>
                        </a:lnTo>
                        <a:arcTo wR="10800" hR="10800" stAng="10800000" swAng="-5400000"/>
                        <a:lnTo>
                          <a:pt x="10800" y="948343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12248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15200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118224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21176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124164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127188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" name=""/>
                <p:cNvGrpSpPr/>
                <p:nvPr/>
              </p:nvGrpSpPr>
              <p:grpSpPr>
                <a:xfrm>
                  <a:off x="1303200" y="5068800"/>
                  <a:ext cx="343800" cy="663480"/>
                  <a:chOff x="1303200" y="5068800"/>
                  <a:chExt cx="343800" cy="66348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130320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133272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36260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139248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142200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452240" y="5068800"/>
                    <a:ext cx="14760" cy="663480"/>
                  </a:xfrm>
                  <a:custGeom>
                    <a:avLst/>
                    <a:gdLst>
                      <a:gd name="textAreaLeft" fmla="*/ 2160 w 14760"/>
                      <a:gd name="textAreaRight" fmla="*/ 12600 w 1476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48343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37543"/>
                        </a:lnTo>
                        <a:arcTo wR="10800" hR="10800" stAng="10800000" swAng="-5400000"/>
                        <a:lnTo>
                          <a:pt x="10800" y="948343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148248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51236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54224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157176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160164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1631880" y="5068800"/>
                    <a:ext cx="15120" cy="663480"/>
                  </a:xfrm>
                  <a:custGeom>
                    <a:avLst/>
                    <a:gdLst>
                      <a:gd name="textAreaLeft" fmla="*/ 2160 w 15120"/>
                      <a:gd name="textAreaRight" fmla="*/ 12960 w 15120"/>
                      <a:gd name="textAreaTop" fmla="*/ 2160 h 663480"/>
                      <a:gd name="textAreaBottom" fmla="*/ 661320 h 663480"/>
                    </a:gdLst>
                    <a:ahLst/>
                    <a:rect l="textAreaLeft" t="textAreaTop" r="textAreaRight" b="textAreaBottom"/>
                    <a:pathLst>
                      <a:path w="21600" h="926288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15488"/>
                        </a:lnTo>
                        <a:arcTo wR="10800" hR="10800" stAng="10800000" swAng="-5400000"/>
                        <a:lnTo>
                          <a:pt x="10800" y="926288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ccff"/>
                      </a:gs>
                      <a:gs pos="50000">
                        <a:srgbClr val="eaeafe"/>
                      </a:gs>
                      <a:gs pos="100000">
                        <a:srgbClr val="cc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80" name=""/>
            <p:cNvSpPr/>
            <p:nvPr/>
          </p:nvSpPr>
          <p:spPr>
            <a:xfrm>
              <a:off x="651240" y="5889960"/>
              <a:ext cx="1289160" cy="372240"/>
            </a:xfrm>
            <a:prstGeom prst="roundRect">
              <a:avLst>
                <a:gd name="adj" fmla="val 38542"/>
              </a:avLst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120" y="5864040"/>
              <a:ext cx="1175400" cy="351720"/>
            </a:xfrm>
            <a:prstGeom prst="roundRect">
              <a:avLst>
                <a:gd name="adj" fmla="val 1231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91480" y="5654520"/>
              <a:ext cx="1408320" cy="527400"/>
            </a:xfrm>
            <a:prstGeom prst="roundRect">
              <a:avLst>
                <a:gd name="adj" fmla="val 12315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1f1fe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51240" y="5654520"/>
              <a:ext cx="291960" cy="469440"/>
            </a:xfrm>
            <a:custGeom>
              <a:avLst/>
              <a:gdLst>
                <a:gd name="textAreaLeft" fmla="*/ 10440 w 291960"/>
                <a:gd name="textAreaRight" fmla="*/ 281520 w 291960"/>
                <a:gd name="textAreaTop" fmla="*/ 10440 h 469440"/>
                <a:gd name="textAreaBottom" fmla="*/ 459000 h 469440"/>
              </a:gdLst>
              <a:ahLst/>
              <a:rect l="textAreaLeft" t="textAreaTop" r="textAreaRight" b="textAreaBottom"/>
              <a:pathLst>
                <a:path w="21600" h="34714">
                  <a:moveTo>
                    <a:pt x="2660" y="0"/>
                  </a:moveTo>
                  <a:arcTo wR="2660" hR="2660" stAng="16200000" swAng="-5400000"/>
                  <a:lnTo>
                    <a:pt x="0" y="32054"/>
                  </a:lnTo>
                  <a:arcTo wR="2660" hR="2660" stAng="10800000" swAng="-5400000"/>
                  <a:lnTo>
                    <a:pt x="18940" y="34714"/>
                  </a:lnTo>
                  <a:arcTo wR="2660" hR="2660" stAng="5400000" swAng="-5400000"/>
                  <a:lnTo>
                    <a:pt x="21600" y="2660"/>
                  </a:lnTo>
                  <a:arcTo wR="2660" hR="2660" stAng="0" swAng="-5400000"/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cad7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648080" y="5654520"/>
              <a:ext cx="292320" cy="469440"/>
            </a:xfrm>
            <a:custGeom>
              <a:avLst/>
              <a:gdLst>
                <a:gd name="textAreaLeft" fmla="*/ 10440 w 292320"/>
                <a:gd name="textAreaRight" fmla="*/ 281880 w 292320"/>
                <a:gd name="textAreaTop" fmla="*/ 10440 h 469440"/>
                <a:gd name="textAreaBottom" fmla="*/ 459000 h 469440"/>
              </a:gdLst>
              <a:ahLst/>
              <a:rect l="textAreaLeft" t="textAreaTop" r="textAreaRight" b="textAreaBottom"/>
              <a:pathLst>
                <a:path w="21600" h="34672">
                  <a:moveTo>
                    <a:pt x="2660" y="0"/>
                  </a:moveTo>
                  <a:arcTo wR="2660" hR="2660" stAng="16200000" swAng="-5400000"/>
                  <a:lnTo>
                    <a:pt x="0" y="32012"/>
                  </a:lnTo>
                  <a:arcTo wR="2660" hR="2660" stAng="10800000" swAng="-5400000"/>
                  <a:lnTo>
                    <a:pt x="18940" y="34672"/>
                  </a:lnTo>
                  <a:arcTo wR="2660" hR="2660" stAng="5400000" swAng="-5400000"/>
                  <a:lnTo>
                    <a:pt x="21600" y="2660"/>
                  </a:lnTo>
                  <a:arcTo wR="2660" hR="2660" stAng="0" swAng="-5400000"/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cad7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02960" y="5244480"/>
              <a:ext cx="585720" cy="585720"/>
            </a:xfrm>
            <a:prstGeom prst="roundRect">
              <a:avLst>
                <a:gd name="adj" fmla="val 9713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1f1fe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022040" y="5267880"/>
              <a:ext cx="546840" cy="442440"/>
            </a:xfrm>
            <a:prstGeom prst="roundRect">
              <a:avLst>
                <a:gd name="adj" fmla="val 12315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cad7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68840" y="5301360"/>
              <a:ext cx="459000" cy="359280"/>
            </a:xfrm>
            <a:prstGeom prst="roundRect">
              <a:avLst>
                <a:gd name="adj" fmla="val 12315"/>
              </a:avLst>
            </a:prstGeom>
            <a:gradFill rotWithShape="0">
              <a:gsLst>
                <a:gs pos="0">
                  <a:srgbClr val="e4f1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706400" y="5948280"/>
              <a:ext cx="196200" cy="138240"/>
              <a:chOff x="1706400" y="5948280"/>
              <a:chExt cx="196200" cy="138240"/>
            </a:xfrm>
          </p:grpSpPr>
          <p:sp>
            <p:nvSpPr>
              <p:cNvPr id="889" name=""/>
              <p:cNvSpPr/>
              <p:nvPr/>
            </p:nvSpPr>
            <p:spPr>
              <a:xfrm>
                <a:off x="1706400" y="5948280"/>
                <a:ext cx="196200" cy="138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1718640" y="5956920"/>
                <a:ext cx="171360" cy="120960"/>
                <a:chOff x="1718640" y="5956920"/>
                <a:chExt cx="171360" cy="12096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1718640" y="5956920"/>
                  <a:ext cx="171360" cy="12096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rot="10800000">
                  <a:off x="1718640" y="5956920"/>
                  <a:ext cx="171360" cy="12096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rot="5400000">
                  <a:off x="1743840" y="5931720"/>
                  <a:ext cx="120960" cy="17136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6200000">
                  <a:off x="1743840" y="5931720"/>
                  <a:ext cx="120960" cy="17136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767600" y="5991120"/>
                  <a:ext cx="7308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6" name=""/>
            <p:cNvGrpSpPr/>
            <p:nvPr/>
          </p:nvGrpSpPr>
          <p:grpSpPr>
            <a:xfrm>
              <a:off x="1119240" y="5889960"/>
              <a:ext cx="352440" cy="234000"/>
              <a:chOff x="1119240" y="5889960"/>
              <a:chExt cx="352440" cy="234000"/>
            </a:xfrm>
          </p:grpSpPr>
          <p:sp>
            <p:nvSpPr>
              <p:cNvPr id="897" name=""/>
              <p:cNvSpPr/>
              <p:nvPr/>
            </p:nvSpPr>
            <p:spPr>
              <a:xfrm>
                <a:off x="1119240" y="588996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47040" y="588996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375200" y="588996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119240" y="595620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247040" y="595620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375200" y="595620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119240" y="602280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247040" y="602280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375200" y="602280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119240" y="609048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247040" y="609048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375200" y="609048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1706400" y="5772240"/>
              <a:ext cx="175680" cy="117360"/>
              <a:chOff x="1706400" y="5772240"/>
              <a:chExt cx="175680" cy="117360"/>
            </a:xfrm>
          </p:grpSpPr>
          <p:sp>
            <p:nvSpPr>
              <p:cNvPr id="910" name=""/>
              <p:cNvSpPr/>
              <p:nvPr/>
            </p:nvSpPr>
            <p:spPr>
              <a:xfrm>
                <a:off x="1706400" y="5772240"/>
                <a:ext cx="175680" cy="11736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0800000">
                <a:off x="1715040" y="5777280"/>
                <a:ext cx="15732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8dc5c5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709200" y="5772240"/>
              <a:ext cx="175680" cy="117360"/>
              <a:chOff x="709200" y="5772240"/>
              <a:chExt cx="175680" cy="117360"/>
            </a:xfrm>
          </p:grpSpPr>
          <p:sp>
            <p:nvSpPr>
              <p:cNvPr id="913" name=""/>
              <p:cNvSpPr/>
              <p:nvPr/>
            </p:nvSpPr>
            <p:spPr>
              <a:xfrm>
                <a:off x="709200" y="5772240"/>
                <a:ext cx="175680" cy="11736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0800000">
                <a:off x="717840" y="5777280"/>
                <a:ext cx="157320" cy="105480"/>
              </a:xfrm>
              <a:prstGeom prst="ellipse">
                <a:avLst/>
              </a:prstGeom>
              <a:gradFill rotWithShape="0">
                <a:gsLst>
                  <a:gs pos="0">
                    <a:srgbClr val="ff3399"/>
                  </a:gs>
                  <a:gs pos="100000">
                    <a:srgbClr val="fea3d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709200" y="5948280"/>
              <a:ext cx="117360" cy="78840"/>
              <a:chOff x="709200" y="5948280"/>
              <a:chExt cx="117360" cy="78840"/>
            </a:xfrm>
          </p:grpSpPr>
          <p:sp>
            <p:nvSpPr>
              <p:cNvPr id="916" name=""/>
              <p:cNvSpPr/>
              <p:nvPr/>
            </p:nvSpPr>
            <p:spPr>
              <a:xfrm>
                <a:off x="709200" y="5948280"/>
                <a:ext cx="117360" cy="78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0800000">
                <a:off x="715320" y="5951520"/>
                <a:ext cx="105120" cy="70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7e7f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826920" y="6006240"/>
              <a:ext cx="117720" cy="78840"/>
              <a:chOff x="826920" y="6006240"/>
              <a:chExt cx="117720" cy="78840"/>
            </a:xfrm>
          </p:grpSpPr>
          <p:sp>
            <p:nvSpPr>
              <p:cNvPr id="919" name=""/>
              <p:cNvSpPr/>
              <p:nvPr/>
            </p:nvSpPr>
            <p:spPr>
              <a:xfrm>
                <a:off x="826920" y="6006240"/>
                <a:ext cx="117720" cy="78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0800000">
                <a:off x="832680" y="6009480"/>
                <a:ext cx="105480" cy="70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7e7f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943200" y="6066000"/>
              <a:ext cx="117360" cy="78840"/>
              <a:chOff x="943200" y="6066000"/>
              <a:chExt cx="117360" cy="78840"/>
            </a:xfrm>
          </p:grpSpPr>
          <p:sp>
            <p:nvSpPr>
              <p:cNvPr id="922" name=""/>
              <p:cNvSpPr/>
              <p:nvPr/>
            </p:nvSpPr>
            <p:spPr>
              <a:xfrm>
                <a:off x="943200" y="6066000"/>
                <a:ext cx="117360" cy="78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0800000">
                <a:off x="949320" y="6069240"/>
                <a:ext cx="105120" cy="70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7e7f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1530360" y="6066000"/>
              <a:ext cx="117360" cy="78840"/>
              <a:chOff x="1530360" y="6066000"/>
              <a:chExt cx="117360" cy="78840"/>
            </a:xfrm>
          </p:grpSpPr>
          <p:sp>
            <p:nvSpPr>
              <p:cNvPr id="925" name=""/>
              <p:cNvSpPr/>
              <p:nvPr/>
            </p:nvSpPr>
            <p:spPr>
              <a:xfrm>
                <a:off x="1530360" y="6066000"/>
                <a:ext cx="117360" cy="78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0800000">
                <a:off x="1536480" y="6069240"/>
                <a:ext cx="105120" cy="709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7e7f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1060920" y="5732280"/>
              <a:ext cx="470520" cy="58320"/>
              <a:chOff x="1060920" y="5732280"/>
              <a:chExt cx="470520" cy="5832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1060920" y="5732280"/>
                <a:ext cx="59400" cy="58320"/>
                <a:chOff x="1060920" y="5732280"/>
                <a:chExt cx="59400" cy="583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1060920" y="5732280"/>
                  <a:ext cx="594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c5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rot="10800000">
                  <a:off x="1063800" y="5734800"/>
                  <a:ext cx="5328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e7e7fe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1142280" y="5732280"/>
                <a:ext cx="59400" cy="58320"/>
                <a:chOff x="1142280" y="5732280"/>
                <a:chExt cx="59400" cy="583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1142280" y="5732280"/>
                  <a:ext cx="594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c5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rot="10800000">
                  <a:off x="1145160" y="5734800"/>
                  <a:ext cx="5328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e7e7fe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1225080" y="5732280"/>
                <a:ext cx="59400" cy="58320"/>
                <a:chOff x="1225080" y="5732280"/>
                <a:chExt cx="59400" cy="583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1225080" y="5732280"/>
                  <a:ext cx="594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c5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rot="10800000">
                  <a:off x="1227960" y="5734800"/>
                  <a:ext cx="5328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e7e7fe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1306440" y="5732280"/>
                <a:ext cx="59400" cy="58320"/>
                <a:chOff x="1306440" y="5732280"/>
                <a:chExt cx="59400" cy="5832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1306440" y="5732280"/>
                  <a:ext cx="594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c5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rot="10800000">
                  <a:off x="1309320" y="5734800"/>
                  <a:ext cx="5328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e7e7fe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1389600" y="5732280"/>
                <a:ext cx="59040" cy="58320"/>
                <a:chOff x="1389600" y="5732280"/>
                <a:chExt cx="59040" cy="5832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1389600" y="5732280"/>
                  <a:ext cx="5904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c5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rot="10800000">
                  <a:off x="1392120" y="5734800"/>
                  <a:ext cx="5292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e7e7fe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1472040" y="5732280"/>
                <a:ext cx="59400" cy="58320"/>
                <a:chOff x="1472040" y="5732280"/>
                <a:chExt cx="59400" cy="5832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1472040" y="5732280"/>
                  <a:ext cx="594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c5c5c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rot="10800000">
                  <a:off x="1474920" y="5734800"/>
                  <a:ext cx="5328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e7e7fe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6" name=""/>
            <p:cNvSpPr/>
            <p:nvPr/>
          </p:nvSpPr>
          <p:spPr>
            <a:xfrm rot="5400000">
              <a:off x="255600" y="5848560"/>
              <a:ext cx="528840" cy="140760"/>
            </a:xfrm>
            <a:prstGeom prst="roundRect">
              <a:avLst>
                <a:gd name="adj" fmla="val 20222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454545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5400000">
              <a:off x="253080" y="5877000"/>
              <a:ext cx="528840" cy="109800"/>
            </a:xfrm>
            <a:prstGeom prst="roundRect">
              <a:avLst>
                <a:gd name="adj" fmla="val 20222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1f1f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289240" y="5068800"/>
            <a:ext cx="1584000" cy="1193400"/>
            <a:chOff x="2289240" y="5068800"/>
            <a:chExt cx="1584000" cy="1193400"/>
          </a:xfrm>
        </p:grpSpPr>
        <p:sp>
          <p:nvSpPr>
            <p:cNvPr id="949" name=""/>
            <p:cNvSpPr/>
            <p:nvPr/>
          </p:nvSpPr>
          <p:spPr>
            <a:xfrm>
              <a:off x="2289240" y="5654520"/>
              <a:ext cx="351720" cy="587160"/>
            </a:xfrm>
            <a:custGeom>
              <a:avLst/>
              <a:gdLst>
                <a:gd name="textAreaLeft" fmla="*/ 20520 w 351720"/>
                <a:gd name="textAreaRight" fmla="*/ 331200 w 351720"/>
                <a:gd name="textAreaTop" fmla="*/ 20520 h 587160"/>
                <a:gd name="textAreaBottom" fmla="*/ 566640 h 587160"/>
              </a:gdLst>
              <a:ahLst/>
              <a:rect l="textAreaLeft" t="textAreaTop" r="textAreaRight" b="textAreaBottom"/>
              <a:pathLst>
                <a:path w="21600" h="36044">
                  <a:moveTo>
                    <a:pt x="4368" y="0"/>
                  </a:moveTo>
                  <a:arcTo wR="4368" hR="4368" stAng="16200000" swAng="-5400000"/>
                  <a:lnTo>
                    <a:pt x="0" y="31676"/>
                  </a:lnTo>
                  <a:arcTo wR="4368" hR="4368" stAng="10800000" swAng="-5400000"/>
                  <a:lnTo>
                    <a:pt x="17232" y="36044"/>
                  </a:lnTo>
                  <a:arcTo wR="4368" hR="4368" stAng="5400000" swAng="-5400000"/>
                  <a:lnTo>
                    <a:pt x="21600" y="4368"/>
                  </a:lnTo>
                  <a:arcTo wR="4368" hR="4368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bdbdb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40960" y="5068800"/>
              <a:ext cx="1056600" cy="650520"/>
            </a:xfrm>
            <a:custGeom>
              <a:avLst/>
              <a:gdLst/>
              <a:ahLst/>
              <a:rect l="l" t="t" r="r" b="b"/>
              <a:pathLst>
                <a:path w="862" h="680">
                  <a:moveTo>
                    <a:pt x="0" y="680"/>
                  </a:moveTo>
                  <a:lnTo>
                    <a:pt x="136" y="0"/>
                  </a:lnTo>
                  <a:lnTo>
                    <a:pt x="726" y="0"/>
                  </a:lnTo>
                  <a:lnTo>
                    <a:pt x="862" y="680"/>
                  </a:lnTo>
                  <a:lnTo>
                    <a:pt x="0" y="68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8b8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2816640" y="5068800"/>
              <a:ext cx="704520" cy="663480"/>
              <a:chOff x="2816640" y="5068800"/>
              <a:chExt cx="704520" cy="66348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2816640" y="5068800"/>
                <a:ext cx="344160" cy="663480"/>
                <a:chOff x="2816640" y="5068800"/>
                <a:chExt cx="344160" cy="66348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281664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84616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87604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90592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93544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2966040" y="5068800"/>
                  <a:ext cx="14760" cy="663480"/>
                </a:xfrm>
                <a:custGeom>
                  <a:avLst/>
                  <a:gdLst>
                    <a:gd name="textAreaLeft" fmla="*/ 2160 w 14760"/>
                    <a:gd name="textAreaRight" fmla="*/ 12600 w 1476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48343">
                      <a:moveTo>
                        <a:pt x="10800" y="0"/>
                      </a:moveTo>
                      <a:arcTo wR="10800" hR="10800" stAng="16200000" swAng="-5400000"/>
                      <a:lnTo>
                        <a:pt x="0" y="937543"/>
                      </a:lnTo>
                      <a:arcTo wR="10800" hR="10800" stAng="10800000" swAng="-5400000"/>
                      <a:lnTo>
                        <a:pt x="10800" y="948343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299628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302580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05604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08556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311544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314568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3177360" y="5068800"/>
                <a:ext cx="343800" cy="663480"/>
                <a:chOff x="3177360" y="5068800"/>
                <a:chExt cx="343800" cy="66348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317736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20688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23676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26664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329616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326400" y="5068800"/>
                  <a:ext cx="14760" cy="663480"/>
                </a:xfrm>
                <a:custGeom>
                  <a:avLst/>
                  <a:gdLst>
                    <a:gd name="textAreaLeft" fmla="*/ 2160 w 14760"/>
                    <a:gd name="textAreaRight" fmla="*/ 12600 w 1476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48343">
                      <a:moveTo>
                        <a:pt x="10800" y="0"/>
                      </a:moveTo>
                      <a:arcTo wR="10800" hR="10800" stAng="16200000" swAng="-5400000"/>
                      <a:lnTo>
                        <a:pt x="0" y="937543"/>
                      </a:lnTo>
                      <a:arcTo wR="10800" hR="10800" stAng="10800000" swAng="-5400000"/>
                      <a:lnTo>
                        <a:pt x="10800" y="948343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35664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38652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41640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44592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47580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506040" y="5068800"/>
                  <a:ext cx="15120" cy="663480"/>
                </a:xfrm>
                <a:custGeom>
                  <a:avLst/>
                  <a:gdLst>
                    <a:gd name="textAreaLeft" fmla="*/ 2160 w 15120"/>
                    <a:gd name="textAreaRight" fmla="*/ 12960 w 15120"/>
                    <a:gd name="textAreaTop" fmla="*/ 2160 h 663480"/>
                    <a:gd name="textAreaBottom" fmla="*/ 661320 h 663480"/>
                  </a:gdLst>
                  <a:ahLst/>
                  <a:rect l="textAreaLeft" t="textAreaTop" r="textAreaRight" b="textAreaBottom"/>
                  <a:pathLst>
                    <a:path w="21600" h="926288">
                      <a:moveTo>
                        <a:pt x="10800" y="0"/>
                      </a:moveTo>
                      <a:arcTo wR="10800" hR="10800" stAng="16200000" swAng="-5400000"/>
                      <a:lnTo>
                        <a:pt x="0" y="915488"/>
                      </a:lnTo>
                      <a:arcTo wR="10800" hR="10800" stAng="10800000" swAng="-5400000"/>
                      <a:lnTo>
                        <a:pt x="10800" y="92628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50000">
                      <a:srgbClr val="d6d6d6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8" name=""/>
            <p:cNvSpPr/>
            <p:nvPr/>
          </p:nvSpPr>
          <p:spPr>
            <a:xfrm>
              <a:off x="2524680" y="5889960"/>
              <a:ext cx="1289160" cy="372240"/>
            </a:xfrm>
            <a:prstGeom prst="roundRect">
              <a:avLst>
                <a:gd name="adj" fmla="val 38542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81560" y="5864040"/>
              <a:ext cx="1175400" cy="351720"/>
            </a:xfrm>
            <a:prstGeom prst="roundRect">
              <a:avLst>
                <a:gd name="adj" fmla="val 1231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64920" y="5654520"/>
              <a:ext cx="1408320" cy="527400"/>
            </a:xfrm>
            <a:prstGeom prst="roundRect">
              <a:avLst>
                <a:gd name="adj" fmla="val 1231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bdbdb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24680" y="5244480"/>
              <a:ext cx="1290600" cy="585720"/>
            </a:xfrm>
            <a:prstGeom prst="roundRect">
              <a:avLst>
                <a:gd name="adj" fmla="val 971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bdbdb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7160" y="5288760"/>
              <a:ext cx="1205280" cy="421560"/>
            </a:xfrm>
            <a:prstGeom prst="roundRect">
              <a:avLst>
                <a:gd name="adj" fmla="val 12315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82640" y="5302800"/>
              <a:ext cx="1172880" cy="390600"/>
            </a:xfrm>
            <a:prstGeom prst="roundRect">
              <a:avLst>
                <a:gd name="adj" fmla="val 12315"/>
              </a:avLst>
            </a:prstGeom>
            <a:gradFill rotWithShape="0">
              <a:gsLst>
                <a:gs pos="0">
                  <a:srgbClr val="e4f1fe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3579840" y="5889960"/>
              <a:ext cx="196560" cy="138240"/>
              <a:chOff x="3579840" y="5889960"/>
              <a:chExt cx="196560" cy="138240"/>
            </a:xfrm>
          </p:grpSpPr>
          <p:sp>
            <p:nvSpPr>
              <p:cNvPr id="985" name=""/>
              <p:cNvSpPr/>
              <p:nvPr/>
            </p:nvSpPr>
            <p:spPr>
              <a:xfrm>
                <a:off x="3579840" y="5889960"/>
                <a:ext cx="196560" cy="138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"/>
              <p:cNvGrpSpPr/>
              <p:nvPr/>
            </p:nvGrpSpPr>
            <p:grpSpPr>
              <a:xfrm>
                <a:off x="3591720" y="5898600"/>
                <a:ext cx="172080" cy="120960"/>
                <a:chOff x="3591720" y="5898600"/>
                <a:chExt cx="172080" cy="12096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3592080" y="5898600"/>
                  <a:ext cx="171720" cy="12096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0800000">
                  <a:off x="3591720" y="5898600"/>
                  <a:ext cx="171720" cy="12096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rot="5400000">
                  <a:off x="3616920" y="5873040"/>
                  <a:ext cx="120960" cy="17172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rot="16200000">
                  <a:off x="3617280" y="5873040"/>
                  <a:ext cx="120960" cy="17172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641040" y="5932800"/>
                  <a:ext cx="7344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2" name=""/>
            <p:cNvGrpSpPr/>
            <p:nvPr/>
          </p:nvGrpSpPr>
          <p:grpSpPr>
            <a:xfrm>
              <a:off x="2992680" y="5889960"/>
              <a:ext cx="352440" cy="234000"/>
              <a:chOff x="2992680" y="5889960"/>
              <a:chExt cx="352440" cy="234000"/>
            </a:xfrm>
          </p:grpSpPr>
          <p:sp>
            <p:nvSpPr>
              <p:cNvPr id="993" name=""/>
              <p:cNvSpPr/>
              <p:nvPr/>
            </p:nvSpPr>
            <p:spPr>
              <a:xfrm>
                <a:off x="2992680" y="588996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120480" y="588996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248640" y="588996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992680" y="595620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120480" y="595620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248640" y="5956200"/>
                <a:ext cx="9648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992680" y="602280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120480" y="602280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248640" y="602280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992680" y="609048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120480" y="609048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248640" y="6090480"/>
                <a:ext cx="964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8d8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2816640" y="5948280"/>
              <a:ext cx="117720" cy="78840"/>
              <a:chOff x="2816640" y="5948280"/>
              <a:chExt cx="117720" cy="78840"/>
            </a:xfrm>
          </p:grpSpPr>
          <p:sp>
            <p:nvSpPr>
              <p:cNvPr id="1006" name=""/>
              <p:cNvSpPr/>
              <p:nvPr/>
            </p:nvSpPr>
            <p:spPr>
              <a:xfrm>
                <a:off x="2816640" y="5948280"/>
                <a:ext cx="117720" cy="788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cfc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0800000">
                <a:off x="2822400" y="5951520"/>
                <a:ext cx="105480" cy="70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cfcfc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2816640" y="6066000"/>
              <a:ext cx="117720" cy="78840"/>
              <a:chOff x="2816640" y="6066000"/>
              <a:chExt cx="117720" cy="78840"/>
            </a:xfrm>
          </p:grpSpPr>
          <p:sp>
            <p:nvSpPr>
              <p:cNvPr id="1009" name=""/>
              <p:cNvSpPr/>
              <p:nvPr/>
            </p:nvSpPr>
            <p:spPr>
              <a:xfrm>
                <a:off x="2816640" y="6066000"/>
                <a:ext cx="117720" cy="788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cfc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0800000">
                <a:off x="2822400" y="6069240"/>
                <a:ext cx="105480" cy="70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cfcfc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3404160" y="6066000"/>
              <a:ext cx="117360" cy="78840"/>
              <a:chOff x="3404160" y="6066000"/>
              <a:chExt cx="117360" cy="78840"/>
            </a:xfrm>
          </p:grpSpPr>
          <p:sp>
            <p:nvSpPr>
              <p:cNvPr id="1012" name=""/>
              <p:cNvSpPr/>
              <p:nvPr/>
            </p:nvSpPr>
            <p:spPr>
              <a:xfrm>
                <a:off x="3404160" y="6066000"/>
                <a:ext cx="117360" cy="788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cfc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0800000">
                <a:off x="3410280" y="6069240"/>
                <a:ext cx="105120" cy="70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cfcfc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2934720" y="5732280"/>
              <a:ext cx="470160" cy="58320"/>
              <a:chOff x="2934720" y="5732280"/>
              <a:chExt cx="470160" cy="58320"/>
            </a:xfrm>
          </p:grpSpPr>
          <p:grpSp>
            <p:nvGrpSpPr>
              <p:cNvPr id="1015" name=""/>
              <p:cNvGrpSpPr/>
              <p:nvPr/>
            </p:nvGrpSpPr>
            <p:grpSpPr>
              <a:xfrm>
                <a:off x="2934720" y="5732280"/>
                <a:ext cx="59400" cy="58320"/>
                <a:chOff x="2934720" y="5732280"/>
                <a:chExt cx="59400" cy="5832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2934720" y="5732280"/>
                  <a:ext cx="594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rot="10800000">
                  <a:off x="2937600" y="5734800"/>
                  <a:ext cx="5328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3016080" y="5732280"/>
                <a:ext cx="59400" cy="58320"/>
                <a:chOff x="3016080" y="5732280"/>
                <a:chExt cx="59400" cy="5832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3016080" y="5732280"/>
                  <a:ext cx="594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rot="10800000">
                  <a:off x="3018960" y="5734800"/>
                  <a:ext cx="5328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3098520" y="5732280"/>
                <a:ext cx="59400" cy="58320"/>
                <a:chOff x="3098520" y="5732280"/>
                <a:chExt cx="59400" cy="5832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3098520" y="5732280"/>
                  <a:ext cx="594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rot="10800000">
                  <a:off x="3101400" y="5734800"/>
                  <a:ext cx="5328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3180240" y="5732280"/>
                <a:ext cx="59400" cy="58320"/>
                <a:chOff x="3180240" y="5732280"/>
                <a:chExt cx="59400" cy="58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3180240" y="5732280"/>
                  <a:ext cx="594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rot="10800000">
                  <a:off x="3183120" y="5734800"/>
                  <a:ext cx="5328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3263040" y="5732280"/>
                <a:ext cx="59040" cy="58320"/>
                <a:chOff x="3263040" y="5732280"/>
                <a:chExt cx="59040" cy="583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263040" y="5732280"/>
                  <a:ext cx="5904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rot="10800000">
                  <a:off x="3265560" y="5734800"/>
                  <a:ext cx="5292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3345480" y="5732280"/>
                <a:ext cx="59400" cy="58320"/>
                <a:chOff x="3345480" y="5732280"/>
                <a:chExt cx="59400" cy="5832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3345480" y="5732280"/>
                  <a:ext cx="594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rot="10800000">
                  <a:off x="3348360" y="5734800"/>
                  <a:ext cx="53280" cy="5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cfcfc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3" name=""/>
            <p:cNvSpPr/>
            <p:nvPr/>
          </p:nvSpPr>
          <p:spPr>
            <a:xfrm rot="5400000">
              <a:off x="2129400" y="5848560"/>
              <a:ext cx="528840" cy="140760"/>
            </a:xfrm>
            <a:prstGeom prst="roundRect">
              <a:avLst>
                <a:gd name="adj" fmla="val 20222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454545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2126880" y="5877000"/>
              <a:ext cx="528840" cy="109800"/>
            </a:xfrm>
            <a:prstGeom prst="roundRect">
              <a:avLst>
                <a:gd name="adj" fmla="val 2022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bdbdb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2582640" y="5889960"/>
              <a:ext cx="196560" cy="138240"/>
              <a:chOff x="2582640" y="5889960"/>
              <a:chExt cx="196560" cy="138240"/>
            </a:xfrm>
          </p:grpSpPr>
          <p:sp>
            <p:nvSpPr>
              <p:cNvPr id="1036" name=""/>
              <p:cNvSpPr/>
              <p:nvPr/>
            </p:nvSpPr>
            <p:spPr>
              <a:xfrm>
                <a:off x="2582640" y="5889960"/>
                <a:ext cx="196560" cy="138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5c5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7" name=""/>
              <p:cNvGrpSpPr/>
              <p:nvPr/>
            </p:nvGrpSpPr>
            <p:grpSpPr>
              <a:xfrm>
                <a:off x="2594520" y="5898600"/>
                <a:ext cx="172080" cy="120960"/>
                <a:chOff x="2594520" y="5898600"/>
                <a:chExt cx="172080" cy="12096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2594880" y="5898600"/>
                  <a:ext cx="171720" cy="12096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rot="10800000">
                  <a:off x="2594520" y="5898600"/>
                  <a:ext cx="171720" cy="12096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rot="5400000">
                  <a:off x="2619720" y="5873040"/>
                  <a:ext cx="120960" cy="17172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rot="16200000">
                  <a:off x="2620080" y="5873040"/>
                  <a:ext cx="120960" cy="171720"/>
                </a:xfrm>
                <a:prstGeom prst="blockArc">
                  <a:avLst>
                    <a:gd name="adj1" fmla="val 13721312"/>
                    <a:gd name="adj2" fmla="val 18678688"/>
                    <a:gd name="adj3" fmla="val 22370"/>
                  </a:avLst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643840" y="5932800"/>
                  <a:ext cx="7344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2e2e2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3" name=""/>
            <p:cNvGrpSpPr/>
            <p:nvPr/>
          </p:nvGrpSpPr>
          <p:grpSpPr>
            <a:xfrm>
              <a:off x="3404160" y="5948280"/>
              <a:ext cx="117360" cy="78840"/>
              <a:chOff x="3404160" y="5948280"/>
              <a:chExt cx="117360" cy="78840"/>
            </a:xfrm>
          </p:grpSpPr>
          <p:sp>
            <p:nvSpPr>
              <p:cNvPr id="1044" name=""/>
              <p:cNvSpPr/>
              <p:nvPr/>
            </p:nvSpPr>
            <p:spPr>
              <a:xfrm>
                <a:off x="3404160" y="5948280"/>
                <a:ext cx="117360" cy="788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cfc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0800000">
                <a:off x="3410280" y="5951520"/>
                <a:ext cx="105120" cy="70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cfcfc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6" name=""/>
          <p:cNvGrpSpPr/>
          <p:nvPr/>
        </p:nvGrpSpPr>
        <p:grpSpPr>
          <a:xfrm>
            <a:off x="6105600" y="4797360"/>
            <a:ext cx="1439640" cy="1439640"/>
            <a:chOff x="6105600" y="4797360"/>
            <a:chExt cx="1439640" cy="1439640"/>
          </a:xfrm>
        </p:grpSpPr>
        <p:grpSp>
          <p:nvGrpSpPr>
            <p:cNvPr id="1047" name=""/>
            <p:cNvGrpSpPr/>
            <p:nvPr/>
          </p:nvGrpSpPr>
          <p:grpSpPr>
            <a:xfrm>
              <a:off x="6345720" y="5097240"/>
              <a:ext cx="1078920" cy="561600"/>
              <a:chOff x="6345720" y="5097240"/>
              <a:chExt cx="1078920" cy="561600"/>
            </a:xfrm>
          </p:grpSpPr>
          <p:sp>
            <p:nvSpPr>
              <p:cNvPr id="1048" name=""/>
              <p:cNvSpPr/>
              <p:nvPr/>
            </p:nvSpPr>
            <p:spPr>
              <a:xfrm>
                <a:off x="6345720" y="5097240"/>
                <a:ext cx="1078920" cy="540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366960" y="5118120"/>
                <a:ext cx="1031040" cy="540720"/>
              </a:xfrm>
              <a:prstGeom prst="roundRect">
                <a:avLst>
                  <a:gd name="adj" fmla="val 10759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585480" y="4797360"/>
              <a:ext cx="718920" cy="659520"/>
              <a:chOff x="6585480" y="4797360"/>
              <a:chExt cx="718920" cy="659520"/>
            </a:xfrm>
          </p:grpSpPr>
          <p:sp>
            <p:nvSpPr>
              <p:cNvPr id="1051" name=""/>
              <p:cNvSpPr/>
              <p:nvPr/>
            </p:nvSpPr>
            <p:spPr>
              <a:xfrm>
                <a:off x="6585480" y="4797360"/>
                <a:ext cx="718920" cy="659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c1c1"/>
                  </a:gs>
                </a:gsLst>
                <a:lin ang="5400000"/>
              </a:gra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>
                <a:off x="6800760" y="4856400"/>
                <a:ext cx="286560" cy="10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808080"/>
                    </a:solidFill>
                    <a:latin typeface="ＭＳ Ｐゴシック"/>
                  </a:rPr>
                  <a:t>FAX</a:t>
                </a:r>
                <a:endParaRPr b="0" lang="en-US" sz="1800" spc="1" strike="noStrike">
                  <a:ln w="0">
                    <a:noFill/>
                  </a:ln>
                  <a:solidFill>
                    <a:srgbClr val="808080"/>
                  </a:solidFill>
                  <a:latin typeface="ＭＳ Ｐゴシック"/>
                  <a:ea typeface="ＭＳ Ｐゴシック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6643440" y="5036400"/>
                <a:ext cx="601200" cy="359280"/>
                <a:chOff x="6643440" y="5036400"/>
                <a:chExt cx="601200" cy="3592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6643440" y="5036400"/>
                  <a:ext cx="599760" cy="331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643440" y="5101200"/>
                  <a:ext cx="599760" cy="331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643440" y="5167440"/>
                  <a:ext cx="599760" cy="331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643440" y="5232240"/>
                  <a:ext cx="599760" cy="331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644880" y="5297760"/>
                  <a:ext cx="599760" cy="327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644880" y="5362560"/>
                  <a:ext cx="599760" cy="331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0" name=""/>
            <p:cNvSpPr/>
            <p:nvPr/>
          </p:nvSpPr>
          <p:spPr>
            <a:xfrm>
              <a:off x="6105600" y="5456880"/>
              <a:ext cx="1439640" cy="720360"/>
            </a:xfrm>
            <a:prstGeom prst="roundRect">
              <a:avLst>
                <a:gd name="adj" fmla="val 7931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105600" y="5997960"/>
              <a:ext cx="1439640" cy="1188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105600" y="6057360"/>
              <a:ext cx="1439640" cy="17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345720" y="4978440"/>
              <a:ext cx="659880" cy="479880"/>
            </a:xfrm>
            <a:prstGeom prst="roundRect">
              <a:avLst>
                <a:gd name="adj" fmla="val 11296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6767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05480" y="5037840"/>
              <a:ext cx="539280" cy="359640"/>
            </a:xfrm>
            <a:prstGeom prst="roundRect">
              <a:avLst>
                <a:gd name="adj" fmla="val 11296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05600" y="5456880"/>
              <a:ext cx="539280" cy="540720"/>
            </a:xfrm>
            <a:custGeom>
              <a:avLst/>
              <a:gdLst>
                <a:gd name="textAreaLeft" fmla="*/ 12240 w 539280"/>
                <a:gd name="textAreaRight" fmla="*/ 527040 w 539280"/>
                <a:gd name="textAreaTop" fmla="*/ 12240 h 540720"/>
                <a:gd name="textAreaBottom" fmla="*/ 528480 h 540720"/>
              </a:gdLst>
              <a:ahLst/>
              <a:rect l="textAreaLeft" t="textAreaTop" r="textAreaRight" b="textAreaBottom"/>
              <a:pathLst>
                <a:path w="21600" h="21658">
                  <a:moveTo>
                    <a:pt x="1713" y="0"/>
                  </a:moveTo>
                  <a:arcTo wR="1713" hR="1713" stAng="16200000" swAng="-5400000"/>
                  <a:lnTo>
                    <a:pt x="0" y="19945"/>
                  </a:lnTo>
                  <a:arcTo wR="1713" hR="1713" stAng="10800000" swAng="-5400000"/>
                  <a:lnTo>
                    <a:pt x="19887" y="21658"/>
                  </a:lnTo>
                  <a:arcTo wR="1713" hR="1713" stAng="5400000" swAng="-5400000"/>
                  <a:lnTo>
                    <a:pt x="21600" y="1713"/>
                  </a:lnTo>
                  <a:arcTo wR="1713" hR="1713" stAng="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05600" y="5937120"/>
              <a:ext cx="539280" cy="11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105600" y="5456880"/>
              <a:ext cx="898560" cy="540720"/>
            </a:xfrm>
            <a:prstGeom prst="roundRect">
              <a:avLst>
                <a:gd name="adj" fmla="val 7931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105600" y="5937120"/>
              <a:ext cx="898560" cy="11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afafa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26360" y="5059080"/>
              <a:ext cx="502200" cy="322560"/>
            </a:xfrm>
            <a:prstGeom prst="roundRect">
              <a:avLst>
                <a:gd name="adj" fmla="val 11296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c2c2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0" name=""/>
            <p:cNvGrpSpPr/>
            <p:nvPr/>
          </p:nvGrpSpPr>
          <p:grpSpPr>
            <a:xfrm>
              <a:off x="7065000" y="5577120"/>
              <a:ext cx="420480" cy="299880"/>
              <a:chOff x="7065000" y="5577120"/>
              <a:chExt cx="420480" cy="299880"/>
            </a:xfrm>
          </p:grpSpPr>
          <p:grpSp>
            <p:nvGrpSpPr>
              <p:cNvPr id="1071" name=""/>
              <p:cNvGrpSpPr/>
              <p:nvPr/>
            </p:nvGrpSpPr>
            <p:grpSpPr>
              <a:xfrm>
                <a:off x="7065000" y="5577120"/>
                <a:ext cx="303480" cy="299880"/>
                <a:chOff x="7065000" y="5577120"/>
                <a:chExt cx="303480" cy="299880"/>
              </a:xfrm>
            </p:grpSpPr>
            <p:grpSp>
              <p:nvGrpSpPr>
                <p:cNvPr id="1072" name=""/>
                <p:cNvGrpSpPr/>
                <p:nvPr/>
              </p:nvGrpSpPr>
              <p:grpSpPr>
                <a:xfrm>
                  <a:off x="7065000" y="5652000"/>
                  <a:ext cx="93240" cy="74880"/>
                  <a:chOff x="7065000" y="5652000"/>
                  <a:chExt cx="93240" cy="7488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7065000" y="565200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 rot="10800000">
                    <a:off x="7076160" y="566100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7170120" y="5652000"/>
                  <a:ext cx="93240" cy="74880"/>
                  <a:chOff x="7170120" y="5652000"/>
                  <a:chExt cx="93240" cy="7488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7170120" y="565200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rot="10800000">
                    <a:off x="7181280" y="566100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7275240" y="5652000"/>
                  <a:ext cx="93240" cy="74880"/>
                  <a:chOff x="7275240" y="5652000"/>
                  <a:chExt cx="93240" cy="7488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7275240" y="565200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rot="10800000">
                    <a:off x="7286400" y="566100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7065000" y="5577120"/>
                  <a:ext cx="93240" cy="74880"/>
                  <a:chOff x="7065000" y="5577120"/>
                  <a:chExt cx="93240" cy="7488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7065000" y="557712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rot="10800000">
                    <a:off x="7076160" y="558612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7170120" y="5577120"/>
                  <a:ext cx="93240" cy="74880"/>
                  <a:chOff x="7170120" y="5577120"/>
                  <a:chExt cx="93240" cy="7488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7170120" y="557712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 rot="10800000">
                    <a:off x="7181280" y="558612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7275240" y="5577120"/>
                  <a:ext cx="93240" cy="74880"/>
                  <a:chOff x="7275240" y="5577120"/>
                  <a:chExt cx="93240" cy="7488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7275240" y="557712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rot="10800000">
                    <a:off x="7286400" y="558612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" name=""/>
                <p:cNvGrpSpPr/>
                <p:nvPr/>
              </p:nvGrpSpPr>
              <p:grpSpPr>
                <a:xfrm>
                  <a:off x="7065000" y="5802120"/>
                  <a:ext cx="93240" cy="74880"/>
                  <a:chOff x="7065000" y="5802120"/>
                  <a:chExt cx="93240" cy="74880"/>
                </a:xfrm>
              </p:grpSpPr>
              <p:sp>
                <p:nvSpPr>
                  <p:cNvPr id="1091" name=""/>
                  <p:cNvSpPr/>
                  <p:nvPr/>
                </p:nvSpPr>
                <p:spPr>
                  <a:xfrm>
                    <a:off x="7065000" y="580212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rot="10800000">
                    <a:off x="7076160" y="581112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" name=""/>
                <p:cNvGrpSpPr/>
                <p:nvPr/>
              </p:nvGrpSpPr>
              <p:grpSpPr>
                <a:xfrm>
                  <a:off x="7170120" y="5802120"/>
                  <a:ext cx="93240" cy="74880"/>
                  <a:chOff x="7170120" y="5802120"/>
                  <a:chExt cx="93240" cy="74880"/>
                </a:xfrm>
              </p:grpSpPr>
              <p:sp>
                <p:nvSpPr>
                  <p:cNvPr id="1094" name=""/>
                  <p:cNvSpPr/>
                  <p:nvPr/>
                </p:nvSpPr>
                <p:spPr>
                  <a:xfrm>
                    <a:off x="7170120" y="580212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rot="10800000">
                    <a:off x="7181280" y="581112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6" name=""/>
                <p:cNvGrpSpPr/>
                <p:nvPr/>
              </p:nvGrpSpPr>
              <p:grpSpPr>
                <a:xfrm>
                  <a:off x="7275240" y="5802120"/>
                  <a:ext cx="93240" cy="74880"/>
                  <a:chOff x="7275240" y="5802120"/>
                  <a:chExt cx="93240" cy="74880"/>
                </a:xfrm>
              </p:grpSpPr>
              <p:sp>
                <p:nvSpPr>
                  <p:cNvPr id="1097" name=""/>
                  <p:cNvSpPr/>
                  <p:nvPr/>
                </p:nvSpPr>
                <p:spPr>
                  <a:xfrm>
                    <a:off x="7275240" y="580212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 rot="10800000">
                    <a:off x="7286400" y="581112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9" name=""/>
                <p:cNvGrpSpPr/>
                <p:nvPr/>
              </p:nvGrpSpPr>
              <p:grpSpPr>
                <a:xfrm>
                  <a:off x="7065000" y="5726880"/>
                  <a:ext cx="93240" cy="74880"/>
                  <a:chOff x="7065000" y="5726880"/>
                  <a:chExt cx="93240" cy="74880"/>
                </a:xfrm>
              </p:grpSpPr>
              <p:sp>
                <p:nvSpPr>
                  <p:cNvPr id="1100" name=""/>
                  <p:cNvSpPr/>
                  <p:nvPr/>
                </p:nvSpPr>
                <p:spPr>
                  <a:xfrm>
                    <a:off x="7065000" y="572688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rot="10800000">
                    <a:off x="7076160" y="573588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2" name=""/>
                <p:cNvGrpSpPr/>
                <p:nvPr/>
              </p:nvGrpSpPr>
              <p:grpSpPr>
                <a:xfrm>
                  <a:off x="7170120" y="5726880"/>
                  <a:ext cx="93240" cy="74880"/>
                  <a:chOff x="7170120" y="5726880"/>
                  <a:chExt cx="93240" cy="74880"/>
                </a:xfrm>
              </p:grpSpPr>
              <p:sp>
                <p:nvSpPr>
                  <p:cNvPr id="1103" name=""/>
                  <p:cNvSpPr/>
                  <p:nvPr/>
                </p:nvSpPr>
                <p:spPr>
                  <a:xfrm>
                    <a:off x="7170120" y="572688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 rot="10800000">
                    <a:off x="7181280" y="573588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" name=""/>
                <p:cNvGrpSpPr/>
                <p:nvPr/>
              </p:nvGrpSpPr>
              <p:grpSpPr>
                <a:xfrm>
                  <a:off x="7275240" y="5726880"/>
                  <a:ext cx="93240" cy="74880"/>
                  <a:chOff x="7275240" y="5726880"/>
                  <a:chExt cx="93240" cy="7488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>
                    <a:off x="7275240" y="5726880"/>
                    <a:ext cx="93240" cy="7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rot="10800000">
                    <a:off x="7286400" y="5735880"/>
                    <a:ext cx="70200" cy="56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480" bIns="-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8" name=""/>
              <p:cNvGrpSpPr/>
              <p:nvPr/>
            </p:nvGrpSpPr>
            <p:grpSpPr>
              <a:xfrm>
                <a:off x="7392240" y="5652000"/>
                <a:ext cx="93240" cy="74880"/>
                <a:chOff x="7392240" y="5652000"/>
                <a:chExt cx="93240" cy="74880"/>
              </a:xfrm>
            </p:grpSpPr>
            <p:sp>
              <p:nvSpPr>
                <p:cNvPr id="1109" name=""/>
                <p:cNvSpPr/>
                <p:nvPr/>
              </p:nvSpPr>
              <p:spPr>
                <a:xfrm>
                  <a:off x="7392240" y="5652000"/>
                  <a:ext cx="9324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0800000">
                  <a:off x="7403400" y="5661000"/>
                  <a:ext cx="70200" cy="5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7392240" y="5577120"/>
                <a:ext cx="93240" cy="74880"/>
                <a:chOff x="7392240" y="5577120"/>
                <a:chExt cx="93240" cy="7488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7392240" y="5577120"/>
                  <a:ext cx="9324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0800000">
                  <a:off x="7403400" y="5586120"/>
                  <a:ext cx="70200" cy="5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7392240" y="5726880"/>
                <a:ext cx="93240" cy="74880"/>
                <a:chOff x="7392240" y="5726880"/>
                <a:chExt cx="93240" cy="7488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392240" y="5726880"/>
                  <a:ext cx="9324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10800000">
                  <a:off x="7403400" y="5735880"/>
                  <a:ext cx="70200" cy="5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7" name=""/>
            <p:cNvSpPr/>
            <p:nvPr/>
          </p:nvSpPr>
          <p:spPr>
            <a:xfrm>
              <a:off x="6134400" y="5456880"/>
              <a:ext cx="227160" cy="600120"/>
            </a:xfrm>
            <a:custGeom>
              <a:avLst/>
              <a:gdLst>
                <a:gd name="textAreaLeft" fmla="*/ 5040 w 227160"/>
                <a:gd name="textAreaRight" fmla="*/ 222120 w 227160"/>
                <a:gd name="textAreaTop" fmla="*/ 5040 h 600120"/>
                <a:gd name="textAreaBottom" fmla="*/ 595080 h 600120"/>
              </a:gdLst>
              <a:ahLst/>
              <a:rect l="textAreaLeft" t="textAreaTop" r="textAreaRight" b="textAreaBottom"/>
              <a:pathLst>
                <a:path w="21600" h="57008">
                  <a:moveTo>
                    <a:pt x="1713" y="0"/>
                  </a:moveTo>
                  <a:arcTo wR="1713" hR="1713" stAng="16200000" swAng="-5400000"/>
                  <a:lnTo>
                    <a:pt x="0" y="55295"/>
                  </a:lnTo>
                  <a:arcTo wR="1713" hR="1713" stAng="10800000" swAng="-5400000"/>
                  <a:lnTo>
                    <a:pt x="19887" y="57008"/>
                  </a:lnTo>
                  <a:arcTo wR="1713" hR="1713" stAng="5400000" swAng="-5400000"/>
                  <a:lnTo>
                    <a:pt x="21600" y="1713"/>
                  </a:lnTo>
                  <a:arcTo wR="1713" hR="1713" stAng="0" swAng="-5400000"/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7070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6158160" y="5456880"/>
              <a:ext cx="179640" cy="599040"/>
              <a:chOff x="6158160" y="5456880"/>
              <a:chExt cx="179640" cy="599040"/>
            </a:xfrm>
          </p:grpSpPr>
          <p:sp>
            <p:nvSpPr>
              <p:cNvPr id="1119" name=""/>
              <p:cNvSpPr/>
              <p:nvPr/>
            </p:nvSpPr>
            <p:spPr>
              <a:xfrm>
                <a:off x="6158160" y="5456880"/>
                <a:ext cx="179640" cy="540720"/>
              </a:xfrm>
              <a:custGeom>
                <a:avLst/>
                <a:gdLst>
                  <a:gd name="textAreaLeft" fmla="*/ 3960 w 179640"/>
                  <a:gd name="textAreaRight" fmla="*/ 175680 w 179640"/>
                  <a:gd name="textAreaTop" fmla="*/ 3960 h 540720"/>
                  <a:gd name="textAreaBottom" fmla="*/ 536760 h 540720"/>
                </a:gdLst>
                <a:ahLst/>
                <a:rect l="textAreaLeft" t="textAreaTop" r="textAreaRight" b="textAreaBottom"/>
                <a:pathLst>
                  <a:path w="21600" h="64930">
                    <a:moveTo>
                      <a:pt x="1713" y="0"/>
                    </a:moveTo>
                    <a:arcTo wR="1713" hR="1713" stAng="16200000" swAng="-5400000"/>
                    <a:lnTo>
                      <a:pt x="0" y="63217"/>
                    </a:lnTo>
                    <a:arcTo wR="1713" hR="1713" stAng="10800000" swAng="-5400000"/>
                    <a:lnTo>
                      <a:pt x="19887" y="64930"/>
                    </a:lnTo>
                    <a:arcTo wR="1713" hR="1713" stAng="5400000" swAng="-5400000"/>
                    <a:lnTo>
                      <a:pt x="21600" y="1713"/>
                    </a:lnTo>
                    <a:arcTo wR="1713" hR="1713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158160" y="5937120"/>
                <a:ext cx="179640" cy="118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afafa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6405480" y="5501880"/>
              <a:ext cx="539280" cy="375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6464880" y="5517720"/>
              <a:ext cx="420120" cy="359280"/>
              <a:chOff x="6464880" y="5517720"/>
              <a:chExt cx="420120" cy="359280"/>
            </a:xfrm>
          </p:grpSpPr>
          <p:grpSp>
            <p:nvGrpSpPr>
              <p:cNvPr id="1123" name=""/>
              <p:cNvGrpSpPr/>
              <p:nvPr/>
            </p:nvGrpSpPr>
            <p:grpSpPr>
              <a:xfrm>
                <a:off x="6605280" y="5517720"/>
                <a:ext cx="140040" cy="119520"/>
                <a:chOff x="6605280" y="5517720"/>
                <a:chExt cx="140040" cy="11952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6605280" y="5517720"/>
                  <a:ext cx="140040" cy="11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rot="10800000">
                  <a:off x="6622920" y="5532120"/>
                  <a:ext cx="105120" cy="9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6605280" y="5637240"/>
                <a:ext cx="140040" cy="119520"/>
                <a:chOff x="6605280" y="5637240"/>
                <a:chExt cx="140040" cy="11952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6605280" y="5637240"/>
                  <a:ext cx="140040" cy="11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rot="10800000">
                  <a:off x="6622920" y="5651640"/>
                  <a:ext cx="105120" cy="9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9" name=""/>
              <p:cNvGrpSpPr/>
              <p:nvPr/>
            </p:nvGrpSpPr>
            <p:grpSpPr>
              <a:xfrm>
                <a:off x="6605280" y="5757480"/>
                <a:ext cx="140040" cy="119520"/>
                <a:chOff x="6605280" y="5757480"/>
                <a:chExt cx="140040" cy="11952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6605280" y="5757480"/>
                  <a:ext cx="140040" cy="11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rot="10800000">
                  <a:off x="6622920" y="5771880"/>
                  <a:ext cx="105120" cy="9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2" name=""/>
              <p:cNvGrpSpPr/>
              <p:nvPr/>
            </p:nvGrpSpPr>
            <p:grpSpPr>
              <a:xfrm>
                <a:off x="6464880" y="5637240"/>
                <a:ext cx="139680" cy="119520"/>
                <a:chOff x="6464880" y="5637240"/>
                <a:chExt cx="139680" cy="11952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6464880" y="5637240"/>
                  <a:ext cx="139680" cy="11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rot="10800000">
                  <a:off x="6482520" y="5651640"/>
                  <a:ext cx="105120" cy="9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6745320" y="5637240"/>
                <a:ext cx="139680" cy="119520"/>
                <a:chOff x="6745320" y="5637240"/>
                <a:chExt cx="139680" cy="11952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6745320" y="5637240"/>
                  <a:ext cx="139680" cy="11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rot="10800000">
                  <a:off x="6762960" y="5651640"/>
                  <a:ext cx="105120" cy="9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"/>
            <p:cNvGrpSpPr/>
            <p:nvPr/>
          </p:nvGrpSpPr>
          <p:grpSpPr>
            <a:xfrm>
              <a:off x="6405480" y="5517720"/>
              <a:ext cx="119880" cy="80640"/>
              <a:chOff x="6405480" y="5517720"/>
              <a:chExt cx="119880" cy="80640"/>
            </a:xfrm>
          </p:grpSpPr>
          <p:sp>
            <p:nvSpPr>
              <p:cNvPr id="1139" name=""/>
              <p:cNvSpPr/>
              <p:nvPr/>
            </p:nvSpPr>
            <p:spPr>
              <a:xfrm>
                <a:off x="6405480" y="5517720"/>
                <a:ext cx="119880" cy="806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0800000">
                <a:off x="6420600" y="5527440"/>
                <a:ext cx="90000" cy="60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7065000" y="5478120"/>
              <a:ext cx="420120" cy="75240"/>
              <a:chOff x="7065000" y="5478120"/>
              <a:chExt cx="420120" cy="75240"/>
            </a:xfrm>
          </p:grpSpPr>
          <p:grpSp>
            <p:nvGrpSpPr>
              <p:cNvPr id="1142" name=""/>
              <p:cNvGrpSpPr/>
              <p:nvPr/>
            </p:nvGrpSpPr>
            <p:grpSpPr>
              <a:xfrm>
                <a:off x="7065000" y="5478120"/>
                <a:ext cx="93600" cy="75240"/>
                <a:chOff x="7065000" y="5478120"/>
                <a:chExt cx="93600" cy="7524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7065000" y="5478120"/>
                  <a:ext cx="93600" cy="7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10800000">
                  <a:off x="7076160" y="5486760"/>
                  <a:ext cx="70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7170840" y="5478120"/>
                <a:ext cx="92160" cy="75240"/>
                <a:chOff x="7170840" y="5478120"/>
                <a:chExt cx="92160" cy="7524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7170840" y="5478120"/>
                  <a:ext cx="92160" cy="7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rot="10800000">
                  <a:off x="7182360" y="5486760"/>
                  <a:ext cx="6912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7275240" y="5478120"/>
                <a:ext cx="93600" cy="75240"/>
                <a:chOff x="7275240" y="5478120"/>
                <a:chExt cx="93600" cy="7524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7275240" y="5478120"/>
                  <a:ext cx="93600" cy="7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10800000">
                  <a:off x="7286400" y="5486760"/>
                  <a:ext cx="70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7391520" y="5478120"/>
                <a:ext cx="93600" cy="75240"/>
                <a:chOff x="7391520" y="5478120"/>
                <a:chExt cx="93600" cy="752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7391520" y="5478120"/>
                  <a:ext cx="93600" cy="7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rot="10800000">
                  <a:off x="7402680" y="5486760"/>
                  <a:ext cx="70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4" name=""/>
            <p:cNvGrpSpPr/>
            <p:nvPr/>
          </p:nvGrpSpPr>
          <p:grpSpPr>
            <a:xfrm>
              <a:off x="6825960" y="5517720"/>
              <a:ext cx="119880" cy="80640"/>
              <a:chOff x="6825960" y="5517720"/>
              <a:chExt cx="119880" cy="80640"/>
            </a:xfrm>
          </p:grpSpPr>
          <p:sp>
            <p:nvSpPr>
              <p:cNvPr id="1155" name=""/>
              <p:cNvSpPr/>
              <p:nvPr/>
            </p:nvSpPr>
            <p:spPr>
              <a:xfrm>
                <a:off x="6825960" y="5517720"/>
                <a:ext cx="119880" cy="806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10800000">
                <a:off x="6841080" y="5527440"/>
                <a:ext cx="90000" cy="60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6705720" y="5877360"/>
              <a:ext cx="119880" cy="80640"/>
              <a:chOff x="6705720" y="5877360"/>
              <a:chExt cx="119880" cy="80640"/>
            </a:xfrm>
          </p:grpSpPr>
          <p:sp>
            <p:nvSpPr>
              <p:cNvPr id="1158" name=""/>
              <p:cNvSpPr/>
              <p:nvPr/>
            </p:nvSpPr>
            <p:spPr>
              <a:xfrm>
                <a:off x="6705720" y="5877360"/>
                <a:ext cx="119880" cy="806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10800000">
                <a:off x="6720840" y="5887080"/>
                <a:ext cx="90000" cy="604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ddeda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6825960" y="5877360"/>
              <a:ext cx="119880" cy="80640"/>
              <a:chOff x="6825960" y="5877360"/>
              <a:chExt cx="119880" cy="80640"/>
            </a:xfrm>
          </p:grpSpPr>
          <p:sp>
            <p:nvSpPr>
              <p:cNvPr id="1161" name=""/>
              <p:cNvSpPr/>
              <p:nvPr/>
            </p:nvSpPr>
            <p:spPr>
              <a:xfrm>
                <a:off x="6825960" y="5877360"/>
                <a:ext cx="119880" cy="806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10800000">
                <a:off x="6841080" y="5887080"/>
                <a:ext cx="90000" cy="60480"/>
              </a:xfrm>
              <a:prstGeom prst="ellipse">
                <a:avLst/>
              </a:prstGeom>
              <a:gradFill rotWithShape="0">
                <a:gsLst>
                  <a:gs pos="0">
                    <a:srgbClr val="ff3399"/>
                  </a:gs>
                  <a:gs pos="100000">
                    <a:srgbClr val="febdd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6405480" y="5877360"/>
              <a:ext cx="119880" cy="80640"/>
              <a:chOff x="6405480" y="5877360"/>
              <a:chExt cx="119880" cy="80640"/>
            </a:xfrm>
          </p:grpSpPr>
          <p:sp>
            <p:nvSpPr>
              <p:cNvPr id="1164" name=""/>
              <p:cNvSpPr/>
              <p:nvPr/>
            </p:nvSpPr>
            <p:spPr>
              <a:xfrm>
                <a:off x="6405480" y="5877360"/>
                <a:ext cx="119880" cy="806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0800000">
                <a:off x="6420600" y="5887080"/>
                <a:ext cx="90000" cy="60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6" name=""/>
          <p:cNvGrpSpPr/>
          <p:nvPr/>
        </p:nvGrpSpPr>
        <p:grpSpPr>
          <a:xfrm>
            <a:off x="4305240" y="4797360"/>
            <a:ext cx="1279440" cy="1439640"/>
            <a:chOff x="4305240" y="4797360"/>
            <a:chExt cx="1279440" cy="1439640"/>
          </a:xfrm>
        </p:grpSpPr>
        <p:grpSp>
          <p:nvGrpSpPr>
            <p:cNvPr id="1167" name=""/>
            <p:cNvGrpSpPr/>
            <p:nvPr/>
          </p:nvGrpSpPr>
          <p:grpSpPr>
            <a:xfrm>
              <a:off x="4518720" y="5223960"/>
              <a:ext cx="958680" cy="498960"/>
              <a:chOff x="4518720" y="5223960"/>
              <a:chExt cx="958680" cy="498960"/>
            </a:xfrm>
          </p:grpSpPr>
          <p:sp>
            <p:nvSpPr>
              <p:cNvPr id="1168" name=""/>
              <p:cNvSpPr/>
              <p:nvPr/>
            </p:nvSpPr>
            <p:spPr>
              <a:xfrm>
                <a:off x="4518720" y="5223960"/>
                <a:ext cx="958680" cy="480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537440" y="5242320"/>
                <a:ext cx="916200" cy="480600"/>
              </a:xfrm>
              <a:prstGeom prst="roundRect">
                <a:avLst>
                  <a:gd name="adj" fmla="val 10759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4731480" y="4797360"/>
              <a:ext cx="639000" cy="586440"/>
              <a:chOff x="4731480" y="4797360"/>
              <a:chExt cx="639000" cy="586440"/>
            </a:xfrm>
          </p:grpSpPr>
          <p:sp>
            <p:nvSpPr>
              <p:cNvPr id="1171" name=""/>
              <p:cNvSpPr/>
              <p:nvPr/>
            </p:nvSpPr>
            <p:spPr>
              <a:xfrm>
                <a:off x="4731480" y="4797360"/>
                <a:ext cx="639000" cy="586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c1c1"/>
                  </a:gs>
                </a:gsLst>
                <a:lin ang="5400000"/>
              </a:gradFill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 txBox="1"/>
              <p:nvPr/>
            </p:nvSpPr>
            <p:spPr>
              <a:xfrm>
                <a:off x="4923000" y="4849920"/>
                <a:ext cx="254880" cy="96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808080"/>
                    </a:solidFill>
                    <a:latin typeface="ＭＳ Ｐゴシック"/>
                  </a:rPr>
                  <a:t>FAX</a:t>
                </a:r>
                <a:endParaRPr b="0" lang="en-US" sz="1800" spc="1" strike="noStrike">
                  <a:ln w="0">
                    <a:noFill/>
                  </a:ln>
                  <a:solidFill>
                    <a:srgbClr val="808080"/>
                  </a:solidFill>
                  <a:latin typeface="ＭＳ Ｐゴシック"/>
                  <a:ea typeface="ＭＳ Ｐゴシック"/>
                </a:endParaRPr>
              </a:p>
            </p:txBody>
          </p:sp>
          <p:grpSp>
            <p:nvGrpSpPr>
              <p:cNvPr id="1173" name=""/>
              <p:cNvGrpSpPr/>
              <p:nvPr/>
            </p:nvGrpSpPr>
            <p:grpSpPr>
              <a:xfrm>
                <a:off x="4782960" y="5009760"/>
                <a:ext cx="534240" cy="318960"/>
                <a:chOff x="4782960" y="5009760"/>
                <a:chExt cx="534240" cy="31896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4782960" y="5009760"/>
                  <a:ext cx="533160" cy="29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782960" y="5067360"/>
                  <a:ext cx="533160" cy="29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782960" y="5126040"/>
                  <a:ext cx="533160" cy="29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782960" y="5183640"/>
                  <a:ext cx="533160" cy="29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784040" y="5241960"/>
                  <a:ext cx="533160" cy="29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784040" y="5299560"/>
                  <a:ext cx="533160" cy="29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0" name=""/>
            <p:cNvSpPr/>
            <p:nvPr/>
          </p:nvSpPr>
          <p:spPr>
            <a:xfrm>
              <a:off x="4305240" y="5543640"/>
              <a:ext cx="1279440" cy="640440"/>
            </a:xfrm>
            <a:prstGeom prst="roundRect">
              <a:avLst>
                <a:gd name="adj" fmla="val 7931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305240" y="6024600"/>
              <a:ext cx="1279440" cy="1054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05240" y="6077160"/>
              <a:ext cx="1279440" cy="15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518720" y="5118120"/>
              <a:ext cx="1065600" cy="426600"/>
            </a:xfrm>
            <a:prstGeom prst="roundRect">
              <a:avLst>
                <a:gd name="adj" fmla="val 11296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6767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571640" y="5139360"/>
              <a:ext cx="958680" cy="372600"/>
            </a:xfrm>
            <a:prstGeom prst="roundRect">
              <a:avLst>
                <a:gd name="adj" fmla="val 11296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05160" y="5543640"/>
              <a:ext cx="479160" cy="480600"/>
            </a:xfrm>
            <a:custGeom>
              <a:avLst/>
              <a:gdLst>
                <a:gd name="textAreaLeft" fmla="*/ 10800 w 479160"/>
                <a:gd name="textAreaRight" fmla="*/ 468360 w 479160"/>
                <a:gd name="textAreaTop" fmla="*/ 10800 h 480600"/>
                <a:gd name="textAreaBottom" fmla="*/ 469800 h 480600"/>
              </a:gdLst>
              <a:ahLst/>
              <a:rect l="textAreaLeft" t="textAreaTop" r="textAreaRight" b="textAreaBottom"/>
              <a:pathLst>
                <a:path w="21600" h="21665">
                  <a:moveTo>
                    <a:pt x="1713" y="0"/>
                  </a:moveTo>
                  <a:arcTo wR="1713" hR="1713" stAng="16200000" swAng="-5400000"/>
                  <a:lnTo>
                    <a:pt x="0" y="19952"/>
                  </a:lnTo>
                  <a:arcTo wR="1713" hR="1713" stAng="10800000" swAng="-5400000"/>
                  <a:lnTo>
                    <a:pt x="19887" y="21665"/>
                  </a:lnTo>
                  <a:arcTo wR="1713" hR="1713" stAng="5400000" swAng="-5400000"/>
                  <a:lnTo>
                    <a:pt x="21600" y="1713"/>
                  </a:lnTo>
                  <a:arcTo wR="1713" hR="1713" stAng="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05160" y="5970600"/>
              <a:ext cx="479160" cy="10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05240" y="5543640"/>
              <a:ext cx="798840" cy="480600"/>
            </a:xfrm>
            <a:prstGeom prst="roundRect">
              <a:avLst>
                <a:gd name="adj" fmla="val 7931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305240" y="5970600"/>
              <a:ext cx="798840" cy="10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afafa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90360" y="5158080"/>
              <a:ext cx="920880" cy="338400"/>
            </a:xfrm>
            <a:prstGeom prst="roundRect">
              <a:avLst>
                <a:gd name="adj" fmla="val 11296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d7ec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5158080" y="5650560"/>
              <a:ext cx="373320" cy="266760"/>
              <a:chOff x="5158080" y="5650560"/>
              <a:chExt cx="373320" cy="266760"/>
            </a:xfrm>
          </p:grpSpPr>
          <p:grpSp>
            <p:nvGrpSpPr>
              <p:cNvPr id="1191" name=""/>
              <p:cNvGrpSpPr/>
              <p:nvPr/>
            </p:nvGrpSpPr>
            <p:grpSpPr>
              <a:xfrm>
                <a:off x="5158080" y="5650560"/>
                <a:ext cx="269640" cy="266760"/>
                <a:chOff x="5158080" y="5650560"/>
                <a:chExt cx="269640" cy="266760"/>
              </a:xfrm>
            </p:grpSpPr>
            <p:grpSp>
              <p:nvGrpSpPr>
                <p:cNvPr id="1192" name=""/>
                <p:cNvGrpSpPr/>
                <p:nvPr/>
              </p:nvGrpSpPr>
              <p:grpSpPr>
                <a:xfrm>
                  <a:off x="5158080" y="5717160"/>
                  <a:ext cx="82800" cy="66600"/>
                  <a:chOff x="5158080" y="5717160"/>
                  <a:chExt cx="82800" cy="6660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>
                    <a:off x="5158080" y="571716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rot="10800000">
                    <a:off x="5168160" y="572472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"/>
                <p:cNvGrpSpPr/>
                <p:nvPr/>
              </p:nvGrpSpPr>
              <p:grpSpPr>
                <a:xfrm>
                  <a:off x="5251320" y="5717160"/>
                  <a:ext cx="82800" cy="66600"/>
                  <a:chOff x="5251320" y="5717160"/>
                  <a:chExt cx="82800" cy="66600"/>
                </a:xfrm>
              </p:grpSpPr>
              <p:sp>
                <p:nvSpPr>
                  <p:cNvPr id="1196" name=""/>
                  <p:cNvSpPr/>
                  <p:nvPr/>
                </p:nvSpPr>
                <p:spPr>
                  <a:xfrm>
                    <a:off x="5251320" y="571716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rot="10800000">
                    <a:off x="5261400" y="572472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8" name=""/>
                <p:cNvGrpSpPr/>
                <p:nvPr/>
              </p:nvGrpSpPr>
              <p:grpSpPr>
                <a:xfrm>
                  <a:off x="5344920" y="5717160"/>
                  <a:ext cx="82800" cy="66600"/>
                  <a:chOff x="5344920" y="5717160"/>
                  <a:chExt cx="82800" cy="66600"/>
                </a:xfrm>
              </p:grpSpPr>
              <p:sp>
                <p:nvSpPr>
                  <p:cNvPr id="1199" name=""/>
                  <p:cNvSpPr/>
                  <p:nvPr/>
                </p:nvSpPr>
                <p:spPr>
                  <a:xfrm>
                    <a:off x="5344920" y="571716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 rot="10800000">
                    <a:off x="5355000" y="572472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1" name=""/>
                <p:cNvGrpSpPr/>
                <p:nvPr/>
              </p:nvGrpSpPr>
              <p:grpSpPr>
                <a:xfrm>
                  <a:off x="5158080" y="5650560"/>
                  <a:ext cx="82800" cy="66600"/>
                  <a:chOff x="5158080" y="5650560"/>
                  <a:chExt cx="82800" cy="66600"/>
                </a:xfrm>
              </p:grpSpPr>
              <p:sp>
                <p:nvSpPr>
                  <p:cNvPr id="1202" name=""/>
                  <p:cNvSpPr/>
                  <p:nvPr/>
                </p:nvSpPr>
                <p:spPr>
                  <a:xfrm>
                    <a:off x="5158080" y="565056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 rot="10800000">
                    <a:off x="5168160" y="565812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4" name=""/>
                <p:cNvGrpSpPr/>
                <p:nvPr/>
              </p:nvGrpSpPr>
              <p:grpSpPr>
                <a:xfrm>
                  <a:off x="5251320" y="5650560"/>
                  <a:ext cx="82800" cy="66600"/>
                  <a:chOff x="5251320" y="5650560"/>
                  <a:chExt cx="82800" cy="66600"/>
                </a:xfrm>
              </p:grpSpPr>
              <p:sp>
                <p:nvSpPr>
                  <p:cNvPr id="1205" name=""/>
                  <p:cNvSpPr/>
                  <p:nvPr/>
                </p:nvSpPr>
                <p:spPr>
                  <a:xfrm>
                    <a:off x="5251320" y="565056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 rot="10800000">
                    <a:off x="5261400" y="565812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7" name=""/>
                <p:cNvGrpSpPr/>
                <p:nvPr/>
              </p:nvGrpSpPr>
              <p:grpSpPr>
                <a:xfrm>
                  <a:off x="5344920" y="5650560"/>
                  <a:ext cx="82800" cy="66600"/>
                  <a:chOff x="5344920" y="5650560"/>
                  <a:chExt cx="82800" cy="66600"/>
                </a:xfrm>
              </p:grpSpPr>
              <p:sp>
                <p:nvSpPr>
                  <p:cNvPr id="1208" name=""/>
                  <p:cNvSpPr/>
                  <p:nvPr/>
                </p:nvSpPr>
                <p:spPr>
                  <a:xfrm>
                    <a:off x="5344920" y="565056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 rot="10800000">
                    <a:off x="5355000" y="565812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0" name=""/>
                <p:cNvGrpSpPr/>
                <p:nvPr/>
              </p:nvGrpSpPr>
              <p:grpSpPr>
                <a:xfrm>
                  <a:off x="5158080" y="5850720"/>
                  <a:ext cx="82800" cy="66600"/>
                  <a:chOff x="5158080" y="5850720"/>
                  <a:chExt cx="82800" cy="66600"/>
                </a:xfrm>
              </p:grpSpPr>
              <p:sp>
                <p:nvSpPr>
                  <p:cNvPr id="1211" name=""/>
                  <p:cNvSpPr/>
                  <p:nvPr/>
                </p:nvSpPr>
                <p:spPr>
                  <a:xfrm>
                    <a:off x="5158080" y="585072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 rot="10800000">
                    <a:off x="5168160" y="585828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3" name=""/>
                <p:cNvGrpSpPr/>
                <p:nvPr/>
              </p:nvGrpSpPr>
              <p:grpSpPr>
                <a:xfrm>
                  <a:off x="5251320" y="5850720"/>
                  <a:ext cx="82800" cy="66600"/>
                  <a:chOff x="5251320" y="5850720"/>
                  <a:chExt cx="82800" cy="66600"/>
                </a:xfrm>
              </p:grpSpPr>
              <p:sp>
                <p:nvSpPr>
                  <p:cNvPr id="1214" name=""/>
                  <p:cNvSpPr/>
                  <p:nvPr/>
                </p:nvSpPr>
                <p:spPr>
                  <a:xfrm>
                    <a:off x="5251320" y="585072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rot="10800000">
                    <a:off x="5261400" y="585828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5344920" y="5850720"/>
                  <a:ext cx="82800" cy="66600"/>
                  <a:chOff x="5344920" y="5850720"/>
                  <a:chExt cx="82800" cy="6660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5344920" y="585072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 rot="10800000">
                    <a:off x="5355000" y="585828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9" name=""/>
                <p:cNvGrpSpPr/>
                <p:nvPr/>
              </p:nvGrpSpPr>
              <p:grpSpPr>
                <a:xfrm>
                  <a:off x="5158080" y="5783760"/>
                  <a:ext cx="82800" cy="66600"/>
                  <a:chOff x="5158080" y="5783760"/>
                  <a:chExt cx="82800" cy="6660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>
                    <a:off x="5158080" y="578376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 rot="10800000">
                    <a:off x="5168160" y="579132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2" name=""/>
                <p:cNvGrpSpPr/>
                <p:nvPr/>
              </p:nvGrpSpPr>
              <p:grpSpPr>
                <a:xfrm>
                  <a:off x="5251320" y="5783760"/>
                  <a:ext cx="82800" cy="66600"/>
                  <a:chOff x="5251320" y="5783760"/>
                  <a:chExt cx="82800" cy="66600"/>
                </a:xfrm>
              </p:grpSpPr>
              <p:sp>
                <p:nvSpPr>
                  <p:cNvPr id="1223" name=""/>
                  <p:cNvSpPr/>
                  <p:nvPr/>
                </p:nvSpPr>
                <p:spPr>
                  <a:xfrm>
                    <a:off x="5251320" y="578376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 rot="10800000">
                    <a:off x="5261400" y="579132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" name=""/>
                <p:cNvGrpSpPr/>
                <p:nvPr/>
              </p:nvGrpSpPr>
              <p:grpSpPr>
                <a:xfrm>
                  <a:off x="5344920" y="5783760"/>
                  <a:ext cx="82800" cy="66600"/>
                  <a:chOff x="5344920" y="5783760"/>
                  <a:chExt cx="82800" cy="6660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>
                    <a:off x="5344920" y="5783760"/>
                    <a:ext cx="82800" cy="6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rot="10800000">
                    <a:off x="5355000" y="5791320"/>
                    <a:ext cx="62280" cy="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cbcbc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8" name=""/>
              <p:cNvGrpSpPr/>
              <p:nvPr/>
            </p:nvGrpSpPr>
            <p:grpSpPr>
              <a:xfrm>
                <a:off x="5448600" y="5717160"/>
                <a:ext cx="82800" cy="66600"/>
                <a:chOff x="5448600" y="5717160"/>
                <a:chExt cx="82800" cy="6660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5448600" y="5717160"/>
                  <a:ext cx="8280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rot="10800000">
                  <a:off x="5458680" y="5724720"/>
                  <a:ext cx="62280" cy="5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5448600" y="5650560"/>
                <a:ext cx="82800" cy="66600"/>
                <a:chOff x="5448600" y="5650560"/>
                <a:chExt cx="82800" cy="6660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5448600" y="5650560"/>
                  <a:ext cx="8280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rot="10800000">
                  <a:off x="5458680" y="5658120"/>
                  <a:ext cx="62280" cy="5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5448600" y="5783760"/>
                <a:ext cx="82800" cy="66600"/>
                <a:chOff x="5448600" y="5783760"/>
                <a:chExt cx="82800" cy="6660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5448600" y="5783760"/>
                  <a:ext cx="8280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rot="10800000">
                  <a:off x="5458680" y="5791320"/>
                  <a:ext cx="62280" cy="5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100000">
                      <a:srgbClr val="cbcbc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"/>
            <p:cNvSpPr/>
            <p:nvPr/>
          </p:nvSpPr>
          <p:spPr>
            <a:xfrm>
              <a:off x="4330800" y="5543640"/>
              <a:ext cx="201960" cy="533520"/>
            </a:xfrm>
            <a:custGeom>
              <a:avLst/>
              <a:gdLst>
                <a:gd name="textAreaLeft" fmla="*/ 4680 w 201960"/>
                <a:gd name="textAreaRight" fmla="*/ 197280 w 201960"/>
                <a:gd name="textAreaTop" fmla="*/ 4680 h 533520"/>
                <a:gd name="textAreaBottom" fmla="*/ 528840 h 533520"/>
              </a:gdLst>
              <a:ahLst/>
              <a:rect l="textAreaLeft" t="textAreaTop" r="textAreaRight" b="textAreaBottom"/>
              <a:pathLst>
                <a:path w="21600" h="56998">
                  <a:moveTo>
                    <a:pt x="1713" y="0"/>
                  </a:moveTo>
                  <a:arcTo wR="1713" hR="1713" stAng="16200000" swAng="-5400000"/>
                  <a:lnTo>
                    <a:pt x="0" y="55285"/>
                  </a:lnTo>
                  <a:arcTo wR="1713" hR="1713" stAng="10800000" swAng="-5400000"/>
                  <a:lnTo>
                    <a:pt x="19887" y="56998"/>
                  </a:lnTo>
                  <a:arcTo wR="1713" hR="1713" stAng="5400000" swAng="-5400000"/>
                  <a:lnTo>
                    <a:pt x="21600" y="1713"/>
                  </a:lnTo>
                  <a:arcTo wR="1713" hR="1713" stAng="0" swAng="-5400000"/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7070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4352040" y="5543640"/>
              <a:ext cx="159840" cy="532080"/>
              <a:chOff x="4352040" y="5543640"/>
              <a:chExt cx="159840" cy="532080"/>
            </a:xfrm>
          </p:grpSpPr>
          <p:sp>
            <p:nvSpPr>
              <p:cNvPr id="1239" name=""/>
              <p:cNvSpPr/>
              <p:nvPr/>
            </p:nvSpPr>
            <p:spPr>
              <a:xfrm>
                <a:off x="4352040" y="5543640"/>
                <a:ext cx="159840" cy="480600"/>
              </a:xfrm>
              <a:custGeom>
                <a:avLst/>
                <a:gdLst>
                  <a:gd name="textAreaLeft" fmla="*/ 3600 w 159840"/>
                  <a:gd name="textAreaRight" fmla="*/ 156240 w 159840"/>
                  <a:gd name="textAreaTop" fmla="*/ 3600 h 480600"/>
                  <a:gd name="textAreaBottom" fmla="*/ 477000 h 480600"/>
                </a:gdLst>
                <a:ahLst/>
                <a:rect l="textAreaLeft" t="textAreaTop" r="textAreaRight" b="textAreaBottom"/>
                <a:pathLst>
                  <a:path w="21600" h="64849">
                    <a:moveTo>
                      <a:pt x="1713" y="0"/>
                    </a:moveTo>
                    <a:arcTo wR="1713" hR="1713" stAng="16200000" swAng="-5400000"/>
                    <a:lnTo>
                      <a:pt x="0" y="63136"/>
                    </a:lnTo>
                    <a:arcTo wR="1713" hR="1713" stAng="10800000" swAng="-5400000"/>
                    <a:lnTo>
                      <a:pt x="19887" y="64849"/>
                    </a:lnTo>
                    <a:arcTo wR="1713" hR="1713" stAng="5400000" swAng="-5400000"/>
                    <a:lnTo>
                      <a:pt x="21600" y="1713"/>
                    </a:lnTo>
                    <a:arcTo wR="1713" hR="1713" stAng="0" swAng="-5400000"/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352040" y="5970240"/>
                <a:ext cx="159840" cy="105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afafa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1" name=""/>
            <p:cNvSpPr/>
            <p:nvPr/>
          </p:nvSpPr>
          <p:spPr>
            <a:xfrm>
              <a:off x="4571640" y="5583600"/>
              <a:ext cx="479160" cy="333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dcdc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4624560" y="5597640"/>
              <a:ext cx="373320" cy="319320"/>
              <a:chOff x="4624560" y="5597640"/>
              <a:chExt cx="373320" cy="319320"/>
            </a:xfrm>
          </p:grpSpPr>
          <p:grpSp>
            <p:nvGrpSpPr>
              <p:cNvPr id="1243" name=""/>
              <p:cNvGrpSpPr/>
              <p:nvPr/>
            </p:nvGrpSpPr>
            <p:grpSpPr>
              <a:xfrm>
                <a:off x="4749120" y="5597640"/>
                <a:ext cx="124200" cy="106200"/>
                <a:chOff x="4749120" y="5597640"/>
                <a:chExt cx="124200" cy="10620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4749120" y="5597640"/>
                  <a:ext cx="124200" cy="10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rot="10800000">
                  <a:off x="4764240" y="5610240"/>
                  <a:ext cx="93240" cy="7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4749120" y="5703840"/>
                <a:ext cx="124200" cy="106200"/>
                <a:chOff x="4749120" y="5703840"/>
                <a:chExt cx="124200" cy="10620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4749120" y="5703840"/>
                  <a:ext cx="124200" cy="10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rot="10800000">
                  <a:off x="4764240" y="5716440"/>
                  <a:ext cx="93240" cy="7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9" name=""/>
              <p:cNvGrpSpPr/>
              <p:nvPr/>
            </p:nvGrpSpPr>
            <p:grpSpPr>
              <a:xfrm>
                <a:off x="4749120" y="5810760"/>
                <a:ext cx="124200" cy="106200"/>
                <a:chOff x="4749120" y="5810760"/>
                <a:chExt cx="124200" cy="10620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4749120" y="5810760"/>
                  <a:ext cx="124200" cy="10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rot="10800000">
                  <a:off x="4764240" y="5823360"/>
                  <a:ext cx="93240" cy="7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4624560" y="5703840"/>
                <a:ext cx="124200" cy="106200"/>
                <a:chOff x="4624560" y="5703840"/>
                <a:chExt cx="124200" cy="10620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4624560" y="5703840"/>
                  <a:ext cx="124200" cy="10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rot="10800000">
                  <a:off x="4639680" y="5716440"/>
                  <a:ext cx="93240" cy="7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5" name=""/>
              <p:cNvGrpSpPr/>
              <p:nvPr/>
            </p:nvGrpSpPr>
            <p:grpSpPr>
              <a:xfrm>
                <a:off x="4873680" y="5703840"/>
                <a:ext cx="124200" cy="106200"/>
                <a:chOff x="4873680" y="5703840"/>
                <a:chExt cx="124200" cy="106200"/>
              </a:xfrm>
            </p:grpSpPr>
            <p:sp>
              <p:nvSpPr>
                <p:cNvPr id="1256" name=""/>
                <p:cNvSpPr/>
                <p:nvPr/>
              </p:nvSpPr>
              <p:spPr>
                <a:xfrm>
                  <a:off x="4873680" y="5703840"/>
                  <a:ext cx="124200" cy="10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rot="10800000">
                  <a:off x="4888800" y="5716440"/>
                  <a:ext cx="93240" cy="7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dcdcdc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8" name=""/>
            <p:cNvGrpSpPr/>
            <p:nvPr/>
          </p:nvGrpSpPr>
          <p:grpSpPr>
            <a:xfrm>
              <a:off x="4571640" y="5597640"/>
              <a:ext cx="106560" cy="71640"/>
              <a:chOff x="4571640" y="5597640"/>
              <a:chExt cx="106560" cy="71640"/>
            </a:xfrm>
          </p:grpSpPr>
          <p:sp>
            <p:nvSpPr>
              <p:cNvPr id="1259" name=""/>
              <p:cNvSpPr/>
              <p:nvPr/>
            </p:nvSpPr>
            <p:spPr>
              <a:xfrm>
                <a:off x="4571640" y="5597640"/>
                <a:ext cx="106560" cy="716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10800000">
                <a:off x="4584600" y="5606280"/>
                <a:ext cx="80280" cy="540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5158080" y="5562720"/>
              <a:ext cx="372960" cy="66600"/>
              <a:chOff x="5158080" y="5562720"/>
              <a:chExt cx="372960" cy="6660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5158080" y="5562720"/>
                <a:ext cx="83160" cy="66600"/>
                <a:chOff x="5158080" y="5562720"/>
                <a:chExt cx="83160" cy="666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158080" y="5562720"/>
                  <a:ext cx="8316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rot="10800000">
                  <a:off x="5168520" y="5570280"/>
                  <a:ext cx="62640" cy="5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5252040" y="5562720"/>
                <a:ext cx="81720" cy="66600"/>
                <a:chOff x="5252040" y="5562720"/>
                <a:chExt cx="81720" cy="6660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5252040" y="5562720"/>
                  <a:ext cx="8172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rot="10800000">
                  <a:off x="5261760" y="5570280"/>
                  <a:ext cx="61560" cy="5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5344560" y="5562720"/>
                <a:ext cx="83160" cy="66600"/>
                <a:chOff x="5344560" y="5562720"/>
                <a:chExt cx="83160" cy="6660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5344560" y="5562720"/>
                  <a:ext cx="8316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rot="10800000">
                  <a:off x="5355000" y="5570280"/>
                  <a:ext cx="62640" cy="5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5447880" y="5562720"/>
                <a:ext cx="83160" cy="66600"/>
                <a:chOff x="5447880" y="5562720"/>
                <a:chExt cx="83160" cy="6660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5447880" y="5562720"/>
                  <a:ext cx="83160" cy="6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rot="10800000">
                  <a:off x="5458320" y="5570280"/>
                  <a:ext cx="62640" cy="5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0808"/>
                    </a:gs>
                    <a:gs pos="100000">
                      <a:srgbClr val="5f5f5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4" name=""/>
            <p:cNvGrpSpPr/>
            <p:nvPr/>
          </p:nvGrpSpPr>
          <p:grpSpPr>
            <a:xfrm>
              <a:off x="4945320" y="5597640"/>
              <a:ext cx="106560" cy="71640"/>
              <a:chOff x="4945320" y="5597640"/>
              <a:chExt cx="106560" cy="71640"/>
            </a:xfrm>
          </p:grpSpPr>
          <p:sp>
            <p:nvSpPr>
              <p:cNvPr id="1275" name=""/>
              <p:cNvSpPr/>
              <p:nvPr/>
            </p:nvSpPr>
            <p:spPr>
              <a:xfrm>
                <a:off x="4945320" y="5597640"/>
                <a:ext cx="106560" cy="716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10800000">
                <a:off x="4958280" y="5606280"/>
                <a:ext cx="80280" cy="540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4838400" y="5917320"/>
              <a:ext cx="106560" cy="71640"/>
              <a:chOff x="4838400" y="5917320"/>
              <a:chExt cx="106560" cy="71640"/>
            </a:xfrm>
          </p:grpSpPr>
          <p:sp>
            <p:nvSpPr>
              <p:cNvPr id="1278" name=""/>
              <p:cNvSpPr/>
              <p:nvPr/>
            </p:nvSpPr>
            <p:spPr>
              <a:xfrm>
                <a:off x="4838400" y="5917320"/>
                <a:ext cx="106560" cy="716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10800000">
                <a:off x="4851360" y="5925960"/>
                <a:ext cx="80280" cy="5400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ddeda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4945320" y="5917320"/>
              <a:ext cx="106560" cy="71640"/>
              <a:chOff x="4945320" y="5917320"/>
              <a:chExt cx="106560" cy="71640"/>
            </a:xfrm>
          </p:grpSpPr>
          <p:sp>
            <p:nvSpPr>
              <p:cNvPr id="1281" name=""/>
              <p:cNvSpPr/>
              <p:nvPr/>
            </p:nvSpPr>
            <p:spPr>
              <a:xfrm>
                <a:off x="4945320" y="5917320"/>
                <a:ext cx="106560" cy="716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10800000">
                <a:off x="4958280" y="5925960"/>
                <a:ext cx="80280" cy="54000"/>
              </a:xfrm>
              <a:prstGeom prst="ellipse">
                <a:avLst/>
              </a:prstGeom>
              <a:gradFill rotWithShape="0">
                <a:gsLst>
                  <a:gs pos="0">
                    <a:srgbClr val="ff3399"/>
                  </a:gs>
                  <a:gs pos="100000">
                    <a:srgbClr val="febdd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4571640" y="5917320"/>
              <a:ext cx="106560" cy="71640"/>
              <a:chOff x="4571640" y="5917320"/>
              <a:chExt cx="106560" cy="71640"/>
            </a:xfrm>
          </p:grpSpPr>
          <p:sp>
            <p:nvSpPr>
              <p:cNvPr id="1284" name=""/>
              <p:cNvSpPr/>
              <p:nvPr/>
            </p:nvSpPr>
            <p:spPr>
              <a:xfrm>
                <a:off x="4571640" y="5917320"/>
                <a:ext cx="106560" cy="716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10800000">
                <a:off x="4584600" y="5925960"/>
                <a:ext cx="80280" cy="540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dcdcd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2-05-29T05:13:04Z</dcterms:modified>
  <cp:revision>1</cp:revision>
  <dc:subject>PPT161_ファックス</dc:subject>
  <dc:title>PPT161_ファックス</dc:title>
</cp:coreProperties>
</file>