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2520" y="188640"/>
            <a:ext cx="89154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488880" y="907920"/>
          <a:ext cx="9001080" cy="4033800"/>
        </p:xfrm>
        <a:graphic>
          <a:graphicData uri="http://schemas.openxmlformats.org/drawingml/2006/table">
            <a:tbl>
              <a:tblPr/>
              <a:tblGrid>
                <a:gridCol w="655560"/>
                <a:gridCol w="4876920"/>
                <a:gridCol w="1123920"/>
                <a:gridCol w="657360"/>
                <a:gridCol w="168732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88880" y="5087880"/>
            <a:ext cx="9001080" cy="43200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8880" y="907920"/>
          <a:ext cx="9001080" cy="4033800"/>
        </p:xfrm>
        <a:graphic>
          <a:graphicData uri="http://schemas.openxmlformats.org/drawingml/2006/table">
            <a:tbl>
              <a:tblPr/>
              <a:tblGrid>
                <a:gridCol w="655560"/>
                <a:gridCol w="4876920"/>
                <a:gridCol w="1123920"/>
                <a:gridCol w="657360"/>
                <a:gridCol w="168732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5800" y="5445000"/>
            <a:ext cx="907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8880" y="907920"/>
          <a:ext cx="9001080" cy="4033800"/>
        </p:xfrm>
        <a:graphic>
          <a:graphicData uri="http://schemas.openxmlformats.org/drawingml/2006/table">
            <a:tbl>
              <a:tblPr/>
              <a:tblGrid>
                <a:gridCol w="503280"/>
                <a:gridCol w="2497320"/>
                <a:gridCol w="1247760"/>
                <a:gridCol w="863640"/>
                <a:gridCol w="504720"/>
                <a:gridCol w="1295280"/>
                <a:gridCol w="2089080"/>
              </a:tblGrid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型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金額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備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AA-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※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納期１週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BB-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※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納期１週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小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消費税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％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88880" y="5087880"/>
            <a:ext cx="9001080" cy="43200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8880" y="907920"/>
          <a:ext cx="9001080" cy="4033800"/>
        </p:xfrm>
        <a:graphic>
          <a:graphicData uri="http://schemas.openxmlformats.org/drawingml/2006/table">
            <a:tbl>
              <a:tblPr/>
              <a:tblGrid>
                <a:gridCol w="503280"/>
                <a:gridCol w="2497320"/>
                <a:gridCol w="1247760"/>
                <a:gridCol w="863640"/>
                <a:gridCol w="504720"/>
                <a:gridCol w="1295280"/>
                <a:gridCol w="2089080"/>
              </a:tblGrid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型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金額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備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AA-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※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納期１週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BB-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※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納期１週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小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消費税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％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445000"/>
            <a:ext cx="907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95360" y="765000"/>
          <a:ext cx="4381560" cy="4199040"/>
        </p:xfrm>
        <a:graphic>
          <a:graphicData uri="http://schemas.openxmlformats.org/drawingml/2006/table">
            <a:tbl>
              <a:tblPr/>
              <a:tblGrid>
                <a:gridCol w="425520"/>
                <a:gridCol w="1476360"/>
                <a:gridCol w="790560"/>
                <a:gridCol w="547560"/>
                <a:gridCol w="320760"/>
                <a:gridCol w="820800"/>
              </a:tblGrid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型番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金額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AA-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BB-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88880" y="5087880"/>
            <a:ext cx="9001080" cy="43200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029200" y="765000"/>
          <a:ext cx="4460760" cy="4176720"/>
        </p:xfrm>
        <a:graphic>
          <a:graphicData uri="http://schemas.openxmlformats.org/drawingml/2006/table">
            <a:tbl>
              <a:tblPr/>
              <a:tblGrid>
                <a:gridCol w="428760"/>
                <a:gridCol w="1508040"/>
                <a:gridCol w="806400"/>
                <a:gridCol w="555480"/>
                <a:gridCol w="327240"/>
                <a:gridCol w="834840"/>
              </a:tblGrid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型番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金額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小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4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消費税（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％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95360" y="765000"/>
          <a:ext cx="4381560" cy="4199040"/>
        </p:xfrm>
        <a:graphic>
          <a:graphicData uri="http://schemas.openxmlformats.org/drawingml/2006/table">
            <a:tbl>
              <a:tblPr/>
              <a:tblGrid>
                <a:gridCol w="425520"/>
                <a:gridCol w="1476360"/>
                <a:gridCol w="790560"/>
                <a:gridCol w="547560"/>
                <a:gridCol w="320760"/>
                <a:gridCol w="820800"/>
              </a:tblGrid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型番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金額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AA-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BB-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29200" y="765000"/>
          <a:ext cx="4460760" cy="4176720"/>
        </p:xfrm>
        <a:graphic>
          <a:graphicData uri="http://schemas.openxmlformats.org/drawingml/2006/table">
            <a:tbl>
              <a:tblPr/>
              <a:tblGrid>
                <a:gridCol w="428760"/>
                <a:gridCol w="1508040"/>
                <a:gridCol w="806400"/>
                <a:gridCol w="555480"/>
                <a:gridCol w="327240"/>
                <a:gridCol w="834840"/>
              </a:tblGrid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型番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金額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3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小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消費税（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％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96840" y="51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1320" y="51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5800" y="5445000"/>
            <a:ext cx="907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88880" y="692280"/>
            <a:ext cx="9001080" cy="4897440"/>
          </a:xfrm>
          <a:prstGeom prst="roundRect">
            <a:avLst>
              <a:gd name="adj" fmla="val 2875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04880" y="907920"/>
          <a:ext cx="8569440" cy="4033440"/>
        </p:xfrm>
        <a:graphic>
          <a:graphicData uri="http://schemas.openxmlformats.org/drawingml/2006/table">
            <a:tbl>
              <a:tblPr/>
              <a:tblGrid>
                <a:gridCol w="623880"/>
                <a:gridCol w="4643280"/>
                <a:gridCol w="1070280"/>
                <a:gridCol w="625320"/>
                <a:gridCol w="1606680"/>
              </a:tblGrid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6840" y="5084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1320" y="5084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8880" y="692280"/>
            <a:ext cx="9001080" cy="4897440"/>
          </a:xfrm>
          <a:prstGeom prst="roundRect">
            <a:avLst>
              <a:gd name="adj" fmla="val 2875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お見積り概算金額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4880" y="907920"/>
          <a:ext cx="8569440" cy="4033800"/>
        </p:xfrm>
        <a:graphic>
          <a:graphicData uri="http://schemas.openxmlformats.org/drawingml/2006/table">
            <a:tbl>
              <a:tblPr/>
              <a:tblGrid>
                <a:gridCol w="623880"/>
                <a:gridCol w="4643280"/>
                <a:gridCol w="1070280"/>
                <a:gridCol w="625320"/>
                <a:gridCol w="16066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2756880" y="563868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6840" y="5084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お見積り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800" y="5084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35:08Z</dcterms:created>
  <dc:creator>http://www.digipot.net</dc:creator>
  <dc:description/>
  <dc:language>en-US</dc:language>
  <cp:lastModifiedBy>http://www.digipot.net</cp:lastModifiedBy>
  <dcterms:modified xsi:type="dcterms:W3CDTF">2011-10-18T04:58:49Z</dcterms:modified>
  <cp:revision>1</cp:revision>
  <dc:subject>PPT087_お見積概算</dc:subject>
  <dc:title>PPT087_お見積概算</dc:title>
</cp:coreProperties>
</file>