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ひらめ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33240" y="907920"/>
            <a:ext cx="1148040" cy="1296720"/>
            <a:chOff x="633240" y="907920"/>
            <a:chExt cx="1148040" cy="1296720"/>
          </a:xfrm>
        </p:grpSpPr>
        <p:sp>
          <p:nvSpPr>
            <p:cNvPr id="57" name=""/>
            <p:cNvSpPr/>
            <p:nvPr/>
          </p:nvSpPr>
          <p:spPr>
            <a:xfrm>
              <a:off x="633240" y="907920"/>
              <a:ext cx="1148040" cy="1148400"/>
            </a:xfrm>
            <a:custGeom>
              <a:avLst/>
              <a:gdLst>
                <a:gd name="textAreaLeft" fmla="*/ 262080 w 1148040"/>
                <a:gd name="textAreaRight" fmla="*/ 885960 w 1148040"/>
                <a:gd name="textAreaTop" fmla="*/ 262080 h 1148400"/>
                <a:gd name="textAreaBottom" fmla="*/ 886320 h 11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5360" y="1130760"/>
              <a:ext cx="703800" cy="7038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1225800" y="1130400"/>
              <a:ext cx="333000" cy="70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5360" y="1130760"/>
              <a:ext cx="703800" cy="7038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001160" y="1797120"/>
              <a:ext cx="412200" cy="407520"/>
              <a:chOff x="1001160" y="1797120"/>
              <a:chExt cx="412200" cy="4075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001160" y="1797120"/>
                <a:ext cx="412200" cy="407160"/>
                <a:chOff x="1001160" y="1797120"/>
                <a:chExt cx="412200" cy="4071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129320" y="2110680"/>
                  <a:ext cx="156600" cy="9360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66320" y="2110680"/>
                  <a:ext cx="281880" cy="61920"/>
                </a:xfrm>
                <a:custGeom>
                  <a:avLst/>
                  <a:gdLst>
                    <a:gd name="textAreaLeft" fmla="*/ 61920 w 281880"/>
                    <a:gd name="textAreaRight" fmla="*/ 219960 w 281880"/>
                    <a:gd name="textAreaTop" fmla="*/ 13680 h 61920"/>
                    <a:gd name="textAreaBottom" fmla="*/ 4824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35360" y="1797120"/>
                  <a:ext cx="344520" cy="31356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21079200">
                  <a:off x="1003320" y="1827720"/>
                  <a:ext cx="40752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21079200">
                  <a:off x="1003320" y="1890360"/>
                  <a:ext cx="407520" cy="63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21079200">
                  <a:off x="1003320" y="1953360"/>
                  <a:ext cx="40752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21079200">
                  <a:off x="1003320" y="2015640"/>
                  <a:ext cx="40752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1129320" y="2110680"/>
                <a:ext cx="156600" cy="93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66320" y="2110680"/>
                <a:ext cx="281880" cy="61920"/>
              </a:xfrm>
              <a:custGeom>
                <a:avLst/>
                <a:gdLst>
                  <a:gd name="textAreaLeft" fmla="*/ 61920 w 281880"/>
                  <a:gd name="textAreaRight" fmla="*/ 219960 w 281880"/>
                  <a:gd name="textAreaTop" fmla="*/ 13680 h 61920"/>
                  <a:gd name="textAreaBottom" fmla="*/ 482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35360" y="1797120"/>
                <a:ext cx="344520" cy="3135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21079200">
                <a:off x="1003320" y="1827720"/>
                <a:ext cx="40752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1079200">
                <a:off x="1003320" y="1890720"/>
                <a:ext cx="40752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21079200">
                <a:off x="1003320" y="1953360"/>
                <a:ext cx="40752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21079200">
                <a:off x="1003320" y="2015640"/>
                <a:ext cx="40752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505240" y="907920"/>
            <a:ext cx="1147680" cy="1296720"/>
            <a:chOff x="2505240" y="907920"/>
            <a:chExt cx="1147680" cy="1296720"/>
          </a:xfrm>
        </p:grpSpPr>
        <p:sp>
          <p:nvSpPr>
            <p:cNvPr id="78" name=""/>
            <p:cNvSpPr/>
            <p:nvPr/>
          </p:nvSpPr>
          <p:spPr>
            <a:xfrm>
              <a:off x="2505240" y="907920"/>
              <a:ext cx="1147680" cy="1148400"/>
            </a:xfrm>
            <a:custGeom>
              <a:avLst/>
              <a:gdLst>
                <a:gd name="textAreaLeft" fmla="*/ 262080 w 1147680"/>
                <a:gd name="textAreaRight" fmla="*/ 885600 w 1147680"/>
                <a:gd name="textAreaTop" fmla="*/ 262080 h 1148400"/>
                <a:gd name="textAreaBottom" fmla="*/ 886320 h 11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27360" y="1130760"/>
              <a:ext cx="703440" cy="7038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3097440" y="1130400"/>
              <a:ext cx="333000" cy="70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7360" y="1130760"/>
              <a:ext cx="703440" cy="7038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873160" y="1797120"/>
              <a:ext cx="411840" cy="407520"/>
              <a:chOff x="2873160" y="1797120"/>
              <a:chExt cx="411840" cy="40752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2873160" y="1797120"/>
                <a:ext cx="411840" cy="407160"/>
                <a:chOff x="2873160" y="1797120"/>
                <a:chExt cx="411840" cy="4071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000960" y="2110680"/>
                  <a:ext cx="156600" cy="9360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938320" y="2110680"/>
                  <a:ext cx="281520" cy="61920"/>
                </a:xfrm>
                <a:custGeom>
                  <a:avLst/>
                  <a:gdLst>
                    <a:gd name="textAreaLeft" fmla="*/ 61920 w 281520"/>
                    <a:gd name="textAreaRight" fmla="*/ 219600 w 281520"/>
                    <a:gd name="textAreaTop" fmla="*/ 13680 h 61920"/>
                    <a:gd name="textAreaBottom" fmla="*/ 4824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907360" y="1797120"/>
                  <a:ext cx="344160" cy="31356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21079200">
                  <a:off x="2875320" y="1827720"/>
                  <a:ext cx="40716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21079200">
                  <a:off x="2875320" y="1890360"/>
                  <a:ext cx="407160" cy="63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21079200">
                  <a:off x="2875320" y="1953360"/>
                  <a:ext cx="40716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1079200">
                  <a:off x="2875320" y="2015640"/>
                  <a:ext cx="40716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3001320" y="2110680"/>
                <a:ext cx="156600" cy="93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38320" y="2110680"/>
                <a:ext cx="281520" cy="61920"/>
              </a:xfrm>
              <a:custGeom>
                <a:avLst/>
                <a:gdLst>
                  <a:gd name="textAreaLeft" fmla="*/ 61920 w 281520"/>
                  <a:gd name="textAreaRight" fmla="*/ 219600 w 281520"/>
                  <a:gd name="textAreaTop" fmla="*/ 13680 h 61920"/>
                  <a:gd name="textAreaBottom" fmla="*/ 482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07360" y="1797120"/>
                <a:ext cx="344160" cy="3135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1079200">
                <a:off x="2875320" y="182772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1079200">
                <a:off x="2875320" y="189072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1079200">
                <a:off x="2875320" y="195336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079200">
                <a:off x="2875320" y="201564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4376880" y="907920"/>
            <a:ext cx="1147680" cy="1296720"/>
            <a:chOff x="4376880" y="907920"/>
            <a:chExt cx="1147680" cy="1296720"/>
          </a:xfrm>
        </p:grpSpPr>
        <p:sp>
          <p:nvSpPr>
            <p:cNvPr id="99" name=""/>
            <p:cNvSpPr/>
            <p:nvPr/>
          </p:nvSpPr>
          <p:spPr>
            <a:xfrm>
              <a:off x="4376880" y="907920"/>
              <a:ext cx="1147680" cy="1148400"/>
            </a:xfrm>
            <a:custGeom>
              <a:avLst/>
              <a:gdLst>
                <a:gd name="textAreaLeft" fmla="*/ 262080 w 1147680"/>
                <a:gd name="textAreaRight" fmla="*/ 885600 w 1147680"/>
                <a:gd name="textAreaTop" fmla="*/ 262080 h 1148400"/>
                <a:gd name="textAreaBottom" fmla="*/ 886320 h 11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99000" y="1130760"/>
              <a:ext cx="703440" cy="7038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4969080" y="1130400"/>
              <a:ext cx="333000" cy="70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99000" y="1130760"/>
              <a:ext cx="703440" cy="7038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744800" y="1797120"/>
              <a:ext cx="411840" cy="407520"/>
              <a:chOff x="4744800" y="1797120"/>
              <a:chExt cx="411840" cy="4075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744800" y="1797120"/>
                <a:ext cx="411840" cy="407160"/>
                <a:chOff x="4744800" y="1797120"/>
                <a:chExt cx="411840" cy="407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872600" y="2110680"/>
                  <a:ext cx="156600" cy="9360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09960" y="2110680"/>
                  <a:ext cx="281520" cy="61920"/>
                </a:xfrm>
                <a:custGeom>
                  <a:avLst/>
                  <a:gdLst>
                    <a:gd name="textAreaLeft" fmla="*/ 61920 w 281520"/>
                    <a:gd name="textAreaRight" fmla="*/ 219600 w 281520"/>
                    <a:gd name="textAreaTop" fmla="*/ 13680 h 61920"/>
                    <a:gd name="textAreaBottom" fmla="*/ 48240 h 6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779000" y="1797120"/>
                  <a:ext cx="344160" cy="31356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21079200">
                  <a:off x="4746960" y="1827720"/>
                  <a:ext cx="40716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1079200">
                  <a:off x="4746960" y="1890360"/>
                  <a:ext cx="407160" cy="63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21079200">
                  <a:off x="4746960" y="1953360"/>
                  <a:ext cx="40716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21079200">
                  <a:off x="4746960" y="2015640"/>
                  <a:ext cx="407160" cy="62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4872960" y="2110680"/>
                <a:ext cx="156600" cy="93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09960" y="2110680"/>
                <a:ext cx="281520" cy="61920"/>
              </a:xfrm>
              <a:custGeom>
                <a:avLst/>
                <a:gdLst>
                  <a:gd name="textAreaLeft" fmla="*/ 61920 w 281520"/>
                  <a:gd name="textAreaRight" fmla="*/ 219600 w 281520"/>
                  <a:gd name="textAreaTop" fmla="*/ 13680 h 61920"/>
                  <a:gd name="textAreaBottom" fmla="*/ 482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79000" y="1797120"/>
                <a:ext cx="344160" cy="31356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1079200">
                <a:off x="4746960" y="182772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1079200">
                <a:off x="4746960" y="189072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1079200">
                <a:off x="4746960" y="195336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1079200">
                <a:off x="4746960" y="2015640"/>
                <a:ext cx="407160" cy="62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484200" y="4797360"/>
            <a:ext cx="1411920" cy="1440000"/>
            <a:chOff x="484200" y="4797360"/>
            <a:chExt cx="1411920" cy="1440000"/>
          </a:xfrm>
        </p:grpSpPr>
        <p:sp>
          <p:nvSpPr>
            <p:cNvPr id="120" name=""/>
            <p:cNvSpPr/>
            <p:nvPr/>
          </p:nvSpPr>
          <p:spPr>
            <a:xfrm>
              <a:off x="855720" y="5213520"/>
              <a:ext cx="669960" cy="6714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5720" y="5213520"/>
              <a:ext cx="669960" cy="6714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993240" y="5848200"/>
              <a:ext cx="393480" cy="389160"/>
              <a:chOff x="993240" y="5848200"/>
              <a:chExt cx="393480" cy="38916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993240" y="5848200"/>
                <a:ext cx="393480" cy="389160"/>
                <a:chOff x="993240" y="5848200"/>
                <a:chExt cx="393480" cy="389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115280" y="6147720"/>
                  <a:ext cx="149400" cy="8964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055160" y="614772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25640" y="5848200"/>
                  <a:ext cx="328680" cy="29952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1079200">
                  <a:off x="995400" y="587736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21079200">
                  <a:off x="995400" y="5937480"/>
                  <a:ext cx="388800" cy="60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21079200">
                  <a:off x="995400" y="59976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1079200">
                  <a:off x="995400" y="60570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1115280" y="6147720"/>
                <a:ext cx="149400" cy="89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5160" y="6147720"/>
                <a:ext cx="268920" cy="59400"/>
              </a:xfrm>
              <a:custGeom>
                <a:avLst/>
                <a:gdLst>
                  <a:gd name="textAreaLeft" fmla="*/ 59040 w 268920"/>
                  <a:gd name="textAreaRight" fmla="*/ 209880 w 268920"/>
                  <a:gd name="textAreaTop" fmla="*/ 12960 h 59400"/>
                  <a:gd name="textAreaBottom" fmla="*/ 46440 h 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25640" y="5848200"/>
                <a:ext cx="328680" cy="29952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1079200">
                <a:off x="995400" y="5877360"/>
                <a:ext cx="388800" cy="6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1079200">
                <a:off x="995400" y="593748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1079200">
                <a:off x="995400" y="59976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079200">
                <a:off x="995400" y="60570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84200" y="4797360"/>
              <a:ext cx="1411920" cy="644760"/>
              <a:chOff x="484200" y="4797360"/>
              <a:chExt cx="1411920" cy="644760"/>
            </a:xfrm>
          </p:grpSpPr>
          <p:sp>
            <p:nvSpPr>
              <p:cNvPr id="139" name=""/>
              <p:cNvSpPr/>
              <p:nvPr/>
            </p:nvSpPr>
            <p:spPr>
              <a:xfrm>
                <a:off x="1157040" y="479736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0000">
                <a:off x="1566360" y="4968360"/>
                <a:ext cx="694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8100000">
                <a:off x="743400" y="496764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849000">
                <a:off x="1300320" y="4813200"/>
                <a:ext cx="6912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6249000">
                <a:off x="590760" y="5237280"/>
                <a:ext cx="694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3549000">
                <a:off x="1657440" y="507996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949000">
                <a:off x="858240" y="487836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800000">
                <a:off x="1450440" y="487440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7200000">
                <a:off x="651600" y="508896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4500000">
                <a:off x="1719360" y="522792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9900000">
                <a:off x="1006920" y="481644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rot="16200000">
              <a:off x="1100880" y="5502600"/>
              <a:ext cx="179640" cy="41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909720" y="5346720"/>
              <a:ext cx="561960" cy="241200"/>
              <a:chOff x="909720" y="5346720"/>
              <a:chExt cx="561960" cy="24120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909720" y="5346720"/>
                <a:ext cx="241560" cy="241200"/>
                <a:chOff x="909720" y="5346720"/>
                <a:chExt cx="241560" cy="241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909720" y="5346720"/>
                  <a:ext cx="241560" cy="241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57960" y="5399280"/>
                  <a:ext cx="141840" cy="135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229760" y="5346720"/>
                <a:ext cx="241920" cy="241200"/>
                <a:chOff x="1229760" y="5346720"/>
                <a:chExt cx="241920" cy="241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229760" y="5346720"/>
                  <a:ext cx="241920" cy="241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278000" y="5399280"/>
                  <a:ext cx="141840" cy="135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2355840" y="4797360"/>
            <a:ext cx="1411920" cy="1440000"/>
            <a:chOff x="2355840" y="4797360"/>
            <a:chExt cx="1411920" cy="1440000"/>
          </a:xfrm>
        </p:grpSpPr>
        <p:sp>
          <p:nvSpPr>
            <p:cNvPr id="159" name=""/>
            <p:cNvSpPr/>
            <p:nvPr/>
          </p:nvSpPr>
          <p:spPr>
            <a:xfrm>
              <a:off x="2727360" y="5213520"/>
              <a:ext cx="669960" cy="6714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27360" y="5213520"/>
              <a:ext cx="669960" cy="6714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864880" y="5848200"/>
              <a:ext cx="393480" cy="389160"/>
              <a:chOff x="2864880" y="5848200"/>
              <a:chExt cx="393480" cy="3891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864880" y="5848200"/>
                <a:ext cx="393480" cy="389160"/>
                <a:chOff x="2864880" y="5848200"/>
                <a:chExt cx="393480" cy="389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86920" y="6147720"/>
                  <a:ext cx="149400" cy="8964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26800" y="614772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897280" y="5848200"/>
                  <a:ext cx="328680" cy="29952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1079200">
                  <a:off x="2867040" y="587736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21079200">
                  <a:off x="2867040" y="5937480"/>
                  <a:ext cx="388800" cy="60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1079200">
                  <a:off x="2867040" y="59976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21079200">
                  <a:off x="2867040" y="60570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2986920" y="6147720"/>
                <a:ext cx="149400" cy="89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26800" y="6147720"/>
                <a:ext cx="268920" cy="59400"/>
              </a:xfrm>
              <a:custGeom>
                <a:avLst/>
                <a:gdLst>
                  <a:gd name="textAreaLeft" fmla="*/ 59040 w 268920"/>
                  <a:gd name="textAreaRight" fmla="*/ 209880 w 268920"/>
                  <a:gd name="textAreaTop" fmla="*/ 12960 h 59400"/>
                  <a:gd name="textAreaBottom" fmla="*/ 46440 h 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97280" y="5848200"/>
                <a:ext cx="328680" cy="29952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1079200">
                <a:off x="2867040" y="5877360"/>
                <a:ext cx="388800" cy="6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1079200">
                <a:off x="2867040" y="593748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1079200">
                <a:off x="2867040" y="59976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21079200">
                <a:off x="2867040" y="60570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355840" y="4797360"/>
              <a:ext cx="1411920" cy="644760"/>
              <a:chOff x="2355840" y="4797360"/>
              <a:chExt cx="1411920" cy="644760"/>
            </a:xfrm>
          </p:grpSpPr>
          <p:sp>
            <p:nvSpPr>
              <p:cNvPr id="178" name=""/>
              <p:cNvSpPr/>
              <p:nvPr/>
            </p:nvSpPr>
            <p:spPr>
              <a:xfrm>
                <a:off x="3028680" y="479736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700000">
                <a:off x="3438000" y="4968360"/>
                <a:ext cx="69480" cy="2746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8100000">
                <a:off x="2615040" y="496764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849000">
                <a:off x="3171960" y="4813200"/>
                <a:ext cx="6912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6249000">
                <a:off x="2462400" y="5237280"/>
                <a:ext cx="69480" cy="2746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549000">
                <a:off x="3529080" y="507996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8949000">
                <a:off x="2729880" y="487836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00000">
                <a:off x="3322080" y="487440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7200000">
                <a:off x="2523240" y="508896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4500000">
                <a:off x="3591000" y="522792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9900000">
                <a:off x="2878560" y="481644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rot="16200000">
              <a:off x="2972520" y="5502600"/>
              <a:ext cx="179640" cy="41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781360" y="5346720"/>
              <a:ext cx="561960" cy="241200"/>
              <a:chOff x="2781360" y="5346720"/>
              <a:chExt cx="561960" cy="2412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2781360" y="5346720"/>
                <a:ext cx="241560" cy="241200"/>
                <a:chOff x="2781360" y="5346720"/>
                <a:chExt cx="241560" cy="241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781360" y="5346720"/>
                  <a:ext cx="241560" cy="241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29600" y="5399280"/>
                  <a:ext cx="141840" cy="135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01400" y="5346720"/>
                <a:ext cx="241920" cy="241200"/>
                <a:chOff x="3101400" y="5346720"/>
                <a:chExt cx="241920" cy="241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01400" y="5346720"/>
                  <a:ext cx="241920" cy="241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49640" y="5399280"/>
                  <a:ext cx="141840" cy="135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7" name=""/>
          <p:cNvGrpSpPr/>
          <p:nvPr/>
        </p:nvGrpSpPr>
        <p:grpSpPr>
          <a:xfrm>
            <a:off x="4227840" y="4797360"/>
            <a:ext cx="1411560" cy="1440000"/>
            <a:chOff x="4227840" y="4797360"/>
            <a:chExt cx="1411560" cy="1440000"/>
          </a:xfrm>
        </p:grpSpPr>
        <p:sp>
          <p:nvSpPr>
            <p:cNvPr id="198" name=""/>
            <p:cNvSpPr/>
            <p:nvPr/>
          </p:nvSpPr>
          <p:spPr>
            <a:xfrm>
              <a:off x="4599000" y="5213520"/>
              <a:ext cx="669960" cy="6714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99000" y="5213520"/>
              <a:ext cx="669960" cy="6714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736520" y="5848200"/>
              <a:ext cx="393480" cy="389160"/>
              <a:chOff x="4736520" y="5848200"/>
              <a:chExt cx="393480" cy="38916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736520" y="5848200"/>
                <a:ext cx="393480" cy="389160"/>
                <a:chOff x="4736520" y="5848200"/>
                <a:chExt cx="393480" cy="389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858560" y="6147720"/>
                  <a:ext cx="149400" cy="8964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98440" y="614772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68920" y="5848200"/>
                  <a:ext cx="328680" cy="29952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1079200">
                  <a:off x="4738680" y="587736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21079200">
                  <a:off x="4738680" y="5937480"/>
                  <a:ext cx="388800" cy="60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1079200">
                  <a:off x="4738680" y="59976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1079200">
                  <a:off x="4738680" y="60570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858560" y="6147720"/>
                <a:ext cx="149400" cy="89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98440" y="6147720"/>
                <a:ext cx="268920" cy="59400"/>
              </a:xfrm>
              <a:custGeom>
                <a:avLst/>
                <a:gdLst>
                  <a:gd name="textAreaLeft" fmla="*/ 59040 w 268920"/>
                  <a:gd name="textAreaRight" fmla="*/ 209880 w 268920"/>
                  <a:gd name="textAreaTop" fmla="*/ 12960 h 59400"/>
                  <a:gd name="textAreaBottom" fmla="*/ 46440 h 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68920" y="5848200"/>
                <a:ext cx="328680" cy="29952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1079200">
                <a:off x="4738680" y="5877360"/>
                <a:ext cx="388800" cy="6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1079200">
                <a:off x="4738680" y="593748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1079200">
                <a:off x="4738680" y="59976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1079200">
                <a:off x="4738680" y="60570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227840" y="4797360"/>
              <a:ext cx="1411560" cy="644760"/>
              <a:chOff x="4227840" y="4797360"/>
              <a:chExt cx="1411560" cy="64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00680" y="479736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5310000" y="496800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8100000">
                <a:off x="4486680" y="496764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849000">
                <a:off x="5043960" y="4813200"/>
                <a:ext cx="6912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6249000">
                <a:off x="4334760" y="523728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549000">
                <a:off x="5400720" y="507996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8949000">
                <a:off x="4601880" y="487836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800000">
                <a:off x="5193720" y="487440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200000">
                <a:off x="4394520" y="508860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500000">
                <a:off x="5462640" y="522756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9900000">
                <a:off x="4750200" y="481644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rot="16200000">
              <a:off x="4844160" y="5502600"/>
              <a:ext cx="179640" cy="41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653000" y="5346720"/>
              <a:ext cx="561960" cy="241200"/>
              <a:chOff x="4653000" y="5346720"/>
              <a:chExt cx="561960" cy="2412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4653000" y="5346720"/>
                <a:ext cx="241560" cy="241200"/>
                <a:chOff x="4653000" y="5346720"/>
                <a:chExt cx="241560" cy="2412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653000" y="5346720"/>
                  <a:ext cx="241560" cy="241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701240" y="5399280"/>
                  <a:ext cx="141840" cy="135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973040" y="5346720"/>
                <a:ext cx="241920" cy="241200"/>
                <a:chOff x="4973040" y="5346720"/>
                <a:chExt cx="241920" cy="241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973040" y="5346720"/>
                  <a:ext cx="241920" cy="241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21280" y="5399280"/>
                  <a:ext cx="141840" cy="135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484560" y="2852640"/>
            <a:ext cx="1413000" cy="1440720"/>
            <a:chOff x="484560" y="2852640"/>
            <a:chExt cx="1413000" cy="1440720"/>
          </a:xfrm>
        </p:grpSpPr>
        <p:grpSp>
          <p:nvGrpSpPr>
            <p:cNvPr id="237" name=""/>
            <p:cNvGrpSpPr/>
            <p:nvPr/>
          </p:nvGrpSpPr>
          <p:grpSpPr>
            <a:xfrm>
              <a:off x="855000" y="3268800"/>
              <a:ext cx="670320" cy="1024560"/>
              <a:chOff x="855000" y="3268800"/>
              <a:chExt cx="670320" cy="102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855000" y="3268800"/>
                <a:ext cx="670320" cy="671760"/>
              </a:xfrm>
              <a:prstGeom prst="ellipse">
                <a:avLst/>
              </a:prstGeom>
              <a:solidFill>
                <a:srgbClr val="ffffff"/>
              </a:solidFill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0800000">
                <a:off x="1207440" y="3268800"/>
                <a:ext cx="317520" cy="67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55000" y="3268800"/>
                <a:ext cx="670320" cy="671760"/>
              </a:xfrm>
              <a:prstGeom prst="ellipse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993240" y="3904560"/>
                <a:ext cx="393480" cy="388800"/>
                <a:chOff x="993240" y="3904560"/>
                <a:chExt cx="393480" cy="38880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993240" y="3904560"/>
                  <a:ext cx="393480" cy="388440"/>
                  <a:chOff x="993240" y="3904560"/>
                  <a:chExt cx="393480" cy="3884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115280" y="4203720"/>
                    <a:ext cx="149400" cy="892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055160" y="4203720"/>
                    <a:ext cx="268920" cy="59040"/>
                  </a:xfrm>
                  <a:custGeom>
                    <a:avLst/>
                    <a:gdLst>
                      <a:gd name="textAreaLeft" fmla="*/ 59040 w 268920"/>
                      <a:gd name="textAreaRight" fmla="*/ 209880 w 268920"/>
                      <a:gd name="textAreaTop" fmla="*/ 12960 h 59040"/>
                      <a:gd name="textAreaBottom" fmla="*/ 46080 h 5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025640" y="3904560"/>
                    <a:ext cx="328680" cy="299160"/>
                  </a:xfrm>
                  <a:prstGeom prst="rect">
                    <a:avLst/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1079200">
                    <a:off x="995400" y="393372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21079200">
                    <a:off x="995400" y="3993480"/>
                    <a:ext cx="388800" cy="601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21079200">
                    <a:off x="995400" y="405360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21079200">
                    <a:off x="995400" y="411300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"/>
                <p:cNvSpPr/>
                <p:nvPr/>
              </p:nvSpPr>
              <p:spPr>
                <a:xfrm>
                  <a:off x="1115280" y="4203720"/>
                  <a:ext cx="149400" cy="8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055160" y="4203720"/>
                  <a:ext cx="268920" cy="5904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040"/>
                    <a:gd name="textAreaBottom" fmla="*/ 46080 h 59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25640" y="3904560"/>
                  <a:ext cx="328680" cy="29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1079200">
                  <a:off x="995400" y="393372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1079200">
                  <a:off x="995400" y="399384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1079200">
                  <a:off x="995400" y="40536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1079200">
                  <a:off x="995400" y="41130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484560" y="2852640"/>
              <a:ext cx="1413000" cy="645120"/>
              <a:chOff x="484560" y="2852640"/>
              <a:chExt cx="1413000" cy="645120"/>
            </a:xfrm>
          </p:grpSpPr>
          <p:sp>
            <p:nvSpPr>
              <p:cNvPr id="258" name=""/>
              <p:cNvSpPr/>
              <p:nvPr/>
            </p:nvSpPr>
            <p:spPr>
              <a:xfrm>
                <a:off x="1158120" y="285264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700000">
                <a:off x="1567800" y="302328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8100000">
                <a:off x="743760" y="302292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849000">
                <a:off x="1301400" y="2868480"/>
                <a:ext cx="6912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6249000">
                <a:off x="591480" y="329292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3549000">
                <a:off x="1658520" y="313524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8949000">
                <a:off x="858960" y="293364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800000">
                <a:off x="1451520" y="2929680"/>
                <a:ext cx="69480" cy="27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7200000">
                <a:off x="651240" y="314424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00000">
                <a:off x="1720800" y="328320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9900000">
                <a:off x="1007640" y="2871720"/>
                <a:ext cx="69480" cy="27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6132240" y="2721240"/>
            <a:ext cx="1453680" cy="1451160"/>
            <a:chOff x="6132240" y="2721240"/>
            <a:chExt cx="1453680" cy="1451160"/>
          </a:xfrm>
        </p:grpSpPr>
        <p:sp>
          <p:nvSpPr>
            <p:cNvPr id="270" name=""/>
            <p:cNvSpPr/>
            <p:nvPr/>
          </p:nvSpPr>
          <p:spPr>
            <a:xfrm rot="900000">
              <a:off x="6265440" y="2854440"/>
              <a:ext cx="1187280" cy="1184400"/>
            </a:xfrm>
            <a:custGeom>
              <a:avLst/>
              <a:gdLst>
                <a:gd name="textAreaLeft" fmla="*/ 466560 w 1187280"/>
                <a:gd name="textAreaRight" fmla="*/ 720720 w 1187280"/>
                <a:gd name="textAreaTop" fmla="*/ 465480 h 1184400"/>
                <a:gd name="textAreaBottom" fmla="*/ 718920 h 11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589" y="11424"/>
                  </a:lnTo>
                  <a:lnTo>
                    <a:pt x="786" y="14846"/>
                  </a:lnTo>
                  <a:lnTo>
                    <a:pt x="8057" y="12582"/>
                  </a:lnTo>
                  <a:lnTo>
                    <a:pt x="3163" y="18437"/>
                  </a:lnTo>
                  <a:lnTo>
                    <a:pt x="8971" y="13512"/>
                  </a:lnTo>
                  <a:lnTo>
                    <a:pt x="6580" y="20741"/>
                  </a:lnTo>
                  <a:lnTo>
                    <a:pt x="10120" y="14000"/>
                  </a:lnTo>
                  <a:lnTo>
                    <a:pt x="10800" y="21600"/>
                  </a:lnTo>
                  <a:lnTo>
                    <a:pt x="11424" y="14011"/>
                  </a:lnTo>
                  <a:lnTo>
                    <a:pt x="14846" y="20814"/>
                  </a:lnTo>
                  <a:lnTo>
                    <a:pt x="12582" y="13543"/>
                  </a:lnTo>
                  <a:lnTo>
                    <a:pt x="18437" y="18437"/>
                  </a:lnTo>
                  <a:lnTo>
                    <a:pt x="13512" y="12629"/>
                  </a:lnTo>
                  <a:lnTo>
                    <a:pt x="20741" y="15020"/>
                  </a:lnTo>
                  <a:lnTo>
                    <a:pt x="14000" y="11480"/>
                  </a:lnTo>
                  <a:lnTo>
                    <a:pt x="21600" y="10800"/>
                  </a:lnTo>
                  <a:lnTo>
                    <a:pt x="14011" y="10176"/>
                  </a:lnTo>
                  <a:lnTo>
                    <a:pt x="20814" y="6754"/>
                  </a:lnTo>
                  <a:lnTo>
                    <a:pt x="13543" y="9018"/>
                  </a:lnTo>
                  <a:lnTo>
                    <a:pt x="18437" y="3163"/>
                  </a:lnTo>
                  <a:lnTo>
                    <a:pt x="12629" y="8088"/>
                  </a:lnTo>
                  <a:lnTo>
                    <a:pt x="15020" y="859"/>
                  </a:lnTo>
                  <a:lnTo>
                    <a:pt x="11480" y="7600"/>
                  </a:lnTo>
                  <a:lnTo>
                    <a:pt x="10800" y="0"/>
                  </a:lnTo>
                  <a:lnTo>
                    <a:pt x="10176" y="7589"/>
                  </a:lnTo>
                  <a:lnTo>
                    <a:pt x="6754" y="786"/>
                  </a:lnTo>
                  <a:lnTo>
                    <a:pt x="9018" y="8057"/>
                  </a:lnTo>
                  <a:lnTo>
                    <a:pt x="3163" y="3163"/>
                  </a:lnTo>
                  <a:lnTo>
                    <a:pt x="8088" y="8971"/>
                  </a:lnTo>
                  <a:lnTo>
                    <a:pt x="859" y="6580"/>
                  </a:lnTo>
                  <a:lnTo>
                    <a:pt x="7600" y="1012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900000">
              <a:off x="6507720" y="3096000"/>
              <a:ext cx="703440" cy="704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00000">
              <a:off x="6507720" y="3096000"/>
              <a:ext cx="703440" cy="7048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507000" y="3707640"/>
              <a:ext cx="461160" cy="459360"/>
              <a:chOff x="6507000" y="3707640"/>
              <a:chExt cx="461160" cy="459360"/>
            </a:xfrm>
          </p:grpSpPr>
          <p:sp>
            <p:nvSpPr>
              <p:cNvPr id="274" name=""/>
              <p:cNvSpPr/>
              <p:nvPr/>
            </p:nvSpPr>
            <p:spPr>
              <a:xfrm rot="900000">
                <a:off x="6606000" y="4053960"/>
                <a:ext cx="156960" cy="93960"/>
              </a:xfrm>
              <a:prstGeom prst="ellipse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900000">
                <a:off x="6547320" y="4054320"/>
                <a:ext cx="282240" cy="62280"/>
              </a:xfrm>
              <a:custGeom>
                <a:avLst/>
                <a:gdLst>
                  <a:gd name="textAreaLeft" fmla="*/ 61920 w 282240"/>
                  <a:gd name="textAreaRight" fmla="*/ 220320 w 282240"/>
                  <a:gd name="textAreaTop" fmla="*/ 13680 h 62280"/>
                  <a:gd name="textAreaBottom" fmla="*/ 4860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900000">
                <a:off x="6564960" y="3746880"/>
                <a:ext cx="345240" cy="31428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379200">
                <a:off x="6557400" y="3780720"/>
                <a:ext cx="40824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379200">
                <a:off x="6541200" y="3841560"/>
                <a:ext cx="408240" cy="630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379200">
                <a:off x="6525000" y="3902400"/>
                <a:ext cx="40824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379200">
                <a:off x="6508800" y="3962880"/>
                <a:ext cx="40824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 rot="900000">
              <a:off x="6606000" y="4053960"/>
              <a:ext cx="156960" cy="939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900000">
              <a:off x="6548400" y="4054680"/>
              <a:ext cx="280800" cy="61920"/>
            </a:xfrm>
            <a:custGeom>
              <a:avLst/>
              <a:gdLst>
                <a:gd name="textAreaLeft" fmla="*/ 61560 w 280800"/>
                <a:gd name="textAreaRight" fmla="*/ 219240 w 280800"/>
                <a:gd name="textAreaTop" fmla="*/ 13680 h 61920"/>
                <a:gd name="textAreaBottom" fmla="*/ 4824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900000">
              <a:off x="6565320" y="3746520"/>
              <a:ext cx="344520" cy="314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379200">
              <a:off x="6557760" y="3782160"/>
              <a:ext cx="408240" cy="6192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79200">
              <a:off x="6541200" y="3841560"/>
              <a:ext cx="40824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379200">
              <a:off x="6524640" y="3902760"/>
              <a:ext cx="40824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379200">
              <a:off x="6508800" y="3962880"/>
              <a:ext cx="40824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356200" y="2852640"/>
            <a:ext cx="1413000" cy="1441440"/>
            <a:chOff x="2356200" y="2852640"/>
            <a:chExt cx="1413000" cy="1441440"/>
          </a:xfrm>
        </p:grpSpPr>
        <p:grpSp>
          <p:nvGrpSpPr>
            <p:cNvPr id="289" name=""/>
            <p:cNvGrpSpPr/>
            <p:nvPr/>
          </p:nvGrpSpPr>
          <p:grpSpPr>
            <a:xfrm>
              <a:off x="2727360" y="3268440"/>
              <a:ext cx="669960" cy="1025640"/>
              <a:chOff x="2727360" y="3268440"/>
              <a:chExt cx="669960" cy="1025640"/>
            </a:xfrm>
          </p:grpSpPr>
          <p:sp>
            <p:nvSpPr>
              <p:cNvPr id="290" name=""/>
              <p:cNvSpPr/>
              <p:nvPr/>
            </p:nvSpPr>
            <p:spPr>
              <a:xfrm>
                <a:off x="2727360" y="3268800"/>
                <a:ext cx="669960" cy="672120"/>
              </a:xfrm>
              <a:prstGeom prst="ellipse">
                <a:avLst/>
              </a:prstGeom>
              <a:solidFill>
                <a:srgbClr val="ffffff"/>
              </a:solidFill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0800000">
                <a:off x="3079440" y="3268440"/>
                <a:ext cx="31716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27360" y="3268800"/>
                <a:ext cx="669960" cy="672120"/>
              </a:xfrm>
              <a:prstGeom prst="ellipse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2865600" y="3904920"/>
                <a:ext cx="393480" cy="389160"/>
                <a:chOff x="2865600" y="3904920"/>
                <a:chExt cx="393480" cy="38916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2865600" y="3904920"/>
                  <a:ext cx="393480" cy="389160"/>
                  <a:chOff x="2865600" y="3904920"/>
                  <a:chExt cx="393480" cy="389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2987640" y="4204440"/>
                    <a:ext cx="149400" cy="89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927520" y="4204440"/>
                    <a:ext cx="268920" cy="59400"/>
                  </a:xfrm>
                  <a:custGeom>
                    <a:avLst/>
                    <a:gdLst>
                      <a:gd name="textAreaLeft" fmla="*/ 59040 w 268920"/>
                      <a:gd name="textAreaRight" fmla="*/ 209880 w 268920"/>
                      <a:gd name="textAreaTop" fmla="*/ 12960 h 59400"/>
                      <a:gd name="textAreaBottom" fmla="*/ 46440 h 5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898000" y="3904920"/>
                    <a:ext cx="328680" cy="299520"/>
                  </a:xfrm>
                  <a:prstGeom prst="rect">
                    <a:avLst/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21079200">
                    <a:off x="2867760" y="393408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21079200">
                    <a:off x="2867760" y="3994200"/>
                    <a:ext cx="388800" cy="601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21079200">
                    <a:off x="2867760" y="405432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1079200">
                    <a:off x="2867760" y="411372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2" name=""/>
                <p:cNvSpPr/>
                <p:nvPr/>
              </p:nvSpPr>
              <p:spPr>
                <a:xfrm>
                  <a:off x="2987640" y="4204440"/>
                  <a:ext cx="149400" cy="8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27520" y="420444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98000" y="3904920"/>
                  <a:ext cx="328680" cy="29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21079200">
                  <a:off x="2867760" y="3934080"/>
                  <a:ext cx="388800" cy="60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1079200">
                  <a:off x="2867760" y="39942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1079200">
                  <a:off x="2867760" y="405432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21079200">
                  <a:off x="2867760" y="411372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" name=""/>
            <p:cNvGrpSpPr/>
            <p:nvPr/>
          </p:nvGrpSpPr>
          <p:grpSpPr>
            <a:xfrm>
              <a:off x="2356200" y="2852640"/>
              <a:ext cx="1413000" cy="644760"/>
              <a:chOff x="2356200" y="2852640"/>
              <a:chExt cx="1413000" cy="644760"/>
            </a:xfrm>
          </p:grpSpPr>
          <p:sp>
            <p:nvSpPr>
              <p:cNvPr id="310" name=""/>
              <p:cNvSpPr/>
              <p:nvPr/>
            </p:nvSpPr>
            <p:spPr>
              <a:xfrm>
                <a:off x="3029760" y="285264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700000">
                <a:off x="3439440" y="302328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8100000">
                <a:off x="2615400" y="302292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849000">
                <a:off x="3173040" y="2868480"/>
                <a:ext cx="6912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249000">
                <a:off x="2463120" y="329256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549000">
                <a:off x="3530160" y="313524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8949000">
                <a:off x="2730600" y="293364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00000">
                <a:off x="3323160" y="2929680"/>
                <a:ext cx="69480" cy="275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7200000">
                <a:off x="2522880" y="314388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500000">
                <a:off x="3592440" y="328284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9900000">
                <a:off x="2879280" y="2871720"/>
                <a:ext cx="69480" cy="275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4227840" y="2852640"/>
            <a:ext cx="1413000" cy="1441440"/>
            <a:chOff x="4227840" y="2852640"/>
            <a:chExt cx="1413000" cy="1441440"/>
          </a:xfrm>
        </p:grpSpPr>
        <p:grpSp>
          <p:nvGrpSpPr>
            <p:cNvPr id="322" name=""/>
            <p:cNvGrpSpPr/>
            <p:nvPr/>
          </p:nvGrpSpPr>
          <p:grpSpPr>
            <a:xfrm>
              <a:off x="4599000" y="3268440"/>
              <a:ext cx="669960" cy="1025640"/>
              <a:chOff x="4599000" y="3268440"/>
              <a:chExt cx="669960" cy="1025640"/>
            </a:xfrm>
          </p:grpSpPr>
          <p:sp>
            <p:nvSpPr>
              <p:cNvPr id="323" name=""/>
              <p:cNvSpPr/>
              <p:nvPr/>
            </p:nvSpPr>
            <p:spPr>
              <a:xfrm>
                <a:off x="4599000" y="3268800"/>
                <a:ext cx="669960" cy="672120"/>
              </a:xfrm>
              <a:prstGeom prst="ellipse">
                <a:avLst/>
              </a:prstGeom>
              <a:solidFill>
                <a:srgbClr val="ffffff"/>
              </a:solidFill>
              <a:ln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0800000">
                <a:off x="4951080" y="3268440"/>
                <a:ext cx="31716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99000" y="3268800"/>
                <a:ext cx="669960" cy="672120"/>
              </a:xfrm>
              <a:prstGeom prst="ellipse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4737240" y="3904920"/>
                <a:ext cx="393480" cy="389160"/>
                <a:chOff x="4737240" y="3904920"/>
                <a:chExt cx="393480" cy="3891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4737240" y="3904920"/>
                  <a:ext cx="393480" cy="389160"/>
                  <a:chOff x="4737240" y="3904920"/>
                  <a:chExt cx="393480" cy="3891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4859280" y="4204440"/>
                    <a:ext cx="149400" cy="89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799160" y="4204440"/>
                    <a:ext cx="268920" cy="59400"/>
                  </a:xfrm>
                  <a:custGeom>
                    <a:avLst/>
                    <a:gdLst>
                      <a:gd name="textAreaLeft" fmla="*/ 59040 w 268920"/>
                      <a:gd name="textAreaRight" fmla="*/ 209880 w 268920"/>
                      <a:gd name="textAreaTop" fmla="*/ 12960 h 59400"/>
                      <a:gd name="textAreaBottom" fmla="*/ 46440 h 5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769640" y="3904920"/>
                    <a:ext cx="328680" cy="299520"/>
                  </a:xfrm>
                  <a:prstGeom prst="rect">
                    <a:avLst/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21079200">
                    <a:off x="4739400" y="393408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21079200">
                    <a:off x="4739400" y="3994200"/>
                    <a:ext cx="388800" cy="601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21079200">
                    <a:off x="4739400" y="405432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21079200">
                    <a:off x="4739400" y="4113720"/>
                    <a:ext cx="388800" cy="59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808080"/>
                  </a:solidFill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4859280" y="4204440"/>
                  <a:ext cx="149400" cy="8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799160" y="420444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769640" y="3904920"/>
                  <a:ext cx="328680" cy="299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1079200">
                  <a:off x="4739400" y="3934080"/>
                  <a:ext cx="388800" cy="60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1079200">
                  <a:off x="4739400" y="39942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1079200">
                  <a:off x="4739400" y="405432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21079200">
                  <a:off x="4739400" y="411372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59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4227840" y="2852640"/>
              <a:ext cx="1413000" cy="644760"/>
              <a:chOff x="4227840" y="2852640"/>
              <a:chExt cx="1413000" cy="644760"/>
            </a:xfrm>
          </p:grpSpPr>
          <p:sp>
            <p:nvSpPr>
              <p:cNvPr id="343" name=""/>
              <p:cNvSpPr/>
              <p:nvPr/>
            </p:nvSpPr>
            <p:spPr>
              <a:xfrm>
                <a:off x="4901400" y="285264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700000">
                <a:off x="5311080" y="302328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8100000">
                <a:off x="4487040" y="302292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849000">
                <a:off x="5044680" y="2868480"/>
                <a:ext cx="6912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6249000">
                <a:off x="4334760" y="329256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3549000">
                <a:off x="5401800" y="313524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8949000">
                <a:off x="4602240" y="293364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800000">
                <a:off x="5194800" y="2929680"/>
                <a:ext cx="69480" cy="27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7200000">
                <a:off x="4394520" y="314388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4500000">
                <a:off x="5464080" y="328284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9900000">
                <a:off x="4750920" y="2871720"/>
                <a:ext cx="69480" cy="27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6193800" y="881640"/>
            <a:ext cx="1373040" cy="1371960"/>
            <a:chOff x="6193800" y="881640"/>
            <a:chExt cx="1373040" cy="1371960"/>
          </a:xfrm>
        </p:grpSpPr>
        <p:sp>
          <p:nvSpPr>
            <p:cNvPr id="355" name=""/>
            <p:cNvSpPr/>
            <p:nvPr/>
          </p:nvSpPr>
          <p:spPr>
            <a:xfrm rot="1800000">
              <a:off x="6377040" y="1065960"/>
              <a:ext cx="1006200" cy="1003320"/>
            </a:xfrm>
            <a:custGeom>
              <a:avLst/>
              <a:gdLst>
                <a:gd name="textAreaLeft" fmla="*/ 223920 w 1006200"/>
                <a:gd name="textAreaRight" fmla="*/ 782280 w 1006200"/>
                <a:gd name="textAreaTop" fmla="*/ 223200 h 1003320"/>
                <a:gd name="textAreaBottom" fmla="*/ 78012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486" y="12416"/>
                  </a:lnTo>
                  <a:lnTo>
                    <a:pt x="786" y="14846"/>
                  </a:lnTo>
                  <a:lnTo>
                    <a:pt x="3696" y="15413"/>
                  </a:lnTo>
                  <a:lnTo>
                    <a:pt x="3163" y="18437"/>
                  </a:lnTo>
                  <a:lnTo>
                    <a:pt x="6064" y="17822"/>
                  </a:lnTo>
                  <a:lnTo>
                    <a:pt x="6580" y="20741"/>
                  </a:lnTo>
                  <a:lnTo>
                    <a:pt x="9039" y="19085"/>
                  </a:lnTo>
                  <a:lnTo>
                    <a:pt x="10800" y="21600"/>
                  </a:lnTo>
                  <a:lnTo>
                    <a:pt x="12416" y="19114"/>
                  </a:lnTo>
                  <a:lnTo>
                    <a:pt x="14846" y="20814"/>
                  </a:lnTo>
                  <a:lnTo>
                    <a:pt x="15413" y="17904"/>
                  </a:lnTo>
                  <a:lnTo>
                    <a:pt x="18437" y="18437"/>
                  </a:lnTo>
                  <a:lnTo>
                    <a:pt x="17822" y="15536"/>
                  </a:lnTo>
                  <a:lnTo>
                    <a:pt x="20741" y="15020"/>
                  </a:lnTo>
                  <a:lnTo>
                    <a:pt x="19085" y="12561"/>
                  </a:lnTo>
                  <a:lnTo>
                    <a:pt x="21600" y="10800"/>
                  </a:lnTo>
                  <a:lnTo>
                    <a:pt x="19114" y="9184"/>
                  </a:lnTo>
                  <a:lnTo>
                    <a:pt x="20814" y="6754"/>
                  </a:lnTo>
                  <a:lnTo>
                    <a:pt x="17904" y="6187"/>
                  </a:lnTo>
                  <a:lnTo>
                    <a:pt x="18437" y="3163"/>
                  </a:lnTo>
                  <a:lnTo>
                    <a:pt x="15536" y="3778"/>
                  </a:lnTo>
                  <a:lnTo>
                    <a:pt x="15020" y="859"/>
                  </a:lnTo>
                  <a:lnTo>
                    <a:pt x="12561" y="2515"/>
                  </a:lnTo>
                  <a:lnTo>
                    <a:pt x="10800" y="0"/>
                  </a:lnTo>
                  <a:lnTo>
                    <a:pt x="9184" y="2486"/>
                  </a:lnTo>
                  <a:lnTo>
                    <a:pt x="6754" y="786"/>
                  </a:lnTo>
                  <a:lnTo>
                    <a:pt x="6187" y="3696"/>
                  </a:lnTo>
                  <a:lnTo>
                    <a:pt x="3163" y="3163"/>
                  </a:lnTo>
                  <a:lnTo>
                    <a:pt x="3778" y="6064"/>
                  </a:lnTo>
                  <a:lnTo>
                    <a:pt x="859" y="6580"/>
                  </a:lnTo>
                  <a:lnTo>
                    <a:pt x="2515" y="903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00000">
              <a:off x="6528240" y="1216440"/>
              <a:ext cx="702720" cy="704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800000">
              <a:off x="6528240" y="1216440"/>
              <a:ext cx="702720" cy="7048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396120" y="1755360"/>
              <a:ext cx="496800" cy="482400"/>
              <a:chOff x="6396120" y="1755360"/>
              <a:chExt cx="496800" cy="482400"/>
            </a:xfrm>
          </p:grpSpPr>
          <p:sp>
            <p:nvSpPr>
              <p:cNvPr id="359" name=""/>
              <p:cNvSpPr/>
              <p:nvPr/>
            </p:nvSpPr>
            <p:spPr>
              <a:xfrm rot="1800000">
                <a:off x="6463800" y="2107080"/>
                <a:ext cx="156600" cy="93960"/>
              </a:xfrm>
              <a:prstGeom prst="ellipse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00000">
                <a:off x="6408720" y="2109240"/>
                <a:ext cx="281880" cy="62280"/>
              </a:xfrm>
              <a:custGeom>
                <a:avLst/>
                <a:gdLst>
                  <a:gd name="textAreaLeft" fmla="*/ 61920 w 281880"/>
                  <a:gd name="textAreaRight" fmla="*/ 219960 w 281880"/>
                  <a:gd name="textAreaTop" fmla="*/ 13680 h 62280"/>
                  <a:gd name="textAreaBottom" fmla="*/ 4860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00000">
                <a:off x="6471720" y="1820160"/>
                <a:ext cx="344520" cy="31428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279200">
                <a:off x="6487560" y="1863360"/>
                <a:ext cx="40752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279200">
                <a:off x="6455880" y="1918080"/>
                <a:ext cx="407520" cy="630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279200">
                <a:off x="6424560" y="1972440"/>
                <a:ext cx="40752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279200">
                <a:off x="6393240" y="2026440"/>
                <a:ext cx="40752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rot="1800000">
              <a:off x="6463440" y="2107080"/>
              <a:ext cx="156960" cy="939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800000">
              <a:off x="6409440" y="2109240"/>
              <a:ext cx="280800" cy="61920"/>
            </a:xfrm>
            <a:custGeom>
              <a:avLst/>
              <a:gdLst>
                <a:gd name="textAreaLeft" fmla="*/ 61560 w 280800"/>
                <a:gd name="textAreaRight" fmla="*/ 219240 w 280800"/>
                <a:gd name="textAreaTop" fmla="*/ 13680 h 61920"/>
                <a:gd name="textAreaBottom" fmla="*/ 4824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800000">
              <a:off x="6471720" y="1820160"/>
              <a:ext cx="344160" cy="314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279200">
              <a:off x="6487200" y="1864440"/>
              <a:ext cx="407520" cy="6192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279200">
              <a:off x="6455880" y="1918080"/>
              <a:ext cx="40752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279200">
              <a:off x="6424200" y="1972800"/>
              <a:ext cx="40752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279200">
              <a:off x="6393240" y="2026440"/>
              <a:ext cx="40752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065440" y="883440"/>
            <a:ext cx="1373040" cy="1371600"/>
            <a:chOff x="8065440" y="883440"/>
            <a:chExt cx="1373040" cy="1371600"/>
          </a:xfrm>
        </p:grpSpPr>
        <p:sp>
          <p:nvSpPr>
            <p:cNvPr id="374" name=""/>
            <p:cNvSpPr/>
            <p:nvPr/>
          </p:nvSpPr>
          <p:spPr>
            <a:xfrm rot="1800000">
              <a:off x="8248680" y="1067760"/>
              <a:ext cx="1006200" cy="1002960"/>
            </a:xfrm>
            <a:custGeom>
              <a:avLst/>
              <a:gdLst>
                <a:gd name="textAreaLeft" fmla="*/ 223920 w 1006200"/>
                <a:gd name="textAreaRight" fmla="*/ 782280 w 1006200"/>
                <a:gd name="textAreaTop" fmla="*/ 223200 h 1002960"/>
                <a:gd name="textAreaBottom" fmla="*/ 779760 h 10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486" y="12416"/>
                  </a:lnTo>
                  <a:lnTo>
                    <a:pt x="786" y="14846"/>
                  </a:lnTo>
                  <a:lnTo>
                    <a:pt x="3696" y="15413"/>
                  </a:lnTo>
                  <a:lnTo>
                    <a:pt x="3163" y="18437"/>
                  </a:lnTo>
                  <a:lnTo>
                    <a:pt x="6064" y="17822"/>
                  </a:lnTo>
                  <a:lnTo>
                    <a:pt x="6580" y="20741"/>
                  </a:lnTo>
                  <a:lnTo>
                    <a:pt x="9039" y="19085"/>
                  </a:lnTo>
                  <a:lnTo>
                    <a:pt x="10800" y="21600"/>
                  </a:lnTo>
                  <a:lnTo>
                    <a:pt x="12416" y="19114"/>
                  </a:lnTo>
                  <a:lnTo>
                    <a:pt x="14846" y="20814"/>
                  </a:lnTo>
                  <a:lnTo>
                    <a:pt x="15413" y="17904"/>
                  </a:lnTo>
                  <a:lnTo>
                    <a:pt x="18437" y="18437"/>
                  </a:lnTo>
                  <a:lnTo>
                    <a:pt x="17822" y="15536"/>
                  </a:lnTo>
                  <a:lnTo>
                    <a:pt x="20741" y="15020"/>
                  </a:lnTo>
                  <a:lnTo>
                    <a:pt x="19085" y="12561"/>
                  </a:lnTo>
                  <a:lnTo>
                    <a:pt x="21600" y="10800"/>
                  </a:lnTo>
                  <a:lnTo>
                    <a:pt x="19114" y="9184"/>
                  </a:lnTo>
                  <a:lnTo>
                    <a:pt x="20814" y="6754"/>
                  </a:lnTo>
                  <a:lnTo>
                    <a:pt x="17904" y="6187"/>
                  </a:lnTo>
                  <a:lnTo>
                    <a:pt x="18437" y="3163"/>
                  </a:lnTo>
                  <a:lnTo>
                    <a:pt x="15536" y="3778"/>
                  </a:lnTo>
                  <a:lnTo>
                    <a:pt x="15020" y="859"/>
                  </a:lnTo>
                  <a:lnTo>
                    <a:pt x="12561" y="2515"/>
                  </a:lnTo>
                  <a:lnTo>
                    <a:pt x="10800" y="0"/>
                  </a:lnTo>
                  <a:lnTo>
                    <a:pt x="9184" y="2486"/>
                  </a:lnTo>
                  <a:lnTo>
                    <a:pt x="6754" y="786"/>
                  </a:lnTo>
                  <a:lnTo>
                    <a:pt x="6187" y="3696"/>
                  </a:lnTo>
                  <a:lnTo>
                    <a:pt x="3163" y="3163"/>
                  </a:lnTo>
                  <a:lnTo>
                    <a:pt x="3778" y="6064"/>
                  </a:lnTo>
                  <a:lnTo>
                    <a:pt x="859" y="6580"/>
                  </a:lnTo>
                  <a:lnTo>
                    <a:pt x="2515" y="903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800000">
              <a:off x="8399880" y="1217880"/>
              <a:ext cx="702720" cy="704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800000">
              <a:off x="8399880" y="1217880"/>
              <a:ext cx="702720" cy="70452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8268120" y="1756800"/>
              <a:ext cx="496440" cy="482040"/>
              <a:chOff x="8268120" y="1756800"/>
              <a:chExt cx="496440" cy="482040"/>
            </a:xfrm>
          </p:grpSpPr>
          <p:sp>
            <p:nvSpPr>
              <p:cNvPr id="378" name=""/>
              <p:cNvSpPr/>
              <p:nvPr/>
            </p:nvSpPr>
            <p:spPr>
              <a:xfrm rot="1800000">
                <a:off x="8335800" y="2108520"/>
                <a:ext cx="156600" cy="93960"/>
              </a:xfrm>
              <a:prstGeom prst="ellipse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00000">
                <a:off x="8280720" y="2110320"/>
                <a:ext cx="281880" cy="62280"/>
              </a:xfrm>
              <a:custGeom>
                <a:avLst/>
                <a:gdLst>
                  <a:gd name="textAreaLeft" fmla="*/ 61920 w 281880"/>
                  <a:gd name="textAreaRight" fmla="*/ 219960 w 281880"/>
                  <a:gd name="textAreaTop" fmla="*/ 13680 h 62280"/>
                  <a:gd name="textAreaBottom" fmla="*/ 4860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00000">
                <a:off x="8343720" y="1821600"/>
                <a:ext cx="344520" cy="31392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279200">
                <a:off x="8359200" y="1864800"/>
                <a:ext cx="40752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279200">
                <a:off x="8327880" y="1919520"/>
                <a:ext cx="407520" cy="630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279200">
                <a:off x="8296200" y="1973880"/>
                <a:ext cx="40752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279200">
                <a:off x="8265240" y="2027880"/>
                <a:ext cx="40752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rot="1800000">
              <a:off x="8335080" y="2108520"/>
              <a:ext cx="156960" cy="93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800000">
              <a:off x="8281080" y="2110680"/>
              <a:ext cx="280800" cy="61560"/>
            </a:xfrm>
            <a:custGeom>
              <a:avLst/>
              <a:gdLst>
                <a:gd name="textAreaLeft" fmla="*/ 61560 w 280800"/>
                <a:gd name="textAreaRight" fmla="*/ 219240 w 280800"/>
                <a:gd name="textAreaTop" fmla="*/ 13320 h 61560"/>
                <a:gd name="textAreaBottom" fmla="*/ 4824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800000">
              <a:off x="8343720" y="1821600"/>
              <a:ext cx="344160" cy="313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279200">
              <a:off x="8359560" y="1865880"/>
              <a:ext cx="407520" cy="615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279200">
              <a:off x="8327880" y="1919520"/>
              <a:ext cx="407520" cy="630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279200">
              <a:off x="8296200" y="1974240"/>
              <a:ext cx="407520" cy="630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279200">
              <a:off x="8265240" y="2027880"/>
              <a:ext cx="407520" cy="6300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005320" y="2721240"/>
            <a:ext cx="1453680" cy="1451160"/>
            <a:chOff x="8005320" y="2721240"/>
            <a:chExt cx="1453680" cy="1451160"/>
          </a:xfrm>
        </p:grpSpPr>
        <p:sp>
          <p:nvSpPr>
            <p:cNvPr id="393" name=""/>
            <p:cNvSpPr/>
            <p:nvPr/>
          </p:nvSpPr>
          <p:spPr>
            <a:xfrm rot="900000">
              <a:off x="8138520" y="2854440"/>
              <a:ext cx="1187280" cy="1184400"/>
            </a:xfrm>
            <a:custGeom>
              <a:avLst/>
              <a:gdLst>
                <a:gd name="textAreaLeft" fmla="*/ 466560 w 1187280"/>
                <a:gd name="textAreaRight" fmla="*/ 720720 w 1187280"/>
                <a:gd name="textAreaTop" fmla="*/ 465480 h 1184400"/>
                <a:gd name="textAreaBottom" fmla="*/ 718920 h 11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589" y="11424"/>
                  </a:lnTo>
                  <a:lnTo>
                    <a:pt x="786" y="14846"/>
                  </a:lnTo>
                  <a:lnTo>
                    <a:pt x="8057" y="12582"/>
                  </a:lnTo>
                  <a:lnTo>
                    <a:pt x="3163" y="18437"/>
                  </a:lnTo>
                  <a:lnTo>
                    <a:pt x="8971" y="13512"/>
                  </a:lnTo>
                  <a:lnTo>
                    <a:pt x="6580" y="20741"/>
                  </a:lnTo>
                  <a:lnTo>
                    <a:pt x="10120" y="14000"/>
                  </a:lnTo>
                  <a:lnTo>
                    <a:pt x="10800" y="21600"/>
                  </a:lnTo>
                  <a:lnTo>
                    <a:pt x="11424" y="14011"/>
                  </a:lnTo>
                  <a:lnTo>
                    <a:pt x="14846" y="20814"/>
                  </a:lnTo>
                  <a:lnTo>
                    <a:pt x="12582" y="13543"/>
                  </a:lnTo>
                  <a:lnTo>
                    <a:pt x="18437" y="18437"/>
                  </a:lnTo>
                  <a:lnTo>
                    <a:pt x="13512" y="12629"/>
                  </a:lnTo>
                  <a:lnTo>
                    <a:pt x="20741" y="15020"/>
                  </a:lnTo>
                  <a:lnTo>
                    <a:pt x="14000" y="11480"/>
                  </a:lnTo>
                  <a:lnTo>
                    <a:pt x="21600" y="10800"/>
                  </a:lnTo>
                  <a:lnTo>
                    <a:pt x="14011" y="10176"/>
                  </a:lnTo>
                  <a:lnTo>
                    <a:pt x="20814" y="6754"/>
                  </a:lnTo>
                  <a:lnTo>
                    <a:pt x="13543" y="9018"/>
                  </a:lnTo>
                  <a:lnTo>
                    <a:pt x="18437" y="3163"/>
                  </a:lnTo>
                  <a:lnTo>
                    <a:pt x="12629" y="8088"/>
                  </a:lnTo>
                  <a:lnTo>
                    <a:pt x="15020" y="859"/>
                  </a:lnTo>
                  <a:lnTo>
                    <a:pt x="11480" y="7600"/>
                  </a:lnTo>
                  <a:lnTo>
                    <a:pt x="10800" y="0"/>
                  </a:lnTo>
                  <a:lnTo>
                    <a:pt x="10176" y="7589"/>
                  </a:lnTo>
                  <a:lnTo>
                    <a:pt x="6754" y="786"/>
                  </a:lnTo>
                  <a:lnTo>
                    <a:pt x="9018" y="8057"/>
                  </a:lnTo>
                  <a:lnTo>
                    <a:pt x="3163" y="3163"/>
                  </a:lnTo>
                  <a:lnTo>
                    <a:pt x="8088" y="8971"/>
                  </a:lnTo>
                  <a:lnTo>
                    <a:pt x="859" y="6580"/>
                  </a:lnTo>
                  <a:lnTo>
                    <a:pt x="7600" y="1012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900000">
              <a:off x="8380800" y="3096000"/>
              <a:ext cx="703440" cy="704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900000">
              <a:off x="8380800" y="3096000"/>
              <a:ext cx="703440" cy="7048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8380080" y="3707640"/>
              <a:ext cx="461160" cy="459360"/>
              <a:chOff x="8380080" y="3707640"/>
              <a:chExt cx="461160" cy="459360"/>
            </a:xfrm>
          </p:grpSpPr>
          <p:sp>
            <p:nvSpPr>
              <p:cNvPr id="397" name=""/>
              <p:cNvSpPr/>
              <p:nvPr/>
            </p:nvSpPr>
            <p:spPr>
              <a:xfrm rot="900000">
                <a:off x="8479080" y="4053960"/>
                <a:ext cx="156960" cy="93960"/>
              </a:xfrm>
              <a:prstGeom prst="ellipse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900000">
                <a:off x="8420400" y="4054320"/>
                <a:ext cx="282240" cy="62280"/>
              </a:xfrm>
              <a:custGeom>
                <a:avLst/>
                <a:gdLst>
                  <a:gd name="textAreaLeft" fmla="*/ 61920 w 282240"/>
                  <a:gd name="textAreaRight" fmla="*/ 220320 w 282240"/>
                  <a:gd name="textAreaTop" fmla="*/ 13680 h 62280"/>
                  <a:gd name="textAreaBottom" fmla="*/ 4860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00000">
                <a:off x="8438040" y="3746880"/>
                <a:ext cx="345240" cy="314280"/>
              </a:xfrm>
              <a:prstGeom prst="rect">
                <a:avLst/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379200">
                <a:off x="8430480" y="3780720"/>
                <a:ext cx="40824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79200">
                <a:off x="8414280" y="3841560"/>
                <a:ext cx="408240" cy="6300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79200">
                <a:off x="8398080" y="3902400"/>
                <a:ext cx="40824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79200">
                <a:off x="8381880" y="3962880"/>
                <a:ext cx="408240" cy="62640"/>
              </a:xfrm>
              <a:prstGeom prst="roundRect">
                <a:avLst>
                  <a:gd name="adj" fmla="val 50000"/>
                </a:avLst>
              </a:prstGeom>
              <a:solidFill>
                <a:srgbClr val="c0c0c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rot="900000">
              <a:off x="8479080" y="4053960"/>
              <a:ext cx="156960" cy="939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900000">
              <a:off x="8421480" y="4054680"/>
              <a:ext cx="280800" cy="61920"/>
            </a:xfrm>
            <a:custGeom>
              <a:avLst/>
              <a:gdLst>
                <a:gd name="textAreaLeft" fmla="*/ 61560 w 280800"/>
                <a:gd name="textAreaRight" fmla="*/ 219240 w 280800"/>
                <a:gd name="textAreaTop" fmla="*/ 13680 h 61920"/>
                <a:gd name="textAreaBottom" fmla="*/ 48240 h 6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900000">
              <a:off x="8438400" y="3746520"/>
              <a:ext cx="344520" cy="314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379200">
              <a:off x="8430840" y="3782160"/>
              <a:ext cx="408240" cy="6192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379200">
              <a:off x="8414280" y="3841560"/>
              <a:ext cx="40824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379200">
              <a:off x="8397720" y="3902760"/>
              <a:ext cx="40824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79200">
              <a:off x="8381880" y="3962880"/>
              <a:ext cx="408240" cy="63360"/>
            </a:xfrm>
            <a:prstGeom prst="roundRect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472080" y="4857840"/>
            <a:ext cx="1087200" cy="1379520"/>
            <a:chOff x="6472080" y="4857840"/>
            <a:chExt cx="1087200" cy="1379520"/>
          </a:xfrm>
        </p:grpSpPr>
        <p:sp>
          <p:nvSpPr>
            <p:cNvPr id="412" name=""/>
            <p:cNvSpPr/>
            <p:nvPr/>
          </p:nvSpPr>
          <p:spPr>
            <a:xfrm>
              <a:off x="6472080" y="5213520"/>
              <a:ext cx="669960" cy="6714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2080" y="5213520"/>
              <a:ext cx="669960" cy="6714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09600" y="5848200"/>
              <a:ext cx="393840" cy="389160"/>
              <a:chOff x="6609600" y="5848200"/>
              <a:chExt cx="393840" cy="3891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6609600" y="5848200"/>
                <a:ext cx="393840" cy="389160"/>
                <a:chOff x="6609600" y="5848200"/>
                <a:chExt cx="393840" cy="389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731640" y="6147720"/>
                  <a:ext cx="149760" cy="8964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671520" y="614772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642000" y="5848200"/>
                  <a:ext cx="329040" cy="29952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21079200">
                  <a:off x="6611760" y="5877360"/>
                  <a:ext cx="3891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21079200">
                  <a:off x="6611760" y="5937480"/>
                  <a:ext cx="389160" cy="60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21079200">
                  <a:off x="6611760" y="5997600"/>
                  <a:ext cx="3891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21079200">
                  <a:off x="6611760" y="6057000"/>
                  <a:ext cx="3891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6731640" y="6147720"/>
                <a:ext cx="149760" cy="89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71520" y="6147720"/>
                <a:ext cx="269280" cy="59400"/>
              </a:xfrm>
              <a:custGeom>
                <a:avLst/>
                <a:gdLst>
                  <a:gd name="textAreaLeft" fmla="*/ 59040 w 269280"/>
                  <a:gd name="textAreaRight" fmla="*/ 210240 w 269280"/>
                  <a:gd name="textAreaTop" fmla="*/ 12960 h 59400"/>
                  <a:gd name="textAreaBottom" fmla="*/ 46440 h 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2000" y="5848200"/>
                <a:ext cx="329040" cy="29952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1079200">
                <a:off x="6611760" y="5877360"/>
                <a:ext cx="389160" cy="6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1079200">
                <a:off x="6611760" y="5937480"/>
                <a:ext cx="38916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1079200">
                <a:off x="6611760" y="5997600"/>
                <a:ext cx="38916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1079200">
                <a:off x="6611760" y="6057000"/>
                <a:ext cx="38916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rot="16200000">
              <a:off x="6762600" y="5573160"/>
              <a:ext cx="12564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6080" y="5346720"/>
              <a:ext cx="241560" cy="241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8880" y="5432400"/>
              <a:ext cx="73080" cy="6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46840" y="5346720"/>
              <a:ext cx="241200" cy="2412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29280" y="5432400"/>
              <a:ext cx="73080" cy="6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7084800" y="4857840"/>
              <a:ext cx="474480" cy="474840"/>
              <a:chOff x="7084800" y="4857840"/>
              <a:chExt cx="474480" cy="474840"/>
            </a:xfrm>
          </p:grpSpPr>
          <p:sp>
            <p:nvSpPr>
              <p:cNvPr id="436" name=""/>
              <p:cNvSpPr/>
              <p:nvPr/>
            </p:nvSpPr>
            <p:spPr>
              <a:xfrm rot="900000">
                <a:off x="7128360" y="4901040"/>
                <a:ext cx="387360" cy="38772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900000">
                <a:off x="7130880" y="5169600"/>
                <a:ext cx="85320" cy="1292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33"/>
              </a:solidFill>
              <a:ln w="57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900000">
                <a:off x="7128360" y="4901040"/>
                <a:ext cx="387360" cy="38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900000">
                <a:off x="7130880" y="5169600"/>
                <a:ext cx="85320" cy="1292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205040" y="4912200"/>
              <a:ext cx="252360" cy="333360"/>
              <a:chOff x="7205040" y="4912200"/>
              <a:chExt cx="252360" cy="333360"/>
            </a:xfrm>
          </p:grpSpPr>
          <p:sp>
            <p:nvSpPr>
              <p:cNvPr id="441" name=""/>
              <p:cNvSpPr/>
              <p:nvPr/>
            </p:nvSpPr>
            <p:spPr>
              <a:xfrm rot="1800000">
                <a:off x="7212600" y="5194440"/>
                <a:ext cx="43560" cy="432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800000">
                <a:off x="7276680" y="4921560"/>
                <a:ext cx="115920" cy="289080"/>
              </a:xfrm>
              <a:custGeom>
                <a:avLst/>
                <a:gdLst/>
                <a:ahLst/>
                <a:rect l="l" t="t" r="r" b="b"/>
                <a:pathLst>
                  <a:path w="242" h="604">
                    <a:moveTo>
                      <a:pt x="98" y="596"/>
                    </a:moveTo>
                    <a:cubicBezTo>
                      <a:pt x="60" y="604"/>
                      <a:pt x="0" y="331"/>
                      <a:pt x="8" y="233"/>
                    </a:cubicBezTo>
                    <a:cubicBezTo>
                      <a:pt x="16" y="135"/>
                      <a:pt x="106" y="14"/>
                      <a:pt x="144" y="7"/>
                    </a:cubicBezTo>
                    <a:cubicBezTo>
                      <a:pt x="182" y="0"/>
                      <a:pt x="242" y="90"/>
                      <a:pt x="234" y="188"/>
                    </a:cubicBezTo>
                    <a:cubicBezTo>
                      <a:pt x="226" y="286"/>
                      <a:pt x="136" y="588"/>
                      <a:pt x="98" y="596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8344080" y="4826160"/>
            <a:ext cx="1050480" cy="1411200"/>
            <a:chOff x="8344080" y="4826160"/>
            <a:chExt cx="1050480" cy="1411200"/>
          </a:xfrm>
        </p:grpSpPr>
        <p:sp>
          <p:nvSpPr>
            <p:cNvPr id="444" name=""/>
            <p:cNvSpPr/>
            <p:nvPr/>
          </p:nvSpPr>
          <p:spPr>
            <a:xfrm>
              <a:off x="8344080" y="5213520"/>
              <a:ext cx="669600" cy="671400"/>
            </a:xfrm>
            <a:prstGeom prst="ellipse">
              <a:avLst/>
            </a:prstGeom>
            <a:solidFill>
              <a:srgbClr val="ffffff"/>
            </a:solidFill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44080" y="5213520"/>
              <a:ext cx="669600" cy="67140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8481600" y="5848200"/>
              <a:ext cx="393480" cy="389160"/>
              <a:chOff x="8481600" y="5848200"/>
              <a:chExt cx="393480" cy="389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8481600" y="5848200"/>
                <a:ext cx="393480" cy="389160"/>
                <a:chOff x="8481600" y="5848200"/>
                <a:chExt cx="393480" cy="3891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8603640" y="6147720"/>
                  <a:ext cx="149400" cy="89640"/>
                </a:xfrm>
                <a:prstGeom prst="ellipse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543520" y="6147720"/>
                  <a:ext cx="268920" cy="59400"/>
                </a:xfrm>
                <a:custGeom>
                  <a:avLst/>
                  <a:gdLst>
                    <a:gd name="textAreaLeft" fmla="*/ 59040 w 268920"/>
                    <a:gd name="textAreaRight" fmla="*/ 209880 w 268920"/>
                    <a:gd name="textAreaTop" fmla="*/ 12960 h 59400"/>
                    <a:gd name="textAreaBottom" fmla="*/ 46440 h 59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514000" y="5848200"/>
                  <a:ext cx="328680" cy="299520"/>
                </a:xfrm>
                <a:prstGeom prst="rect">
                  <a:avLst/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21079200">
                  <a:off x="8483760" y="587736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21079200">
                  <a:off x="8483760" y="5937480"/>
                  <a:ext cx="388800" cy="60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1079200">
                  <a:off x="8483760" y="59976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21079200">
                  <a:off x="8483760" y="6057000"/>
                  <a:ext cx="38880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8603640" y="6147720"/>
                <a:ext cx="149400" cy="89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43520" y="6147720"/>
                <a:ext cx="268920" cy="59400"/>
              </a:xfrm>
              <a:custGeom>
                <a:avLst/>
                <a:gdLst>
                  <a:gd name="textAreaLeft" fmla="*/ 59040 w 268920"/>
                  <a:gd name="textAreaRight" fmla="*/ 209880 w 268920"/>
                  <a:gd name="textAreaTop" fmla="*/ 12960 h 59400"/>
                  <a:gd name="textAreaBottom" fmla="*/ 46440 h 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14000" y="5848200"/>
                <a:ext cx="328680" cy="29952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21079200">
                <a:off x="8483760" y="5877360"/>
                <a:ext cx="388800" cy="60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1079200">
                <a:off x="8483760" y="593748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1079200">
                <a:off x="8483760" y="59976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1079200">
                <a:off x="8483760" y="6057000"/>
                <a:ext cx="388800" cy="59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59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rot="16200000">
              <a:off x="8658360" y="5618160"/>
              <a:ext cx="6984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8366040" y="5340240"/>
              <a:ext cx="612000" cy="301320"/>
              <a:chOff x="8366040" y="5340240"/>
              <a:chExt cx="612000" cy="3013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8366040" y="5340240"/>
                <a:ext cx="293400" cy="301320"/>
                <a:chOff x="8366040" y="5340240"/>
                <a:chExt cx="293400" cy="3013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8366040" y="5340240"/>
                  <a:ext cx="293400" cy="3013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424720" y="5406120"/>
                  <a:ext cx="172440" cy="1695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8685000" y="5340240"/>
                <a:ext cx="293040" cy="301320"/>
                <a:chOff x="8685000" y="5340240"/>
                <a:chExt cx="293040" cy="3013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8685000" y="5340240"/>
                  <a:ext cx="293040" cy="3013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743320" y="5406120"/>
                  <a:ext cx="172080" cy="1695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8920080" y="4826160"/>
              <a:ext cx="474480" cy="474840"/>
              <a:chOff x="8920080" y="4826160"/>
              <a:chExt cx="474480" cy="474840"/>
            </a:xfrm>
          </p:grpSpPr>
          <p:sp>
            <p:nvSpPr>
              <p:cNvPr id="471" name=""/>
              <p:cNvSpPr/>
              <p:nvPr/>
            </p:nvSpPr>
            <p:spPr>
              <a:xfrm rot="900000">
                <a:off x="8963640" y="4869360"/>
                <a:ext cx="387360" cy="38772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900000">
                <a:off x="8966160" y="5137920"/>
                <a:ext cx="85320" cy="1292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33"/>
              </a:solidFill>
              <a:ln w="57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900000">
                <a:off x="8963640" y="4869360"/>
                <a:ext cx="387360" cy="38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900000">
                <a:off x="8966160" y="5137920"/>
                <a:ext cx="85320" cy="1292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9035640" y="4872600"/>
              <a:ext cx="252360" cy="333000"/>
              <a:chOff x="9035640" y="4872600"/>
              <a:chExt cx="252360" cy="333000"/>
            </a:xfrm>
          </p:grpSpPr>
          <p:sp>
            <p:nvSpPr>
              <p:cNvPr id="476" name=""/>
              <p:cNvSpPr/>
              <p:nvPr/>
            </p:nvSpPr>
            <p:spPr>
              <a:xfrm rot="1800000">
                <a:off x="9043200" y="5154480"/>
                <a:ext cx="43560" cy="43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800000">
                <a:off x="9107280" y="4881960"/>
                <a:ext cx="115920" cy="288720"/>
              </a:xfrm>
              <a:custGeom>
                <a:avLst/>
                <a:gdLst/>
                <a:ahLst/>
                <a:rect l="l" t="t" r="r" b="b"/>
                <a:pathLst>
                  <a:path w="242" h="604">
                    <a:moveTo>
                      <a:pt x="98" y="596"/>
                    </a:moveTo>
                    <a:cubicBezTo>
                      <a:pt x="60" y="604"/>
                      <a:pt x="0" y="331"/>
                      <a:pt x="8" y="233"/>
                    </a:cubicBezTo>
                    <a:cubicBezTo>
                      <a:pt x="16" y="135"/>
                      <a:pt x="106" y="14"/>
                      <a:pt x="144" y="7"/>
                    </a:cubicBezTo>
                    <a:cubicBezTo>
                      <a:pt x="182" y="0"/>
                      <a:pt x="242" y="90"/>
                      <a:pt x="234" y="188"/>
                    </a:cubicBezTo>
                    <a:cubicBezTo>
                      <a:pt x="226" y="286"/>
                      <a:pt x="136" y="588"/>
                      <a:pt x="98" y="59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ひらめ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92160" y="981000"/>
            <a:ext cx="289080" cy="1297080"/>
            <a:chOff x="992160" y="981000"/>
            <a:chExt cx="289080" cy="1297080"/>
          </a:xfrm>
        </p:grpSpPr>
        <p:sp>
          <p:nvSpPr>
            <p:cNvPr id="480" name=""/>
            <p:cNvSpPr/>
            <p:nvPr/>
          </p:nvSpPr>
          <p:spPr>
            <a:xfrm>
              <a:off x="1063800" y="2133720"/>
              <a:ext cx="14436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2160" y="981000"/>
              <a:ext cx="289080" cy="107964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720880" y="981000"/>
            <a:ext cx="649440" cy="1297080"/>
            <a:chOff x="2720880" y="981000"/>
            <a:chExt cx="649440" cy="1297080"/>
          </a:xfrm>
        </p:grpSpPr>
        <p:sp>
          <p:nvSpPr>
            <p:cNvPr id="483" name=""/>
            <p:cNvSpPr/>
            <p:nvPr/>
          </p:nvSpPr>
          <p:spPr>
            <a:xfrm>
              <a:off x="2792520" y="2133720"/>
              <a:ext cx="14436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20880" y="981000"/>
              <a:ext cx="289080" cy="107964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52880" y="2133720"/>
              <a:ext cx="14436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81240" y="981000"/>
              <a:ext cx="289080" cy="107964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92160" y="2924280"/>
            <a:ext cx="289080" cy="1296360"/>
            <a:chOff x="992160" y="2924280"/>
            <a:chExt cx="289080" cy="1296360"/>
          </a:xfrm>
        </p:grpSpPr>
        <p:sp>
          <p:nvSpPr>
            <p:cNvPr id="488" name=""/>
            <p:cNvSpPr/>
            <p:nvPr/>
          </p:nvSpPr>
          <p:spPr>
            <a:xfrm>
              <a:off x="1063800" y="4076640"/>
              <a:ext cx="144360" cy="144000"/>
            </a:xfrm>
            <a:prstGeom prst="ellipse">
              <a:avLst/>
            </a:prstGeom>
            <a:gradFill rotWithShape="0">
              <a:gsLst>
                <a:gs pos="0">
                  <a:srgbClr val="fef6f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92160" y="2924280"/>
              <a:ext cx="289080" cy="107928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95480" y="2952720"/>
              <a:ext cx="144360" cy="144000"/>
            </a:xfrm>
            <a:prstGeom prst="ellipse">
              <a:avLst/>
            </a:prstGeom>
            <a:gradFill rotWithShape="0">
              <a:gsLst>
                <a:gs pos="0">
                  <a:srgbClr val="fef6f6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448160" y="981000"/>
            <a:ext cx="1009800" cy="1297080"/>
            <a:chOff x="4448160" y="981000"/>
            <a:chExt cx="1009800" cy="1297080"/>
          </a:xfrm>
        </p:grpSpPr>
        <p:sp>
          <p:nvSpPr>
            <p:cNvPr id="492" name=""/>
            <p:cNvSpPr/>
            <p:nvPr/>
          </p:nvSpPr>
          <p:spPr>
            <a:xfrm>
              <a:off x="4879800" y="2133720"/>
              <a:ext cx="14472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08520" y="981000"/>
              <a:ext cx="289080" cy="107964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19440" y="2133720"/>
              <a:ext cx="14472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48160" y="981000"/>
              <a:ext cx="289080" cy="107964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40160" y="2133720"/>
              <a:ext cx="14472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8880" y="981000"/>
              <a:ext cx="289080" cy="1079640"/>
            </a:xfrm>
            <a:custGeom>
              <a:avLst/>
              <a:gdLst/>
              <a:ahLst/>
              <a:rect l="l" t="t" r="r" b="b"/>
              <a:pathLst>
                <a:path w="182" h="680">
                  <a:moveTo>
                    <a:pt x="91" y="680"/>
                  </a:moveTo>
                  <a:lnTo>
                    <a:pt x="0" y="136"/>
                  </a:lnTo>
                  <a:cubicBezTo>
                    <a:pt x="0" y="23"/>
                    <a:pt x="61" y="0"/>
                    <a:pt x="91" y="0"/>
                  </a:cubicBezTo>
                  <a:cubicBezTo>
                    <a:pt x="121" y="0"/>
                    <a:pt x="182" y="23"/>
                    <a:pt x="182" y="136"/>
                  </a:cubicBezTo>
                  <a:lnTo>
                    <a:pt x="91" y="68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792520" y="2924280"/>
            <a:ext cx="649080" cy="1296360"/>
            <a:chOff x="2792520" y="2924280"/>
            <a:chExt cx="649080" cy="1296360"/>
          </a:xfrm>
        </p:grpSpPr>
        <p:grpSp>
          <p:nvGrpSpPr>
            <p:cNvPr id="499" name=""/>
            <p:cNvGrpSpPr/>
            <p:nvPr/>
          </p:nvGrpSpPr>
          <p:grpSpPr>
            <a:xfrm>
              <a:off x="2792520" y="2924280"/>
              <a:ext cx="288720" cy="1296360"/>
              <a:chOff x="2792520" y="2924280"/>
              <a:chExt cx="288720" cy="1296360"/>
            </a:xfrm>
          </p:grpSpPr>
          <p:sp>
            <p:nvSpPr>
              <p:cNvPr id="500" name=""/>
              <p:cNvSpPr/>
              <p:nvPr/>
            </p:nvSpPr>
            <p:spPr>
              <a:xfrm>
                <a:off x="2863800" y="4076640"/>
                <a:ext cx="14400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92520" y="2924280"/>
                <a:ext cx="288720" cy="1079280"/>
              </a:xfrm>
              <a:custGeom>
                <a:avLst/>
                <a:gdLst/>
                <a:ahLst/>
                <a:rect l="l" t="t" r="r" b="b"/>
                <a:pathLst>
                  <a:path w="182" h="680">
                    <a:moveTo>
                      <a:pt x="91" y="680"/>
                    </a:moveTo>
                    <a:lnTo>
                      <a:pt x="0" y="136"/>
                    </a:lnTo>
                    <a:cubicBezTo>
                      <a:pt x="0" y="23"/>
                      <a:pt x="61" y="0"/>
                      <a:pt x="91" y="0"/>
                    </a:cubicBezTo>
                    <a:cubicBezTo>
                      <a:pt x="121" y="0"/>
                      <a:pt x="182" y="23"/>
                      <a:pt x="182" y="136"/>
                    </a:cubicBezTo>
                    <a:lnTo>
                      <a:pt x="91" y="6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95480" y="2952720"/>
                <a:ext cx="14400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152880" y="2924280"/>
              <a:ext cx="288720" cy="1296360"/>
              <a:chOff x="3152880" y="2924280"/>
              <a:chExt cx="288720" cy="1296360"/>
            </a:xfrm>
          </p:grpSpPr>
          <p:sp>
            <p:nvSpPr>
              <p:cNvPr id="504" name=""/>
              <p:cNvSpPr/>
              <p:nvPr/>
            </p:nvSpPr>
            <p:spPr>
              <a:xfrm>
                <a:off x="3224160" y="4076640"/>
                <a:ext cx="14400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52880" y="2924280"/>
                <a:ext cx="288720" cy="1079280"/>
              </a:xfrm>
              <a:custGeom>
                <a:avLst/>
                <a:gdLst/>
                <a:ahLst/>
                <a:rect l="l" t="t" r="r" b="b"/>
                <a:pathLst>
                  <a:path w="182" h="680">
                    <a:moveTo>
                      <a:pt x="91" y="680"/>
                    </a:moveTo>
                    <a:lnTo>
                      <a:pt x="0" y="136"/>
                    </a:lnTo>
                    <a:cubicBezTo>
                      <a:pt x="0" y="23"/>
                      <a:pt x="61" y="0"/>
                      <a:pt x="91" y="0"/>
                    </a:cubicBezTo>
                    <a:cubicBezTo>
                      <a:pt x="121" y="0"/>
                      <a:pt x="182" y="23"/>
                      <a:pt x="182" y="136"/>
                    </a:cubicBezTo>
                    <a:lnTo>
                      <a:pt x="91" y="6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55840" y="2952720"/>
                <a:ext cx="14400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"/>
          <p:cNvGrpSpPr/>
          <p:nvPr/>
        </p:nvGrpSpPr>
        <p:grpSpPr>
          <a:xfrm>
            <a:off x="4448160" y="2924280"/>
            <a:ext cx="1008000" cy="1296360"/>
            <a:chOff x="4448160" y="2924280"/>
            <a:chExt cx="1008000" cy="1296360"/>
          </a:xfrm>
        </p:grpSpPr>
        <p:grpSp>
          <p:nvGrpSpPr>
            <p:cNvPr id="508" name=""/>
            <p:cNvGrpSpPr/>
            <p:nvPr/>
          </p:nvGrpSpPr>
          <p:grpSpPr>
            <a:xfrm>
              <a:off x="4448160" y="2924280"/>
              <a:ext cx="289080" cy="1296360"/>
              <a:chOff x="4448160" y="2924280"/>
              <a:chExt cx="289080" cy="1296360"/>
            </a:xfrm>
          </p:grpSpPr>
          <p:sp>
            <p:nvSpPr>
              <p:cNvPr id="509" name=""/>
              <p:cNvSpPr/>
              <p:nvPr/>
            </p:nvSpPr>
            <p:spPr>
              <a:xfrm>
                <a:off x="4519800" y="4076640"/>
                <a:ext cx="14436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448160" y="2924280"/>
                <a:ext cx="289080" cy="1079280"/>
              </a:xfrm>
              <a:custGeom>
                <a:avLst/>
                <a:gdLst/>
                <a:ahLst/>
                <a:rect l="l" t="t" r="r" b="b"/>
                <a:pathLst>
                  <a:path w="182" h="680">
                    <a:moveTo>
                      <a:pt x="91" y="680"/>
                    </a:moveTo>
                    <a:lnTo>
                      <a:pt x="0" y="136"/>
                    </a:lnTo>
                    <a:cubicBezTo>
                      <a:pt x="0" y="23"/>
                      <a:pt x="61" y="0"/>
                      <a:pt x="91" y="0"/>
                    </a:cubicBezTo>
                    <a:cubicBezTo>
                      <a:pt x="121" y="0"/>
                      <a:pt x="182" y="23"/>
                      <a:pt x="182" y="136"/>
                    </a:cubicBezTo>
                    <a:lnTo>
                      <a:pt x="91" y="6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51480" y="2952720"/>
                <a:ext cx="14436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808520" y="2924280"/>
              <a:ext cx="289080" cy="1296360"/>
              <a:chOff x="4808520" y="2924280"/>
              <a:chExt cx="289080" cy="1296360"/>
            </a:xfrm>
          </p:grpSpPr>
          <p:sp>
            <p:nvSpPr>
              <p:cNvPr id="513" name=""/>
              <p:cNvSpPr/>
              <p:nvPr/>
            </p:nvSpPr>
            <p:spPr>
              <a:xfrm>
                <a:off x="4880160" y="4076640"/>
                <a:ext cx="14436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08520" y="2924280"/>
                <a:ext cx="289080" cy="1079280"/>
              </a:xfrm>
              <a:custGeom>
                <a:avLst/>
                <a:gdLst/>
                <a:ahLst/>
                <a:rect l="l" t="t" r="r" b="b"/>
                <a:pathLst>
                  <a:path w="182" h="680">
                    <a:moveTo>
                      <a:pt x="91" y="680"/>
                    </a:moveTo>
                    <a:lnTo>
                      <a:pt x="0" y="136"/>
                    </a:lnTo>
                    <a:cubicBezTo>
                      <a:pt x="0" y="23"/>
                      <a:pt x="61" y="0"/>
                      <a:pt x="91" y="0"/>
                    </a:cubicBezTo>
                    <a:cubicBezTo>
                      <a:pt x="121" y="0"/>
                      <a:pt x="182" y="23"/>
                      <a:pt x="182" y="136"/>
                    </a:cubicBezTo>
                    <a:lnTo>
                      <a:pt x="91" y="6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911840" y="2952720"/>
                <a:ext cx="14436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5167440" y="2924280"/>
              <a:ext cx="288720" cy="1296360"/>
              <a:chOff x="5167440" y="2924280"/>
              <a:chExt cx="288720" cy="1296360"/>
            </a:xfrm>
          </p:grpSpPr>
          <p:sp>
            <p:nvSpPr>
              <p:cNvPr id="517" name=""/>
              <p:cNvSpPr/>
              <p:nvPr/>
            </p:nvSpPr>
            <p:spPr>
              <a:xfrm>
                <a:off x="5238720" y="4076640"/>
                <a:ext cx="14400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67440" y="2924280"/>
                <a:ext cx="288720" cy="1079280"/>
              </a:xfrm>
              <a:custGeom>
                <a:avLst/>
                <a:gdLst/>
                <a:ahLst/>
                <a:rect l="l" t="t" r="r" b="b"/>
                <a:pathLst>
                  <a:path w="182" h="680">
                    <a:moveTo>
                      <a:pt x="91" y="680"/>
                    </a:moveTo>
                    <a:lnTo>
                      <a:pt x="0" y="136"/>
                    </a:lnTo>
                    <a:cubicBezTo>
                      <a:pt x="0" y="23"/>
                      <a:pt x="61" y="0"/>
                      <a:pt x="91" y="0"/>
                    </a:cubicBezTo>
                    <a:cubicBezTo>
                      <a:pt x="121" y="0"/>
                      <a:pt x="182" y="23"/>
                      <a:pt x="182" y="136"/>
                    </a:cubicBezTo>
                    <a:lnTo>
                      <a:pt x="91" y="68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270400" y="2952720"/>
                <a:ext cx="144000" cy="144000"/>
              </a:xfrm>
              <a:prstGeom prst="ellipse">
                <a:avLst/>
              </a:prstGeom>
              <a:gradFill rotWithShape="0">
                <a:gsLst>
                  <a:gs pos="0">
                    <a:srgbClr val="fef6f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6504480" y="969840"/>
            <a:ext cx="825480" cy="1233000"/>
            <a:chOff x="6504480" y="969840"/>
            <a:chExt cx="825480" cy="1233000"/>
          </a:xfrm>
        </p:grpSpPr>
        <p:sp>
          <p:nvSpPr>
            <p:cNvPr id="521" name=""/>
            <p:cNvSpPr/>
            <p:nvPr/>
          </p:nvSpPr>
          <p:spPr>
            <a:xfrm rot="20700000">
              <a:off x="6612840" y="1032840"/>
              <a:ext cx="608760" cy="917640"/>
            </a:xfrm>
            <a:custGeom>
              <a:avLst/>
              <a:gdLst/>
              <a:ahLst/>
              <a:rect l="l" t="t" r="r" b="b"/>
              <a:pathLst>
                <a:path w="461" h="695">
                  <a:moveTo>
                    <a:pt x="371" y="38"/>
                  </a:moveTo>
                  <a:cubicBezTo>
                    <a:pt x="341" y="8"/>
                    <a:pt x="273" y="0"/>
                    <a:pt x="235" y="38"/>
                  </a:cubicBezTo>
                  <a:cubicBezTo>
                    <a:pt x="197" y="76"/>
                    <a:pt x="182" y="166"/>
                    <a:pt x="144" y="264"/>
                  </a:cubicBezTo>
                  <a:cubicBezTo>
                    <a:pt x="106" y="362"/>
                    <a:pt x="16" y="567"/>
                    <a:pt x="8" y="627"/>
                  </a:cubicBezTo>
                  <a:cubicBezTo>
                    <a:pt x="0" y="687"/>
                    <a:pt x="30" y="695"/>
                    <a:pt x="98" y="627"/>
                  </a:cubicBezTo>
                  <a:cubicBezTo>
                    <a:pt x="166" y="559"/>
                    <a:pt x="371" y="317"/>
                    <a:pt x="416" y="219"/>
                  </a:cubicBezTo>
                  <a:cubicBezTo>
                    <a:pt x="461" y="121"/>
                    <a:pt x="401" y="68"/>
                    <a:pt x="371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700000">
              <a:off x="6598440" y="2061360"/>
              <a:ext cx="179640" cy="11988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45" y="0"/>
                  </a:moveTo>
                  <a:cubicBezTo>
                    <a:pt x="22" y="0"/>
                    <a:pt x="0" y="30"/>
                    <a:pt x="0" y="45"/>
                  </a:cubicBezTo>
                  <a:cubicBezTo>
                    <a:pt x="0" y="60"/>
                    <a:pt x="22" y="91"/>
                    <a:pt x="45" y="91"/>
                  </a:cubicBezTo>
                  <a:cubicBezTo>
                    <a:pt x="68" y="91"/>
                    <a:pt x="136" y="60"/>
                    <a:pt x="136" y="45"/>
                  </a:cubicBezTo>
                  <a:cubicBezTo>
                    <a:pt x="136" y="30"/>
                    <a:pt x="68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319800" y="4797360"/>
            <a:ext cx="1079280" cy="1439640"/>
            <a:chOff x="6319800" y="4797360"/>
            <a:chExt cx="1079280" cy="1439640"/>
          </a:xfrm>
        </p:grpSpPr>
        <p:grpSp>
          <p:nvGrpSpPr>
            <p:cNvPr id="524" name=""/>
            <p:cNvGrpSpPr/>
            <p:nvPr/>
          </p:nvGrpSpPr>
          <p:grpSpPr>
            <a:xfrm>
              <a:off x="6319800" y="5656680"/>
              <a:ext cx="1079280" cy="580320"/>
              <a:chOff x="6319800" y="5656680"/>
              <a:chExt cx="1079280" cy="580320"/>
            </a:xfrm>
          </p:grpSpPr>
          <p:sp>
            <p:nvSpPr>
              <p:cNvPr id="525" name=""/>
              <p:cNvSpPr/>
              <p:nvPr/>
            </p:nvSpPr>
            <p:spPr>
              <a:xfrm>
                <a:off x="6319800" y="5656680"/>
                <a:ext cx="1079280" cy="580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80280" y="5698800"/>
                <a:ext cx="959040" cy="464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700680" y="5812560"/>
              <a:ext cx="338040" cy="14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64040" y="5652360"/>
              <a:ext cx="203400" cy="173520"/>
            </a:xfrm>
            <a:prstGeom prst="ellipse">
              <a:avLst/>
            </a:prstGeom>
            <a:gradFill rotWithShape="0">
              <a:gsLst>
                <a:gs pos="0">
                  <a:srgbClr val="cacaca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64040" y="4797360"/>
              <a:ext cx="203400" cy="822960"/>
            </a:xfrm>
            <a:custGeom>
              <a:avLst/>
              <a:gdLst>
                <a:gd name="textAreaLeft" fmla="*/ 29520 w 203400"/>
                <a:gd name="textAreaRight" fmla="*/ 173880 w 203400"/>
                <a:gd name="textAreaTop" fmla="*/ 29520 h 822960"/>
                <a:gd name="textAreaBottom" fmla="*/ 793440 h 822960"/>
              </a:gdLst>
              <a:ahLst/>
              <a:rect l="textAreaLeft" t="textAreaTop" r="textAreaRight" b="textAreaBottom"/>
              <a:pathLst>
                <a:path w="21600" h="87278">
                  <a:moveTo>
                    <a:pt x="10800" y="0"/>
                  </a:moveTo>
                  <a:arcTo wR="10800" hR="10800" stAng="16200000" swAng="-5400000"/>
                  <a:lnTo>
                    <a:pt x="0" y="76478"/>
                  </a:lnTo>
                  <a:arcTo wR="10800" hR="10800" stAng="10800000" swAng="-5400000"/>
                  <a:lnTo>
                    <a:pt x="10800" y="872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95720" y="4821480"/>
              <a:ext cx="128880" cy="723600"/>
            </a:xfrm>
            <a:prstGeom prst="ellipse">
              <a:avLst/>
            </a:prstGeom>
            <a:gradFill rotWithShape="0">
              <a:gsLst>
                <a:gs pos="0">
                  <a:srgbClr val="cacaca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193240" y="4797360"/>
            <a:ext cx="1079280" cy="1439640"/>
            <a:chOff x="8193240" y="4797360"/>
            <a:chExt cx="1079280" cy="1439640"/>
          </a:xfrm>
        </p:grpSpPr>
        <p:grpSp>
          <p:nvGrpSpPr>
            <p:cNvPr id="532" name=""/>
            <p:cNvGrpSpPr/>
            <p:nvPr/>
          </p:nvGrpSpPr>
          <p:grpSpPr>
            <a:xfrm>
              <a:off x="8193240" y="5656680"/>
              <a:ext cx="1079280" cy="580320"/>
              <a:chOff x="8193240" y="5656680"/>
              <a:chExt cx="1079280" cy="580320"/>
            </a:xfrm>
          </p:grpSpPr>
          <p:sp>
            <p:nvSpPr>
              <p:cNvPr id="533" name=""/>
              <p:cNvSpPr/>
              <p:nvPr/>
            </p:nvSpPr>
            <p:spPr>
              <a:xfrm>
                <a:off x="8193240" y="5656680"/>
                <a:ext cx="1079280" cy="580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53720" y="5698800"/>
                <a:ext cx="959040" cy="4640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8574120" y="5812560"/>
              <a:ext cx="338040" cy="14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637480" y="5652360"/>
              <a:ext cx="203400" cy="173520"/>
            </a:xfrm>
            <a:prstGeom prst="ellipse">
              <a:avLst/>
            </a:prstGeom>
            <a:gradFill rotWithShape="0">
              <a:gsLst>
                <a:gs pos="0">
                  <a:srgbClr val="cacaca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37480" y="4797360"/>
              <a:ext cx="203400" cy="822960"/>
            </a:xfrm>
            <a:custGeom>
              <a:avLst/>
              <a:gdLst>
                <a:gd name="textAreaLeft" fmla="*/ 29520 w 203400"/>
                <a:gd name="textAreaRight" fmla="*/ 173880 w 203400"/>
                <a:gd name="textAreaTop" fmla="*/ 29520 h 822960"/>
                <a:gd name="textAreaBottom" fmla="*/ 793440 h 822960"/>
              </a:gdLst>
              <a:ahLst/>
              <a:rect l="textAreaLeft" t="textAreaTop" r="textAreaRight" b="textAreaBottom"/>
              <a:pathLst>
                <a:path w="21600" h="87278">
                  <a:moveTo>
                    <a:pt x="10800" y="0"/>
                  </a:moveTo>
                  <a:arcTo wR="10800" hR="10800" stAng="16200000" swAng="-5400000"/>
                  <a:lnTo>
                    <a:pt x="0" y="76478"/>
                  </a:lnTo>
                  <a:arcTo wR="10800" hR="10800" stAng="10800000" swAng="-5400000"/>
                  <a:lnTo>
                    <a:pt x="10800" y="872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69160" y="4821480"/>
              <a:ext cx="128880" cy="723600"/>
            </a:xfrm>
            <a:prstGeom prst="ellipse">
              <a:avLst/>
            </a:prstGeom>
            <a:gradFill rotWithShape="0">
              <a:gsLst>
                <a:gs pos="0">
                  <a:srgbClr val="cacaca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8160120" y="2914560"/>
            <a:ext cx="1258920" cy="1233000"/>
            <a:chOff x="8160120" y="2914560"/>
            <a:chExt cx="1258920" cy="1233000"/>
          </a:xfrm>
        </p:grpSpPr>
        <p:grpSp>
          <p:nvGrpSpPr>
            <p:cNvPr id="540" name=""/>
            <p:cNvGrpSpPr/>
            <p:nvPr/>
          </p:nvGrpSpPr>
          <p:grpSpPr>
            <a:xfrm>
              <a:off x="8160120" y="2914560"/>
              <a:ext cx="825480" cy="1233000"/>
              <a:chOff x="8160120" y="2914560"/>
              <a:chExt cx="825480" cy="1233000"/>
            </a:xfrm>
          </p:grpSpPr>
          <p:sp>
            <p:nvSpPr>
              <p:cNvPr id="541" name=""/>
              <p:cNvSpPr/>
              <p:nvPr/>
            </p:nvSpPr>
            <p:spPr>
              <a:xfrm rot="20700000">
                <a:off x="8268480" y="2977560"/>
                <a:ext cx="608760" cy="917640"/>
              </a:xfrm>
              <a:custGeom>
                <a:avLst/>
                <a:gdLst/>
                <a:ahLst/>
                <a:rect l="l" t="t" r="r" b="b"/>
                <a:pathLst>
                  <a:path w="461" h="695">
                    <a:moveTo>
                      <a:pt x="371" y="38"/>
                    </a:moveTo>
                    <a:cubicBezTo>
                      <a:pt x="341" y="8"/>
                      <a:pt x="273" y="0"/>
                      <a:pt x="235" y="38"/>
                    </a:cubicBezTo>
                    <a:cubicBezTo>
                      <a:pt x="197" y="76"/>
                      <a:pt x="182" y="166"/>
                      <a:pt x="144" y="264"/>
                    </a:cubicBezTo>
                    <a:cubicBezTo>
                      <a:pt x="106" y="362"/>
                      <a:pt x="16" y="567"/>
                      <a:pt x="8" y="627"/>
                    </a:cubicBezTo>
                    <a:cubicBezTo>
                      <a:pt x="0" y="687"/>
                      <a:pt x="30" y="695"/>
                      <a:pt x="98" y="627"/>
                    </a:cubicBezTo>
                    <a:cubicBezTo>
                      <a:pt x="166" y="559"/>
                      <a:pt x="371" y="317"/>
                      <a:pt x="416" y="219"/>
                    </a:cubicBezTo>
                    <a:cubicBezTo>
                      <a:pt x="461" y="121"/>
                      <a:pt x="401" y="68"/>
                      <a:pt x="371" y="38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0700000">
                <a:off x="8254080" y="4006080"/>
                <a:ext cx="179640" cy="119880"/>
              </a:xfrm>
              <a:custGeom>
                <a:avLst/>
                <a:gdLst/>
                <a:ahLst/>
                <a:rect l="l" t="t" r="r" b="b"/>
                <a:pathLst>
                  <a:path w="136" h="91">
                    <a:moveTo>
                      <a:pt x="45" y="0"/>
                    </a:moveTo>
                    <a:cubicBezTo>
                      <a:pt x="22" y="0"/>
                      <a:pt x="0" y="30"/>
                      <a:pt x="0" y="45"/>
                    </a:cubicBezTo>
                    <a:cubicBezTo>
                      <a:pt x="0" y="60"/>
                      <a:pt x="22" y="91"/>
                      <a:pt x="45" y="91"/>
                    </a:cubicBezTo>
                    <a:cubicBezTo>
                      <a:pt x="68" y="91"/>
                      <a:pt x="136" y="60"/>
                      <a:pt x="136" y="45"/>
                    </a:cubicBezTo>
                    <a:cubicBezTo>
                      <a:pt x="136" y="30"/>
                      <a:pt x="68" y="0"/>
                      <a:pt x="4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593560" y="2914560"/>
              <a:ext cx="825480" cy="1233000"/>
              <a:chOff x="8593560" y="2914560"/>
              <a:chExt cx="825480" cy="1233000"/>
            </a:xfrm>
          </p:grpSpPr>
          <p:sp>
            <p:nvSpPr>
              <p:cNvPr id="544" name=""/>
              <p:cNvSpPr/>
              <p:nvPr/>
            </p:nvSpPr>
            <p:spPr>
              <a:xfrm rot="20700000">
                <a:off x="8701920" y="2977560"/>
                <a:ext cx="608760" cy="917640"/>
              </a:xfrm>
              <a:custGeom>
                <a:avLst/>
                <a:gdLst/>
                <a:ahLst/>
                <a:rect l="l" t="t" r="r" b="b"/>
                <a:pathLst>
                  <a:path w="461" h="695">
                    <a:moveTo>
                      <a:pt x="371" y="38"/>
                    </a:moveTo>
                    <a:cubicBezTo>
                      <a:pt x="341" y="8"/>
                      <a:pt x="273" y="0"/>
                      <a:pt x="235" y="38"/>
                    </a:cubicBezTo>
                    <a:cubicBezTo>
                      <a:pt x="197" y="76"/>
                      <a:pt x="182" y="166"/>
                      <a:pt x="144" y="264"/>
                    </a:cubicBezTo>
                    <a:cubicBezTo>
                      <a:pt x="106" y="362"/>
                      <a:pt x="16" y="567"/>
                      <a:pt x="8" y="627"/>
                    </a:cubicBezTo>
                    <a:cubicBezTo>
                      <a:pt x="0" y="687"/>
                      <a:pt x="30" y="695"/>
                      <a:pt x="98" y="627"/>
                    </a:cubicBezTo>
                    <a:cubicBezTo>
                      <a:pt x="166" y="559"/>
                      <a:pt x="371" y="317"/>
                      <a:pt x="416" y="219"/>
                    </a:cubicBezTo>
                    <a:cubicBezTo>
                      <a:pt x="461" y="121"/>
                      <a:pt x="401" y="68"/>
                      <a:pt x="371" y="38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700000">
                <a:off x="8687520" y="4006080"/>
                <a:ext cx="179640" cy="119880"/>
              </a:xfrm>
              <a:custGeom>
                <a:avLst/>
                <a:gdLst/>
                <a:ahLst/>
                <a:rect l="l" t="t" r="r" b="b"/>
                <a:pathLst>
                  <a:path w="136" h="91">
                    <a:moveTo>
                      <a:pt x="45" y="0"/>
                    </a:moveTo>
                    <a:cubicBezTo>
                      <a:pt x="22" y="0"/>
                      <a:pt x="0" y="30"/>
                      <a:pt x="0" y="45"/>
                    </a:cubicBezTo>
                    <a:cubicBezTo>
                      <a:pt x="0" y="60"/>
                      <a:pt x="22" y="91"/>
                      <a:pt x="45" y="91"/>
                    </a:cubicBezTo>
                    <a:cubicBezTo>
                      <a:pt x="68" y="91"/>
                      <a:pt x="136" y="60"/>
                      <a:pt x="136" y="45"/>
                    </a:cubicBezTo>
                    <a:cubicBezTo>
                      <a:pt x="136" y="30"/>
                      <a:pt x="68" y="0"/>
                      <a:pt x="4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8157600" y="968400"/>
            <a:ext cx="1258200" cy="1234080"/>
            <a:chOff x="8157600" y="968400"/>
            <a:chExt cx="1258200" cy="1234080"/>
          </a:xfrm>
        </p:grpSpPr>
        <p:sp>
          <p:nvSpPr>
            <p:cNvPr id="547" name=""/>
            <p:cNvSpPr/>
            <p:nvPr/>
          </p:nvSpPr>
          <p:spPr>
            <a:xfrm rot="20700000">
              <a:off x="8265960" y="1031760"/>
              <a:ext cx="609840" cy="917640"/>
            </a:xfrm>
            <a:custGeom>
              <a:avLst/>
              <a:gdLst/>
              <a:ahLst/>
              <a:rect l="l" t="t" r="r" b="b"/>
              <a:pathLst>
                <a:path w="461" h="695">
                  <a:moveTo>
                    <a:pt x="371" y="38"/>
                  </a:moveTo>
                  <a:cubicBezTo>
                    <a:pt x="341" y="8"/>
                    <a:pt x="273" y="0"/>
                    <a:pt x="235" y="38"/>
                  </a:cubicBezTo>
                  <a:cubicBezTo>
                    <a:pt x="197" y="76"/>
                    <a:pt x="182" y="166"/>
                    <a:pt x="144" y="264"/>
                  </a:cubicBezTo>
                  <a:cubicBezTo>
                    <a:pt x="106" y="362"/>
                    <a:pt x="16" y="567"/>
                    <a:pt x="8" y="627"/>
                  </a:cubicBezTo>
                  <a:cubicBezTo>
                    <a:pt x="0" y="687"/>
                    <a:pt x="30" y="695"/>
                    <a:pt x="98" y="627"/>
                  </a:cubicBezTo>
                  <a:cubicBezTo>
                    <a:pt x="166" y="559"/>
                    <a:pt x="371" y="317"/>
                    <a:pt x="416" y="219"/>
                  </a:cubicBezTo>
                  <a:cubicBezTo>
                    <a:pt x="461" y="121"/>
                    <a:pt x="401" y="68"/>
                    <a:pt x="371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700000">
              <a:off x="8253000" y="2060280"/>
              <a:ext cx="179280" cy="12060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45" y="0"/>
                  </a:moveTo>
                  <a:cubicBezTo>
                    <a:pt x="22" y="0"/>
                    <a:pt x="0" y="30"/>
                    <a:pt x="0" y="45"/>
                  </a:cubicBezTo>
                  <a:cubicBezTo>
                    <a:pt x="0" y="60"/>
                    <a:pt x="22" y="91"/>
                    <a:pt x="45" y="91"/>
                  </a:cubicBezTo>
                  <a:cubicBezTo>
                    <a:pt x="68" y="91"/>
                    <a:pt x="136" y="60"/>
                    <a:pt x="136" y="45"/>
                  </a:cubicBezTo>
                  <a:cubicBezTo>
                    <a:pt x="136" y="30"/>
                    <a:pt x="68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700000">
              <a:off x="8697960" y="1031400"/>
              <a:ext cx="609480" cy="917640"/>
            </a:xfrm>
            <a:custGeom>
              <a:avLst/>
              <a:gdLst/>
              <a:ahLst/>
              <a:rect l="l" t="t" r="r" b="b"/>
              <a:pathLst>
                <a:path w="461" h="695">
                  <a:moveTo>
                    <a:pt x="371" y="38"/>
                  </a:moveTo>
                  <a:cubicBezTo>
                    <a:pt x="341" y="8"/>
                    <a:pt x="273" y="0"/>
                    <a:pt x="235" y="38"/>
                  </a:cubicBezTo>
                  <a:cubicBezTo>
                    <a:pt x="197" y="76"/>
                    <a:pt x="182" y="166"/>
                    <a:pt x="144" y="264"/>
                  </a:cubicBezTo>
                  <a:cubicBezTo>
                    <a:pt x="106" y="362"/>
                    <a:pt x="16" y="567"/>
                    <a:pt x="8" y="627"/>
                  </a:cubicBezTo>
                  <a:cubicBezTo>
                    <a:pt x="0" y="687"/>
                    <a:pt x="30" y="695"/>
                    <a:pt x="98" y="627"/>
                  </a:cubicBezTo>
                  <a:cubicBezTo>
                    <a:pt x="166" y="559"/>
                    <a:pt x="371" y="317"/>
                    <a:pt x="416" y="219"/>
                  </a:cubicBezTo>
                  <a:cubicBezTo>
                    <a:pt x="461" y="121"/>
                    <a:pt x="401" y="68"/>
                    <a:pt x="371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700000">
              <a:off x="8685000" y="2060280"/>
              <a:ext cx="179280" cy="12060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45" y="0"/>
                  </a:moveTo>
                  <a:cubicBezTo>
                    <a:pt x="22" y="0"/>
                    <a:pt x="0" y="30"/>
                    <a:pt x="0" y="45"/>
                  </a:cubicBezTo>
                  <a:cubicBezTo>
                    <a:pt x="0" y="60"/>
                    <a:pt x="22" y="91"/>
                    <a:pt x="45" y="91"/>
                  </a:cubicBezTo>
                  <a:cubicBezTo>
                    <a:pt x="68" y="91"/>
                    <a:pt x="136" y="60"/>
                    <a:pt x="136" y="45"/>
                  </a:cubicBezTo>
                  <a:cubicBezTo>
                    <a:pt x="136" y="30"/>
                    <a:pt x="68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31400" y="2914560"/>
            <a:ext cx="825480" cy="1233000"/>
            <a:chOff x="6431400" y="2914560"/>
            <a:chExt cx="825480" cy="1233000"/>
          </a:xfrm>
        </p:grpSpPr>
        <p:sp>
          <p:nvSpPr>
            <p:cNvPr id="552" name=""/>
            <p:cNvSpPr/>
            <p:nvPr/>
          </p:nvSpPr>
          <p:spPr>
            <a:xfrm rot="20700000">
              <a:off x="6539760" y="2977560"/>
              <a:ext cx="608760" cy="917640"/>
            </a:xfrm>
            <a:custGeom>
              <a:avLst/>
              <a:gdLst/>
              <a:ahLst/>
              <a:rect l="l" t="t" r="r" b="b"/>
              <a:pathLst>
                <a:path w="461" h="695">
                  <a:moveTo>
                    <a:pt x="371" y="38"/>
                  </a:moveTo>
                  <a:cubicBezTo>
                    <a:pt x="341" y="8"/>
                    <a:pt x="273" y="0"/>
                    <a:pt x="235" y="38"/>
                  </a:cubicBezTo>
                  <a:cubicBezTo>
                    <a:pt x="197" y="76"/>
                    <a:pt x="182" y="166"/>
                    <a:pt x="144" y="264"/>
                  </a:cubicBezTo>
                  <a:cubicBezTo>
                    <a:pt x="106" y="362"/>
                    <a:pt x="16" y="567"/>
                    <a:pt x="8" y="627"/>
                  </a:cubicBezTo>
                  <a:cubicBezTo>
                    <a:pt x="0" y="687"/>
                    <a:pt x="30" y="695"/>
                    <a:pt x="98" y="627"/>
                  </a:cubicBezTo>
                  <a:cubicBezTo>
                    <a:pt x="166" y="559"/>
                    <a:pt x="371" y="317"/>
                    <a:pt x="416" y="219"/>
                  </a:cubicBezTo>
                  <a:cubicBezTo>
                    <a:pt x="461" y="121"/>
                    <a:pt x="401" y="68"/>
                    <a:pt x="371" y="3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700000">
              <a:off x="6525360" y="4006080"/>
              <a:ext cx="179640" cy="11988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45" y="0"/>
                  </a:moveTo>
                  <a:cubicBezTo>
                    <a:pt x="22" y="0"/>
                    <a:pt x="0" y="30"/>
                    <a:pt x="0" y="45"/>
                  </a:cubicBezTo>
                  <a:cubicBezTo>
                    <a:pt x="0" y="60"/>
                    <a:pt x="22" y="91"/>
                    <a:pt x="45" y="91"/>
                  </a:cubicBezTo>
                  <a:cubicBezTo>
                    <a:pt x="68" y="91"/>
                    <a:pt x="136" y="60"/>
                    <a:pt x="136" y="45"/>
                  </a:cubicBezTo>
                  <a:cubicBezTo>
                    <a:pt x="136" y="30"/>
                    <a:pt x="68" y="0"/>
                    <a:pt x="45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824760" y="4863240"/>
            <a:ext cx="817560" cy="1306080"/>
            <a:chOff x="824760" y="4863240"/>
            <a:chExt cx="817560" cy="1306080"/>
          </a:xfrm>
        </p:grpSpPr>
        <p:sp>
          <p:nvSpPr>
            <p:cNvPr id="555" name=""/>
            <p:cNvSpPr/>
            <p:nvPr/>
          </p:nvSpPr>
          <p:spPr>
            <a:xfrm rot="900000">
              <a:off x="848880" y="5930640"/>
              <a:ext cx="203040" cy="215640"/>
            </a:xfrm>
            <a:prstGeom prst="ellipse">
              <a:avLst/>
            </a:prstGeom>
            <a:gradFill rotWithShape="0">
              <a:gsLst>
                <a:gs pos="0">
                  <a:srgbClr val="febdb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900000">
              <a:off x="1020240" y="4871520"/>
              <a:ext cx="203400" cy="1040040"/>
            </a:xfrm>
            <a:custGeom>
              <a:avLst/>
              <a:gdLst>
                <a:gd name="textAreaLeft" fmla="*/ 29520 w 203400"/>
                <a:gd name="textAreaRight" fmla="*/ 173880 w 203400"/>
                <a:gd name="textAreaTop" fmla="*/ 29520 h 1040040"/>
                <a:gd name="textAreaBottom" fmla="*/ 1010520 h 1040040"/>
              </a:gdLst>
              <a:ahLst/>
              <a:rect l="textAreaLeft" t="textAreaTop" r="textAreaRight" b="textAreaBottom"/>
              <a:pathLst>
                <a:path w="21600" h="110290">
                  <a:moveTo>
                    <a:pt x="10800" y="0"/>
                  </a:moveTo>
                  <a:arcTo wR="10800" hR="10800" stAng="16200000" swAng="-5400000"/>
                  <a:lnTo>
                    <a:pt x="0" y="99490"/>
                  </a:lnTo>
                  <a:arcTo wR="10800" hR="10800" stAng="10800000" swAng="-5400000"/>
                  <a:lnTo>
                    <a:pt x="10800" y="11029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900000">
              <a:off x="1080720" y="4946400"/>
              <a:ext cx="128520" cy="723960"/>
            </a:xfrm>
            <a:prstGeom prst="ellipse">
              <a:avLst/>
            </a:prstGeom>
            <a:gradFill rotWithShape="0">
              <a:gsLst>
                <a:gs pos="0">
                  <a:srgbClr val="febdb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900000">
              <a:off x="1136160" y="5930640"/>
              <a:ext cx="203040" cy="215640"/>
            </a:xfrm>
            <a:prstGeom prst="ellipse">
              <a:avLst/>
            </a:prstGeom>
            <a:gradFill rotWithShape="0">
              <a:gsLst>
                <a:gs pos="0">
                  <a:srgbClr val="febdb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900000">
              <a:off x="1307520" y="4871520"/>
              <a:ext cx="203400" cy="1040040"/>
            </a:xfrm>
            <a:custGeom>
              <a:avLst/>
              <a:gdLst>
                <a:gd name="textAreaLeft" fmla="*/ 29520 w 203400"/>
                <a:gd name="textAreaRight" fmla="*/ 173880 w 203400"/>
                <a:gd name="textAreaTop" fmla="*/ 29520 h 1040040"/>
                <a:gd name="textAreaBottom" fmla="*/ 1010520 h 1040040"/>
              </a:gdLst>
              <a:ahLst/>
              <a:rect l="textAreaLeft" t="textAreaTop" r="textAreaRight" b="textAreaBottom"/>
              <a:pathLst>
                <a:path w="21600" h="110290">
                  <a:moveTo>
                    <a:pt x="10800" y="0"/>
                  </a:moveTo>
                  <a:arcTo wR="10800" hR="10800" stAng="16200000" swAng="-5400000"/>
                  <a:lnTo>
                    <a:pt x="0" y="99490"/>
                  </a:lnTo>
                  <a:arcTo wR="10800" hR="10800" stAng="10800000" swAng="-5400000"/>
                  <a:lnTo>
                    <a:pt x="10800" y="11029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900000">
              <a:off x="1368000" y="4946400"/>
              <a:ext cx="128520" cy="723960"/>
            </a:xfrm>
            <a:prstGeom prst="ellipse">
              <a:avLst/>
            </a:prstGeom>
            <a:gradFill rotWithShape="0">
              <a:gsLst>
                <a:gs pos="0">
                  <a:srgbClr val="febdb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232160" y="4797360"/>
            <a:ext cx="1441440" cy="1224000"/>
            <a:chOff x="4232160" y="4797360"/>
            <a:chExt cx="1441440" cy="1224000"/>
          </a:xfrm>
        </p:grpSpPr>
        <p:sp>
          <p:nvSpPr>
            <p:cNvPr id="562" name=""/>
            <p:cNvSpPr/>
            <p:nvPr/>
          </p:nvSpPr>
          <p:spPr>
            <a:xfrm>
              <a:off x="4232160" y="4797360"/>
              <a:ext cx="1441440" cy="122400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271440 h 1224000"/>
                <a:gd name="textAreaBottom" fmla="*/ 9525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461" y="12421"/>
                  </a:lnTo>
                  <a:lnTo>
                    <a:pt x="786" y="14846"/>
                  </a:lnTo>
                  <a:lnTo>
                    <a:pt x="3675" y="15427"/>
                  </a:lnTo>
                  <a:lnTo>
                    <a:pt x="3163" y="18437"/>
                  </a:lnTo>
                  <a:lnTo>
                    <a:pt x="6050" y="17843"/>
                  </a:lnTo>
                  <a:lnTo>
                    <a:pt x="6580" y="20741"/>
                  </a:lnTo>
                  <a:lnTo>
                    <a:pt x="9034" y="19109"/>
                  </a:lnTo>
                  <a:lnTo>
                    <a:pt x="10800" y="21600"/>
                  </a:lnTo>
                  <a:lnTo>
                    <a:pt x="12421" y="19139"/>
                  </a:lnTo>
                  <a:lnTo>
                    <a:pt x="14846" y="20814"/>
                  </a:lnTo>
                  <a:lnTo>
                    <a:pt x="15427" y="17925"/>
                  </a:lnTo>
                  <a:lnTo>
                    <a:pt x="18437" y="18437"/>
                  </a:lnTo>
                  <a:lnTo>
                    <a:pt x="17843" y="15550"/>
                  </a:lnTo>
                  <a:lnTo>
                    <a:pt x="20741" y="15020"/>
                  </a:lnTo>
                  <a:lnTo>
                    <a:pt x="19109" y="12566"/>
                  </a:lnTo>
                  <a:lnTo>
                    <a:pt x="21600" y="10800"/>
                  </a:lnTo>
                  <a:lnTo>
                    <a:pt x="19139" y="9179"/>
                  </a:lnTo>
                  <a:lnTo>
                    <a:pt x="20814" y="6754"/>
                  </a:lnTo>
                  <a:lnTo>
                    <a:pt x="17925" y="6173"/>
                  </a:lnTo>
                  <a:lnTo>
                    <a:pt x="18437" y="3163"/>
                  </a:lnTo>
                  <a:lnTo>
                    <a:pt x="15550" y="3757"/>
                  </a:lnTo>
                  <a:lnTo>
                    <a:pt x="15020" y="859"/>
                  </a:lnTo>
                  <a:lnTo>
                    <a:pt x="12566" y="2491"/>
                  </a:lnTo>
                  <a:lnTo>
                    <a:pt x="10800" y="0"/>
                  </a:lnTo>
                  <a:lnTo>
                    <a:pt x="9179" y="2461"/>
                  </a:lnTo>
                  <a:lnTo>
                    <a:pt x="6754" y="786"/>
                  </a:lnTo>
                  <a:lnTo>
                    <a:pt x="6173" y="3675"/>
                  </a:lnTo>
                  <a:lnTo>
                    <a:pt x="3163" y="3163"/>
                  </a:lnTo>
                  <a:lnTo>
                    <a:pt x="3757" y="6050"/>
                  </a:lnTo>
                  <a:lnTo>
                    <a:pt x="859" y="6580"/>
                  </a:lnTo>
                  <a:lnTo>
                    <a:pt x="2491" y="903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4618080" y="4986720"/>
              <a:ext cx="748800" cy="779760"/>
              <a:chOff x="4618080" y="4986720"/>
              <a:chExt cx="748800" cy="77976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4618080" y="4986720"/>
                <a:ext cx="508680" cy="765720"/>
                <a:chOff x="4618080" y="4986720"/>
                <a:chExt cx="508680" cy="765720"/>
              </a:xfrm>
            </p:grpSpPr>
            <p:sp>
              <p:nvSpPr>
                <p:cNvPr id="565" name=""/>
                <p:cNvSpPr/>
                <p:nvPr/>
              </p:nvSpPr>
              <p:spPr>
                <a:xfrm rot="20700000">
                  <a:off x="4685400" y="5024880"/>
                  <a:ext cx="373320" cy="571680"/>
                </a:xfrm>
                <a:custGeom>
                  <a:avLst/>
                  <a:gdLst/>
                  <a:ahLst/>
                  <a:rect l="l" t="t" r="r" b="b"/>
                  <a:pathLst>
                    <a:path w="461" h="695">
                      <a:moveTo>
                        <a:pt x="371" y="38"/>
                      </a:moveTo>
                      <a:cubicBezTo>
                        <a:pt x="341" y="8"/>
                        <a:pt x="273" y="0"/>
                        <a:pt x="235" y="38"/>
                      </a:cubicBezTo>
                      <a:cubicBezTo>
                        <a:pt x="197" y="76"/>
                        <a:pt x="182" y="166"/>
                        <a:pt x="144" y="264"/>
                      </a:cubicBezTo>
                      <a:cubicBezTo>
                        <a:pt x="106" y="362"/>
                        <a:pt x="16" y="567"/>
                        <a:pt x="8" y="627"/>
                      </a:cubicBezTo>
                      <a:cubicBezTo>
                        <a:pt x="0" y="687"/>
                        <a:pt x="30" y="695"/>
                        <a:pt x="98" y="627"/>
                      </a:cubicBezTo>
                      <a:cubicBezTo>
                        <a:pt x="166" y="559"/>
                        <a:pt x="371" y="317"/>
                        <a:pt x="416" y="219"/>
                      </a:cubicBezTo>
                      <a:cubicBezTo>
                        <a:pt x="461" y="121"/>
                        <a:pt x="401" y="68"/>
                        <a:pt x="371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20700000">
                  <a:off x="4678200" y="5664600"/>
                  <a:ext cx="110160" cy="74520"/>
                </a:xfrm>
                <a:custGeom>
                  <a:avLst/>
                  <a:gdLst/>
                  <a:ahLst/>
                  <a:rect l="l" t="t" r="r" b="b"/>
                  <a:pathLst>
                    <a:path w="136" h="91">
                      <a:moveTo>
                        <a:pt x="45" y="0"/>
                      </a:moveTo>
                      <a:cubicBezTo>
                        <a:pt x="22" y="0"/>
                        <a:pt x="0" y="30"/>
                        <a:pt x="0" y="45"/>
                      </a:cubicBezTo>
                      <a:cubicBezTo>
                        <a:pt x="0" y="60"/>
                        <a:pt x="22" y="91"/>
                        <a:pt x="45" y="91"/>
                      </a:cubicBezTo>
                      <a:cubicBezTo>
                        <a:pt x="68" y="91"/>
                        <a:pt x="136" y="60"/>
                        <a:pt x="136" y="45"/>
                      </a:cubicBezTo>
                      <a:cubicBezTo>
                        <a:pt x="136" y="30"/>
                        <a:pt x="68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858560" y="5001120"/>
                <a:ext cx="508320" cy="765360"/>
                <a:chOff x="4858560" y="5001120"/>
                <a:chExt cx="508320" cy="765360"/>
              </a:xfrm>
            </p:grpSpPr>
            <p:sp>
              <p:nvSpPr>
                <p:cNvPr id="568" name=""/>
                <p:cNvSpPr/>
                <p:nvPr/>
              </p:nvSpPr>
              <p:spPr>
                <a:xfrm rot="20700000">
                  <a:off x="4925880" y="5039280"/>
                  <a:ext cx="373320" cy="571320"/>
                </a:xfrm>
                <a:custGeom>
                  <a:avLst/>
                  <a:gdLst/>
                  <a:ahLst/>
                  <a:rect l="l" t="t" r="r" b="b"/>
                  <a:pathLst>
                    <a:path w="461" h="695">
                      <a:moveTo>
                        <a:pt x="371" y="38"/>
                      </a:moveTo>
                      <a:cubicBezTo>
                        <a:pt x="341" y="8"/>
                        <a:pt x="273" y="0"/>
                        <a:pt x="235" y="38"/>
                      </a:cubicBezTo>
                      <a:cubicBezTo>
                        <a:pt x="197" y="76"/>
                        <a:pt x="182" y="166"/>
                        <a:pt x="144" y="264"/>
                      </a:cubicBezTo>
                      <a:cubicBezTo>
                        <a:pt x="106" y="362"/>
                        <a:pt x="16" y="567"/>
                        <a:pt x="8" y="627"/>
                      </a:cubicBezTo>
                      <a:cubicBezTo>
                        <a:pt x="0" y="687"/>
                        <a:pt x="30" y="695"/>
                        <a:pt x="98" y="627"/>
                      </a:cubicBezTo>
                      <a:cubicBezTo>
                        <a:pt x="166" y="559"/>
                        <a:pt x="371" y="317"/>
                        <a:pt x="416" y="219"/>
                      </a:cubicBezTo>
                      <a:cubicBezTo>
                        <a:pt x="461" y="121"/>
                        <a:pt x="401" y="68"/>
                        <a:pt x="371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20700000">
                  <a:off x="4918680" y="5678640"/>
                  <a:ext cx="110160" cy="74520"/>
                </a:xfrm>
                <a:custGeom>
                  <a:avLst/>
                  <a:gdLst/>
                  <a:ahLst/>
                  <a:rect l="l" t="t" r="r" b="b"/>
                  <a:pathLst>
                    <a:path w="136" h="91">
                      <a:moveTo>
                        <a:pt x="45" y="0"/>
                      </a:moveTo>
                      <a:cubicBezTo>
                        <a:pt x="22" y="0"/>
                        <a:pt x="0" y="30"/>
                        <a:pt x="0" y="45"/>
                      </a:cubicBezTo>
                      <a:cubicBezTo>
                        <a:pt x="0" y="60"/>
                        <a:pt x="22" y="91"/>
                        <a:pt x="45" y="91"/>
                      </a:cubicBezTo>
                      <a:cubicBezTo>
                        <a:pt x="68" y="91"/>
                        <a:pt x="136" y="60"/>
                        <a:pt x="136" y="45"/>
                      </a:cubicBezTo>
                      <a:cubicBezTo>
                        <a:pt x="136" y="30"/>
                        <a:pt x="68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0" name=""/>
          <p:cNvGrpSpPr/>
          <p:nvPr/>
        </p:nvGrpSpPr>
        <p:grpSpPr>
          <a:xfrm>
            <a:off x="2505240" y="4869000"/>
            <a:ext cx="1223640" cy="1150560"/>
            <a:chOff x="2505240" y="4869000"/>
            <a:chExt cx="1223640" cy="1150560"/>
          </a:xfrm>
        </p:grpSpPr>
        <p:grpSp>
          <p:nvGrpSpPr>
            <p:cNvPr id="571" name=""/>
            <p:cNvGrpSpPr/>
            <p:nvPr/>
          </p:nvGrpSpPr>
          <p:grpSpPr>
            <a:xfrm>
              <a:off x="2505240" y="4869000"/>
              <a:ext cx="1223640" cy="1150560"/>
              <a:chOff x="2505240" y="4869000"/>
              <a:chExt cx="1223640" cy="1150560"/>
            </a:xfrm>
          </p:grpSpPr>
          <p:sp>
            <p:nvSpPr>
              <p:cNvPr id="572" name=""/>
              <p:cNvSpPr/>
              <p:nvPr/>
            </p:nvSpPr>
            <p:spPr>
              <a:xfrm>
                <a:off x="2505240" y="4869000"/>
                <a:ext cx="1223640" cy="95904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20880" y="5700960"/>
                <a:ext cx="360360" cy="318600"/>
              </a:xfrm>
              <a:custGeom>
                <a:avLst/>
                <a:gdLst/>
                <a:ahLst/>
                <a:rect l="l" t="t" r="r" b="b"/>
                <a:pathLst>
                  <a:path w="227" h="226">
                    <a:moveTo>
                      <a:pt x="91" y="0"/>
                    </a:moveTo>
                    <a:lnTo>
                      <a:pt x="0" y="226"/>
                    </a:lnTo>
                    <a:lnTo>
                      <a:pt x="227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333333"/>
              </a:solidFill>
              <a:ln w="57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05240" y="4869000"/>
                <a:ext cx="1223640" cy="959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20880" y="5700960"/>
                <a:ext cx="360360" cy="318600"/>
              </a:xfrm>
              <a:custGeom>
                <a:avLst/>
                <a:gdLst/>
                <a:ahLst/>
                <a:rect l="l" t="t" r="r" b="b"/>
                <a:pathLst>
                  <a:path w="227" h="226">
                    <a:moveTo>
                      <a:pt x="91" y="0"/>
                    </a:moveTo>
                    <a:lnTo>
                      <a:pt x="0" y="226"/>
                    </a:lnTo>
                    <a:lnTo>
                      <a:pt x="227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2745360" y="4886280"/>
              <a:ext cx="826920" cy="861120"/>
              <a:chOff x="2745360" y="4886280"/>
              <a:chExt cx="826920" cy="86112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2745360" y="4886280"/>
                <a:ext cx="561600" cy="845640"/>
                <a:chOff x="2745360" y="4886280"/>
                <a:chExt cx="561600" cy="845640"/>
              </a:xfrm>
            </p:grpSpPr>
            <p:sp>
              <p:nvSpPr>
                <p:cNvPr id="578" name=""/>
                <p:cNvSpPr/>
                <p:nvPr/>
              </p:nvSpPr>
              <p:spPr>
                <a:xfrm rot="20700000">
                  <a:off x="2819880" y="4928400"/>
                  <a:ext cx="412200" cy="631440"/>
                </a:xfrm>
                <a:custGeom>
                  <a:avLst/>
                  <a:gdLst/>
                  <a:ahLst/>
                  <a:rect l="l" t="t" r="r" b="b"/>
                  <a:pathLst>
                    <a:path w="461" h="695">
                      <a:moveTo>
                        <a:pt x="371" y="38"/>
                      </a:moveTo>
                      <a:cubicBezTo>
                        <a:pt x="341" y="8"/>
                        <a:pt x="273" y="0"/>
                        <a:pt x="235" y="38"/>
                      </a:cubicBezTo>
                      <a:cubicBezTo>
                        <a:pt x="197" y="76"/>
                        <a:pt x="182" y="166"/>
                        <a:pt x="144" y="264"/>
                      </a:cubicBezTo>
                      <a:cubicBezTo>
                        <a:pt x="106" y="362"/>
                        <a:pt x="16" y="567"/>
                        <a:pt x="8" y="627"/>
                      </a:cubicBezTo>
                      <a:cubicBezTo>
                        <a:pt x="0" y="687"/>
                        <a:pt x="30" y="695"/>
                        <a:pt x="98" y="627"/>
                      </a:cubicBezTo>
                      <a:cubicBezTo>
                        <a:pt x="166" y="559"/>
                        <a:pt x="371" y="317"/>
                        <a:pt x="416" y="219"/>
                      </a:cubicBezTo>
                      <a:cubicBezTo>
                        <a:pt x="461" y="121"/>
                        <a:pt x="401" y="68"/>
                        <a:pt x="371" y="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20700000">
                  <a:off x="2811960" y="5635080"/>
                  <a:ext cx="121320" cy="82440"/>
                </a:xfrm>
                <a:custGeom>
                  <a:avLst/>
                  <a:gdLst/>
                  <a:ahLst/>
                  <a:rect l="l" t="t" r="r" b="b"/>
                  <a:pathLst>
                    <a:path w="136" h="91">
                      <a:moveTo>
                        <a:pt x="45" y="0"/>
                      </a:moveTo>
                      <a:cubicBezTo>
                        <a:pt x="22" y="0"/>
                        <a:pt x="0" y="30"/>
                        <a:pt x="0" y="45"/>
                      </a:cubicBezTo>
                      <a:cubicBezTo>
                        <a:pt x="0" y="60"/>
                        <a:pt x="22" y="91"/>
                        <a:pt x="45" y="91"/>
                      </a:cubicBezTo>
                      <a:cubicBezTo>
                        <a:pt x="68" y="91"/>
                        <a:pt x="136" y="60"/>
                        <a:pt x="136" y="45"/>
                      </a:cubicBezTo>
                      <a:cubicBezTo>
                        <a:pt x="136" y="30"/>
                        <a:pt x="68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3010680" y="4902120"/>
                <a:ext cx="561600" cy="845280"/>
                <a:chOff x="3010680" y="4902120"/>
                <a:chExt cx="561600" cy="845280"/>
              </a:xfrm>
            </p:grpSpPr>
            <p:sp>
              <p:nvSpPr>
                <p:cNvPr id="581" name=""/>
                <p:cNvSpPr/>
                <p:nvPr/>
              </p:nvSpPr>
              <p:spPr>
                <a:xfrm rot="20700000">
                  <a:off x="3085200" y="4944240"/>
                  <a:ext cx="412200" cy="631440"/>
                </a:xfrm>
                <a:custGeom>
                  <a:avLst/>
                  <a:gdLst/>
                  <a:ahLst/>
                  <a:rect l="l" t="t" r="r" b="b"/>
                  <a:pathLst>
                    <a:path w="461" h="695">
                      <a:moveTo>
                        <a:pt x="371" y="38"/>
                      </a:moveTo>
                      <a:cubicBezTo>
                        <a:pt x="341" y="8"/>
                        <a:pt x="273" y="0"/>
                        <a:pt x="235" y="38"/>
                      </a:cubicBezTo>
                      <a:cubicBezTo>
                        <a:pt x="197" y="76"/>
                        <a:pt x="182" y="166"/>
                        <a:pt x="144" y="264"/>
                      </a:cubicBezTo>
                      <a:cubicBezTo>
                        <a:pt x="106" y="362"/>
                        <a:pt x="16" y="567"/>
                        <a:pt x="8" y="627"/>
                      </a:cubicBezTo>
                      <a:cubicBezTo>
                        <a:pt x="0" y="687"/>
                        <a:pt x="30" y="695"/>
                        <a:pt x="98" y="627"/>
                      </a:cubicBezTo>
                      <a:cubicBezTo>
                        <a:pt x="166" y="559"/>
                        <a:pt x="371" y="317"/>
                        <a:pt x="416" y="219"/>
                      </a:cubicBezTo>
                      <a:cubicBezTo>
                        <a:pt x="461" y="121"/>
                        <a:pt x="401" y="68"/>
                        <a:pt x="371" y="3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20700000">
                  <a:off x="3077280" y="5650560"/>
                  <a:ext cx="121320" cy="82440"/>
                </a:xfrm>
                <a:custGeom>
                  <a:avLst/>
                  <a:gdLst/>
                  <a:ahLst/>
                  <a:rect l="l" t="t" r="r" b="b"/>
                  <a:pathLst>
                    <a:path w="136" h="91">
                      <a:moveTo>
                        <a:pt x="45" y="0"/>
                      </a:moveTo>
                      <a:cubicBezTo>
                        <a:pt x="22" y="0"/>
                        <a:pt x="0" y="30"/>
                        <a:pt x="0" y="45"/>
                      </a:cubicBezTo>
                      <a:cubicBezTo>
                        <a:pt x="0" y="60"/>
                        <a:pt x="22" y="91"/>
                        <a:pt x="45" y="91"/>
                      </a:cubicBezTo>
                      <a:cubicBezTo>
                        <a:pt x="68" y="91"/>
                        <a:pt x="136" y="60"/>
                        <a:pt x="136" y="45"/>
                      </a:cubicBezTo>
                      <a:cubicBezTo>
                        <a:pt x="136" y="30"/>
                        <a:pt x="68" y="0"/>
                        <a:pt x="4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メイリオ"/>
              </a:rPr>
              <a:t>ひらめき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44600" y="909720"/>
            <a:ext cx="1417320" cy="1481040"/>
            <a:chOff x="444600" y="909720"/>
            <a:chExt cx="1417320" cy="1481040"/>
          </a:xfrm>
        </p:grpSpPr>
        <p:sp>
          <p:nvSpPr>
            <p:cNvPr id="585" name=""/>
            <p:cNvSpPr/>
            <p:nvPr/>
          </p:nvSpPr>
          <p:spPr>
            <a:xfrm>
              <a:off x="699840" y="1341360"/>
              <a:ext cx="792360" cy="928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5480" y="1341360"/>
              <a:ext cx="823680" cy="928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286280" y="1831680"/>
              <a:ext cx="325800" cy="326520"/>
              <a:chOff x="1286280" y="1831680"/>
              <a:chExt cx="325800" cy="326520"/>
            </a:xfrm>
          </p:grpSpPr>
          <p:sp>
            <p:nvSpPr>
              <p:cNvPr id="588" name=""/>
              <p:cNvSpPr/>
              <p:nvPr/>
            </p:nvSpPr>
            <p:spPr>
              <a:xfrm flipH="1" rot="19800000">
                <a:off x="1329480" y="1874880"/>
                <a:ext cx="237960" cy="23940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rot="19800000">
                <a:off x="1353240" y="1899000"/>
                <a:ext cx="167760" cy="16992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444600" y="1831680"/>
              <a:ext cx="325800" cy="326520"/>
              <a:chOff x="444600" y="1831680"/>
              <a:chExt cx="325800" cy="326520"/>
            </a:xfrm>
          </p:grpSpPr>
          <p:sp>
            <p:nvSpPr>
              <p:cNvPr id="591" name=""/>
              <p:cNvSpPr/>
              <p:nvPr/>
            </p:nvSpPr>
            <p:spPr>
              <a:xfrm rot="1800000">
                <a:off x="488520" y="1874880"/>
                <a:ext cx="237960" cy="23976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00000">
                <a:off x="534240" y="1899000"/>
                <a:ext cx="167760" cy="16992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606240" y="1450800"/>
              <a:ext cx="844560" cy="939960"/>
            </a:xfrm>
            <a:prstGeom prst="ellipse">
              <a:avLst/>
            </a:prstGeom>
            <a:gradFill rotWithShape="0">
              <a:gsLst>
                <a:gs pos="0">
                  <a:srgbClr val="fedfa1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6200000">
              <a:off x="937800" y="1958400"/>
              <a:ext cx="17316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68040" y="2062080"/>
              <a:ext cx="119160" cy="31680"/>
            </a:xfrm>
            <a:custGeom>
              <a:avLst/>
              <a:gdLst/>
              <a:ahLst/>
              <a:rect l="l" t="t" r="r" b="b"/>
              <a:pathLst>
                <a:path w="264" h="59">
                  <a:moveTo>
                    <a:pt x="245" y="3"/>
                  </a:moveTo>
                  <a:cubicBezTo>
                    <a:pt x="264" y="3"/>
                    <a:pt x="264" y="21"/>
                    <a:pt x="245" y="31"/>
                  </a:cubicBezTo>
                  <a:cubicBezTo>
                    <a:pt x="226" y="40"/>
                    <a:pt x="170" y="59"/>
                    <a:pt x="132" y="59"/>
                  </a:cubicBezTo>
                  <a:cubicBezTo>
                    <a:pt x="94" y="59"/>
                    <a:pt x="38" y="40"/>
                    <a:pt x="19" y="31"/>
                  </a:cubicBezTo>
                  <a:cubicBezTo>
                    <a:pt x="0" y="21"/>
                    <a:pt x="0" y="6"/>
                    <a:pt x="19" y="3"/>
                  </a:cubicBezTo>
                  <a:cubicBezTo>
                    <a:pt x="38" y="0"/>
                    <a:pt x="94" y="14"/>
                    <a:pt x="132" y="14"/>
                  </a:cubicBezTo>
                  <a:cubicBezTo>
                    <a:pt x="170" y="14"/>
                    <a:pt x="222" y="5"/>
                    <a:pt x="245" y="3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5400000">
              <a:off x="750960" y="1545480"/>
              <a:ext cx="1317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19" y="1047"/>
                    <a:pt x="5837" y="5080"/>
                    <a:pt x="5837" y="10800"/>
                  </a:cubicBezTo>
                  <a:cubicBezTo>
                    <a:pt x="5837" y="16520"/>
                    <a:pt x="13719" y="2055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5400000">
              <a:off x="1145160" y="1545480"/>
              <a:ext cx="13176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19" y="1047"/>
                    <a:pt x="5837" y="5080"/>
                    <a:pt x="5837" y="10800"/>
                  </a:cubicBezTo>
                  <a:cubicBezTo>
                    <a:pt x="5837" y="16520"/>
                    <a:pt x="13719" y="2055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840" y="17733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31840" y="1773360"/>
              <a:ext cx="21564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2920" y="1846440"/>
              <a:ext cx="730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04560" y="1846440"/>
              <a:ext cx="730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280880" y="909720"/>
              <a:ext cx="581040" cy="647280"/>
              <a:chOff x="1280880" y="909720"/>
              <a:chExt cx="581040" cy="647280"/>
            </a:xfrm>
          </p:grpSpPr>
          <p:sp>
            <p:nvSpPr>
              <p:cNvPr id="603" name=""/>
              <p:cNvSpPr/>
              <p:nvPr/>
            </p:nvSpPr>
            <p:spPr>
              <a:xfrm>
                <a:off x="1280880" y="909720"/>
                <a:ext cx="581040" cy="58176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6400" y="1362960"/>
                <a:ext cx="128160" cy="1940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33"/>
              </a:solidFill>
              <a:ln w="57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80880" y="909720"/>
                <a:ext cx="581040" cy="58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6400" y="1362960"/>
                <a:ext cx="128160" cy="1940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410840" y="977040"/>
              <a:ext cx="347040" cy="448200"/>
              <a:chOff x="1410840" y="977040"/>
              <a:chExt cx="347040" cy="448200"/>
            </a:xfrm>
          </p:grpSpPr>
          <p:sp>
            <p:nvSpPr>
              <p:cNvPr id="608" name=""/>
              <p:cNvSpPr/>
              <p:nvPr/>
            </p:nvSpPr>
            <p:spPr>
              <a:xfrm rot="1105800">
                <a:off x="1446840" y="1013400"/>
                <a:ext cx="274680" cy="2728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1905800">
                <a:off x="1585800" y="1035360"/>
                <a:ext cx="129960" cy="27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105800">
                <a:off x="1469520" y="1379880"/>
                <a:ext cx="60120" cy="36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105800">
                <a:off x="1446120" y="1380960"/>
                <a:ext cx="109440" cy="23760"/>
              </a:xfrm>
              <a:custGeom>
                <a:avLst/>
                <a:gdLst>
                  <a:gd name="textAreaLeft" fmla="*/ 24120 w 109440"/>
                  <a:gd name="textAreaRight" fmla="*/ 85320 w 109440"/>
                  <a:gd name="textAreaTop" fmla="*/ 5040 h 23760"/>
                  <a:gd name="textAreaBottom" fmla="*/ 18720 h 2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105800">
                <a:off x="1458000" y="1262520"/>
                <a:ext cx="131760" cy="1220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585000">
                <a:off x="1458000" y="1276560"/>
                <a:ext cx="157320" cy="2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585000">
                <a:off x="1449360" y="1297440"/>
                <a:ext cx="156960" cy="2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85000">
                <a:off x="1442880" y="1321560"/>
                <a:ext cx="157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585000">
                <a:off x="1434960" y="1346040"/>
                <a:ext cx="1569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2360520" y="907920"/>
            <a:ext cx="1444680" cy="1481400"/>
            <a:chOff x="2360520" y="907920"/>
            <a:chExt cx="1444680" cy="1481400"/>
          </a:xfrm>
        </p:grpSpPr>
        <p:sp>
          <p:nvSpPr>
            <p:cNvPr id="618" name=""/>
            <p:cNvSpPr/>
            <p:nvPr/>
          </p:nvSpPr>
          <p:spPr>
            <a:xfrm>
              <a:off x="2360520" y="1413000"/>
              <a:ext cx="1224000" cy="936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43120" y="1268280"/>
              <a:ext cx="792360" cy="936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98760" y="1268280"/>
              <a:ext cx="824040" cy="936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229560" y="1829880"/>
              <a:ext cx="325800" cy="326520"/>
              <a:chOff x="3229560" y="1829880"/>
              <a:chExt cx="325800" cy="326520"/>
            </a:xfrm>
          </p:grpSpPr>
          <p:sp>
            <p:nvSpPr>
              <p:cNvPr id="622" name=""/>
              <p:cNvSpPr/>
              <p:nvPr/>
            </p:nvSpPr>
            <p:spPr>
              <a:xfrm flipH="1" rot="19800000">
                <a:off x="3272760" y="1873080"/>
                <a:ext cx="237960" cy="23940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rot="19800000">
                <a:off x="3296520" y="1897200"/>
                <a:ext cx="167760" cy="16992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387880" y="1829880"/>
              <a:ext cx="325800" cy="326520"/>
              <a:chOff x="2387880" y="1829880"/>
              <a:chExt cx="325800" cy="326520"/>
            </a:xfrm>
          </p:grpSpPr>
          <p:sp>
            <p:nvSpPr>
              <p:cNvPr id="625" name=""/>
              <p:cNvSpPr/>
              <p:nvPr/>
            </p:nvSpPr>
            <p:spPr>
              <a:xfrm rot="1800000">
                <a:off x="2431800" y="1873080"/>
                <a:ext cx="237960" cy="23976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800000">
                <a:off x="2477520" y="1897200"/>
                <a:ext cx="167760" cy="16992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2549520" y="1449360"/>
              <a:ext cx="844560" cy="939960"/>
            </a:xfrm>
            <a:prstGeom prst="ellipse">
              <a:avLst/>
            </a:prstGeom>
            <a:gradFill rotWithShape="0">
              <a:gsLst>
                <a:gs pos="0">
                  <a:srgbClr val="fedfa1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2881440" y="1957320"/>
              <a:ext cx="17280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11320" y="2060640"/>
              <a:ext cx="119160" cy="31680"/>
            </a:xfrm>
            <a:custGeom>
              <a:avLst/>
              <a:gdLst/>
              <a:ahLst/>
              <a:rect l="l" t="t" r="r" b="b"/>
              <a:pathLst>
                <a:path w="264" h="59">
                  <a:moveTo>
                    <a:pt x="245" y="3"/>
                  </a:moveTo>
                  <a:cubicBezTo>
                    <a:pt x="264" y="3"/>
                    <a:pt x="264" y="21"/>
                    <a:pt x="245" y="31"/>
                  </a:cubicBezTo>
                  <a:cubicBezTo>
                    <a:pt x="226" y="40"/>
                    <a:pt x="170" y="59"/>
                    <a:pt x="132" y="59"/>
                  </a:cubicBezTo>
                  <a:cubicBezTo>
                    <a:pt x="94" y="59"/>
                    <a:pt x="38" y="40"/>
                    <a:pt x="19" y="31"/>
                  </a:cubicBezTo>
                  <a:cubicBezTo>
                    <a:pt x="0" y="21"/>
                    <a:pt x="0" y="6"/>
                    <a:pt x="19" y="3"/>
                  </a:cubicBezTo>
                  <a:cubicBezTo>
                    <a:pt x="38" y="0"/>
                    <a:pt x="94" y="14"/>
                    <a:pt x="132" y="14"/>
                  </a:cubicBezTo>
                  <a:cubicBezTo>
                    <a:pt x="170" y="14"/>
                    <a:pt x="222" y="5"/>
                    <a:pt x="245" y="3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2694240" y="1543680"/>
              <a:ext cx="1317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86" y="2148"/>
                    <a:pt x="11971" y="5080"/>
                    <a:pt x="11971" y="10800"/>
                  </a:cubicBezTo>
                  <a:cubicBezTo>
                    <a:pt x="11971" y="16520"/>
                    <a:pt x="16786" y="1945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3088440" y="1543680"/>
              <a:ext cx="131760" cy="3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86" y="2148"/>
                    <a:pt x="11971" y="5080"/>
                    <a:pt x="11971" y="10800"/>
                  </a:cubicBezTo>
                  <a:cubicBezTo>
                    <a:pt x="11971" y="16520"/>
                    <a:pt x="16786" y="1945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16200" y="1844640"/>
              <a:ext cx="730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47840" y="1844640"/>
              <a:ext cx="7308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3224160" y="907920"/>
              <a:ext cx="581040" cy="647640"/>
              <a:chOff x="3224160" y="907920"/>
              <a:chExt cx="581040" cy="647640"/>
            </a:xfrm>
          </p:grpSpPr>
          <p:sp>
            <p:nvSpPr>
              <p:cNvPr id="635" name=""/>
              <p:cNvSpPr/>
              <p:nvPr/>
            </p:nvSpPr>
            <p:spPr>
              <a:xfrm>
                <a:off x="3224160" y="907920"/>
                <a:ext cx="581040" cy="582120"/>
              </a:xfrm>
              <a:prstGeom prst="ellipse">
                <a:avLst/>
              </a:prstGeom>
              <a:solidFill>
                <a:srgbClr val="333333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9680" y="1361520"/>
                <a:ext cx="128160" cy="1940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33"/>
              </a:solidFill>
              <a:ln w="57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24160" y="907920"/>
                <a:ext cx="581040" cy="58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289680" y="1361520"/>
                <a:ext cx="128160" cy="194040"/>
              </a:xfrm>
              <a:custGeom>
                <a:avLst/>
                <a:gdLst/>
                <a:ahLst/>
                <a:rect l="l" t="t" r="r" b="b"/>
                <a:pathLst>
                  <a:path w="90" h="136">
                    <a:moveTo>
                      <a:pt x="45" y="0"/>
                    </a:moveTo>
                    <a:lnTo>
                      <a:pt x="0" y="136"/>
                    </a:lnTo>
                    <a:lnTo>
                      <a:pt x="90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354480" y="975240"/>
              <a:ext cx="347040" cy="448200"/>
              <a:chOff x="3354480" y="975240"/>
              <a:chExt cx="347040" cy="448200"/>
            </a:xfrm>
          </p:grpSpPr>
          <p:sp>
            <p:nvSpPr>
              <p:cNvPr id="640" name=""/>
              <p:cNvSpPr/>
              <p:nvPr/>
            </p:nvSpPr>
            <p:spPr>
              <a:xfrm rot="1105800">
                <a:off x="3390480" y="1011600"/>
                <a:ext cx="274680" cy="2728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1905800">
                <a:off x="3529440" y="1033560"/>
                <a:ext cx="129960" cy="27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105800">
                <a:off x="3413160" y="1378080"/>
                <a:ext cx="60120" cy="363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efefe"/>
                  </a:gs>
                  <a:gs pos="100000">
                    <a:srgbClr val="b2b2b2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105800">
                <a:off x="3389760" y="1379160"/>
                <a:ext cx="109440" cy="23760"/>
              </a:xfrm>
              <a:custGeom>
                <a:avLst/>
                <a:gdLst>
                  <a:gd name="textAreaLeft" fmla="*/ 24120 w 109440"/>
                  <a:gd name="textAreaRight" fmla="*/ 85320 w 109440"/>
                  <a:gd name="textAreaTop" fmla="*/ 5040 h 23760"/>
                  <a:gd name="textAreaBottom" fmla="*/ 18720 h 2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8d8d8d"/>
                  </a:gs>
                  <a:gs pos="100000">
                    <a:srgbClr val="000000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105800">
                <a:off x="3401640" y="1260720"/>
                <a:ext cx="131760" cy="1220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9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585000">
                <a:off x="3401640" y="1274760"/>
                <a:ext cx="157320" cy="2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585000">
                <a:off x="3393000" y="1295640"/>
                <a:ext cx="156960" cy="2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585000">
                <a:off x="3386520" y="1319760"/>
                <a:ext cx="157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585000">
                <a:off x="3378600" y="1344240"/>
                <a:ext cx="15696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99"/>
                  </a:gs>
                  <a:gs pos="100000">
                    <a:srgbClr val="ffcc00"/>
                  </a:gs>
                </a:gsLst>
                <a:lin ang="41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631800" y="4782600"/>
            <a:ext cx="1287360" cy="1383120"/>
            <a:chOff x="631800" y="4782600"/>
            <a:chExt cx="1287360" cy="1383120"/>
          </a:xfrm>
        </p:grpSpPr>
        <p:sp>
          <p:nvSpPr>
            <p:cNvPr id="650" name=""/>
            <p:cNvSpPr/>
            <p:nvPr/>
          </p:nvSpPr>
          <p:spPr>
            <a:xfrm>
              <a:off x="631800" y="5013360"/>
              <a:ext cx="1152720" cy="1152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488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28124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6160" y="5302440"/>
              <a:ext cx="287640" cy="28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52520" y="5302440"/>
              <a:ext cx="287280" cy="28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1089000" y="5625720"/>
              <a:ext cx="23940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492920" y="4782600"/>
              <a:ext cx="426240" cy="373680"/>
              <a:chOff x="1492920" y="4782600"/>
              <a:chExt cx="426240" cy="373680"/>
            </a:xfrm>
          </p:grpSpPr>
          <p:sp>
            <p:nvSpPr>
              <p:cNvPr id="657" name=""/>
              <p:cNvSpPr/>
              <p:nvPr/>
            </p:nvSpPr>
            <p:spPr>
              <a:xfrm rot="246000">
                <a:off x="1500480" y="478476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046600">
                <a:off x="1657080" y="484020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3846600">
                <a:off x="1768680" y="496728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6176880" y="4782600"/>
            <a:ext cx="1286640" cy="1383120"/>
            <a:chOff x="6176880" y="4782600"/>
            <a:chExt cx="1286640" cy="1383120"/>
          </a:xfrm>
        </p:grpSpPr>
        <p:sp>
          <p:nvSpPr>
            <p:cNvPr id="661" name=""/>
            <p:cNvSpPr/>
            <p:nvPr/>
          </p:nvSpPr>
          <p:spPr>
            <a:xfrm>
              <a:off x="6176880" y="5013360"/>
              <a:ext cx="1152720" cy="1152360"/>
            </a:xfrm>
            <a:prstGeom prst="ellipse">
              <a:avLst/>
            </a:prstGeom>
            <a:gradFill rotWithShape="0">
              <a:gsLst>
                <a:gs pos="0">
                  <a:srgbClr val="fec49d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4996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2632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21600" y="530244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3c3c3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7600" y="530244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3c3c3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6633360" y="5626440"/>
              <a:ext cx="239400" cy="57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7038360" y="4782600"/>
              <a:ext cx="425160" cy="373320"/>
              <a:chOff x="7038360" y="4782600"/>
              <a:chExt cx="425160" cy="373320"/>
            </a:xfrm>
          </p:grpSpPr>
          <p:sp>
            <p:nvSpPr>
              <p:cNvPr id="668" name=""/>
              <p:cNvSpPr/>
              <p:nvPr/>
            </p:nvSpPr>
            <p:spPr>
              <a:xfrm rot="246000">
                <a:off x="7045920" y="4784760"/>
                <a:ext cx="72720" cy="2174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6600">
                <a:off x="7202160" y="4840200"/>
                <a:ext cx="72720" cy="2174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3846600">
                <a:off x="7313040" y="4966920"/>
                <a:ext cx="73080" cy="21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2505240" y="4782600"/>
            <a:ext cx="1287360" cy="1383120"/>
            <a:chOff x="2505240" y="4782600"/>
            <a:chExt cx="1287360" cy="1383120"/>
          </a:xfrm>
        </p:grpSpPr>
        <p:sp>
          <p:nvSpPr>
            <p:cNvPr id="672" name=""/>
            <p:cNvSpPr/>
            <p:nvPr/>
          </p:nvSpPr>
          <p:spPr>
            <a:xfrm>
              <a:off x="2505240" y="5013360"/>
              <a:ext cx="1152360" cy="1152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7796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5432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9600" y="5302440"/>
              <a:ext cx="287280" cy="28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25960" y="5302440"/>
              <a:ext cx="287280" cy="287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2901240" y="5482080"/>
              <a:ext cx="36036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366360" y="4782600"/>
              <a:ext cx="426240" cy="373680"/>
              <a:chOff x="3366360" y="4782600"/>
              <a:chExt cx="426240" cy="373680"/>
            </a:xfrm>
          </p:grpSpPr>
          <p:sp>
            <p:nvSpPr>
              <p:cNvPr id="679" name=""/>
              <p:cNvSpPr/>
              <p:nvPr/>
            </p:nvSpPr>
            <p:spPr>
              <a:xfrm rot="246000">
                <a:off x="3373920" y="478476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6600">
                <a:off x="3530520" y="484020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3846600">
                <a:off x="3642120" y="496728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2649600" y="5300640"/>
              <a:ext cx="287280" cy="28908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24160" y="5300640"/>
              <a:ext cx="287280" cy="28908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048520" y="4711320"/>
            <a:ext cx="1286280" cy="1383120"/>
            <a:chOff x="8048520" y="4711320"/>
            <a:chExt cx="1286280" cy="1383120"/>
          </a:xfrm>
        </p:grpSpPr>
        <p:sp>
          <p:nvSpPr>
            <p:cNvPr id="685" name=""/>
            <p:cNvSpPr/>
            <p:nvPr/>
          </p:nvSpPr>
          <p:spPr>
            <a:xfrm>
              <a:off x="8048520" y="494172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fec49d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121600" y="515772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697960" y="515772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193240" y="523080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3c3c3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769240" y="523080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3c3c3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8444520" y="5410800"/>
              <a:ext cx="360360" cy="86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8910000" y="4711320"/>
              <a:ext cx="424800" cy="373320"/>
              <a:chOff x="8910000" y="4711320"/>
              <a:chExt cx="424800" cy="373320"/>
            </a:xfrm>
          </p:grpSpPr>
          <p:sp>
            <p:nvSpPr>
              <p:cNvPr id="692" name=""/>
              <p:cNvSpPr/>
              <p:nvPr/>
            </p:nvSpPr>
            <p:spPr>
              <a:xfrm rot="246000">
                <a:off x="8917560" y="4713480"/>
                <a:ext cx="72720" cy="2174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46600">
                <a:off x="9073800" y="4768920"/>
                <a:ext cx="72720" cy="2174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3846600">
                <a:off x="9184320" y="4895640"/>
                <a:ext cx="73080" cy="21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8194680" y="5229360"/>
              <a:ext cx="287280" cy="28872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769240" y="5229360"/>
              <a:ext cx="287280" cy="288720"/>
            </a:xfrm>
            <a:custGeom>
              <a:avLst/>
              <a:gdLst>
                <a:gd name="textAreaLeft" fmla="*/ 118440 w 287280"/>
                <a:gd name="textAreaRight" fmla="*/ 168840 w 28728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305240" y="4782600"/>
            <a:ext cx="1287360" cy="1383120"/>
            <a:chOff x="4305240" y="4782600"/>
            <a:chExt cx="1287360" cy="1383120"/>
          </a:xfrm>
        </p:grpSpPr>
        <p:sp>
          <p:nvSpPr>
            <p:cNvPr id="698" name=""/>
            <p:cNvSpPr/>
            <p:nvPr/>
          </p:nvSpPr>
          <p:spPr>
            <a:xfrm>
              <a:off x="4305240" y="5013360"/>
              <a:ext cx="1152720" cy="1152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7832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54680" y="52293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6200000">
              <a:off x="4701240" y="5482080"/>
              <a:ext cx="36036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5166360" y="4782600"/>
              <a:ext cx="426240" cy="373680"/>
              <a:chOff x="5166360" y="4782600"/>
              <a:chExt cx="426240" cy="373680"/>
            </a:xfrm>
          </p:grpSpPr>
          <p:sp>
            <p:nvSpPr>
              <p:cNvPr id="703" name=""/>
              <p:cNvSpPr/>
              <p:nvPr/>
            </p:nvSpPr>
            <p:spPr>
              <a:xfrm rot="246000">
                <a:off x="5173920" y="478476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6600">
                <a:off x="5330520" y="484020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3846600">
                <a:off x="5442120" y="4967280"/>
                <a:ext cx="7308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448160" y="5300640"/>
              <a:ext cx="287280" cy="273240"/>
            </a:xfrm>
            <a:prstGeom prst="star5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24520" y="5300640"/>
              <a:ext cx="287280" cy="273240"/>
            </a:xfrm>
            <a:prstGeom prst="star5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74840" y="2637000"/>
            <a:ext cx="1473120" cy="1881720"/>
            <a:chOff x="474840" y="2637000"/>
            <a:chExt cx="1473120" cy="1881720"/>
          </a:xfrm>
        </p:grpSpPr>
        <p:grpSp>
          <p:nvGrpSpPr>
            <p:cNvPr id="709" name=""/>
            <p:cNvGrpSpPr/>
            <p:nvPr/>
          </p:nvGrpSpPr>
          <p:grpSpPr>
            <a:xfrm>
              <a:off x="657360" y="2781360"/>
              <a:ext cx="825120" cy="691200"/>
              <a:chOff x="657360" y="2781360"/>
              <a:chExt cx="825120" cy="691200"/>
            </a:xfrm>
          </p:grpSpPr>
          <p:sp>
            <p:nvSpPr>
              <p:cNvPr id="710" name=""/>
              <p:cNvSpPr/>
              <p:nvPr/>
            </p:nvSpPr>
            <p:spPr>
              <a:xfrm>
                <a:off x="657360" y="312804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229040" y="312804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229040" y="295488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57360" y="295488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166040" y="286884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20000" y="286884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47800" y="278136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038240" y="2781360"/>
                <a:ext cx="253440" cy="34452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74840" y="3708360"/>
              <a:ext cx="590400" cy="655560"/>
            </a:xfrm>
            <a:custGeom>
              <a:avLst/>
              <a:gdLst/>
              <a:ahLst/>
              <a:rect l="l" t="t" r="r" b="b"/>
              <a:pathLst>
                <a:path w="816" h="907">
                  <a:moveTo>
                    <a:pt x="635" y="0"/>
                  </a:moveTo>
                  <a:lnTo>
                    <a:pt x="227" y="181"/>
                  </a:lnTo>
                  <a:lnTo>
                    <a:pt x="136" y="272"/>
                  </a:lnTo>
                  <a:lnTo>
                    <a:pt x="91" y="363"/>
                  </a:lnTo>
                  <a:lnTo>
                    <a:pt x="0" y="907"/>
                  </a:lnTo>
                  <a:lnTo>
                    <a:pt x="816" y="907"/>
                  </a:lnTo>
                  <a:lnTo>
                    <a:pt x="635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966960" y="3346560"/>
              <a:ext cx="196560" cy="525240"/>
              <a:chOff x="966960" y="3346560"/>
              <a:chExt cx="196560" cy="525240"/>
            </a:xfrm>
          </p:grpSpPr>
          <p:sp>
            <p:nvSpPr>
              <p:cNvPr id="720" name=""/>
              <p:cNvSpPr/>
              <p:nvPr/>
            </p:nvSpPr>
            <p:spPr>
              <a:xfrm>
                <a:off x="966960" y="3346560"/>
                <a:ext cx="196560" cy="52524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966960" y="3510720"/>
                <a:ext cx="196560" cy="19656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rot="20700000">
              <a:off x="704520" y="3274560"/>
              <a:ext cx="127080" cy="22248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rot="900000">
              <a:off x="1298160" y="3274920"/>
              <a:ext cx="127080" cy="22248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7720" y="2919240"/>
              <a:ext cx="636480" cy="75600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1065240" y="3708360"/>
              <a:ext cx="590400" cy="655560"/>
            </a:xfrm>
            <a:custGeom>
              <a:avLst/>
              <a:gdLst/>
              <a:ahLst/>
              <a:rect l="l" t="t" r="r" b="b"/>
              <a:pathLst>
                <a:path w="816" h="907">
                  <a:moveTo>
                    <a:pt x="635" y="0"/>
                  </a:moveTo>
                  <a:lnTo>
                    <a:pt x="227" y="181"/>
                  </a:lnTo>
                  <a:lnTo>
                    <a:pt x="136" y="272"/>
                  </a:lnTo>
                  <a:lnTo>
                    <a:pt x="91" y="363"/>
                  </a:lnTo>
                  <a:lnTo>
                    <a:pt x="0" y="907"/>
                  </a:lnTo>
                  <a:lnTo>
                    <a:pt x="816" y="907"/>
                  </a:lnTo>
                  <a:lnTo>
                    <a:pt x="635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01800" y="3807000"/>
              <a:ext cx="326880" cy="36036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0080" y="3807000"/>
              <a:ext cx="130320" cy="12996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0" y="0"/>
                  </a:moveTo>
                  <a:lnTo>
                    <a:pt x="181" y="0"/>
                  </a:lnTo>
                  <a:lnTo>
                    <a:pt x="136" y="227"/>
                  </a:lnTo>
                  <a:lnTo>
                    <a:pt x="45" y="22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6960" y="3936960"/>
              <a:ext cx="196560" cy="426960"/>
            </a:xfrm>
            <a:custGeom>
              <a:avLst/>
              <a:gdLst/>
              <a:ahLst/>
              <a:rect l="l" t="t" r="r" b="b"/>
              <a:pathLst>
                <a:path w="273" h="590">
                  <a:moveTo>
                    <a:pt x="91" y="0"/>
                  </a:moveTo>
                  <a:lnTo>
                    <a:pt x="182" y="0"/>
                  </a:lnTo>
                  <a:lnTo>
                    <a:pt x="273" y="409"/>
                  </a:lnTo>
                  <a:lnTo>
                    <a:pt x="136" y="590"/>
                  </a:lnTo>
                  <a:lnTo>
                    <a:pt x="0" y="409"/>
                  </a:lnTo>
                  <a:lnTo>
                    <a:pt x="9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68320" y="3675240"/>
              <a:ext cx="196920" cy="295200"/>
            </a:xfrm>
            <a:custGeom>
              <a:avLst/>
              <a:gdLst/>
              <a:ahLst/>
              <a:rect l="l" t="t" r="r" b="b"/>
              <a:pathLst>
                <a:path w="273" h="408">
                  <a:moveTo>
                    <a:pt x="137" y="0"/>
                  </a:moveTo>
                  <a:lnTo>
                    <a:pt x="273" y="181"/>
                  </a:lnTo>
                  <a:lnTo>
                    <a:pt x="46" y="408"/>
                  </a:lnTo>
                  <a:lnTo>
                    <a:pt x="0" y="136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0040" y="3708360"/>
              <a:ext cx="295200" cy="655560"/>
            </a:xfrm>
            <a:custGeom>
              <a:avLst/>
              <a:gdLst/>
              <a:ahLst/>
              <a:rect l="l" t="t" r="r" b="b"/>
              <a:pathLst>
                <a:path w="408" h="907">
                  <a:moveTo>
                    <a:pt x="227" y="0"/>
                  </a:moveTo>
                  <a:lnTo>
                    <a:pt x="227" y="408"/>
                  </a:lnTo>
                  <a:lnTo>
                    <a:pt x="408" y="907"/>
                  </a:lnTo>
                  <a:lnTo>
                    <a:pt x="227" y="726"/>
                  </a:lnTo>
                  <a:lnTo>
                    <a:pt x="0" y="408"/>
                  </a:lnTo>
                  <a:lnTo>
                    <a:pt x="136" y="363"/>
                  </a:lnTo>
                  <a:lnTo>
                    <a:pt x="0" y="272"/>
                  </a:lnTo>
                  <a:lnTo>
                    <a:pt x="136" y="45"/>
                  </a:lnTo>
                  <a:lnTo>
                    <a:pt x="227" y="0"/>
                  </a:lnTo>
                  <a:close/>
                </a:path>
              </a:pathLst>
            </a:custGeom>
            <a:gradFill rotWithShape="0">
              <a:gsLst>
                <a:gs pos="0">
                  <a:srgbClr val="bd9d7c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064520" y="3675240"/>
              <a:ext cx="196920" cy="295200"/>
            </a:xfrm>
            <a:custGeom>
              <a:avLst/>
              <a:gdLst/>
              <a:ahLst/>
              <a:rect l="l" t="t" r="r" b="b"/>
              <a:pathLst>
                <a:path w="273" h="408">
                  <a:moveTo>
                    <a:pt x="137" y="0"/>
                  </a:moveTo>
                  <a:lnTo>
                    <a:pt x="273" y="181"/>
                  </a:lnTo>
                  <a:lnTo>
                    <a:pt x="46" y="408"/>
                  </a:lnTo>
                  <a:lnTo>
                    <a:pt x="0" y="136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1065240" y="3708360"/>
              <a:ext cx="295200" cy="655560"/>
            </a:xfrm>
            <a:custGeom>
              <a:avLst/>
              <a:gdLst/>
              <a:ahLst/>
              <a:rect l="l" t="t" r="r" b="b"/>
              <a:pathLst>
                <a:path w="408" h="907">
                  <a:moveTo>
                    <a:pt x="227" y="0"/>
                  </a:moveTo>
                  <a:lnTo>
                    <a:pt x="227" y="408"/>
                  </a:lnTo>
                  <a:lnTo>
                    <a:pt x="408" y="907"/>
                  </a:lnTo>
                  <a:lnTo>
                    <a:pt x="227" y="726"/>
                  </a:lnTo>
                  <a:lnTo>
                    <a:pt x="0" y="408"/>
                  </a:lnTo>
                  <a:lnTo>
                    <a:pt x="136" y="363"/>
                  </a:lnTo>
                  <a:lnTo>
                    <a:pt x="0" y="272"/>
                  </a:lnTo>
                  <a:lnTo>
                    <a:pt x="136" y="45"/>
                  </a:lnTo>
                  <a:lnTo>
                    <a:pt x="227" y="0"/>
                  </a:lnTo>
                  <a:close/>
                </a:path>
              </a:pathLst>
            </a:custGeom>
            <a:gradFill rotWithShape="0">
              <a:gsLst>
                <a:gs pos="0">
                  <a:srgbClr val="bd9d7c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1048320" y="3362400"/>
              <a:ext cx="3348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35200" y="2852640"/>
              <a:ext cx="21564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50840" y="2852640"/>
              <a:ext cx="216000" cy="1447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1319040" y="3414600"/>
              <a:ext cx="527400" cy="1104120"/>
              <a:chOff x="1319040" y="3414600"/>
              <a:chExt cx="527400" cy="110412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1319040" y="3414600"/>
                <a:ext cx="334080" cy="378360"/>
                <a:chOff x="1319040" y="3414600"/>
                <a:chExt cx="334080" cy="378360"/>
              </a:xfrm>
            </p:grpSpPr>
            <p:sp>
              <p:nvSpPr>
                <p:cNvPr id="738" name=""/>
                <p:cNvSpPr/>
                <p:nvPr/>
              </p:nvSpPr>
              <p:spPr>
                <a:xfrm rot="20700000">
                  <a:off x="1347840" y="3501360"/>
                  <a:ext cx="275760" cy="260280"/>
                </a:xfrm>
                <a:prstGeom prst="roundRect">
                  <a:avLst>
                    <a:gd name="adj" fmla="val 2744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rot="20700000">
                  <a:off x="1513440" y="3421440"/>
                  <a:ext cx="72720" cy="142920"/>
                </a:xfrm>
                <a:custGeom>
                  <a:avLst/>
                  <a:gdLst>
                    <a:gd name="textAreaLeft" fmla="*/ 10440 w 72720"/>
                    <a:gd name="textAreaRight" fmla="*/ 62280 w 7272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349">
                      <a:moveTo>
                        <a:pt x="10800" y="0"/>
                      </a:moveTo>
                      <a:arcTo wR="10800" hR="10800" stAng="16200000" swAng="-5400000"/>
                      <a:lnTo>
                        <a:pt x="0" y="31549"/>
                      </a:lnTo>
                      <a:arcTo wR="10800" hR="10800" stAng="10800000" swAng="-5400000"/>
                      <a:lnTo>
                        <a:pt x="10800" y="4234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rot="20700000">
                  <a:off x="1387440" y="3472920"/>
                  <a:ext cx="72720" cy="142920"/>
                </a:xfrm>
                <a:custGeom>
                  <a:avLst/>
                  <a:gdLst>
                    <a:gd name="textAreaLeft" fmla="*/ 10440 w 72720"/>
                    <a:gd name="textAreaRight" fmla="*/ 62280 w 7272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349">
                      <a:moveTo>
                        <a:pt x="10800" y="0"/>
                      </a:moveTo>
                      <a:arcTo wR="10800" hR="10800" stAng="16200000" swAng="-5400000"/>
                      <a:lnTo>
                        <a:pt x="0" y="31549"/>
                      </a:lnTo>
                      <a:arcTo wR="10800" hR="10800" stAng="10800000" swAng="-5400000"/>
                      <a:lnTo>
                        <a:pt x="10800" y="4234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20700000">
                  <a:off x="1451160" y="3441240"/>
                  <a:ext cx="72720" cy="142920"/>
                </a:xfrm>
                <a:custGeom>
                  <a:avLst/>
                  <a:gdLst>
                    <a:gd name="textAreaLeft" fmla="*/ 10440 w 72720"/>
                    <a:gd name="textAreaRight" fmla="*/ 62280 w 7272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349">
                      <a:moveTo>
                        <a:pt x="10800" y="0"/>
                      </a:moveTo>
                      <a:arcTo wR="10800" hR="10800" stAng="16200000" swAng="-5400000"/>
                      <a:lnTo>
                        <a:pt x="0" y="31549"/>
                      </a:lnTo>
                      <a:arcTo wR="10800" hR="10800" stAng="10800000" swAng="-5400000"/>
                      <a:lnTo>
                        <a:pt x="10800" y="4234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87600">
                  <a:off x="1546560" y="3534840"/>
                  <a:ext cx="104400" cy="158760"/>
                </a:xfrm>
                <a:custGeom>
                  <a:avLst/>
                  <a:gdLst>
                    <a:gd name="textAreaLeft" fmla="*/ 15120 w 104400"/>
                    <a:gd name="textAreaRight" fmla="*/ 89280 w 104400"/>
                    <a:gd name="textAreaTop" fmla="*/ 15120 h 158760"/>
                    <a:gd name="textAreaBottom" fmla="*/ 143640 h 158760"/>
                  </a:gdLst>
                  <a:ahLst/>
                  <a:rect l="textAreaLeft" t="textAreaTop" r="textAreaRight" b="textAreaBottom"/>
                  <a:pathLst>
                    <a:path w="21600" h="32808">
                      <a:moveTo>
                        <a:pt x="10800" y="0"/>
                      </a:moveTo>
                      <a:arcTo wR="10800" hR="10800" stAng="16200000" swAng="-5400000"/>
                      <a:lnTo>
                        <a:pt x="0" y="22008"/>
                      </a:lnTo>
                      <a:arcTo wR="10800" hR="10800" stAng="10800000" swAng="-5400000"/>
                      <a:lnTo>
                        <a:pt x="10800" y="3280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 rot="20700000">
                <a:off x="1393200" y="3743640"/>
                <a:ext cx="255240" cy="96840"/>
              </a:xfrm>
              <a:prstGeom prst="rect">
                <a:avLst/>
              </a:prstGeom>
              <a:gradFill rotWithShape="0">
                <a:gsLst>
                  <a:gs pos="0">
                    <a:srgbClr val="9ac1c1"/>
                  </a:gs>
                  <a:gs pos="50000">
                    <a:srgbClr val="ccffff"/>
                  </a:gs>
                  <a:gs pos="100000">
                    <a:srgbClr val="9ac1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0700000">
                <a:off x="1469160" y="3772800"/>
                <a:ext cx="288720" cy="720720"/>
              </a:xfrm>
              <a:custGeom>
                <a:avLst/>
                <a:gdLst>
                  <a:gd name="textAreaLeft" fmla="*/ 42120 w 288720"/>
                  <a:gd name="textAreaRight" fmla="*/ 246600 w 288720"/>
                  <a:gd name="textAreaTop" fmla="*/ 42120 h 720720"/>
                  <a:gd name="textAreaBottom" fmla="*/ 678600 h 720720"/>
                </a:gdLst>
                <a:ahLst/>
                <a:rect l="textAreaLeft" t="textAreaTop" r="textAreaRight" b="textAreaBottom"/>
                <a:pathLst>
                  <a:path w="21600" h="53879">
                    <a:moveTo>
                      <a:pt x="10800" y="0"/>
                    </a:moveTo>
                    <a:arcTo wR="10800" hR="10800" stAng="16200000" swAng="-5400000"/>
                    <a:lnTo>
                      <a:pt x="0" y="43079"/>
                    </a:lnTo>
                    <a:arcTo wR="10800" hR="10800" stAng="10800000" swAng="-5400000"/>
                    <a:lnTo>
                      <a:pt x="10800" y="538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0700000">
                <a:off x="1394640" y="3782520"/>
                <a:ext cx="288720" cy="14436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0700000">
                <a:off x="1542600" y="3810600"/>
                <a:ext cx="144000" cy="649440"/>
              </a:xfrm>
              <a:custGeom>
                <a:avLst/>
                <a:gdLst>
                  <a:gd name="textAreaLeft" fmla="*/ 20880 w 144000"/>
                  <a:gd name="textAreaRight" fmla="*/ 123120 w 144000"/>
                  <a:gd name="textAreaTop" fmla="*/ 20880 h 649440"/>
                  <a:gd name="textAreaBottom" fmla="*/ 628560 h 649440"/>
                </a:gdLst>
                <a:ahLst/>
                <a:rect l="textAreaLeft" t="textAreaTop" r="textAreaRight" b="textAreaBottom"/>
                <a:pathLst>
                  <a:path w="21600" h="97227">
                    <a:moveTo>
                      <a:pt x="10800" y="0"/>
                    </a:moveTo>
                    <a:arcTo wR="10800" hR="10800" stAng="16200000" swAng="-5400000"/>
                    <a:lnTo>
                      <a:pt x="0" y="86427"/>
                    </a:lnTo>
                    <a:arcTo wR="10800" hR="10800" stAng="10800000" swAng="-5400000"/>
                    <a:lnTo>
                      <a:pt x="10800" y="9722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96633"/>
                  </a:gs>
                  <a:gs pos="50000">
                    <a:srgbClr val="d0baa3"/>
                  </a:gs>
                  <a:gs pos="100000">
                    <a:srgbClr val="9966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1496880" y="2637000"/>
              <a:ext cx="451080" cy="502560"/>
              <a:chOff x="1496880" y="2637000"/>
              <a:chExt cx="451080" cy="502560"/>
            </a:xfrm>
          </p:grpSpPr>
          <p:grpSp>
            <p:nvGrpSpPr>
              <p:cNvPr id="748" name=""/>
              <p:cNvGrpSpPr/>
              <p:nvPr/>
            </p:nvGrpSpPr>
            <p:grpSpPr>
              <a:xfrm>
                <a:off x="1496880" y="2637000"/>
                <a:ext cx="451080" cy="502560"/>
                <a:chOff x="1496880" y="2637000"/>
                <a:chExt cx="451080" cy="5025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496880" y="2637000"/>
                  <a:ext cx="451080" cy="45180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7640" y="2989080"/>
                  <a:ext cx="99360" cy="15048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96880" y="2637000"/>
                  <a:ext cx="451080" cy="45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547640" y="2989080"/>
                  <a:ext cx="99360" cy="15048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1597680" y="2689200"/>
                <a:ext cx="269280" cy="347400"/>
                <a:chOff x="1597680" y="2689200"/>
                <a:chExt cx="269280" cy="347400"/>
              </a:xfrm>
            </p:grpSpPr>
            <p:sp>
              <p:nvSpPr>
                <p:cNvPr id="754" name=""/>
                <p:cNvSpPr/>
                <p:nvPr/>
              </p:nvSpPr>
              <p:spPr>
                <a:xfrm rot="1105800">
                  <a:off x="1625400" y="2717280"/>
                  <a:ext cx="213120" cy="211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11905800">
                  <a:off x="1733760" y="2734560"/>
                  <a:ext cx="100800" cy="21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105800">
                  <a:off x="1643400" y="3001680"/>
                  <a:ext cx="4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1105800">
                  <a:off x="1624680" y="3002040"/>
                  <a:ext cx="84960" cy="18360"/>
                </a:xfrm>
                <a:custGeom>
                  <a:avLst/>
                  <a:gdLst>
                    <a:gd name="textAreaLeft" fmla="*/ 18720 w 84960"/>
                    <a:gd name="textAreaRight" fmla="*/ 66240 w 84960"/>
                    <a:gd name="textAreaTop" fmla="*/ 3960 h 18360"/>
                    <a:gd name="textAreaBottom" fmla="*/ 1440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1105800">
                  <a:off x="1634400" y="2910600"/>
                  <a:ext cx="102240" cy="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585000">
                  <a:off x="1634040" y="2921400"/>
                  <a:ext cx="12204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585000">
                  <a:off x="1627560" y="293796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585000">
                  <a:off x="1622160" y="2956680"/>
                  <a:ext cx="122040" cy="1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585000">
                  <a:off x="1616400" y="2975400"/>
                  <a:ext cx="1216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"/>
            <p:cNvSpPr/>
            <p:nvPr/>
          </p:nvSpPr>
          <p:spPr>
            <a:xfrm>
              <a:off x="776160" y="3141720"/>
              <a:ext cx="21600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6520" y="3141720"/>
              <a:ext cx="21600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85960" y="3476520"/>
              <a:ext cx="360360" cy="120600"/>
            </a:xfrm>
            <a:custGeom>
              <a:avLst/>
              <a:gdLst/>
              <a:ahLst/>
              <a:rect l="l" t="t" r="r" b="b"/>
              <a:pathLst>
                <a:path w="272" h="106">
                  <a:moveTo>
                    <a:pt x="136" y="106"/>
                  </a:moveTo>
                  <a:cubicBezTo>
                    <a:pt x="91" y="106"/>
                    <a:pt x="0" y="30"/>
                    <a:pt x="0" y="15"/>
                  </a:cubicBezTo>
                  <a:cubicBezTo>
                    <a:pt x="0" y="0"/>
                    <a:pt x="91" y="15"/>
                    <a:pt x="136" y="15"/>
                  </a:cubicBezTo>
                  <a:cubicBezTo>
                    <a:pt x="181" y="15"/>
                    <a:pt x="272" y="0"/>
                    <a:pt x="272" y="15"/>
                  </a:cubicBezTo>
                  <a:cubicBezTo>
                    <a:pt x="272" y="30"/>
                    <a:pt x="181" y="106"/>
                    <a:pt x="136" y="10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9240" y="3141720"/>
              <a:ext cx="7164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08160" y="3141720"/>
              <a:ext cx="712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6160" y="3046320"/>
              <a:ext cx="216000" cy="237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36520" y="3046320"/>
              <a:ext cx="216000" cy="237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012720" y="907920"/>
            <a:ext cx="1532520" cy="1468080"/>
            <a:chOff x="6012720" y="907920"/>
            <a:chExt cx="1532520" cy="1468080"/>
          </a:xfrm>
        </p:grpSpPr>
        <p:grpSp>
          <p:nvGrpSpPr>
            <p:cNvPr id="771" name=""/>
            <p:cNvGrpSpPr/>
            <p:nvPr/>
          </p:nvGrpSpPr>
          <p:grpSpPr>
            <a:xfrm>
              <a:off x="6746400" y="1549440"/>
              <a:ext cx="531000" cy="826560"/>
              <a:chOff x="6746400" y="1549440"/>
              <a:chExt cx="531000" cy="826560"/>
            </a:xfrm>
          </p:grpSpPr>
          <p:sp>
            <p:nvSpPr>
              <p:cNvPr id="772" name=""/>
              <p:cNvSpPr/>
              <p:nvPr/>
            </p:nvSpPr>
            <p:spPr>
              <a:xfrm flipH="1" rot="20700000">
                <a:off x="6838920" y="1580760"/>
                <a:ext cx="345240" cy="76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6752880" y="1581120"/>
                <a:ext cx="345240" cy="76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6164280" y="1346040"/>
              <a:ext cx="960480" cy="997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012720" y="1549440"/>
              <a:ext cx="531000" cy="826560"/>
              <a:chOff x="6012720" y="1549440"/>
              <a:chExt cx="531000" cy="826560"/>
            </a:xfrm>
          </p:grpSpPr>
          <p:sp>
            <p:nvSpPr>
              <p:cNvPr id="776" name=""/>
              <p:cNvSpPr/>
              <p:nvPr/>
            </p:nvSpPr>
            <p:spPr>
              <a:xfrm rot="900000">
                <a:off x="6105600" y="1580760"/>
                <a:ext cx="345240" cy="76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191640" y="1581120"/>
                <a:ext cx="345240" cy="76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165720" y="1874880"/>
              <a:ext cx="239760" cy="235080"/>
              <a:chOff x="6165720" y="1874880"/>
              <a:chExt cx="239760" cy="235080"/>
            </a:xfrm>
          </p:grpSpPr>
          <p:sp>
            <p:nvSpPr>
              <p:cNvPr id="779" name=""/>
              <p:cNvSpPr/>
              <p:nvPr/>
            </p:nvSpPr>
            <p:spPr>
              <a:xfrm>
                <a:off x="6165720" y="1874880"/>
                <a:ext cx="239760" cy="235080"/>
              </a:xfrm>
              <a:prstGeom prst="ellipse">
                <a:avLst/>
              </a:prstGeom>
              <a:gradFill rotWithShape="0">
                <a:gsLst>
                  <a:gs pos="0">
                    <a:srgbClr val="fedfa1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97040" y="1904400"/>
                <a:ext cx="179280" cy="175680"/>
              </a:xfrm>
              <a:prstGeom prst="ellipse">
                <a:avLst/>
              </a:prstGeom>
              <a:gradFill rotWithShape="0">
                <a:gsLst>
                  <a:gs pos="0">
                    <a:srgbClr val="fec064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6885000" y="1874880"/>
              <a:ext cx="241200" cy="235080"/>
              <a:chOff x="6885000" y="1874880"/>
              <a:chExt cx="241200" cy="235080"/>
            </a:xfrm>
          </p:grpSpPr>
          <p:sp>
            <p:nvSpPr>
              <p:cNvPr id="782" name=""/>
              <p:cNvSpPr/>
              <p:nvPr/>
            </p:nvSpPr>
            <p:spPr>
              <a:xfrm flipH="1">
                <a:off x="6885000" y="1874880"/>
                <a:ext cx="241200" cy="235080"/>
              </a:xfrm>
              <a:prstGeom prst="ellipse">
                <a:avLst/>
              </a:prstGeom>
              <a:gradFill rotWithShape="0">
                <a:gsLst>
                  <a:gs pos="0">
                    <a:srgbClr val="fedfa1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914160" y="1904400"/>
                <a:ext cx="180360" cy="175680"/>
              </a:xfrm>
              <a:prstGeom prst="ellipse">
                <a:avLst/>
              </a:prstGeom>
              <a:gradFill rotWithShape="0">
                <a:gsLst>
                  <a:gs pos="0">
                    <a:srgbClr val="fec064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6248520" y="1465200"/>
              <a:ext cx="792000" cy="881280"/>
            </a:xfrm>
            <a:prstGeom prst="ellipse">
              <a:avLst/>
            </a:prstGeom>
            <a:gradFill rotWithShape="0">
              <a:gsLst>
                <a:gs pos="0">
                  <a:srgbClr val="fedfa1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405480" y="1811160"/>
              <a:ext cx="69840" cy="10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26320" y="1814400"/>
              <a:ext cx="71280" cy="10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5400000">
              <a:off x="6820560" y="1573920"/>
              <a:ext cx="13032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57" y="989"/>
                    <a:pt x="5514" y="5080"/>
                    <a:pt x="5514" y="10800"/>
                  </a:cubicBezTo>
                  <a:cubicBezTo>
                    <a:pt x="5514" y="16520"/>
                    <a:pt x="13557" y="206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6616800" y="2138040"/>
              <a:ext cx="5868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5400000">
              <a:off x="6339600" y="1573920"/>
              <a:ext cx="13032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57" y="989"/>
                    <a:pt x="5514" y="5080"/>
                    <a:pt x="5514" y="10800"/>
                  </a:cubicBezTo>
                  <a:cubicBezTo>
                    <a:pt x="5514" y="16520"/>
                    <a:pt x="13557" y="206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21600" y="1989000"/>
              <a:ext cx="144360" cy="7164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24520" y="1989000"/>
              <a:ext cx="144720" cy="7164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6964200" y="907920"/>
              <a:ext cx="581040" cy="647640"/>
              <a:chOff x="6964200" y="907920"/>
              <a:chExt cx="581040" cy="64764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6964200" y="907920"/>
                <a:ext cx="581040" cy="647640"/>
                <a:chOff x="6964200" y="907920"/>
                <a:chExt cx="581040" cy="64764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6964200" y="907920"/>
                  <a:ext cx="581040" cy="5821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029720" y="1361520"/>
                  <a:ext cx="12816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964200" y="907920"/>
                  <a:ext cx="581040" cy="582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029720" y="1361520"/>
                  <a:ext cx="12816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7094160" y="975240"/>
                <a:ext cx="347040" cy="448200"/>
                <a:chOff x="7094160" y="975240"/>
                <a:chExt cx="347040" cy="448200"/>
              </a:xfrm>
            </p:grpSpPr>
            <p:sp>
              <p:nvSpPr>
                <p:cNvPr id="799" name=""/>
                <p:cNvSpPr/>
                <p:nvPr/>
              </p:nvSpPr>
              <p:spPr>
                <a:xfrm rot="1105800">
                  <a:off x="7130160" y="1011600"/>
                  <a:ext cx="274680" cy="272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11905800">
                  <a:off x="7269120" y="1033560"/>
                  <a:ext cx="129960" cy="27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1105800">
                  <a:off x="7152840" y="1378080"/>
                  <a:ext cx="601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rot="1105800">
                  <a:off x="7129440" y="1379160"/>
                  <a:ext cx="109440" cy="23760"/>
                </a:xfrm>
                <a:custGeom>
                  <a:avLst/>
                  <a:gdLst>
                    <a:gd name="textAreaLeft" fmla="*/ 24120 w 109440"/>
                    <a:gd name="textAreaRight" fmla="*/ 85320 w 1094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1105800">
                  <a:off x="7141320" y="1260720"/>
                  <a:ext cx="131760" cy="12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585000">
                  <a:off x="7141320" y="1274760"/>
                  <a:ext cx="15732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585000">
                  <a:off x="7132680" y="1295640"/>
                  <a:ext cx="15696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585000">
                  <a:off x="7126200" y="1319760"/>
                  <a:ext cx="1573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585000">
                  <a:off x="7118280" y="1344240"/>
                  <a:ext cx="15696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8" name=""/>
            <p:cNvSpPr/>
            <p:nvPr/>
          </p:nvSpPr>
          <p:spPr>
            <a:xfrm rot="16200000">
              <a:off x="6626880" y="2027880"/>
              <a:ext cx="3312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5400000">
              <a:off x="6499080" y="1144440"/>
              <a:ext cx="290520" cy="744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216" y="508"/>
                    <a:pt x="2832" y="5080"/>
                    <a:pt x="2832" y="10800"/>
                  </a:cubicBezTo>
                  <a:cubicBezTo>
                    <a:pt x="2832" y="16520"/>
                    <a:pt x="12216" y="2109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8037360" y="907920"/>
            <a:ext cx="1384560" cy="1441440"/>
            <a:chOff x="8037360" y="907920"/>
            <a:chExt cx="1384560" cy="1441440"/>
          </a:xfrm>
        </p:grpSpPr>
        <p:grpSp>
          <p:nvGrpSpPr>
            <p:cNvPr id="811" name=""/>
            <p:cNvGrpSpPr/>
            <p:nvPr/>
          </p:nvGrpSpPr>
          <p:grpSpPr>
            <a:xfrm>
              <a:off x="8048520" y="1341360"/>
              <a:ext cx="866880" cy="863280"/>
              <a:chOff x="8048520" y="1341360"/>
              <a:chExt cx="866880" cy="863280"/>
            </a:xfrm>
          </p:grpSpPr>
          <p:sp>
            <p:nvSpPr>
              <p:cNvPr id="812" name=""/>
              <p:cNvSpPr/>
              <p:nvPr/>
            </p:nvSpPr>
            <p:spPr>
              <a:xfrm>
                <a:off x="8048520" y="1341360"/>
                <a:ext cx="649440" cy="86328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265960" y="1341360"/>
                <a:ext cx="649440" cy="86328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8048520" y="1413000"/>
              <a:ext cx="865440" cy="936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8037360" y="1870200"/>
              <a:ext cx="876240" cy="234720"/>
              <a:chOff x="8037360" y="1870200"/>
              <a:chExt cx="876240" cy="23472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8037360" y="1870200"/>
                <a:ext cx="239760" cy="234720"/>
                <a:chOff x="8037360" y="1870200"/>
                <a:chExt cx="239760" cy="23472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8037360" y="1870200"/>
                  <a:ext cx="2397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fa1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068680" y="1899720"/>
                  <a:ext cx="179280" cy="17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c064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8672040" y="1870200"/>
                <a:ext cx="241560" cy="234720"/>
                <a:chOff x="8672040" y="1870200"/>
                <a:chExt cx="241560" cy="234720"/>
              </a:xfrm>
            </p:grpSpPr>
            <p:sp>
              <p:nvSpPr>
                <p:cNvPr id="820" name=""/>
                <p:cNvSpPr/>
                <p:nvPr/>
              </p:nvSpPr>
              <p:spPr>
                <a:xfrm flipH="1">
                  <a:off x="8671680" y="1870200"/>
                  <a:ext cx="24156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dfa1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8701560" y="1899720"/>
                  <a:ext cx="180720" cy="17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c064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2" name=""/>
            <p:cNvSpPr/>
            <p:nvPr/>
          </p:nvSpPr>
          <p:spPr>
            <a:xfrm>
              <a:off x="8102520" y="1460520"/>
              <a:ext cx="744480" cy="880920"/>
            </a:xfrm>
            <a:prstGeom prst="ellipse">
              <a:avLst/>
            </a:prstGeom>
            <a:gradFill rotWithShape="0">
              <a:gsLst>
                <a:gs pos="0">
                  <a:srgbClr val="fedfa1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8134920" y="1814400"/>
              <a:ext cx="94320" cy="91800"/>
              <a:chOff x="8134920" y="1814400"/>
              <a:chExt cx="94320" cy="91800"/>
            </a:xfrm>
          </p:grpSpPr>
          <p:sp>
            <p:nvSpPr>
              <p:cNvPr id="824" name=""/>
              <p:cNvSpPr/>
              <p:nvPr/>
            </p:nvSpPr>
            <p:spPr>
              <a:xfrm flipH="1" rot="17551200">
                <a:off x="8183520" y="1799640"/>
                <a:ext cx="1728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7551200">
                <a:off x="8163360" y="1847880"/>
                <a:ext cx="1728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8737560" y="1814400"/>
              <a:ext cx="94320" cy="92160"/>
              <a:chOff x="8737560" y="1814400"/>
              <a:chExt cx="94320" cy="92160"/>
            </a:xfrm>
          </p:grpSpPr>
          <p:sp>
            <p:nvSpPr>
              <p:cNvPr id="827" name=""/>
              <p:cNvSpPr/>
              <p:nvPr/>
            </p:nvSpPr>
            <p:spPr>
              <a:xfrm rot="4048800">
                <a:off x="8766000" y="1799640"/>
                <a:ext cx="1728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4048800">
                <a:off x="8786160" y="1847880"/>
                <a:ext cx="17280" cy="73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rot="16200000">
              <a:off x="8409600" y="2061000"/>
              <a:ext cx="14292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8840880" y="907920"/>
              <a:ext cx="581040" cy="647640"/>
              <a:chOff x="8840880" y="907920"/>
              <a:chExt cx="581040" cy="64764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8840880" y="907920"/>
                <a:ext cx="581040" cy="647640"/>
                <a:chOff x="8840880" y="907920"/>
                <a:chExt cx="581040" cy="6476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8840880" y="907920"/>
                  <a:ext cx="581040" cy="5821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906400" y="1361520"/>
                  <a:ext cx="12816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840880" y="907920"/>
                  <a:ext cx="581040" cy="582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906400" y="1361520"/>
                  <a:ext cx="12816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8970840" y="975240"/>
                <a:ext cx="347040" cy="448200"/>
                <a:chOff x="8970840" y="975240"/>
                <a:chExt cx="347040" cy="448200"/>
              </a:xfrm>
            </p:grpSpPr>
            <p:sp>
              <p:nvSpPr>
                <p:cNvPr id="837" name=""/>
                <p:cNvSpPr/>
                <p:nvPr/>
              </p:nvSpPr>
              <p:spPr>
                <a:xfrm rot="1105800">
                  <a:off x="9006840" y="1011600"/>
                  <a:ext cx="274680" cy="272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11905800">
                  <a:off x="9145800" y="1033560"/>
                  <a:ext cx="129960" cy="27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1105800">
                  <a:off x="9029520" y="1378080"/>
                  <a:ext cx="601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1105800">
                  <a:off x="9006120" y="1379160"/>
                  <a:ext cx="109440" cy="23760"/>
                </a:xfrm>
                <a:custGeom>
                  <a:avLst/>
                  <a:gdLst>
                    <a:gd name="textAreaLeft" fmla="*/ 24120 w 109440"/>
                    <a:gd name="textAreaRight" fmla="*/ 85320 w 1094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1105800">
                  <a:off x="9018000" y="1260720"/>
                  <a:ext cx="131760" cy="12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585000">
                  <a:off x="9018000" y="1274760"/>
                  <a:ext cx="15732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585000">
                  <a:off x="9009360" y="1295640"/>
                  <a:ext cx="15696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rot="585000">
                  <a:off x="9002880" y="1319760"/>
                  <a:ext cx="1573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585000">
                  <a:off x="8994960" y="1344240"/>
                  <a:ext cx="15696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6" name=""/>
            <p:cNvSpPr/>
            <p:nvPr/>
          </p:nvSpPr>
          <p:spPr>
            <a:xfrm>
              <a:off x="8193240" y="1773360"/>
              <a:ext cx="21564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553600" y="1773360"/>
              <a:ext cx="21564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5400000">
              <a:off x="8228520" y="1737720"/>
              <a:ext cx="14436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868" y="383"/>
                    <a:pt x="2136" y="5080"/>
                    <a:pt x="2136" y="10800"/>
                  </a:cubicBezTo>
                  <a:cubicBezTo>
                    <a:pt x="2136" y="16520"/>
                    <a:pt x="11868" y="2121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5400000">
              <a:off x="8588520" y="1735920"/>
              <a:ext cx="14472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868" y="383"/>
                    <a:pt x="2136" y="5080"/>
                    <a:pt x="2136" y="10800"/>
                  </a:cubicBezTo>
                  <a:cubicBezTo>
                    <a:pt x="2136" y="16520"/>
                    <a:pt x="11868" y="2121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28160" y="1782720"/>
              <a:ext cx="142560" cy="14292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586720" y="17827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444444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59840" y="179244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618400" y="1792440"/>
              <a:ext cx="7776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8466840" y="2056320"/>
              <a:ext cx="3348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8229600" y="1592280"/>
              <a:ext cx="7128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640" y="1378"/>
                    <a:pt x="7680" y="5080"/>
                    <a:pt x="7680" y="10800"/>
                  </a:cubicBezTo>
                  <a:cubicBezTo>
                    <a:pt x="7680" y="16520"/>
                    <a:pt x="14640" y="202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5400000">
              <a:off x="8661600" y="1592280"/>
              <a:ext cx="7128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640" y="1378"/>
                    <a:pt x="7680" y="5080"/>
                    <a:pt x="7680" y="10800"/>
                  </a:cubicBezTo>
                  <a:cubicBezTo>
                    <a:pt x="7680" y="16520"/>
                    <a:pt x="14640" y="202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800000">
              <a:off x="8176680" y="1334880"/>
              <a:ext cx="14292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800000">
              <a:off x="8265960" y="1341000"/>
              <a:ext cx="14292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800000">
              <a:off x="8337600" y="1341000"/>
              <a:ext cx="14292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2432160" y="2708280"/>
            <a:ext cx="1368360" cy="1734480"/>
            <a:chOff x="2432160" y="2708280"/>
            <a:chExt cx="1368360" cy="1734480"/>
          </a:xfrm>
        </p:grpSpPr>
        <p:sp>
          <p:nvSpPr>
            <p:cNvPr id="861" name=""/>
            <p:cNvSpPr/>
            <p:nvPr/>
          </p:nvSpPr>
          <p:spPr>
            <a:xfrm>
              <a:off x="2914560" y="2997360"/>
              <a:ext cx="449280" cy="57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57520" y="2900520"/>
              <a:ext cx="642960" cy="73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32160" y="3720960"/>
              <a:ext cx="579240" cy="642960"/>
            </a:xfrm>
            <a:custGeom>
              <a:avLst/>
              <a:gdLst/>
              <a:ahLst/>
              <a:rect l="l" t="t" r="r" b="b"/>
              <a:pathLst>
                <a:path w="816" h="907">
                  <a:moveTo>
                    <a:pt x="635" y="0"/>
                  </a:moveTo>
                  <a:lnTo>
                    <a:pt x="227" y="181"/>
                  </a:lnTo>
                  <a:lnTo>
                    <a:pt x="136" y="272"/>
                  </a:lnTo>
                  <a:lnTo>
                    <a:pt x="91" y="363"/>
                  </a:lnTo>
                  <a:lnTo>
                    <a:pt x="0" y="907"/>
                  </a:lnTo>
                  <a:lnTo>
                    <a:pt x="816" y="907"/>
                  </a:lnTo>
                  <a:lnTo>
                    <a:pt x="635" y="0"/>
                  </a:lnTo>
                  <a:close/>
                </a:path>
              </a:pathLst>
            </a:cu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914560" y="3367080"/>
              <a:ext cx="192240" cy="514440"/>
              <a:chOff x="2914560" y="3367080"/>
              <a:chExt cx="192240" cy="514440"/>
            </a:xfrm>
          </p:grpSpPr>
          <p:sp>
            <p:nvSpPr>
              <p:cNvPr id="865" name=""/>
              <p:cNvSpPr/>
              <p:nvPr/>
            </p:nvSpPr>
            <p:spPr>
              <a:xfrm>
                <a:off x="2914560" y="3367080"/>
                <a:ext cx="192240" cy="51444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914560" y="3527640"/>
                <a:ext cx="192240" cy="19260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665800" y="3029040"/>
              <a:ext cx="689400" cy="663480"/>
              <a:chOff x="2665800" y="3029040"/>
              <a:chExt cx="689400" cy="663480"/>
            </a:xfrm>
          </p:grpSpPr>
          <p:sp>
            <p:nvSpPr>
              <p:cNvPr id="868" name=""/>
              <p:cNvSpPr/>
              <p:nvPr/>
            </p:nvSpPr>
            <p:spPr>
              <a:xfrm rot="20700000">
                <a:off x="2688840" y="3341520"/>
                <a:ext cx="113400" cy="19512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900000">
                <a:off x="3218040" y="3341160"/>
                <a:ext cx="113400" cy="19548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727360" y="3029040"/>
                <a:ext cx="567000" cy="66348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 flipH="1">
              <a:off x="3010680" y="3720960"/>
              <a:ext cx="577800" cy="642960"/>
            </a:xfrm>
            <a:custGeom>
              <a:avLst/>
              <a:gdLst/>
              <a:ahLst/>
              <a:rect l="l" t="t" r="r" b="b"/>
              <a:pathLst>
                <a:path w="816" h="907">
                  <a:moveTo>
                    <a:pt x="635" y="0"/>
                  </a:moveTo>
                  <a:lnTo>
                    <a:pt x="227" y="181"/>
                  </a:lnTo>
                  <a:lnTo>
                    <a:pt x="136" y="272"/>
                  </a:lnTo>
                  <a:lnTo>
                    <a:pt x="91" y="363"/>
                  </a:lnTo>
                  <a:lnTo>
                    <a:pt x="0" y="907"/>
                  </a:lnTo>
                  <a:lnTo>
                    <a:pt x="816" y="907"/>
                  </a:lnTo>
                  <a:lnTo>
                    <a:pt x="635" y="0"/>
                  </a:lnTo>
                  <a:close/>
                </a:path>
              </a:pathLst>
            </a:cu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51200" y="3817800"/>
              <a:ext cx="320760" cy="35244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946240" y="3817800"/>
              <a:ext cx="128880" cy="12708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0" y="0"/>
                  </a:moveTo>
                  <a:lnTo>
                    <a:pt x="181" y="0"/>
                  </a:lnTo>
                  <a:lnTo>
                    <a:pt x="136" y="227"/>
                  </a:lnTo>
                  <a:lnTo>
                    <a:pt x="45" y="22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14560" y="3944880"/>
              <a:ext cx="193680" cy="419040"/>
            </a:xfrm>
            <a:custGeom>
              <a:avLst/>
              <a:gdLst/>
              <a:ahLst/>
              <a:rect l="l" t="t" r="r" b="b"/>
              <a:pathLst>
                <a:path w="273" h="590">
                  <a:moveTo>
                    <a:pt x="91" y="0"/>
                  </a:moveTo>
                  <a:lnTo>
                    <a:pt x="182" y="0"/>
                  </a:lnTo>
                  <a:lnTo>
                    <a:pt x="273" y="409"/>
                  </a:lnTo>
                  <a:lnTo>
                    <a:pt x="136" y="590"/>
                  </a:lnTo>
                  <a:lnTo>
                    <a:pt x="0" y="409"/>
                  </a:lnTo>
                  <a:lnTo>
                    <a:pt x="9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7720" y="3689280"/>
              <a:ext cx="193680" cy="289080"/>
            </a:xfrm>
            <a:custGeom>
              <a:avLst/>
              <a:gdLst/>
              <a:ahLst/>
              <a:rect l="l" t="t" r="r" b="b"/>
              <a:pathLst>
                <a:path w="273" h="408">
                  <a:moveTo>
                    <a:pt x="137" y="0"/>
                  </a:moveTo>
                  <a:lnTo>
                    <a:pt x="273" y="181"/>
                  </a:lnTo>
                  <a:lnTo>
                    <a:pt x="46" y="408"/>
                  </a:lnTo>
                  <a:lnTo>
                    <a:pt x="0" y="136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0880" y="3720960"/>
              <a:ext cx="289080" cy="642960"/>
            </a:xfrm>
            <a:custGeom>
              <a:avLst/>
              <a:gdLst/>
              <a:ahLst/>
              <a:rect l="l" t="t" r="r" b="b"/>
              <a:pathLst>
                <a:path w="408" h="907">
                  <a:moveTo>
                    <a:pt x="227" y="0"/>
                  </a:moveTo>
                  <a:lnTo>
                    <a:pt x="227" y="408"/>
                  </a:lnTo>
                  <a:lnTo>
                    <a:pt x="408" y="907"/>
                  </a:lnTo>
                  <a:lnTo>
                    <a:pt x="227" y="726"/>
                  </a:lnTo>
                  <a:lnTo>
                    <a:pt x="0" y="408"/>
                  </a:lnTo>
                  <a:lnTo>
                    <a:pt x="136" y="363"/>
                  </a:lnTo>
                  <a:lnTo>
                    <a:pt x="0" y="272"/>
                  </a:lnTo>
                  <a:lnTo>
                    <a:pt x="136" y="45"/>
                  </a:lnTo>
                  <a:lnTo>
                    <a:pt x="227" y="0"/>
                  </a:lnTo>
                  <a:close/>
                </a:path>
              </a:pathLst>
            </a:custGeom>
            <a:gradFill rotWithShape="0">
              <a:gsLst>
                <a:gs pos="0">
                  <a:srgbClr val="69b38e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011400" y="3689280"/>
              <a:ext cx="192240" cy="289080"/>
            </a:xfrm>
            <a:custGeom>
              <a:avLst/>
              <a:gdLst/>
              <a:ahLst/>
              <a:rect l="l" t="t" r="r" b="b"/>
              <a:pathLst>
                <a:path w="273" h="408">
                  <a:moveTo>
                    <a:pt x="137" y="0"/>
                  </a:moveTo>
                  <a:lnTo>
                    <a:pt x="273" y="181"/>
                  </a:lnTo>
                  <a:lnTo>
                    <a:pt x="46" y="408"/>
                  </a:lnTo>
                  <a:lnTo>
                    <a:pt x="0" y="136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010680" y="3720960"/>
              <a:ext cx="289080" cy="642960"/>
            </a:xfrm>
            <a:custGeom>
              <a:avLst/>
              <a:gdLst/>
              <a:ahLst/>
              <a:rect l="l" t="t" r="r" b="b"/>
              <a:pathLst>
                <a:path w="408" h="907">
                  <a:moveTo>
                    <a:pt x="227" y="0"/>
                  </a:moveTo>
                  <a:lnTo>
                    <a:pt x="227" y="408"/>
                  </a:lnTo>
                  <a:lnTo>
                    <a:pt x="408" y="907"/>
                  </a:lnTo>
                  <a:lnTo>
                    <a:pt x="227" y="726"/>
                  </a:lnTo>
                  <a:lnTo>
                    <a:pt x="0" y="408"/>
                  </a:lnTo>
                  <a:lnTo>
                    <a:pt x="136" y="363"/>
                  </a:lnTo>
                  <a:lnTo>
                    <a:pt x="0" y="272"/>
                  </a:lnTo>
                  <a:lnTo>
                    <a:pt x="136" y="45"/>
                  </a:lnTo>
                  <a:lnTo>
                    <a:pt x="227" y="0"/>
                  </a:lnTo>
                  <a:close/>
                </a:path>
              </a:pathLst>
            </a:custGeom>
            <a:gradFill rotWithShape="0">
              <a:gsLst>
                <a:gs pos="0">
                  <a:srgbClr val="69b38e"/>
                </a:gs>
                <a:gs pos="100000">
                  <a:srgbClr val="33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2946240" y="3463920"/>
              <a:ext cx="128880" cy="79560"/>
              <a:chOff x="2946240" y="3463920"/>
              <a:chExt cx="128880" cy="79560"/>
            </a:xfrm>
          </p:grpSpPr>
          <p:sp>
            <p:nvSpPr>
              <p:cNvPr id="880" name=""/>
              <p:cNvSpPr/>
              <p:nvPr/>
            </p:nvSpPr>
            <p:spPr>
              <a:xfrm>
                <a:off x="2946240" y="3472560"/>
                <a:ext cx="128880" cy="70920"/>
              </a:xfrm>
              <a:custGeom>
                <a:avLst/>
                <a:gdLst/>
                <a:ahLst/>
                <a:rect l="l" t="t" r="r" b="b"/>
                <a:pathLst>
                  <a:path w="499" h="635">
                    <a:moveTo>
                      <a:pt x="114" y="0"/>
                    </a:moveTo>
                    <a:cubicBezTo>
                      <a:pt x="57" y="196"/>
                      <a:pt x="0" y="393"/>
                      <a:pt x="23" y="499"/>
                    </a:cubicBezTo>
                    <a:cubicBezTo>
                      <a:pt x="46" y="605"/>
                      <a:pt x="175" y="635"/>
                      <a:pt x="250" y="635"/>
                    </a:cubicBezTo>
                    <a:cubicBezTo>
                      <a:pt x="325" y="635"/>
                      <a:pt x="453" y="605"/>
                      <a:pt x="476" y="499"/>
                    </a:cubicBezTo>
                    <a:cubicBezTo>
                      <a:pt x="499" y="393"/>
                      <a:pt x="401" y="83"/>
                      <a:pt x="386" y="0"/>
                    </a:cubicBez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946240" y="3463920"/>
                <a:ext cx="128880" cy="70920"/>
              </a:xfrm>
              <a:custGeom>
                <a:avLst/>
                <a:gdLst/>
                <a:ahLst/>
                <a:rect l="l" t="t" r="r" b="b"/>
                <a:pathLst>
                  <a:path w="499" h="635">
                    <a:moveTo>
                      <a:pt x="114" y="0"/>
                    </a:moveTo>
                    <a:cubicBezTo>
                      <a:pt x="57" y="196"/>
                      <a:pt x="0" y="393"/>
                      <a:pt x="23" y="499"/>
                    </a:cubicBezTo>
                    <a:cubicBezTo>
                      <a:pt x="46" y="605"/>
                      <a:pt x="175" y="635"/>
                      <a:pt x="250" y="635"/>
                    </a:cubicBezTo>
                    <a:cubicBezTo>
                      <a:pt x="325" y="635"/>
                      <a:pt x="453" y="605"/>
                      <a:pt x="476" y="499"/>
                    </a:cubicBezTo>
                    <a:cubicBezTo>
                      <a:pt x="499" y="393"/>
                      <a:pt x="401" y="83"/>
                      <a:pt x="386" y="0"/>
                    </a:cubicBezTo>
                  </a:path>
                </a:pathLst>
              </a:custGeom>
              <a:gradFill rotWithShape="0">
                <a:gsLst>
                  <a:gs pos="0">
                    <a:srgbClr val="ffcc99"/>
                  </a:gs>
                  <a:gs pos="50000">
                    <a:srgbClr val="fee7d0"/>
                  </a:gs>
                  <a:gs pos="100000">
                    <a:srgbClr val="ff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3308760" y="3344400"/>
              <a:ext cx="431280" cy="1098360"/>
              <a:chOff x="3308760" y="3344400"/>
              <a:chExt cx="431280" cy="109836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3308760" y="3344400"/>
                <a:ext cx="333720" cy="357840"/>
                <a:chOff x="3308760" y="3344400"/>
                <a:chExt cx="333720" cy="357840"/>
              </a:xfrm>
            </p:grpSpPr>
            <p:sp>
              <p:nvSpPr>
                <p:cNvPr id="884" name=""/>
                <p:cNvSpPr/>
                <p:nvPr/>
              </p:nvSpPr>
              <p:spPr>
                <a:xfrm rot="21058200">
                  <a:off x="3327480" y="3421800"/>
                  <a:ext cx="276120" cy="260280"/>
                </a:xfrm>
                <a:prstGeom prst="roundRect">
                  <a:avLst>
                    <a:gd name="adj" fmla="val 2744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21058200">
                  <a:off x="3507120" y="3349080"/>
                  <a:ext cx="73080" cy="142920"/>
                </a:xfrm>
                <a:custGeom>
                  <a:avLst/>
                  <a:gdLst>
                    <a:gd name="textAreaLeft" fmla="*/ 10440 w 73080"/>
                    <a:gd name="textAreaRight" fmla="*/ 62640 w 7308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14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41"/>
                      </a:lnTo>
                      <a:arcTo wR="10800" hR="10800" stAng="10800000" swAng="-5400000"/>
                      <a:lnTo>
                        <a:pt x="10800" y="4214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058200">
                  <a:off x="3376800" y="3387240"/>
                  <a:ext cx="73080" cy="142920"/>
                </a:xfrm>
                <a:custGeom>
                  <a:avLst/>
                  <a:gdLst>
                    <a:gd name="textAreaLeft" fmla="*/ 10440 w 73080"/>
                    <a:gd name="textAreaRight" fmla="*/ 62640 w 7308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14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41"/>
                      </a:lnTo>
                      <a:arcTo wR="10800" hR="10800" stAng="10800000" swAng="-5400000"/>
                      <a:lnTo>
                        <a:pt x="10800" y="4214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058200">
                  <a:off x="3443400" y="3362400"/>
                  <a:ext cx="73080" cy="142920"/>
                </a:xfrm>
                <a:custGeom>
                  <a:avLst/>
                  <a:gdLst>
                    <a:gd name="textAreaLeft" fmla="*/ 10440 w 73080"/>
                    <a:gd name="textAreaRight" fmla="*/ 62640 w 7308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14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41"/>
                      </a:lnTo>
                      <a:arcTo wR="10800" hR="10800" stAng="10800000" swAng="-5400000"/>
                      <a:lnTo>
                        <a:pt x="10800" y="4214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445200">
                  <a:off x="3527640" y="3466800"/>
                  <a:ext cx="104760" cy="158760"/>
                </a:xfrm>
                <a:custGeom>
                  <a:avLst/>
                  <a:gdLst>
                    <a:gd name="textAreaLeft" fmla="*/ 15120 w 104760"/>
                    <a:gd name="textAreaRight" fmla="*/ 89640 w 104760"/>
                    <a:gd name="textAreaTop" fmla="*/ 15120 h 158760"/>
                    <a:gd name="textAreaBottom" fmla="*/ 143640 h 158760"/>
                  </a:gdLst>
                  <a:ahLst/>
                  <a:rect l="textAreaLeft" t="textAreaTop" r="textAreaRight" b="textAreaBottom"/>
                  <a:pathLst>
                    <a:path w="21600" h="32696">
                      <a:moveTo>
                        <a:pt x="10800" y="0"/>
                      </a:moveTo>
                      <a:arcTo wR="10800" hR="10800" stAng="16200000" swAng="-5400000"/>
                      <a:lnTo>
                        <a:pt x="0" y="21896"/>
                      </a:lnTo>
                      <a:arcTo wR="10800" hR="10800" stAng="10800000" swAng="-5400000"/>
                      <a:lnTo>
                        <a:pt x="10800" y="3269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"/>
              <p:cNvSpPr/>
              <p:nvPr/>
            </p:nvSpPr>
            <p:spPr>
              <a:xfrm rot="21058200">
                <a:off x="3355920" y="3666960"/>
                <a:ext cx="255600" cy="96840"/>
              </a:xfrm>
              <a:prstGeom prst="rect">
                <a:avLst/>
              </a:prstGeom>
              <a:gradFill rotWithShape="0">
                <a:gsLst>
                  <a:gs pos="0">
                    <a:srgbClr val="9ac1c1"/>
                  </a:gs>
                  <a:gs pos="50000">
                    <a:srgbClr val="ccffff"/>
                  </a:gs>
                  <a:gs pos="100000">
                    <a:srgbClr val="9ac1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1058200">
                <a:off x="3395880" y="3703680"/>
                <a:ext cx="289080" cy="720720"/>
              </a:xfrm>
              <a:custGeom>
                <a:avLst/>
                <a:gdLst>
                  <a:gd name="textAreaLeft" fmla="*/ 42120 w 289080"/>
                  <a:gd name="textAreaRight" fmla="*/ 246960 w 289080"/>
                  <a:gd name="textAreaTop" fmla="*/ 42120 h 720720"/>
                  <a:gd name="textAreaBottom" fmla="*/ 678600 h 720720"/>
                </a:gdLst>
                <a:ahLst/>
                <a:rect l="textAreaLeft" t="textAreaTop" r="textAreaRight" b="textAreaBottom"/>
                <a:pathLst>
                  <a:path w="21600" h="53812">
                    <a:moveTo>
                      <a:pt x="10800" y="0"/>
                    </a:moveTo>
                    <a:arcTo wR="10800" hR="10800" stAng="16200000" swAng="-5400000"/>
                    <a:lnTo>
                      <a:pt x="0" y="43012"/>
                    </a:lnTo>
                    <a:arcTo wR="10800" hR="10800" stAng="10800000" swAng="-5400000"/>
                    <a:lnTo>
                      <a:pt x="10800" y="5381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1058200">
                <a:off x="3350520" y="3707280"/>
                <a:ext cx="289080" cy="144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1058200">
                <a:off x="3469320" y="3741840"/>
                <a:ext cx="144360" cy="649440"/>
              </a:xfrm>
              <a:custGeom>
                <a:avLst/>
                <a:gdLst>
                  <a:gd name="textAreaLeft" fmla="*/ 20880 w 144360"/>
                  <a:gd name="textAreaRight" fmla="*/ 123480 w 144360"/>
                  <a:gd name="textAreaTop" fmla="*/ 20880 h 649440"/>
                  <a:gd name="textAreaBottom" fmla="*/ 628560 h 649440"/>
                </a:gdLst>
                <a:ahLst/>
                <a:rect l="textAreaLeft" t="textAreaTop" r="textAreaRight" b="textAreaBottom"/>
                <a:pathLst>
                  <a:path w="21600" h="96985">
                    <a:moveTo>
                      <a:pt x="10800" y="0"/>
                    </a:moveTo>
                    <a:arcTo wR="10800" hR="10800" stAng="16200000" swAng="-5400000"/>
                    <a:lnTo>
                      <a:pt x="0" y="86185"/>
                    </a:lnTo>
                    <a:arcTo wR="10800" hR="10800" stAng="10800000" swAng="-5400000"/>
                    <a:lnTo>
                      <a:pt x="10800" y="969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a3d0ba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3349800" y="2708280"/>
              <a:ext cx="450720" cy="503280"/>
              <a:chOff x="3349800" y="2708280"/>
              <a:chExt cx="450720" cy="50328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3349800" y="2708280"/>
                <a:ext cx="450720" cy="503280"/>
                <a:chOff x="3349800" y="2708280"/>
                <a:chExt cx="450720" cy="50328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3349800" y="2708280"/>
                  <a:ext cx="450720" cy="45216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400560" y="3060720"/>
                  <a:ext cx="99360" cy="1508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349800" y="2708280"/>
                  <a:ext cx="450720" cy="45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400560" y="3060720"/>
                  <a:ext cx="99360" cy="1508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3450600" y="2760840"/>
                <a:ext cx="268920" cy="347400"/>
                <a:chOff x="3450600" y="2760840"/>
                <a:chExt cx="268920" cy="347400"/>
              </a:xfrm>
            </p:grpSpPr>
            <p:sp>
              <p:nvSpPr>
                <p:cNvPr id="900" name=""/>
                <p:cNvSpPr/>
                <p:nvPr/>
              </p:nvSpPr>
              <p:spPr>
                <a:xfrm rot="1105800">
                  <a:off x="3478320" y="2788920"/>
                  <a:ext cx="212760" cy="2120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rot="11905800">
                  <a:off x="3585960" y="2805480"/>
                  <a:ext cx="100440" cy="21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rot="1105800">
                  <a:off x="3496320" y="3073320"/>
                  <a:ext cx="4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105800">
                  <a:off x="3477960" y="3074040"/>
                  <a:ext cx="84600" cy="18360"/>
                </a:xfrm>
                <a:custGeom>
                  <a:avLst/>
                  <a:gdLst>
                    <a:gd name="textAreaLeft" fmla="*/ 18360 w 84600"/>
                    <a:gd name="textAreaRight" fmla="*/ 66240 w 84600"/>
                    <a:gd name="textAreaTop" fmla="*/ 3960 h 18360"/>
                    <a:gd name="textAreaBottom" fmla="*/ 1440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1105800">
                  <a:off x="3486960" y="2981880"/>
                  <a:ext cx="101880" cy="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rot="585000">
                  <a:off x="3486960" y="299268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585000">
                  <a:off x="3480480" y="300960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rot="585000">
                  <a:off x="3475080" y="3028320"/>
                  <a:ext cx="121680" cy="1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rot="585000">
                  <a:off x="3469320" y="3047040"/>
                  <a:ext cx="1216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9" name=""/>
            <p:cNvSpPr/>
            <p:nvPr/>
          </p:nvSpPr>
          <p:spPr>
            <a:xfrm>
              <a:off x="2757600" y="32004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46320" y="32004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17960" y="3271680"/>
              <a:ext cx="71280" cy="71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30680" y="3271680"/>
              <a:ext cx="71280" cy="71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800000">
              <a:off x="2843280" y="2928960"/>
              <a:ext cx="73080" cy="32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800000">
              <a:off x="2886120" y="2928960"/>
              <a:ext cx="73080" cy="32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00000">
              <a:off x="2801880" y="2928960"/>
              <a:ext cx="73080" cy="32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6200000">
              <a:off x="2958120" y="3480480"/>
              <a:ext cx="109440" cy="25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5400000">
              <a:off x="2824920" y="3053520"/>
              <a:ext cx="7128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5400000">
              <a:off x="3111840" y="3053520"/>
              <a:ext cx="71280" cy="21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4160880" y="907920"/>
            <a:ext cx="1444680" cy="1481400"/>
            <a:chOff x="4160880" y="907920"/>
            <a:chExt cx="1444680" cy="1481400"/>
          </a:xfrm>
        </p:grpSpPr>
        <p:sp>
          <p:nvSpPr>
            <p:cNvPr id="920" name=""/>
            <p:cNvSpPr/>
            <p:nvPr/>
          </p:nvSpPr>
          <p:spPr>
            <a:xfrm>
              <a:off x="4160880" y="1125360"/>
              <a:ext cx="1297080" cy="790920"/>
            </a:xfrm>
            <a:custGeom>
              <a:avLst/>
              <a:gdLst/>
              <a:ahLst/>
              <a:rect l="l" t="t" r="r" b="b"/>
              <a:pathLst>
                <a:path w="817" h="498">
                  <a:moveTo>
                    <a:pt x="136" y="453"/>
                  </a:moveTo>
                  <a:lnTo>
                    <a:pt x="91" y="317"/>
                  </a:lnTo>
                  <a:lnTo>
                    <a:pt x="0" y="181"/>
                  </a:lnTo>
                  <a:lnTo>
                    <a:pt x="91" y="226"/>
                  </a:lnTo>
                  <a:lnTo>
                    <a:pt x="45" y="45"/>
                  </a:lnTo>
                  <a:lnTo>
                    <a:pt x="181" y="181"/>
                  </a:lnTo>
                  <a:lnTo>
                    <a:pt x="181" y="0"/>
                  </a:lnTo>
                  <a:lnTo>
                    <a:pt x="318" y="181"/>
                  </a:lnTo>
                  <a:lnTo>
                    <a:pt x="363" y="0"/>
                  </a:lnTo>
                  <a:lnTo>
                    <a:pt x="454" y="181"/>
                  </a:lnTo>
                  <a:lnTo>
                    <a:pt x="544" y="45"/>
                  </a:lnTo>
                  <a:lnTo>
                    <a:pt x="544" y="226"/>
                  </a:lnTo>
                  <a:lnTo>
                    <a:pt x="726" y="90"/>
                  </a:lnTo>
                  <a:lnTo>
                    <a:pt x="635" y="272"/>
                  </a:lnTo>
                  <a:lnTo>
                    <a:pt x="817" y="181"/>
                  </a:lnTo>
                  <a:lnTo>
                    <a:pt x="680" y="317"/>
                  </a:lnTo>
                  <a:lnTo>
                    <a:pt x="635" y="498"/>
                  </a:lnTo>
                  <a:lnTo>
                    <a:pt x="408" y="408"/>
                  </a:lnTo>
                  <a:lnTo>
                    <a:pt x="136" y="4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029920" y="1829520"/>
              <a:ext cx="326160" cy="326880"/>
              <a:chOff x="5029920" y="1829520"/>
              <a:chExt cx="326160" cy="326880"/>
            </a:xfrm>
          </p:grpSpPr>
          <p:sp>
            <p:nvSpPr>
              <p:cNvPr id="922" name=""/>
              <p:cNvSpPr/>
              <p:nvPr/>
            </p:nvSpPr>
            <p:spPr>
              <a:xfrm flipH="1" rot="19800000">
                <a:off x="5073840" y="1872720"/>
                <a:ext cx="238320" cy="23976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rot="19800000">
                <a:off x="5097960" y="1897560"/>
                <a:ext cx="168120" cy="16956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4187880" y="1829520"/>
              <a:ext cx="326160" cy="326880"/>
              <a:chOff x="4187880" y="1829520"/>
              <a:chExt cx="326160" cy="326880"/>
            </a:xfrm>
          </p:grpSpPr>
          <p:sp>
            <p:nvSpPr>
              <p:cNvPr id="925" name=""/>
              <p:cNvSpPr/>
              <p:nvPr/>
            </p:nvSpPr>
            <p:spPr>
              <a:xfrm rot="1800000">
                <a:off x="4231800" y="1872720"/>
                <a:ext cx="238320" cy="23976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800000">
                <a:off x="4277520" y="1897560"/>
                <a:ext cx="168120" cy="169920"/>
              </a:xfrm>
              <a:custGeom>
                <a:avLst/>
                <a:gdLst/>
                <a:ahLst/>
                <a:rect l="l" t="t" r="r" b="b"/>
                <a:pathLst>
                  <a:path w="174" h="257">
                    <a:moveTo>
                      <a:pt x="113" y="60"/>
                    </a:moveTo>
                    <a:cubicBezTo>
                      <a:pt x="90" y="22"/>
                      <a:pt x="38" y="0"/>
                      <a:pt x="23" y="15"/>
                    </a:cubicBezTo>
                    <a:cubicBezTo>
                      <a:pt x="8" y="30"/>
                      <a:pt x="0" y="113"/>
                      <a:pt x="23" y="151"/>
                    </a:cubicBezTo>
                    <a:cubicBezTo>
                      <a:pt x="46" y="189"/>
                      <a:pt x="144" y="257"/>
                      <a:pt x="159" y="242"/>
                    </a:cubicBezTo>
                    <a:cubicBezTo>
                      <a:pt x="174" y="227"/>
                      <a:pt x="136" y="98"/>
                      <a:pt x="113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4349880" y="1557360"/>
              <a:ext cx="844560" cy="831960"/>
            </a:xfrm>
            <a:prstGeom prst="ellipse">
              <a:avLst/>
            </a:prstGeom>
            <a:gradFill rotWithShape="0">
              <a:gsLst>
                <a:gs pos="0">
                  <a:srgbClr val="fedfa1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6200000">
              <a:off x="4654800" y="1984320"/>
              <a:ext cx="22680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711680" y="2060640"/>
              <a:ext cx="119160" cy="31680"/>
            </a:xfrm>
            <a:custGeom>
              <a:avLst/>
              <a:gdLst/>
              <a:ahLst/>
              <a:rect l="l" t="t" r="r" b="b"/>
              <a:pathLst>
                <a:path w="264" h="59">
                  <a:moveTo>
                    <a:pt x="245" y="3"/>
                  </a:moveTo>
                  <a:cubicBezTo>
                    <a:pt x="264" y="3"/>
                    <a:pt x="264" y="21"/>
                    <a:pt x="245" y="31"/>
                  </a:cubicBezTo>
                  <a:cubicBezTo>
                    <a:pt x="226" y="40"/>
                    <a:pt x="170" y="59"/>
                    <a:pt x="132" y="59"/>
                  </a:cubicBezTo>
                  <a:cubicBezTo>
                    <a:pt x="94" y="59"/>
                    <a:pt x="38" y="40"/>
                    <a:pt x="19" y="31"/>
                  </a:cubicBezTo>
                  <a:cubicBezTo>
                    <a:pt x="0" y="21"/>
                    <a:pt x="0" y="6"/>
                    <a:pt x="19" y="3"/>
                  </a:cubicBezTo>
                  <a:cubicBezTo>
                    <a:pt x="38" y="0"/>
                    <a:pt x="94" y="14"/>
                    <a:pt x="132" y="14"/>
                  </a:cubicBezTo>
                  <a:cubicBezTo>
                    <a:pt x="170" y="14"/>
                    <a:pt x="222" y="5"/>
                    <a:pt x="245" y="3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443480" y="17733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875120" y="17733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16560" y="1846440"/>
              <a:ext cx="730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948200" y="1846440"/>
              <a:ext cx="730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024520" y="907920"/>
              <a:ext cx="581040" cy="647640"/>
              <a:chOff x="5024520" y="907920"/>
              <a:chExt cx="581040" cy="64764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5024520" y="907920"/>
                <a:ext cx="581040" cy="647640"/>
                <a:chOff x="5024520" y="907920"/>
                <a:chExt cx="581040" cy="64764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5024520" y="907920"/>
                  <a:ext cx="581040" cy="58212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090040" y="1361520"/>
                  <a:ext cx="12816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024520" y="907920"/>
                  <a:ext cx="581040" cy="582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090040" y="1361520"/>
                  <a:ext cx="12816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5154480" y="975240"/>
                <a:ext cx="347040" cy="448200"/>
                <a:chOff x="5154480" y="975240"/>
                <a:chExt cx="347040" cy="448200"/>
              </a:xfrm>
            </p:grpSpPr>
            <p:sp>
              <p:nvSpPr>
                <p:cNvPr id="941" name=""/>
                <p:cNvSpPr/>
                <p:nvPr/>
              </p:nvSpPr>
              <p:spPr>
                <a:xfrm rot="1105800">
                  <a:off x="5190480" y="1011600"/>
                  <a:ext cx="274680" cy="272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rot="11905800">
                  <a:off x="5329440" y="1033560"/>
                  <a:ext cx="129960" cy="27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105800">
                  <a:off x="5213160" y="1378080"/>
                  <a:ext cx="60120" cy="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rot="1105800">
                  <a:off x="5189760" y="1379160"/>
                  <a:ext cx="109440" cy="23760"/>
                </a:xfrm>
                <a:custGeom>
                  <a:avLst/>
                  <a:gdLst>
                    <a:gd name="textAreaLeft" fmla="*/ 24120 w 109440"/>
                    <a:gd name="textAreaRight" fmla="*/ 85320 w 1094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1105800">
                  <a:off x="5201640" y="1260720"/>
                  <a:ext cx="131760" cy="12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585000">
                  <a:off x="5201640" y="1274760"/>
                  <a:ext cx="15732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585000">
                  <a:off x="5193000" y="1295640"/>
                  <a:ext cx="156960" cy="24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585000">
                  <a:off x="5186520" y="1319760"/>
                  <a:ext cx="1573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rot="585000">
                  <a:off x="5178600" y="1344240"/>
                  <a:ext cx="156960" cy="23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0" name=""/>
            <p:cNvSpPr/>
            <p:nvPr/>
          </p:nvSpPr>
          <p:spPr>
            <a:xfrm>
              <a:off x="4417920" y="1700280"/>
              <a:ext cx="247680" cy="363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881600" y="1700280"/>
              <a:ext cx="247680" cy="363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305240" y="2637000"/>
            <a:ext cx="1473120" cy="1881720"/>
            <a:chOff x="4305240" y="2637000"/>
            <a:chExt cx="1473120" cy="1881720"/>
          </a:xfrm>
        </p:grpSpPr>
        <p:sp>
          <p:nvSpPr>
            <p:cNvPr id="953" name=""/>
            <p:cNvSpPr/>
            <p:nvPr/>
          </p:nvSpPr>
          <p:spPr>
            <a:xfrm>
              <a:off x="4521240" y="2852640"/>
              <a:ext cx="576360" cy="647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00520" y="2852640"/>
              <a:ext cx="576360" cy="647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592520" y="3070080"/>
              <a:ext cx="614520" cy="63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305240" y="3708360"/>
              <a:ext cx="590760" cy="655560"/>
            </a:xfrm>
            <a:custGeom>
              <a:avLst/>
              <a:gdLst/>
              <a:ahLst/>
              <a:rect l="l" t="t" r="r" b="b"/>
              <a:pathLst>
                <a:path w="816" h="907">
                  <a:moveTo>
                    <a:pt x="635" y="0"/>
                  </a:moveTo>
                  <a:lnTo>
                    <a:pt x="227" y="181"/>
                  </a:lnTo>
                  <a:lnTo>
                    <a:pt x="136" y="272"/>
                  </a:lnTo>
                  <a:lnTo>
                    <a:pt x="91" y="363"/>
                  </a:lnTo>
                  <a:lnTo>
                    <a:pt x="0" y="907"/>
                  </a:lnTo>
                  <a:lnTo>
                    <a:pt x="816" y="907"/>
                  </a:lnTo>
                  <a:lnTo>
                    <a:pt x="635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797360" y="3346560"/>
              <a:ext cx="196920" cy="525240"/>
              <a:chOff x="4797360" y="3346560"/>
              <a:chExt cx="196920" cy="525240"/>
            </a:xfrm>
          </p:grpSpPr>
          <p:sp>
            <p:nvSpPr>
              <p:cNvPr id="958" name=""/>
              <p:cNvSpPr/>
              <p:nvPr/>
            </p:nvSpPr>
            <p:spPr>
              <a:xfrm>
                <a:off x="4797360" y="3346560"/>
                <a:ext cx="196920" cy="52524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97360" y="3510720"/>
                <a:ext cx="196920" cy="19656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rot="20700000">
              <a:off x="4535280" y="3274560"/>
              <a:ext cx="126720" cy="22248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rot="900000">
              <a:off x="5128920" y="3274920"/>
              <a:ext cx="127080" cy="22248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8480" y="2948040"/>
              <a:ext cx="636480" cy="72720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896000" y="3708360"/>
              <a:ext cx="590400" cy="655560"/>
            </a:xfrm>
            <a:custGeom>
              <a:avLst/>
              <a:gdLst/>
              <a:ahLst/>
              <a:rect l="l" t="t" r="r" b="b"/>
              <a:pathLst>
                <a:path w="816" h="907">
                  <a:moveTo>
                    <a:pt x="635" y="0"/>
                  </a:moveTo>
                  <a:lnTo>
                    <a:pt x="227" y="181"/>
                  </a:lnTo>
                  <a:lnTo>
                    <a:pt x="136" y="272"/>
                  </a:lnTo>
                  <a:lnTo>
                    <a:pt x="91" y="363"/>
                  </a:lnTo>
                  <a:lnTo>
                    <a:pt x="0" y="907"/>
                  </a:lnTo>
                  <a:lnTo>
                    <a:pt x="816" y="907"/>
                  </a:lnTo>
                  <a:lnTo>
                    <a:pt x="635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37240" y="3813120"/>
              <a:ext cx="326880" cy="3366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30840" y="3807000"/>
              <a:ext cx="129960" cy="12996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0" y="0"/>
                  </a:moveTo>
                  <a:lnTo>
                    <a:pt x="181" y="0"/>
                  </a:lnTo>
                  <a:lnTo>
                    <a:pt x="136" y="227"/>
                  </a:lnTo>
                  <a:lnTo>
                    <a:pt x="45" y="22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97360" y="3936960"/>
              <a:ext cx="196920" cy="426960"/>
            </a:xfrm>
            <a:custGeom>
              <a:avLst/>
              <a:gdLst/>
              <a:ahLst/>
              <a:rect l="l" t="t" r="r" b="b"/>
              <a:pathLst>
                <a:path w="273" h="590">
                  <a:moveTo>
                    <a:pt x="91" y="0"/>
                  </a:moveTo>
                  <a:lnTo>
                    <a:pt x="182" y="0"/>
                  </a:lnTo>
                  <a:lnTo>
                    <a:pt x="273" y="409"/>
                  </a:lnTo>
                  <a:lnTo>
                    <a:pt x="136" y="590"/>
                  </a:lnTo>
                  <a:lnTo>
                    <a:pt x="0" y="409"/>
                  </a:lnTo>
                  <a:lnTo>
                    <a:pt x="91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99080" y="3675240"/>
              <a:ext cx="196920" cy="295200"/>
            </a:xfrm>
            <a:custGeom>
              <a:avLst/>
              <a:gdLst/>
              <a:ahLst/>
              <a:rect l="l" t="t" r="r" b="b"/>
              <a:pathLst>
                <a:path w="273" h="408">
                  <a:moveTo>
                    <a:pt x="137" y="0"/>
                  </a:moveTo>
                  <a:lnTo>
                    <a:pt x="273" y="181"/>
                  </a:lnTo>
                  <a:lnTo>
                    <a:pt x="46" y="408"/>
                  </a:lnTo>
                  <a:lnTo>
                    <a:pt x="0" y="136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00440" y="3708360"/>
              <a:ext cx="295560" cy="655560"/>
            </a:xfrm>
            <a:custGeom>
              <a:avLst/>
              <a:gdLst/>
              <a:ahLst/>
              <a:rect l="l" t="t" r="r" b="b"/>
              <a:pathLst>
                <a:path w="408" h="907">
                  <a:moveTo>
                    <a:pt x="227" y="0"/>
                  </a:moveTo>
                  <a:lnTo>
                    <a:pt x="227" y="408"/>
                  </a:lnTo>
                  <a:lnTo>
                    <a:pt x="408" y="907"/>
                  </a:lnTo>
                  <a:lnTo>
                    <a:pt x="227" y="726"/>
                  </a:lnTo>
                  <a:lnTo>
                    <a:pt x="0" y="408"/>
                  </a:lnTo>
                  <a:lnTo>
                    <a:pt x="136" y="363"/>
                  </a:lnTo>
                  <a:lnTo>
                    <a:pt x="0" y="272"/>
                  </a:lnTo>
                  <a:lnTo>
                    <a:pt x="136" y="45"/>
                  </a:lnTo>
                  <a:lnTo>
                    <a:pt x="227" y="0"/>
                  </a:ln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896000" y="3675240"/>
              <a:ext cx="196560" cy="295200"/>
            </a:xfrm>
            <a:custGeom>
              <a:avLst/>
              <a:gdLst/>
              <a:ahLst/>
              <a:rect l="l" t="t" r="r" b="b"/>
              <a:pathLst>
                <a:path w="273" h="408">
                  <a:moveTo>
                    <a:pt x="137" y="0"/>
                  </a:moveTo>
                  <a:lnTo>
                    <a:pt x="273" y="181"/>
                  </a:lnTo>
                  <a:lnTo>
                    <a:pt x="46" y="408"/>
                  </a:lnTo>
                  <a:lnTo>
                    <a:pt x="0" y="136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4896000" y="3708360"/>
              <a:ext cx="295200" cy="655560"/>
            </a:xfrm>
            <a:custGeom>
              <a:avLst/>
              <a:gdLst/>
              <a:ahLst/>
              <a:rect l="l" t="t" r="r" b="b"/>
              <a:pathLst>
                <a:path w="408" h="907">
                  <a:moveTo>
                    <a:pt x="227" y="0"/>
                  </a:moveTo>
                  <a:lnTo>
                    <a:pt x="227" y="408"/>
                  </a:lnTo>
                  <a:lnTo>
                    <a:pt x="408" y="907"/>
                  </a:lnTo>
                  <a:lnTo>
                    <a:pt x="227" y="726"/>
                  </a:lnTo>
                  <a:lnTo>
                    <a:pt x="0" y="408"/>
                  </a:lnTo>
                  <a:lnTo>
                    <a:pt x="136" y="363"/>
                  </a:lnTo>
                  <a:lnTo>
                    <a:pt x="0" y="272"/>
                  </a:lnTo>
                  <a:lnTo>
                    <a:pt x="136" y="45"/>
                  </a:lnTo>
                  <a:lnTo>
                    <a:pt x="227" y="0"/>
                  </a:ln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4879080" y="3448800"/>
              <a:ext cx="3312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5149800" y="3414240"/>
              <a:ext cx="527400" cy="1104480"/>
              <a:chOff x="5149800" y="3414240"/>
              <a:chExt cx="527400" cy="110448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5149800" y="3414240"/>
                <a:ext cx="334800" cy="378720"/>
                <a:chOff x="5149800" y="3414240"/>
                <a:chExt cx="334800" cy="378720"/>
              </a:xfrm>
            </p:grpSpPr>
            <p:sp>
              <p:nvSpPr>
                <p:cNvPr id="974" name=""/>
                <p:cNvSpPr/>
                <p:nvPr/>
              </p:nvSpPr>
              <p:spPr>
                <a:xfrm rot="20700000">
                  <a:off x="5178600" y="3501360"/>
                  <a:ext cx="276120" cy="260280"/>
                </a:xfrm>
                <a:prstGeom prst="roundRect">
                  <a:avLst>
                    <a:gd name="adj" fmla="val 2744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20700000">
                  <a:off x="5344560" y="3421080"/>
                  <a:ext cx="73080" cy="142920"/>
                </a:xfrm>
                <a:custGeom>
                  <a:avLst/>
                  <a:gdLst>
                    <a:gd name="textAreaLeft" fmla="*/ 10440 w 73080"/>
                    <a:gd name="textAreaRight" fmla="*/ 62640 w 7308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14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41"/>
                      </a:lnTo>
                      <a:arcTo wR="10800" hR="10800" stAng="10800000" swAng="-5400000"/>
                      <a:lnTo>
                        <a:pt x="10800" y="4214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20700000">
                  <a:off x="5218560" y="3472560"/>
                  <a:ext cx="73080" cy="142920"/>
                </a:xfrm>
                <a:custGeom>
                  <a:avLst/>
                  <a:gdLst>
                    <a:gd name="textAreaLeft" fmla="*/ 10440 w 73080"/>
                    <a:gd name="textAreaRight" fmla="*/ 62640 w 7308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14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41"/>
                      </a:lnTo>
                      <a:arcTo wR="10800" hR="10800" stAng="10800000" swAng="-5400000"/>
                      <a:lnTo>
                        <a:pt x="10800" y="4214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20700000">
                  <a:off x="5282280" y="3440880"/>
                  <a:ext cx="73080" cy="142920"/>
                </a:xfrm>
                <a:custGeom>
                  <a:avLst/>
                  <a:gdLst>
                    <a:gd name="textAreaLeft" fmla="*/ 10440 w 73080"/>
                    <a:gd name="textAreaRight" fmla="*/ 62640 w 73080"/>
                    <a:gd name="textAreaTop" fmla="*/ 10440 h 142920"/>
                    <a:gd name="textAreaBottom" fmla="*/ 132480 h 142920"/>
                  </a:gdLst>
                  <a:ahLst/>
                  <a:rect l="textAreaLeft" t="textAreaTop" r="textAreaRight" b="textAreaBottom"/>
                  <a:pathLst>
                    <a:path w="21600" h="42141">
                      <a:moveTo>
                        <a:pt x="10800" y="0"/>
                      </a:moveTo>
                      <a:arcTo wR="10800" hR="10800" stAng="16200000" swAng="-5400000"/>
                      <a:lnTo>
                        <a:pt x="0" y="31341"/>
                      </a:lnTo>
                      <a:arcTo wR="10800" hR="10800" stAng="10800000" swAng="-5400000"/>
                      <a:lnTo>
                        <a:pt x="10800" y="42141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87600">
                  <a:off x="5377680" y="3534840"/>
                  <a:ext cx="104760" cy="158760"/>
                </a:xfrm>
                <a:custGeom>
                  <a:avLst/>
                  <a:gdLst>
                    <a:gd name="textAreaLeft" fmla="*/ 15120 w 104760"/>
                    <a:gd name="textAreaRight" fmla="*/ 89640 w 104760"/>
                    <a:gd name="textAreaTop" fmla="*/ 15120 h 158760"/>
                    <a:gd name="textAreaBottom" fmla="*/ 143640 h 158760"/>
                  </a:gdLst>
                  <a:ahLst/>
                  <a:rect l="textAreaLeft" t="textAreaTop" r="textAreaRight" b="textAreaBottom"/>
                  <a:pathLst>
                    <a:path w="21600" h="32696">
                      <a:moveTo>
                        <a:pt x="10800" y="0"/>
                      </a:moveTo>
                      <a:arcTo wR="10800" hR="10800" stAng="16200000" swAng="-5400000"/>
                      <a:lnTo>
                        <a:pt x="0" y="21896"/>
                      </a:lnTo>
                      <a:arcTo wR="10800" hR="10800" stAng="10800000" swAng="-5400000"/>
                      <a:lnTo>
                        <a:pt x="10800" y="32696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9" name=""/>
              <p:cNvSpPr/>
              <p:nvPr/>
            </p:nvSpPr>
            <p:spPr>
              <a:xfrm rot="20700000">
                <a:off x="5223960" y="3743640"/>
                <a:ext cx="255600" cy="96840"/>
              </a:xfrm>
              <a:prstGeom prst="rect">
                <a:avLst/>
              </a:prstGeom>
              <a:gradFill rotWithShape="0">
                <a:gsLst>
                  <a:gs pos="0">
                    <a:srgbClr val="c1c1c1"/>
                  </a:gs>
                  <a:gs pos="50000">
                    <a:srgbClr val="ffffff"/>
                  </a:gs>
                  <a:gs pos="100000">
                    <a:srgbClr val="c1c1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0700000">
                <a:off x="5299560" y="3772440"/>
                <a:ext cx="289080" cy="720720"/>
              </a:xfrm>
              <a:custGeom>
                <a:avLst/>
                <a:gdLst>
                  <a:gd name="textAreaLeft" fmla="*/ 42120 w 289080"/>
                  <a:gd name="textAreaRight" fmla="*/ 246960 w 289080"/>
                  <a:gd name="textAreaTop" fmla="*/ 42120 h 720720"/>
                  <a:gd name="textAreaBottom" fmla="*/ 678600 h 720720"/>
                </a:gdLst>
                <a:ahLst/>
                <a:rect l="textAreaLeft" t="textAreaTop" r="textAreaRight" b="textAreaBottom"/>
                <a:pathLst>
                  <a:path w="21600" h="53812">
                    <a:moveTo>
                      <a:pt x="10800" y="0"/>
                    </a:moveTo>
                    <a:arcTo wR="10800" hR="10800" stAng="16200000" swAng="-5400000"/>
                    <a:lnTo>
                      <a:pt x="0" y="43012"/>
                    </a:lnTo>
                    <a:arcTo wR="10800" hR="10800" stAng="10800000" swAng="-5400000"/>
                    <a:lnTo>
                      <a:pt x="10800" y="5381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700000">
                <a:off x="5225040" y="3782520"/>
                <a:ext cx="289080" cy="144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700000">
                <a:off x="5373360" y="3810600"/>
                <a:ext cx="144360" cy="649440"/>
              </a:xfrm>
              <a:custGeom>
                <a:avLst/>
                <a:gdLst>
                  <a:gd name="textAreaLeft" fmla="*/ 20880 w 144360"/>
                  <a:gd name="textAreaRight" fmla="*/ 123480 w 144360"/>
                  <a:gd name="textAreaTop" fmla="*/ 20880 h 649440"/>
                  <a:gd name="textAreaBottom" fmla="*/ 628560 h 649440"/>
                </a:gdLst>
                <a:ahLst/>
                <a:rect l="textAreaLeft" t="textAreaTop" r="textAreaRight" b="textAreaBottom"/>
                <a:pathLst>
                  <a:path w="21600" h="96985">
                    <a:moveTo>
                      <a:pt x="10800" y="0"/>
                    </a:moveTo>
                    <a:arcTo wR="10800" hR="10800" stAng="16200000" swAng="-5400000"/>
                    <a:lnTo>
                      <a:pt x="0" y="86185"/>
                    </a:lnTo>
                    <a:arcTo wR="10800" hR="10800" stAng="10800000" swAng="-5400000"/>
                    <a:lnTo>
                      <a:pt x="10800" y="9698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5327640" y="2637000"/>
              <a:ext cx="450720" cy="502560"/>
              <a:chOff x="5327640" y="2637000"/>
              <a:chExt cx="450720" cy="50256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5327640" y="2637000"/>
                <a:ext cx="450720" cy="502560"/>
                <a:chOff x="5327640" y="2637000"/>
                <a:chExt cx="450720" cy="50256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5327640" y="2637000"/>
                  <a:ext cx="450720" cy="45180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378400" y="2989080"/>
                  <a:ext cx="99360" cy="15048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27640" y="2637000"/>
                  <a:ext cx="450720" cy="45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378400" y="2989080"/>
                  <a:ext cx="99360" cy="15048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5428440" y="2689560"/>
                <a:ext cx="268920" cy="347040"/>
                <a:chOff x="5428440" y="2689560"/>
                <a:chExt cx="268920" cy="347040"/>
              </a:xfrm>
            </p:grpSpPr>
            <p:sp>
              <p:nvSpPr>
                <p:cNvPr id="990" name=""/>
                <p:cNvSpPr/>
                <p:nvPr/>
              </p:nvSpPr>
              <p:spPr>
                <a:xfrm rot="1105800">
                  <a:off x="5456160" y="2717640"/>
                  <a:ext cx="212760" cy="211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1905800">
                  <a:off x="5564160" y="2734200"/>
                  <a:ext cx="100440" cy="21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rot="1105800">
                  <a:off x="5474160" y="3001680"/>
                  <a:ext cx="4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1105800">
                  <a:off x="5455800" y="3002400"/>
                  <a:ext cx="84600" cy="18360"/>
                </a:xfrm>
                <a:custGeom>
                  <a:avLst/>
                  <a:gdLst>
                    <a:gd name="textAreaLeft" fmla="*/ 18360 w 84600"/>
                    <a:gd name="textAreaRight" fmla="*/ 66240 w 84600"/>
                    <a:gd name="textAreaTop" fmla="*/ 3960 h 18360"/>
                    <a:gd name="textAreaBottom" fmla="*/ 1440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105800">
                  <a:off x="5464800" y="2910240"/>
                  <a:ext cx="101880" cy="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585000">
                  <a:off x="5464800" y="292140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585000">
                  <a:off x="5458320" y="293796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585000">
                  <a:off x="5452920" y="2956680"/>
                  <a:ext cx="121680" cy="1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585000">
                  <a:off x="5447160" y="2975400"/>
                  <a:ext cx="1216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"/>
            <p:cNvSpPr/>
            <p:nvPr/>
          </p:nvSpPr>
          <p:spPr>
            <a:xfrm>
              <a:off x="4716360" y="3519360"/>
              <a:ext cx="360360" cy="125640"/>
            </a:xfrm>
            <a:custGeom>
              <a:avLst/>
              <a:gdLst/>
              <a:ahLst/>
              <a:rect l="l" t="t" r="r" b="b"/>
              <a:pathLst>
                <a:path w="272" h="106">
                  <a:moveTo>
                    <a:pt x="136" y="106"/>
                  </a:moveTo>
                  <a:cubicBezTo>
                    <a:pt x="91" y="106"/>
                    <a:pt x="0" y="30"/>
                    <a:pt x="0" y="15"/>
                  </a:cubicBezTo>
                  <a:cubicBezTo>
                    <a:pt x="0" y="0"/>
                    <a:pt x="91" y="15"/>
                    <a:pt x="136" y="15"/>
                  </a:cubicBezTo>
                  <a:cubicBezTo>
                    <a:pt x="181" y="15"/>
                    <a:pt x="272" y="0"/>
                    <a:pt x="272" y="15"/>
                  </a:cubicBezTo>
                  <a:cubicBezTo>
                    <a:pt x="272" y="30"/>
                    <a:pt x="181" y="106"/>
                    <a:pt x="136" y="10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24560" y="3203640"/>
              <a:ext cx="21564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213000"/>
              <a:ext cx="21600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37120" y="3219480"/>
              <a:ext cx="88920" cy="9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4695840" y="3068640"/>
              <a:ext cx="6984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5025960" y="3068640"/>
              <a:ext cx="69840" cy="2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710240" y="3213000"/>
              <a:ext cx="88920" cy="98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6176880" y="2708280"/>
            <a:ext cx="1314360" cy="1720800"/>
            <a:chOff x="6176880" y="2708280"/>
            <a:chExt cx="1314360" cy="1720800"/>
          </a:xfrm>
        </p:grpSpPr>
        <p:sp>
          <p:nvSpPr>
            <p:cNvPr id="1007" name=""/>
            <p:cNvSpPr/>
            <p:nvPr/>
          </p:nvSpPr>
          <p:spPr>
            <a:xfrm>
              <a:off x="6308640" y="2886120"/>
              <a:ext cx="722520" cy="1019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48520" y="2852640"/>
              <a:ext cx="649080" cy="863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351480" y="2816280"/>
              <a:ext cx="722520" cy="1008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85040" y="2867040"/>
              <a:ext cx="444240" cy="569880"/>
            </a:xfrm>
            <a:prstGeom prst="ellipse">
              <a:avLst/>
            </a:prstGeom>
            <a:solidFill>
              <a:srgbClr val="2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20700000">
              <a:off x="6308640" y="3292560"/>
              <a:ext cx="127080" cy="21276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rot="900000">
              <a:off x="6904080" y="3292560"/>
              <a:ext cx="127080" cy="21240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340320" y="2951280"/>
              <a:ext cx="658800" cy="755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6572160" y="3346560"/>
              <a:ext cx="198360" cy="525240"/>
              <a:chOff x="6572160" y="3346560"/>
              <a:chExt cx="198360" cy="525240"/>
            </a:xfrm>
          </p:grpSpPr>
          <p:sp>
            <p:nvSpPr>
              <p:cNvPr id="1015" name=""/>
              <p:cNvSpPr/>
              <p:nvPr/>
            </p:nvSpPr>
            <p:spPr>
              <a:xfrm>
                <a:off x="6572160" y="3346560"/>
                <a:ext cx="198360" cy="52524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572160" y="3510720"/>
                <a:ext cx="198360" cy="19656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351480" y="2924280"/>
              <a:ext cx="638280" cy="72396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0800000">
              <a:off x="6622560" y="3428640"/>
              <a:ext cx="95400" cy="33480"/>
            </a:xfrm>
            <a:custGeom>
              <a:avLst/>
              <a:gdLst/>
              <a:ahLst/>
              <a:rect l="l" t="t" r="r" b="b"/>
              <a:pathLst>
                <a:path w="363" h="98">
                  <a:moveTo>
                    <a:pt x="0" y="91"/>
                  </a:moveTo>
                  <a:cubicBezTo>
                    <a:pt x="0" y="84"/>
                    <a:pt x="122" y="0"/>
                    <a:pt x="182" y="0"/>
                  </a:cubicBezTo>
                  <a:cubicBezTo>
                    <a:pt x="242" y="0"/>
                    <a:pt x="363" y="84"/>
                    <a:pt x="363" y="91"/>
                  </a:cubicBezTo>
                  <a:cubicBezTo>
                    <a:pt x="363" y="98"/>
                    <a:pt x="242" y="45"/>
                    <a:pt x="182" y="45"/>
                  </a:cubicBezTo>
                  <a:cubicBezTo>
                    <a:pt x="122" y="45"/>
                    <a:pt x="0" y="98"/>
                    <a:pt x="0" y="91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"/>
            <p:cNvGrpSpPr/>
            <p:nvPr/>
          </p:nvGrpSpPr>
          <p:grpSpPr>
            <a:xfrm>
              <a:off x="6572160" y="3492360"/>
              <a:ext cx="196920" cy="115560"/>
              <a:chOff x="6572160" y="3492360"/>
              <a:chExt cx="196920" cy="115560"/>
            </a:xfrm>
          </p:grpSpPr>
          <p:sp>
            <p:nvSpPr>
              <p:cNvPr id="1020" name=""/>
              <p:cNvSpPr/>
              <p:nvPr/>
            </p:nvSpPr>
            <p:spPr>
              <a:xfrm>
                <a:off x="6572160" y="3492360"/>
                <a:ext cx="196920" cy="115560"/>
              </a:xfrm>
              <a:custGeom>
                <a:avLst/>
                <a:gdLst/>
                <a:ahLst/>
                <a:rect l="l" t="t" r="r" b="b"/>
                <a:pathLst>
                  <a:path w="915" h="726">
                    <a:moveTo>
                      <a:pt x="461" y="0"/>
                    </a:moveTo>
                    <a:cubicBezTo>
                      <a:pt x="612" y="0"/>
                      <a:pt x="915" y="60"/>
                      <a:pt x="915" y="181"/>
                    </a:cubicBezTo>
                    <a:cubicBezTo>
                      <a:pt x="915" y="302"/>
                      <a:pt x="612" y="726"/>
                      <a:pt x="461" y="726"/>
                    </a:cubicBezTo>
                    <a:cubicBezTo>
                      <a:pt x="310" y="726"/>
                      <a:pt x="0" y="302"/>
                      <a:pt x="7" y="181"/>
                    </a:cubicBezTo>
                    <a:cubicBezTo>
                      <a:pt x="14" y="60"/>
                      <a:pt x="310" y="0"/>
                      <a:pt x="46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0000"/>
                  </a:gs>
                  <a:gs pos="100000">
                    <a:srgbClr val="9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600960" y="3538440"/>
                <a:ext cx="139320" cy="69480"/>
              </a:xfrm>
              <a:custGeom>
                <a:avLst/>
                <a:gdLst/>
                <a:ahLst/>
                <a:rect l="l" t="t" r="r" b="b"/>
                <a:pathLst>
                  <a:path w="915" h="726">
                    <a:moveTo>
                      <a:pt x="461" y="0"/>
                    </a:moveTo>
                    <a:cubicBezTo>
                      <a:pt x="612" y="0"/>
                      <a:pt x="915" y="60"/>
                      <a:pt x="915" y="181"/>
                    </a:cubicBezTo>
                    <a:cubicBezTo>
                      <a:pt x="915" y="302"/>
                      <a:pt x="612" y="726"/>
                      <a:pt x="461" y="726"/>
                    </a:cubicBezTo>
                    <a:cubicBezTo>
                      <a:pt x="310" y="726"/>
                      <a:pt x="0" y="302"/>
                      <a:pt x="7" y="181"/>
                    </a:cubicBezTo>
                    <a:cubicBezTo>
                      <a:pt x="14" y="60"/>
                      <a:pt x="310" y="0"/>
                      <a:pt x="46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66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6438960" y="3706920"/>
              <a:ext cx="460440" cy="263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2080" y="3706920"/>
              <a:ext cx="395280" cy="658800"/>
            </a:xfrm>
            <a:custGeom>
              <a:avLst/>
              <a:gdLst/>
              <a:ahLst/>
              <a:rect l="l" t="t" r="r" b="b"/>
              <a:pathLst>
                <a:path w="544" h="945">
                  <a:moveTo>
                    <a:pt x="272" y="945"/>
                  </a:moveTo>
                  <a:cubicBezTo>
                    <a:pt x="181" y="945"/>
                    <a:pt x="0" y="256"/>
                    <a:pt x="0" y="128"/>
                  </a:cubicBezTo>
                  <a:cubicBezTo>
                    <a:pt x="0" y="0"/>
                    <a:pt x="181" y="174"/>
                    <a:pt x="272" y="174"/>
                  </a:cubicBezTo>
                  <a:cubicBezTo>
                    <a:pt x="363" y="174"/>
                    <a:pt x="544" y="0"/>
                    <a:pt x="544" y="128"/>
                  </a:cubicBezTo>
                  <a:cubicBezTo>
                    <a:pt x="544" y="256"/>
                    <a:pt x="363" y="945"/>
                    <a:pt x="272" y="945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6880" y="3741840"/>
              <a:ext cx="474840" cy="623880"/>
            </a:xfrm>
            <a:custGeom>
              <a:avLst/>
              <a:gdLst/>
              <a:ahLst/>
              <a:rect l="l" t="t" r="r" b="b"/>
              <a:pathLst>
                <a:path w="655" h="859">
                  <a:moveTo>
                    <a:pt x="468" y="0"/>
                  </a:moveTo>
                  <a:lnTo>
                    <a:pt x="189" y="133"/>
                  </a:lnTo>
                  <a:lnTo>
                    <a:pt x="113" y="224"/>
                  </a:lnTo>
                  <a:lnTo>
                    <a:pt x="76" y="315"/>
                  </a:lnTo>
                  <a:lnTo>
                    <a:pt x="0" y="859"/>
                  </a:lnTo>
                  <a:lnTo>
                    <a:pt x="655" y="859"/>
                  </a:lnTo>
                  <a:lnTo>
                    <a:pt x="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75520" y="3706920"/>
              <a:ext cx="395280" cy="658800"/>
            </a:xfrm>
            <a:custGeom>
              <a:avLst/>
              <a:gdLst/>
              <a:ahLst/>
              <a:rect l="l" t="t" r="r" b="b"/>
              <a:pathLst>
                <a:path w="544" h="908">
                  <a:moveTo>
                    <a:pt x="363" y="0"/>
                  </a:moveTo>
                  <a:lnTo>
                    <a:pt x="544" y="908"/>
                  </a:lnTo>
                  <a:lnTo>
                    <a:pt x="363" y="908"/>
                  </a:lnTo>
                  <a:lnTo>
                    <a:pt x="136" y="726"/>
                  </a:lnTo>
                  <a:lnTo>
                    <a:pt x="227" y="499"/>
                  </a:lnTo>
                  <a:lnTo>
                    <a:pt x="0" y="499"/>
                  </a:lnTo>
                  <a:lnTo>
                    <a:pt x="181" y="91"/>
                  </a:lnTo>
                  <a:lnTo>
                    <a:pt x="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fe98"/>
                </a:gs>
                <a:gs pos="100000">
                  <a:srgbClr val="99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6687360" y="3741840"/>
              <a:ext cx="474840" cy="623880"/>
            </a:xfrm>
            <a:custGeom>
              <a:avLst/>
              <a:gdLst/>
              <a:ahLst/>
              <a:rect l="l" t="t" r="r" b="b"/>
              <a:pathLst>
                <a:path w="655" h="859">
                  <a:moveTo>
                    <a:pt x="468" y="0"/>
                  </a:moveTo>
                  <a:lnTo>
                    <a:pt x="189" y="133"/>
                  </a:lnTo>
                  <a:lnTo>
                    <a:pt x="113" y="224"/>
                  </a:lnTo>
                  <a:lnTo>
                    <a:pt x="76" y="315"/>
                  </a:lnTo>
                  <a:lnTo>
                    <a:pt x="0" y="859"/>
                  </a:lnTo>
                  <a:lnTo>
                    <a:pt x="655" y="859"/>
                  </a:lnTo>
                  <a:lnTo>
                    <a:pt x="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7cdd7c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6670080" y="3706920"/>
              <a:ext cx="393480" cy="658800"/>
            </a:xfrm>
            <a:custGeom>
              <a:avLst/>
              <a:gdLst/>
              <a:ahLst/>
              <a:rect l="l" t="t" r="r" b="b"/>
              <a:pathLst>
                <a:path w="544" h="908">
                  <a:moveTo>
                    <a:pt x="363" y="0"/>
                  </a:moveTo>
                  <a:lnTo>
                    <a:pt x="544" y="908"/>
                  </a:lnTo>
                  <a:lnTo>
                    <a:pt x="363" y="908"/>
                  </a:lnTo>
                  <a:lnTo>
                    <a:pt x="136" y="726"/>
                  </a:lnTo>
                  <a:lnTo>
                    <a:pt x="227" y="499"/>
                  </a:lnTo>
                  <a:lnTo>
                    <a:pt x="0" y="499"/>
                  </a:lnTo>
                  <a:lnTo>
                    <a:pt x="181" y="91"/>
                  </a:lnTo>
                  <a:lnTo>
                    <a:pt x="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fe98"/>
                </a:gs>
                <a:gs pos="100000">
                  <a:srgbClr val="99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373800" y="3360600"/>
              <a:ext cx="591840" cy="98640"/>
              <a:chOff x="6373800" y="3360600"/>
              <a:chExt cx="591840" cy="98640"/>
            </a:xfrm>
          </p:grpSpPr>
          <p:sp>
            <p:nvSpPr>
              <p:cNvPr id="1029" name=""/>
              <p:cNvSpPr/>
              <p:nvPr/>
            </p:nvSpPr>
            <p:spPr>
              <a:xfrm>
                <a:off x="6373800" y="3360600"/>
                <a:ext cx="196560" cy="9864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9999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769080" y="3360600"/>
                <a:ext cx="196560" cy="9864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9999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988680" y="3501360"/>
              <a:ext cx="230040" cy="246600"/>
              <a:chOff x="6988680" y="3501360"/>
              <a:chExt cx="230040" cy="246600"/>
            </a:xfrm>
          </p:grpSpPr>
          <p:sp>
            <p:nvSpPr>
              <p:cNvPr id="1032" name=""/>
              <p:cNvSpPr/>
              <p:nvPr/>
            </p:nvSpPr>
            <p:spPr>
              <a:xfrm rot="21201000">
                <a:off x="6998400" y="3552120"/>
                <a:ext cx="191160" cy="185040"/>
              </a:xfrm>
              <a:prstGeom prst="roundRect">
                <a:avLst>
                  <a:gd name="adj" fmla="val 2744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1201000">
                <a:off x="7126560" y="3503520"/>
                <a:ext cx="50400" cy="101520"/>
              </a:xfrm>
              <a:custGeom>
                <a:avLst/>
                <a:gdLst>
                  <a:gd name="textAreaLeft" fmla="*/ 7200 w 50400"/>
                  <a:gd name="textAreaRight" fmla="*/ 43200 w 50400"/>
                  <a:gd name="textAreaTop" fmla="*/ 7200 h 101520"/>
                  <a:gd name="textAreaBottom" fmla="*/ 94320 h 101520"/>
                </a:gdLst>
                <a:ahLst/>
                <a:rect l="textAreaLeft" t="textAreaTop" r="textAreaRight" b="textAreaBottom"/>
                <a:pathLst>
                  <a:path w="21600" h="43353">
                    <a:moveTo>
                      <a:pt x="10800" y="0"/>
                    </a:moveTo>
                    <a:arcTo wR="10800" hR="10800" stAng="16200000" swAng="-5400000"/>
                    <a:lnTo>
                      <a:pt x="0" y="32553"/>
                    </a:lnTo>
                    <a:arcTo wR="10800" hR="10800" stAng="10800000" swAng="-5400000"/>
                    <a:lnTo>
                      <a:pt x="10800" y="4335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01000">
                <a:off x="7035120" y="3526200"/>
                <a:ext cx="50400" cy="101520"/>
              </a:xfrm>
              <a:custGeom>
                <a:avLst/>
                <a:gdLst>
                  <a:gd name="textAreaLeft" fmla="*/ 7200 w 50400"/>
                  <a:gd name="textAreaRight" fmla="*/ 43200 w 50400"/>
                  <a:gd name="textAreaTop" fmla="*/ 7200 h 101520"/>
                  <a:gd name="textAreaBottom" fmla="*/ 94320 h 101520"/>
                </a:gdLst>
                <a:ahLst/>
                <a:rect l="textAreaLeft" t="textAreaTop" r="textAreaRight" b="textAreaBottom"/>
                <a:pathLst>
                  <a:path w="21600" h="43353">
                    <a:moveTo>
                      <a:pt x="10800" y="0"/>
                    </a:moveTo>
                    <a:arcTo wR="10800" hR="10800" stAng="16200000" swAng="-5400000"/>
                    <a:lnTo>
                      <a:pt x="0" y="32553"/>
                    </a:lnTo>
                    <a:arcTo wR="10800" hR="10800" stAng="10800000" swAng="-5400000"/>
                    <a:lnTo>
                      <a:pt x="10800" y="4335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21201000">
                <a:off x="7081920" y="3510720"/>
                <a:ext cx="50400" cy="101520"/>
              </a:xfrm>
              <a:custGeom>
                <a:avLst/>
                <a:gdLst>
                  <a:gd name="textAreaLeft" fmla="*/ 7200 w 50400"/>
                  <a:gd name="textAreaRight" fmla="*/ 43200 w 50400"/>
                  <a:gd name="textAreaTop" fmla="*/ 7200 h 101520"/>
                  <a:gd name="textAreaBottom" fmla="*/ 94320 h 101520"/>
                </a:gdLst>
                <a:ahLst/>
                <a:rect l="textAreaLeft" t="textAreaTop" r="textAreaRight" b="textAreaBottom"/>
                <a:pathLst>
                  <a:path w="21600" h="43353">
                    <a:moveTo>
                      <a:pt x="10800" y="0"/>
                    </a:moveTo>
                    <a:arcTo wR="10800" hR="10800" stAng="16200000" swAng="-5400000"/>
                    <a:lnTo>
                      <a:pt x="0" y="32553"/>
                    </a:lnTo>
                    <a:arcTo wR="10800" hR="10800" stAng="10800000" swAng="-5400000"/>
                    <a:lnTo>
                      <a:pt x="10800" y="4335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588600">
                <a:off x="7137000" y="3588480"/>
                <a:ext cx="72360" cy="112680"/>
              </a:xfrm>
              <a:custGeom>
                <a:avLst/>
                <a:gdLst>
                  <a:gd name="textAreaLeft" fmla="*/ 10440 w 72360"/>
                  <a:gd name="textAreaRight" fmla="*/ 61920 w 72360"/>
                  <a:gd name="textAreaTop" fmla="*/ 10440 h 112680"/>
                  <a:gd name="textAreaBottom" fmla="*/ 102240 h 112680"/>
                </a:gdLst>
                <a:ahLst/>
                <a:rect l="textAreaLeft" t="textAreaTop" r="textAreaRight" b="textAreaBottom"/>
                <a:pathLst>
                  <a:path w="21600" h="33576">
                    <a:moveTo>
                      <a:pt x="10800" y="0"/>
                    </a:moveTo>
                    <a:arcTo wR="10800" hR="10800" stAng="16200000" swAng="-5400000"/>
                    <a:lnTo>
                      <a:pt x="0" y="22776"/>
                    </a:lnTo>
                    <a:arcTo wR="10800" hR="10800" stAng="10800000" swAng="-5400000"/>
                    <a:lnTo>
                      <a:pt x="10800" y="335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 rot="21058200">
              <a:off x="7040520" y="3693960"/>
              <a:ext cx="239760" cy="720720"/>
            </a:xfrm>
            <a:custGeom>
              <a:avLst/>
              <a:gdLst>
                <a:gd name="textAreaLeft" fmla="*/ 34920 w 239760"/>
                <a:gd name="textAreaRight" fmla="*/ 204840 w 239760"/>
                <a:gd name="textAreaTop" fmla="*/ 34920 h 720720"/>
                <a:gd name="textAreaBottom" fmla="*/ 685800 h 720720"/>
              </a:gdLst>
              <a:ahLst/>
              <a:rect l="textAreaLeft" t="textAreaTop" r="textAreaRight" b="textAreaBottom"/>
              <a:pathLst>
                <a:path w="21600" h="64865">
                  <a:moveTo>
                    <a:pt x="10800" y="0"/>
                  </a:moveTo>
                  <a:arcTo wR="10800" hR="10800" stAng="16200000" swAng="-5400000"/>
                  <a:lnTo>
                    <a:pt x="0" y="54065"/>
                  </a:lnTo>
                  <a:arcTo wR="10800" hR="10800" stAng="10800000" swAng="-5400000"/>
                  <a:lnTo>
                    <a:pt x="10800" y="6486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1058200">
              <a:off x="6996240" y="3699000"/>
              <a:ext cx="239760" cy="144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21058200">
              <a:off x="7101000" y="3730320"/>
              <a:ext cx="120600" cy="649080"/>
            </a:xfrm>
            <a:custGeom>
              <a:avLst/>
              <a:gdLst>
                <a:gd name="textAreaLeft" fmla="*/ 17640 w 120600"/>
                <a:gd name="textAreaRight" fmla="*/ 102960 w 120600"/>
                <a:gd name="textAreaTop" fmla="*/ 17640 h 649080"/>
                <a:gd name="textAreaBottom" fmla="*/ 631440 h 649080"/>
              </a:gdLst>
              <a:ahLst/>
              <a:rect l="textAreaLeft" t="textAreaTop" r="textAreaRight" b="textAreaBottom"/>
              <a:pathLst>
                <a:path w="21600" h="115971">
                  <a:moveTo>
                    <a:pt x="10800" y="0"/>
                  </a:moveTo>
                  <a:arcTo wR="10800" hR="10800" stAng="16200000" swAng="-5400000"/>
                  <a:lnTo>
                    <a:pt x="0" y="105171"/>
                  </a:lnTo>
                  <a:arcTo wR="10800" hR="10800" stAng="10800000" swAng="-5400000"/>
                  <a:lnTo>
                    <a:pt x="10800" y="11597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50000">
                  <a:srgbClr val="a3e7a3"/>
                </a:gs>
                <a:gs pos="100000">
                  <a:srgbClr val="33cc33"/>
                </a:gs>
              </a:gsLst>
              <a:lin ang="11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7040520" y="2708280"/>
              <a:ext cx="450720" cy="503280"/>
              <a:chOff x="7040520" y="2708280"/>
              <a:chExt cx="450720" cy="50328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040520" y="2708280"/>
                <a:ext cx="450720" cy="503280"/>
                <a:chOff x="7040520" y="2708280"/>
                <a:chExt cx="450720" cy="50328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040520" y="2708280"/>
                  <a:ext cx="450720" cy="45216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091280" y="3060720"/>
                  <a:ext cx="99360" cy="1508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040520" y="2708280"/>
                  <a:ext cx="450720" cy="45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91280" y="3060720"/>
                  <a:ext cx="99360" cy="1508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7141320" y="2760840"/>
                <a:ext cx="268920" cy="347400"/>
                <a:chOff x="7141320" y="2760840"/>
                <a:chExt cx="268920" cy="347400"/>
              </a:xfrm>
            </p:grpSpPr>
            <p:sp>
              <p:nvSpPr>
                <p:cNvPr id="1047" name=""/>
                <p:cNvSpPr/>
                <p:nvPr/>
              </p:nvSpPr>
              <p:spPr>
                <a:xfrm rot="1105800">
                  <a:off x="7169040" y="2788920"/>
                  <a:ext cx="212760" cy="2120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rot="11905800">
                  <a:off x="7276680" y="2805480"/>
                  <a:ext cx="100440" cy="21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rot="1105800">
                  <a:off x="7187040" y="3073320"/>
                  <a:ext cx="4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rot="1105800">
                  <a:off x="7168680" y="3074040"/>
                  <a:ext cx="84600" cy="18360"/>
                </a:xfrm>
                <a:custGeom>
                  <a:avLst/>
                  <a:gdLst>
                    <a:gd name="textAreaLeft" fmla="*/ 18360 w 84600"/>
                    <a:gd name="textAreaRight" fmla="*/ 66240 w 84600"/>
                    <a:gd name="textAreaTop" fmla="*/ 3960 h 18360"/>
                    <a:gd name="textAreaBottom" fmla="*/ 1440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1105800">
                  <a:off x="7177680" y="2981880"/>
                  <a:ext cx="101880" cy="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rot="585000">
                  <a:off x="7177680" y="299268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rot="585000">
                  <a:off x="7171200" y="300960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585000">
                  <a:off x="7165800" y="3028320"/>
                  <a:ext cx="121680" cy="1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rot="585000">
                  <a:off x="7160040" y="3047040"/>
                  <a:ext cx="1216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"/>
            <p:cNvGrpSpPr/>
            <p:nvPr/>
          </p:nvGrpSpPr>
          <p:grpSpPr>
            <a:xfrm>
              <a:off x="6359400" y="3068640"/>
              <a:ext cx="622440" cy="289080"/>
              <a:chOff x="6359400" y="3068640"/>
              <a:chExt cx="622440" cy="289080"/>
            </a:xfrm>
          </p:grpSpPr>
          <p:sp>
            <p:nvSpPr>
              <p:cNvPr id="1057" name=""/>
              <p:cNvSpPr/>
              <p:nvPr/>
            </p:nvSpPr>
            <p:spPr>
              <a:xfrm rot="5400000">
                <a:off x="6458400" y="2969280"/>
                <a:ext cx="65160" cy="26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897" y="1111"/>
                      <a:pt x="6194" y="5080"/>
                      <a:pt x="6194" y="10800"/>
                    </a:cubicBezTo>
                    <a:cubicBezTo>
                      <a:pt x="6194" y="16520"/>
                      <a:pt x="13897" y="2048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5400000">
                <a:off x="6817320" y="2969280"/>
                <a:ext cx="65160" cy="26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897" y="1111"/>
                      <a:pt x="6194" y="5080"/>
                      <a:pt x="6194" y="10800"/>
                    </a:cubicBezTo>
                    <a:cubicBezTo>
                      <a:pt x="6194" y="16520"/>
                      <a:pt x="13897" y="2048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77040" y="3141720"/>
                <a:ext cx="2156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50120" y="321300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719760" y="314172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792840" y="3213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3" name=""/>
          <p:cNvGrpSpPr/>
          <p:nvPr/>
        </p:nvGrpSpPr>
        <p:grpSpPr>
          <a:xfrm>
            <a:off x="8048520" y="2708280"/>
            <a:ext cx="1316160" cy="1737000"/>
            <a:chOff x="8048520" y="2708280"/>
            <a:chExt cx="1316160" cy="1737000"/>
          </a:xfrm>
        </p:grpSpPr>
        <p:sp>
          <p:nvSpPr>
            <p:cNvPr id="1064" name=""/>
            <p:cNvSpPr/>
            <p:nvPr/>
          </p:nvSpPr>
          <p:spPr>
            <a:xfrm>
              <a:off x="8180280" y="2852640"/>
              <a:ext cx="722520" cy="911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20700000">
              <a:off x="8180280" y="3292560"/>
              <a:ext cx="127080" cy="21276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rot="900000">
              <a:off x="8775720" y="3292560"/>
              <a:ext cx="127080" cy="21240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8442360" y="3346560"/>
              <a:ext cx="198360" cy="525240"/>
              <a:chOff x="8442360" y="3346560"/>
              <a:chExt cx="198360" cy="525240"/>
            </a:xfrm>
          </p:grpSpPr>
          <p:sp>
            <p:nvSpPr>
              <p:cNvPr id="1068" name=""/>
              <p:cNvSpPr/>
              <p:nvPr/>
            </p:nvSpPr>
            <p:spPr>
              <a:xfrm>
                <a:off x="8442360" y="3346560"/>
                <a:ext cx="198360" cy="525240"/>
              </a:xfrm>
              <a:prstGeom prst="ellipse">
                <a:avLst/>
              </a:prstGeom>
              <a:gradFill rotWithShape="0">
                <a:gsLst>
                  <a:gs pos="0">
                    <a:srgbClr val="fee5cd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42360" y="3510720"/>
                <a:ext cx="198360" cy="19656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8223120" y="2951280"/>
              <a:ext cx="638280" cy="723960"/>
            </a:xfrm>
            <a:prstGeom prst="ellipse">
              <a:avLst/>
            </a:prstGeom>
            <a:gradFill rotWithShape="0">
              <a:gsLst>
                <a:gs pos="0">
                  <a:srgbClr val="fee5cd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0800000">
              <a:off x="8494200" y="3478320"/>
              <a:ext cx="95400" cy="33120"/>
            </a:xfrm>
            <a:custGeom>
              <a:avLst/>
              <a:gdLst/>
              <a:ahLst/>
              <a:rect l="l" t="t" r="r" b="b"/>
              <a:pathLst>
                <a:path w="363" h="98">
                  <a:moveTo>
                    <a:pt x="0" y="91"/>
                  </a:moveTo>
                  <a:cubicBezTo>
                    <a:pt x="0" y="84"/>
                    <a:pt x="122" y="0"/>
                    <a:pt x="182" y="0"/>
                  </a:cubicBezTo>
                  <a:cubicBezTo>
                    <a:pt x="242" y="0"/>
                    <a:pt x="363" y="84"/>
                    <a:pt x="363" y="91"/>
                  </a:cubicBezTo>
                  <a:cubicBezTo>
                    <a:pt x="363" y="98"/>
                    <a:pt x="242" y="45"/>
                    <a:pt x="182" y="45"/>
                  </a:cubicBezTo>
                  <a:cubicBezTo>
                    <a:pt x="122" y="45"/>
                    <a:pt x="0" y="98"/>
                    <a:pt x="0" y="91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8443800" y="3543480"/>
              <a:ext cx="196920" cy="64800"/>
              <a:chOff x="8443800" y="3543480"/>
              <a:chExt cx="196920" cy="64800"/>
            </a:xfrm>
          </p:grpSpPr>
          <p:sp>
            <p:nvSpPr>
              <p:cNvPr id="1073" name=""/>
              <p:cNvSpPr/>
              <p:nvPr/>
            </p:nvSpPr>
            <p:spPr>
              <a:xfrm>
                <a:off x="8443800" y="3543480"/>
                <a:ext cx="196920" cy="64800"/>
              </a:xfrm>
              <a:custGeom>
                <a:avLst/>
                <a:gdLst/>
                <a:ahLst/>
                <a:rect l="l" t="t" r="r" b="b"/>
                <a:pathLst>
                  <a:path w="915" h="726">
                    <a:moveTo>
                      <a:pt x="461" y="0"/>
                    </a:moveTo>
                    <a:cubicBezTo>
                      <a:pt x="612" y="0"/>
                      <a:pt x="915" y="60"/>
                      <a:pt x="915" y="181"/>
                    </a:cubicBezTo>
                    <a:cubicBezTo>
                      <a:pt x="915" y="302"/>
                      <a:pt x="612" y="726"/>
                      <a:pt x="461" y="726"/>
                    </a:cubicBezTo>
                    <a:cubicBezTo>
                      <a:pt x="310" y="726"/>
                      <a:pt x="0" y="302"/>
                      <a:pt x="7" y="181"/>
                    </a:cubicBezTo>
                    <a:cubicBezTo>
                      <a:pt x="14" y="60"/>
                      <a:pt x="310" y="0"/>
                      <a:pt x="46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0000"/>
                  </a:gs>
                  <a:gs pos="100000">
                    <a:srgbClr val="9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72600" y="3569400"/>
                <a:ext cx="139320" cy="38880"/>
              </a:xfrm>
              <a:custGeom>
                <a:avLst/>
                <a:gdLst/>
                <a:ahLst/>
                <a:rect l="l" t="t" r="r" b="b"/>
                <a:pathLst>
                  <a:path w="915" h="726">
                    <a:moveTo>
                      <a:pt x="461" y="0"/>
                    </a:moveTo>
                    <a:cubicBezTo>
                      <a:pt x="612" y="0"/>
                      <a:pt x="915" y="60"/>
                      <a:pt x="915" y="181"/>
                    </a:cubicBezTo>
                    <a:cubicBezTo>
                      <a:pt x="915" y="302"/>
                      <a:pt x="612" y="726"/>
                      <a:pt x="461" y="726"/>
                    </a:cubicBezTo>
                    <a:cubicBezTo>
                      <a:pt x="310" y="726"/>
                      <a:pt x="0" y="302"/>
                      <a:pt x="7" y="181"/>
                    </a:cubicBezTo>
                    <a:cubicBezTo>
                      <a:pt x="14" y="60"/>
                      <a:pt x="310" y="0"/>
                      <a:pt x="46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66"/>
                  </a:gs>
                  <a:gs pos="100000">
                    <a:srgbClr val="ff5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8310600" y="3706920"/>
              <a:ext cx="460440" cy="263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344080" y="3706920"/>
              <a:ext cx="395280" cy="658800"/>
            </a:xfrm>
            <a:custGeom>
              <a:avLst/>
              <a:gdLst/>
              <a:ahLst/>
              <a:rect l="l" t="t" r="r" b="b"/>
              <a:pathLst>
                <a:path w="544" h="945">
                  <a:moveTo>
                    <a:pt x="272" y="945"/>
                  </a:moveTo>
                  <a:cubicBezTo>
                    <a:pt x="181" y="945"/>
                    <a:pt x="0" y="256"/>
                    <a:pt x="0" y="128"/>
                  </a:cubicBezTo>
                  <a:cubicBezTo>
                    <a:pt x="0" y="0"/>
                    <a:pt x="181" y="174"/>
                    <a:pt x="272" y="174"/>
                  </a:cubicBezTo>
                  <a:cubicBezTo>
                    <a:pt x="363" y="174"/>
                    <a:pt x="544" y="0"/>
                    <a:pt x="544" y="128"/>
                  </a:cubicBezTo>
                  <a:cubicBezTo>
                    <a:pt x="544" y="256"/>
                    <a:pt x="363" y="945"/>
                    <a:pt x="272" y="9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48520" y="3741840"/>
              <a:ext cx="474840" cy="623880"/>
            </a:xfrm>
            <a:custGeom>
              <a:avLst/>
              <a:gdLst/>
              <a:ahLst/>
              <a:rect l="l" t="t" r="r" b="b"/>
              <a:pathLst>
                <a:path w="655" h="859">
                  <a:moveTo>
                    <a:pt x="468" y="0"/>
                  </a:moveTo>
                  <a:lnTo>
                    <a:pt x="189" y="133"/>
                  </a:lnTo>
                  <a:lnTo>
                    <a:pt x="113" y="224"/>
                  </a:lnTo>
                  <a:lnTo>
                    <a:pt x="76" y="315"/>
                  </a:lnTo>
                  <a:lnTo>
                    <a:pt x="0" y="859"/>
                  </a:lnTo>
                  <a:lnTo>
                    <a:pt x="655" y="859"/>
                  </a:lnTo>
                  <a:lnTo>
                    <a:pt x="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9dfe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147160" y="3706920"/>
              <a:ext cx="395280" cy="658800"/>
            </a:xfrm>
            <a:custGeom>
              <a:avLst/>
              <a:gdLst/>
              <a:ahLst/>
              <a:rect l="l" t="t" r="r" b="b"/>
              <a:pathLst>
                <a:path w="544" h="908">
                  <a:moveTo>
                    <a:pt x="363" y="0"/>
                  </a:moveTo>
                  <a:lnTo>
                    <a:pt x="544" y="908"/>
                  </a:lnTo>
                  <a:lnTo>
                    <a:pt x="363" y="908"/>
                  </a:lnTo>
                  <a:lnTo>
                    <a:pt x="136" y="726"/>
                  </a:lnTo>
                  <a:lnTo>
                    <a:pt x="227" y="499"/>
                  </a:lnTo>
                  <a:lnTo>
                    <a:pt x="0" y="499"/>
                  </a:lnTo>
                  <a:lnTo>
                    <a:pt x="181" y="91"/>
                  </a:lnTo>
                  <a:lnTo>
                    <a:pt x="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98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8559000" y="3741840"/>
              <a:ext cx="474840" cy="623880"/>
            </a:xfrm>
            <a:custGeom>
              <a:avLst/>
              <a:gdLst/>
              <a:ahLst/>
              <a:rect l="l" t="t" r="r" b="b"/>
              <a:pathLst>
                <a:path w="655" h="859">
                  <a:moveTo>
                    <a:pt x="468" y="0"/>
                  </a:moveTo>
                  <a:lnTo>
                    <a:pt x="189" y="133"/>
                  </a:lnTo>
                  <a:lnTo>
                    <a:pt x="113" y="224"/>
                  </a:lnTo>
                  <a:lnTo>
                    <a:pt x="76" y="315"/>
                  </a:lnTo>
                  <a:lnTo>
                    <a:pt x="0" y="859"/>
                  </a:lnTo>
                  <a:lnTo>
                    <a:pt x="655" y="859"/>
                  </a:lnTo>
                  <a:lnTo>
                    <a:pt x="4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d9dfe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8541720" y="3706920"/>
              <a:ext cx="393480" cy="658800"/>
            </a:xfrm>
            <a:custGeom>
              <a:avLst/>
              <a:gdLst/>
              <a:ahLst/>
              <a:rect l="l" t="t" r="r" b="b"/>
              <a:pathLst>
                <a:path w="544" h="908">
                  <a:moveTo>
                    <a:pt x="363" y="0"/>
                  </a:moveTo>
                  <a:lnTo>
                    <a:pt x="544" y="908"/>
                  </a:lnTo>
                  <a:lnTo>
                    <a:pt x="363" y="908"/>
                  </a:lnTo>
                  <a:lnTo>
                    <a:pt x="136" y="726"/>
                  </a:lnTo>
                  <a:lnTo>
                    <a:pt x="227" y="499"/>
                  </a:lnTo>
                  <a:lnTo>
                    <a:pt x="0" y="499"/>
                  </a:lnTo>
                  <a:lnTo>
                    <a:pt x="181" y="91"/>
                  </a:lnTo>
                  <a:lnTo>
                    <a:pt x="3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98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5400000">
              <a:off x="8344440" y="3081960"/>
              <a:ext cx="65160" cy="26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897" y="1111"/>
                    <a:pt x="6194" y="5080"/>
                    <a:pt x="6194" y="10800"/>
                  </a:cubicBezTo>
                  <a:cubicBezTo>
                    <a:pt x="6194" y="16520"/>
                    <a:pt x="13897" y="204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5400000">
              <a:off x="8673120" y="3081960"/>
              <a:ext cx="65160" cy="26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897" y="1111"/>
                    <a:pt x="6194" y="5080"/>
                    <a:pt x="6194" y="10800"/>
                  </a:cubicBezTo>
                  <a:cubicBezTo>
                    <a:pt x="6194" y="16520"/>
                    <a:pt x="13897" y="204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121600" y="2871720"/>
              <a:ext cx="471600" cy="439920"/>
            </a:xfrm>
            <a:custGeom>
              <a:avLst/>
              <a:gdLst/>
              <a:ahLst/>
              <a:rect l="l" t="t" r="r" b="b"/>
              <a:pathLst>
                <a:path w="650" h="606">
                  <a:moveTo>
                    <a:pt x="492" y="19"/>
                  </a:moveTo>
                  <a:cubicBezTo>
                    <a:pt x="371" y="42"/>
                    <a:pt x="250" y="65"/>
                    <a:pt x="174" y="156"/>
                  </a:cubicBezTo>
                  <a:cubicBezTo>
                    <a:pt x="98" y="247"/>
                    <a:pt x="0" y="522"/>
                    <a:pt x="38" y="564"/>
                  </a:cubicBezTo>
                  <a:cubicBezTo>
                    <a:pt x="76" y="606"/>
                    <a:pt x="307" y="492"/>
                    <a:pt x="405" y="409"/>
                  </a:cubicBezTo>
                  <a:cubicBezTo>
                    <a:pt x="503" y="326"/>
                    <a:pt x="606" y="130"/>
                    <a:pt x="628" y="65"/>
                  </a:cubicBezTo>
                  <a:cubicBezTo>
                    <a:pt x="650" y="0"/>
                    <a:pt x="552" y="27"/>
                    <a:pt x="537" y="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5400000">
              <a:off x="8672760" y="3213720"/>
              <a:ext cx="66960" cy="19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785" y="1788"/>
                    <a:pt x="9969" y="5080"/>
                    <a:pt x="9969" y="10800"/>
                  </a:cubicBezTo>
                  <a:cubicBezTo>
                    <a:pt x="9969" y="16520"/>
                    <a:pt x="15785" y="1981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5400000">
              <a:off x="8343360" y="3214440"/>
              <a:ext cx="6696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785" y="1788"/>
                    <a:pt x="9969" y="5080"/>
                    <a:pt x="9969" y="10800"/>
                  </a:cubicBezTo>
                  <a:cubicBezTo>
                    <a:pt x="9969" y="16520"/>
                    <a:pt x="15785" y="1981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8273160" y="3265920"/>
              <a:ext cx="42840" cy="55080"/>
              <a:chOff x="8273160" y="3265920"/>
              <a:chExt cx="42840" cy="55080"/>
            </a:xfrm>
          </p:grpSpPr>
          <p:sp>
            <p:nvSpPr>
              <p:cNvPr id="1087" name=""/>
              <p:cNvSpPr/>
              <p:nvPr/>
            </p:nvSpPr>
            <p:spPr>
              <a:xfrm rot="20700000">
                <a:off x="8293680" y="326664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730" y="1769"/>
                      <a:pt x="9860" y="5080"/>
                      <a:pt x="9860" y="10800"/>
                    </a:cubicBezTo>
                    <a:cubicBezTo>
                      <a:pt x="9860" y="16520"/>
                      <a:pt x="15730" y="1983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0700000">
                <a:off x="8278920" y="327060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730" y="1769"/>
                      <a:pt x="9860" y="5080"/>
                      <a:pt x="9860" y="10800"/>
                    </a:cubicBezTo>
                    <a:cubicBezTo>
                      <a:pt x="9860" y="16520"/>
                      <a:pt x="15730" y="1983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8765640" y="3265560"/>
              <a:ext cx="44280" cy="55440"/>
              <a:chOff x="8765640" y="3265560"/>
              <a:chExt cx="44280" cy="55440"/>
            </a:xfrm>
          </p:grpSpPr>
          <p:sp>
            <p:nvSpPr>
              <p:cNvPr id="1090" name=""/>
              <p:cNvSpPr/>
              <p:nvPr/>
            </p:nvSpPr>
            <p:spPr>
              <a:xfrm flipH="1" rot="900000">
                <a:off x="8771760" y="3266640"/>
                <a:ext cx="16560" cy="4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730" y="1769"/>
                      <a:pt x="9860" y="5080"/>
                      <a:pt x="9860" y="10800"/>
                    </a:cubicBezTo>
                    <a:cubicBezTo>
                      <a:pt x="9860" y="16520"/>
                      <a:pt x="15730" y="1983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 rot="900000">
                <a:off x="8787240" y="3270600"/>
                <a:ext cx="16560" cy="4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5730" y="1769"/>
                      <a:pt x="9860" y="5080"/>
                      <a:pt x="9860" y="10800"/>
                    </a:cubicBezTo>
                    <a:cubicBezTo>
                      <a:pt x="9860" y="16520"/>
                      <a:pt x="15730" y="1983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8861760" y="3516840"/>
              <a:ext cx="231120" cy="247680"/>
              <a:chOff x="8861760" y="3516840"/>
              <a:chExt cx="231120" cy="247680"/>
            </a:xfrm>
          </p:grpSpPr>
          <p:sp>
            <p:nvSpPr>
              <p:cNvPr id="1093" name=""/>
              <p:cNvSpPr/>
              <p:nvPr/>
            </p:nvSpPr>
            <p:spPr>
              <a:xfrm rot="21201000">
                <a:off x="8871840" y="3568320"/>
                <a:ext cx="191520" cy="185400"/>
              </a:xfrm>
              <a:prstGeom prst="roundRect">
                <a:avLst>
                  <a:gd name="adj" fmla="val 2744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21201000">
                <a:off x="9000000" y="3519000"/>
                <a:ext cx="50400" cy="101520"/>
              </a:xfrm>
              <a:custGeom>
                <a:avLst/>
                <a:gdLst>
                  <a:gd name="textAreaLeft" fmla="*/ 7200 w 50400"/>
                  <a:gd name="textAreaRight" fmla="*/ 43200 w 50400"/>
                  <a:gd name="textAreaTop" fmla="*/ 7200 h 101520"/>
                  <a:gd name="textAreaBottom" fmla="*/ 94320 h 101520"/>
                </a:gdLst>
                <a:ahLst/>
                <a:rect l="textAreaLeft" t="textAreaTop" r="textAreaRight" b="textAreaBottom"/>
                <a:pathLst>
                  <a:path w="21600" h="43353">
                    <a:moveTo>
                      <a:pt x="10800" y="0"/>
                    </a:moveTo>
                    <a:arcTo wR="10800" hR="10800" stAng="16200000" swAng="-5400000"/>
                    <a:lnTo>
                      <a:pt x="0" y="32553"/>
                    </a:lnTo>
                    <a:arcTo wR="10800" hR="10800" stAng="10800000" swAng="-5400000"/>
                    <a:lnTo>
                      <a:pt x="10800" y="4335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21201000">
                <a:off x="8908200" y="3542040"/>
                <a:ext cx="50400" cy="101520"/>
              </a:xfrm>
              <a:custGeom>
                <a:avLst/>
                <a:gdLst>
                  <a:gd name="textAreaLeft" fmla="*/ 7200 w 50400"/>
                  <a:gd name="textAreaRight" fmla="*/ 43200 w 50400"/>
                  <a:gd name="textAreaTop" fmla="*/ 7200 h 101520"/>
                  <a:gd name="textAreaBottom" fmla="*/ 94320 h 101520"/>
                </a:gdLst>
                <a:ahLst/>
                <a:rect l="textAreaLeft" t="textAreaTop" r="textAreaRight" b="textAreaBottom"/>
                <a:pathLst>
                  <a:path w="21600" h="43353">
                    <a:moveTo>
                      <a:pt x="10800" y="0"/>
                    </a:moveTo>
                    <a:arcTo wR="10800" hR="10800" stAng="16200000" swAng="-5400000"/>
                    <a:lnTo>
                      <a:pt x="0" y="32553"/>
                    </a:lnTo>
                    <a:arcTo wR="10800" hR="10800" stAng="10800000" swAng="-5400000"/>
                    <a:lnTo>
                      <a:pt x="10800" y="4335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21201000">
                <a:off x="8955000" y="3526560"/>
                <a:ext cx="50400" cy="101520"/>
              </a:xfrm>
              <a:custGeom>
                <a:avLst/>
                <a:gdLst>
                  <a:gd name="textAreaLeft" fmla="*/ 7200 w 50400"/>
                  <a:gd name="textAreaRight" fmla="*/ 43200 w 50400"/>
                  <a:gd name="textAreaTop" fmla="*/ 7200 h 101520"/>
                  <a:gd name="textAreaBottom" fmla="*/ 94320 h 101520"/>
                </a:gdLst>
                <a:ahLst/>
                <a:rect l="textAreaLeft" t="textAreaTop" r="textAreaRight" b="textAreaBottom"/>
                <a:pathLst>
                  <a:path w="21600" h="43353">
                    <a:moveTo>
                      <a:pt x="10800" y="0"/>
                    </a:moveTo>
                    <a:arcTo wR="10800" hR="10800" stAng="16200000" swAng="-5400000"/>
                    <a:lnTo>
                      <a:pt x="0" y="32553"/>
                    </a:lnTo>
                    <a:arcTo wR="10800" hR="10800" stAng="10800000" swAng="-5400000"/>
                    <a:lnTo>
                      <a:pt x="10800" y="4335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588600">
                <a:off x="9010800" y="3603960"/>
                <a:ext cx="72720" cy="113040"/>
              </a:xfrm>
              <a:custGeom>
                <a:avLst/>
                <a:gdLst>
                  <a:gd name="textAreaLeft" fmla="*/ 10440 w 72720"/>
                  <a:gd name="textAreaRight" fmla="*/ 62280 w 72720"/>
                  <a:gd name="textAreaTop" fmla="*/ 10440 h 113040"/>
                  <a:gd name="textAreaBottom" fmla="*/ 102600 h 113040"/>
                </a:gdLst>
                <a:ahLst/>
                <a:rect l="textAreaLeft" t="textAreaTop" r="textAreaRight" b="textAreaBottom"/>
                <a:pathLst>
                  <a:path w="21600" h="33517">
                    <a:moveTo>
                      <a:pt x="10800" y="0"/>
                    </a:moveTo>
                    <a:arcTo wR="10800" hR="10800" stAng="16200000" swAng="-5400000"/>
                    <a:lnTo>
                      <a:pt x="0" y="22717"/>
                    </a:lnTo>
                    <a:arcTo wR="10800" hR="10800" stAng="10800000" swAng="-5400000"/>
                    <a:lnTo>
                      <a:pt x="10800" y="3351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 rot="21058200">
              <a:off x="8913960" y="3710160"/>
              <a:ext cx="239400" cy="72072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720720"/>
                <a:gd name="textAreaBottom" fmla="*/ 685800 h 720720"/>
              </a:gdLst>
              <a:ahLst/>
              <a:rect l="textAreaLeft" t="textAreaTop" r="textAreaRight" b="textAreaBottom"/>
              <a:pathLst>
                <a:path w="21600" h="64962">
                  <a:moveTo>
                    <a:pt x="10800" y="0"/>
                  </a:moveTo>
                  <a:arcTo wR="10800" hR="10800" stAng="16200000" swAng="-5400000"/>
                  <a:lnTo>
                    <a:pt x="0" y="54162"/>
                  </a:lnTo>
                  <a:arcTo wR="10800" hR="10800" stAng="10800000" swAng="-5400000"/>
                  <a:lnTo>
                    <a:pt x="10800" y="649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21058200">
              <a:off x="8869320" y="3716280"/>
              <a:ext cx="239760" cy="144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21058200">
              <a:off x="8973720" y="3746160"/>
              <a:ext cx="120600" cy="649440"/>
            </a:xfrm>
            <a:custGeom>
              <a:avLst/>
              <a:gdLst>
                <a:gd name="textAreaLeft" fmla="*/ 17640 w 120600"/>
                <a:gd name="textAreaRight" fmla="*/ 102960 w 120600"/>
                <a:gd name="textAreaTop" fmla="*/ 17640 h 649440"/>
                <a:gd name="textAreaBottom" fmla="*/ 631800 h 649440"/>
              </a:gdLst>
              <a:ahLst/>
              <a:rect l="textAreaLeft" t="textAreaTop" r="textAreaRight" b="textAreaBottom"/>
              <a:pathLst>
                <a:path w="21600" h="116036">
                  <a:moveTo>
                    <a:pt x="10800" y="0"/>
                  </a:moveTo>
                  <a:arcTo wR="10800" hR="10800" stAng="16200000" swAng="-5400000"/>
                  <a:lnTo>
                    <a:pt x="0" y="105236"/>
                  </a:lnTo>
                  <a:arcTo wR="10800" hR="10800" stAng="10800000" swAng="-5400000"/>
                  <a:lnTo>
                    <a:pt x="10800" y="11603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9966ff"/>
                </a:gs>
                <a:gs pos="50000">
                  <a:srgbClr val="d0bafe"/>
                </a:gs>
                <a:gs pos="100000">
                  <a:srgbClr val="9966ff"/>
                </a:gs>
              </a:gsLst>
              <a:lin ang="11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8913960" y="2708280"/>
              <a:ext cx="450720" cy="503280"/>
              <a:chOff x="8913960" y="2708280"/>
              <a:chExt cx="450720" cy="503280"/>
            </a:xfrm>
          </p:grpSpPr>
          <p:grpSp>
            <p:nvGrpSpPr>
              <p:cNvPr id="1102" name=""/>
              <p:cNvGrpSpPr/>
              <p:nvPr/>
            </p:nvGrpSpPr>
            <p:grpSpPr>
              <a:xfrm>
                <a:off x="8913960" y="2708280"/>
                <a:ext cx="450720" cy="503280"/>
                <a:chOff x="8913960" y="2708280"/>
                <a:chExt cx="450720" cy="5032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8913960" y="2708280"/>
                  <a:ext cx="450720" cy="452160"/>
                </a:xfrm>
                <a:prstGeom prst="ellipse">
                  <a:avLst/>
                </a:prstGeom>
                <a:solidFill>
                  <a:srgbClr val="333333"/>
                </a:solidFill>
                <a:ln w="57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964720" y="3060720"/>
                  <a:ext cx="99360" cy="1508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57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913960" y="2708280"/>
                  <a:ext cx="450720" cy="452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964720" y="3060720"/>
                  <a:ext cx="99360" cy="15084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45" y="0"/>
                      </a:moveTo>
                      <a:lnTo>
                        <a:pt x="0" y="136"/>
                      </a:lnTo>
                      <a:lnTo>
                        <a:pt x="90" y="4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9014760" y="2760840"/>
                <a:ext cx="268920" cy="347400"/>
                <a:chOff x="9014760" y="2760840"/>
                <a:chExt cx="268920" cy="347400"/>
              </a:xfrm>
            </p:grpSpPr>
            <p:sp>
              <p:nvSpPr>
                <p:cNvPr id="1108" name=""/>
                <p:cNvSpPr/>
                <p:nvPr/>
              </p:nvSpPr>
              <p:spPr>
                <a:xfrm rot="1105800">
                  <a:off x="9042480" y="2788920"/>
                  <a:ext cx="212760" cy="2120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905800">
                  <a:off x="9150120" y="2805480"/>
                  <a:ext cx="100440" cy="21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cce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05800">
                  <a:off x="9060480" y="3073320"/>
                  <a:ext cx="4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fefefe"/>
                    </a:gs>
                    <a:gs pos="100000">
                      <a:srgbClr val="b2b2b2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105800">
                  <a:off x="9042120" y="3074040"/>
                  <a:ext cx="84600" cy="18360"/>
                </a:xfrm>
                <a:custGeom>
                  <a:avLst/>
                  <a:gdLst>
                    <a:gd name="textAreaLeft" fmla="*/ 18360 w 84600"/>
                    <a:gd name="textAreaRight" fmla="*/ 66240 w 84600"/>
                    <a:gd name="textAreaTop" fmla="*/ 3960 h 18360"/>
                    <a:gd name="textAreaBottom" fmla="*/ 14400 h 1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8d8d8d"/>
                    </a:gs>
                    <a:gs pos="100000">
                      <a:srgbClr val="0000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105800">
                  <a:off x="9051120" y="2981880"/>
                  <a:ext cx="101880" cy="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9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585000">
                  <a:off x="9051120" y="299268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585000">
                  <a:off x="9044640" y="3009600"/>
                  <a:ext cx="12168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585000">
                  <a:off x="9039240" y="3028320"/>
                  <a:ext cx="121680" cy="19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585000">
                  <a:off x="9033480" y="3047040"/>
                  <a:ext cx="1216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99"/>
                    </a:gs>
                    <a:gs pos="100000">
                      <a:srgbClr val="ffcc00"/>
                    </a:gs>
                  </a:gsLst>
                  <a:lin ang="41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7" name=""/>
            <p:cNvSpPr/>
            <p:nvPr/>
          </p:nvSpPr>
          <p:spPr>
            <a:xfrm flipH="1">
              <a:off x="8481960" y="2852640"/>
              <a:ext cx="471600" cy="439920"/>
            </a:xfrm>
            <a:custGeom>
              <a:avLst/>
              <a:gdLst/>
              <a:ahLst/>
              <a:rect l="l" t="t" r="r" b="b"/>
              <a:pathLst>
                <a:path w="650" h="606">
                  <a:moveTo>
                    <a:pt x="492" y="19"/>
                  </a:moveTo>
                  <a:cubicBezTo>
                    <a:pt x="371" y="42"/>
                    <a:pt x="250" y="65"/>
                    <a:pt x="174" y="156"/>
                  </a:cubicBezTo>
                  <a:cubicBezTo>
                    <a:pt x="98" y="247"/>
                    <a:pt x="0" y="522"/>
                    <a:pt x="38" y="564"/>
                  </a:cubicBezTo>
                  <a:cubicBezTo>
                    <a:pt x="76" y="606"/>
                    <a:pt x="307" y="492"/>
                    <a:pt x="405" y="409"/>
                  </a:cubicBezTo>
                  <a:cubicBezTo>
                    <a:pt x="503" y="326"/>
                    <a:pt x="606" y="130"/>
                    <a:pt x="628" y="65"/>
                  </a:cubicBezTo>
                  <a:cubicBezTo>
                    <a:pt x="650" y="0"/>
                    <a:pt x="552" y="27"/>
                    <a:pt x="537" y="19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/>
  <dcterms:modified xsi:type="dcterms:W3CDTF">2011-06-21T08:40:07Z</dcterms:modified>
  <cp:revision>17</cp:revision>
  <dc:subject>PPT065_ひらめき</dc:subject>
  <dc:title>PPT065_ひらめき</dc:title>
</cp:coreProperties>
</file>