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1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デスクトップＰＣ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5800" y="1039680"/>
            <a:ext cx="1584000" cy="1314360"/>
            <a:chOff x="415800" y="1039680"/>
            <a:chExt cx="1584000" cy="1314360"/>
          </a:xfrm>
        </p:grpSpPr>
        <p:grpSp>
          <p:nvGrpSpPr>
            <p:cNvPr id="57" name=""/>
            <p:cNvGrpSpPr/>
            <p:nvPr/>
          </p:nvGrpSpPr>
          <p:grpSpPr>
            <a:xfrm>
              <a:off x="1617120" y="1039680"/>
              <a:ext cx="326160" cy="1037880"/>
              <a:chOff x="1617120" y="1039680"/>
              <a:chExt cx="326160" cy="1037880"/>
            </a:xfrm>
          </p:grpSpPr>
          <p:sp>
            <p:nvSpPr>
              <p:cNvPr id="58" name=""/>
              <p:cNvSpPr/>
              <p:nvPr/>
            </p:nvSpPr>
            <p:spPr>
              <a:xfrm>
                <a:off x="1617120" y="1039680"/>
                <a:ext cx="326160" cy="1037880"/>
              </a:xfrm>
              <a:custGeom>
                <a:avLst/>
                <a:gdLst>
                  <a:gd name="textAreaLeft" fmla="*/ 6120 w 326160"/>
                  <a:gd name="textAreaRight" fmla="*/ 320040 w 326160"/>
                  <a:gd name="textAreaTop" fmla="*/ 6120 h 1037880"/>
                  <a:gd name="textAreaBottom" fmla="*/ 1031760 h 1037880"/>
                </a:gdLst>
                <a:ahLst/>
                <a:rect l="textAreaLeft" t="textAreaTop" r="textAreaRight" b="textAreaBottom"/>
                <a:pathLst>
                  <a:path w="21600" h="68682">
                    <a:moveTo>
                      <a:pt x="1429" y="0"/>
                    </a:moveTo>
                    <a:arcTo wR="1429" hR="1429" stAng="16200000" swAng="-5400000"/>
                    <a:lnTo>
                      <a:pt x="0" y="67253"/>
                    </a:lnTo>
                    <a:arcTo wR="1429" hR="1429" stAng="10800000" swAng="-5400000"/>
                    <a:lnTo>
                      <a:pt x="20171" y="68682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1661400" y="1543320"/>
                <a:ext cx="236880" cy="473760"/>
                <a:chOff x="1661400" y="1543320"/>
                <a:chExt cx="236880" cy="47376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1661400" y="1543320"/>
                  <a:ext cx="236880" cy="29160"/>
                  <a:chOff x="1661400" y="1543320"/>
                  <a:chExt cx="236880" cy="291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1661400" y="15433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1690920" y="15433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721160" y="15433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751400" y="15433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781640" y="15433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811880" y="15433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842120" y="15433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872360" y="15433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661400" y="1587600"/>
                  <a:ext cx="236880" cy="29160"/>
                  <a:chOff x="1661400" y="1587600"/>
                  <a:chExt cx="236880" cy="29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661400" y="158760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690920" y="158760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721160" y="158760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751400" y="158760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781640" y="158760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811880" y="158760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842120" y="158760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872360" y="158760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" name=""/>
                <p:cNvGrpSpPr/>
                <p:nvPr/>
              </p:nvGrpSpPr>
              <p:grpSpPr>
                <a:xfrm>
                  <a:off x="1661400" y="1632240"/>
                  <a:ext cx="236880" cy="29160"/>
                  <a:chOff x="1661400" y="1632240"/>
                  <a:chExt cx="236880" cy="2916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1661400" y="16322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690920" y="16322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721160" y="16322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751400" y="16322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781640" y="16322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811880" y="16322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842120" y="16322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872360" y="16322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1661400" y="1676520"/>
                  <a:ext cx="236880" cy="29160"/>
                  <a:chOff x="1661400" y="1676520"/>
                  <a:chExt cx="236880" cy="2916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1661400" y="16765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690920" y="16765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721160" y="16765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751400" y="16765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781640" y="16765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811880" y="16765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842120" y="16765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872360" y="16765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1661400" y="1721160"/>
                  <a:ext cx="236880" cy="29160"/>
                  <a:chOff x="1661400" y="1721160"/>
                  <a:chExt cx="236880" cy="2916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1661400" y="17211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690920" y="17211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721160" y="17211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751400" y="17211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781640" y="17211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811880" y="17211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842120" y="17211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872360" y="17211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1661400" y="1765440"/>
                  <a:ext cx="236880" cy="29160"/>
                  <a:chOff x="1661400" y="1765440"/>
                  <a:chExt cx="236880" cy="291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1661400" y="17654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690920" y="17654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721160" y="17654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751400" y="17654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781640" y="17654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811880" y="17654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842120" y="17654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872360" y="17654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1661400" y="1810080"/>
                  <a:ext cx="236880" cy="29160"/>
                  <a:chOff x="1661400" y="1810080"/>
                  <a:chExt cx="236880" cy="291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1661400" y="18100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90920" y="18100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721160" y="18100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751400" y="18100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781640" y="18100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811880" y="18100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842120" y="18100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872360" y="18100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1661400" y="1854360"/>
                  <a:ext cx="236880" cy="29160"/>
                  <a:chOff x="1661400" y="1854360"/>
                  <a:chExt cx="236880" cy="2916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1661400" y="18543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690920" y="18543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721160" y="18543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751400" y="18543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781640" y="18543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811880" y="18543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842120" y="18543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872360" y="185436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661400" y="1898640"/>
                  <a:ext cx="236880" cy="29160"/>
                  <a:chOff x="1661400" y="1898640"/>
                  <a:chExt cx="236880" cy="291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1661400" y="18986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690920" y="18986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721160" y="18986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751400" y="18986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781640" y="18986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811880" y="18986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842120" y="18986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872360" y="189864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1661400" y="1943280"/>
                  <a:ext cx="236880" cy="29160"/>
                  <a:chOff x="1661400" y="1943280"/>
                  <a:chExt cx="236880" cy="291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1661400" y="19432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690920" y="19432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721160" y="19432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751400" y="19432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781640" y="19432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811880" y="19432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842120" y="19432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872360" y="194328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1661400" y="1987920"/>
                  <a:ext cx="236880" cy="29160"/>
                  <a:chOff x="1661400" y="1987920"/>
                  <a:chExt cx="236880" cy="291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661400" y="19879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690920" y="19879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721160" y="19879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751400" y="19879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781640" y="19879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811880" y="19879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842120" y="19879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872360" y="1987920"/>
                    <a:ext cx="259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1735200" y="1662480"/>
                <a:ext cx="88200" cy="89280"/>
                <a:chOff x="1735200" y="1662480"/>
                <a:chExt cx="88200" cy="89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735200" y="1662480"/>
                  <a:ext cx="88200" cy="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98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42040" y="1668960"/>
                  <a:ext cx="7452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7e7e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676520" y="1478880"/>
                <a:ext cx="87840" cy="35280"/>
                <a:chOff x="1676520" y="1478880"/>
                <a:chExt cx="87840" cy="35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723320" y="1478880"/>
                  <a:ext cx="17280" cy="3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47080" y="1478880"/>
                  <a:ext cx="17280" cy="3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76520" y="1496520"/>
                  <a:ext cx="1764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99920" y="1496520"/>
                  <a:ext cx="17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 rot="10800000">
                <a:off x="1675440" y="1098720"/>
                <a:ext cx="207720" cy="355320"/>
              </a:xfrm>
              <a:prstGeom prst="bevel">
                <a:avLst>
                  <a:gd name="adj" fmla="val 346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17120" y="1039680"/>
                <a:ext cx="326160" cy="29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1617120" y="2046960"/>
                <a:ext cx="326160" cy="29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60392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17120" y="1039680"/>
                <a:ext cx="29160" cy="1037880"/>
              </a:xfrm>
              <a:custGeom>
                <a:avLst/>
                <a:gdLst>
                  <a:gd name="textAreaLeft" fmla="*/ 360 w 29160"/>
                  <a:gd name="textAreaRight" fmla="*/ 28800 w 29160"/>
                  <a:gd name="textAreaTop" fmla="*/ 360 h 1037880"/>
                  <a:gd name="textAreaBottom" fmla="*/ 1037520 h 1037880"/>
                </a:gdLst>
                <a:ahLst/>
                <a:rect l="textAreaLeft" t="textAreaTop" r="textAreaRight" b="textAreaBottom"/>
                <a:pathLst>
                  <a:path w="21600" h="759688">
                    <a:moveTo>
                      <a:pt x="1429" y="0"/>
                    </a:moveTo>
                    <a:arcTo wR="1429" hR="1429" stAng="16200000" swAng="-5400000"/>
                    <a:lnTo>
                      <a:pt x="0" y="758259"/>
                    </a:lnTo>
                    <a:arcTo wR="1429" hR="1429" stAng="10800000" swAng="-5400000"/>
                    <a:lnTo>
                      <a:pt x="20171" y="759688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913040" y="1039680"/>
                <a:ext cx="29160" cy="1037880"/>
              </a:xfrm>
              <a:custGeom>
                <a:avLst/>
                <a:gdLst>
                  <a:gd name="textAreaLeft" fmla="*/ 360 w 29160"/>
                  <a:gd name="textAreaRight" fmla="*/ 28800 w 29160"/>
                  <a:gd name="textAreaTop" fmla="*/ 360 h 1037880"/>
                  <a:gd name="textAreaBottom" fmla="*/ 1037520 h 1037880"/>
                </a:gdLst>
                <a:ahLst/>
                <a:rect l="textAreaLeft" t="textAreaTop" r="textAreaRight" b="textAreaBottom"/>
                <a:pathLst>
                  <a:path w="21600" h="759688">
                    <a:moveTo>
                      <a:pt x="1429" y="0"/>
                    </a:moveTo>
                    <a:arcTo wR="1429" hR="1429" stAng="16200000" swAng="-5400000"/>
                    <a:lnTo>
                      <a:pt x="0" y="758259"/>
                    </a:lnTo>
                    <a:arcTo wR="1429" hR="1429" stAng="10800000" swAng="-5400000"/>
                    <a:lnTo>
                      <a:pt x="20171" y="759688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4960" y="1099080"/>
                <a:ext cx="88560" cy="355320"/>
              </a:xfrm>
              <a:prstGeom prst="bevel">
                <a:avLst>
                  <a:gd name="adj" fmla="val 346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0800000">
                <a:off x="1823760" y="1187640"/>
                <a:ext cx="29160" cy="177480"/>
              </a:xfrm>
              <a:prstGeom prst="bevel">
                <a:avLst>
                  <a:gd name="adj" fmla="val 6616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24120" y="1395720"/>
                <a:ext cx="17640" cy="352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35200" y="1395720"/>
                <a:ext cx="17640" cy="352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35200" y="1128240"/>
                <a:ext cx="29160" cy="237240"/>
              </a:xfrm>
              <a:prstGeom prst="rect">
                <a:avLst/>
              </a:prstGeom>
              <a:gradFill rotWithShape="0">
                <a:gsLst>
                  <a:gs pos="0">
                    <a:srgbClr val="4c4c4c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24160" y="1039680"/>
              <a:ext cx="1043640" cy="1077120"/>
              <a:chOff x="524160" y="1039680"/>
              <a:chExt cx="1043640" cy="1077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708120" y="1998000"/>
                <a:ext cx="675360" cy="118800"/>
                <a:chOff x="708120" y="1998000"/>
                <a:chExt cx="675360" cy="1188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25640" y="2011320"/>
                  <a:ext cx="39960" cy="12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545454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08120" y="2063880"/>
                  <a:ext cx="79200" cy="52920"/>
                </a:xfrm>
                <a:custGeom>
                  <a:avLst/>
                  <a:gdLst/>
                  <a:ahLst/>
                  <a:rect l="l" t="t" r="r" b="b"/>
                  <a:pathLst>
                    <a:path w="272" h="182">
                      <a:moveTo>
                        <a:pt x="0" y="0"/>
                      </a:moveTo>
                      <a:lnTo>
                        <a:pt x="272" y="136"/>
                      </a:lnTo>
                      <a:lnTo>
                        <a:pt x="272" y="182"/>
                      </a:lnTo>
                      <a:lnTo>
                        <a:pt x="0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545454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87320" y="2011320"/>
                  <a:ext cx="238320" cy="105480"/>
                </a:xfrm>
                <a:custGeom>
                  <a:avLst/>
                  <a:gdLst/>
                  <a:ahLst/>
                  <a:rect l="l" t="t" r="r" b="b"/>
                  <a:pathLst>
                    <a:path w="816" h="363">
                      <a:moveTo>
                        <a:pt x="816" y="0"/>
                      </a:moveTo>
                      <a:lnTo>
                        <a:pt x="816" y="45"/>
                      </a:lnTo>
                      <a:lnTo>
                        <a:pt x="0" y="363"/>
                      </a:lnTo>
                      <a:lnTo>
                        <a:pt x="0" y="317"/>
                      </a:lnTo>
                      <a:lnTo>
                        <a:pt x="8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545454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1304280" y="2063880"/>
                  <a:ext cx="79200" cy="52920"/>
                </a:xfrm>
                <a:custGeom>
                  <a:avLst/>
                  <a:gdLst/>
                  <a:ahLst/>
                  <a:rect l="l" t="t" r="r" b="b"/>
                  <a:pathLst>
                    <a:path w="272" h="182">
                      <a:moveTo>
                        <a:pt x="0" y="0"/>
                      </a:moveTo>
                      <a:lnTo>
                        <a:pt x="272" y="136"/>
                      </a:lnTo>
                      <a:lnTo>
                        <a:pt x="272" y="182"/>
                      </a:lnTo>
                      <a:lnTo>
                        <a:pt x="0" y="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545454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1065600" y="2011320"/>
                  <a:ext cx="238320" cy="105480"/>
                </a:xfrm>
                <a:custGeom>
                  <a:avLst/>
                  <a:gdLst/>
                  <a:ahLst/>
                  <a:rect l="l" t="t" r="r" b="b"/>
                  <a:pathLst>
                    <a:path w="816" h="363">
                      <a:moveTo>
                        <a:pt x="816" y="0"/>
                      </a:moveTo>
                      <a:lnTo>
                        <a:pt x="816" y="45"/>
                      </a:lnTo>
                      <a:lnTo>
                        <a:pt x="0" y="363"/>
                      </a:lnTo>
                      <a:lnTo>
                        <a:pt x="0" y="317"/>
                      </a:lnTo>
                      <a:lnTo>
                        <a:pt x="8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545454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08120" y="1998000"/>
                  <a:ext cx="675360" cy="105480"/>
                </a:xfrm>
                <a:custGeom>
                  <a:avLst/>
                  <a:gdLst/>
                  <a:ahLst/>
                  <a:rect l="l" t="t" r="r" b="b"/>
                  <a:pathLst>
                    <a:path w="2313" h="363">
                      <a:moveTo>
                        <a:pt x="635" y="0"/>
                      </a:moveTo>
                      <a:lnTo>
                        <a:pt x="0" y="227"/>
                      </a:lnTo>
                      <a:lnTo>
                        <a:pt x="272" y="363"/>
                      </a:lnTo>
                      <a:lnTo>
                        <a:pt x="1088" y="46"/>
                      </a:lnTo>
                      <a:lnTo>
                        <a:pt x="1225" y="46"/>
                      </a:lnTo>
                      <a:lnTo>
                        <a:pt x="2041" y="363"/>
                      </a:lnTo>
                      <a:lnTo>
                        <a:pt x="2313" y="227"/>
                      </a:lnTo>
                      <a:lnTo>
                        <a:pt x="1678" y="0"/>
                      </a:lnTo>
                      <a:lnTo>
                        <a:pt x="63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545454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 flipV="1">
                <a:off x="871920" y="1969200"/>
                <a:ext cx="347760" cy="43200"/>
              </a:xfrm>
              <a:custGeom>
                <a:avLst/>
                <a:gdLst>
                  <a:gd name="textAreaLeft" fmla="*/ 36000 w 347760"/>
                  <a:gd name="textAreaRight" fmla="*/ 311760 w 347760"/>
                  <a:gd name="textAreaTop" fmla="*/ 4320 h 43200"/>
                  <a:gd name="textAreaBottom" fmla="*/ 3888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958680" y="1851480"/>
                <a:ext cx="174240" cy="192600"/>
              </a:xfrm>
              <a:custGeom>
                <a:avLst/>
                <a:gdLst>
                  <a:gd name="textAreaLeft" fmla="*/ 18000 w 174240"/>
                  <a:gd name="textAreaRight" fmla="*/ 156240 w 174240"/>
                  <a:gd name="textAreaTop" fmla="*/ 19800 h 192600"/>
                  <a:gd name="textAreaBottom" fmla="*/ 172800 h 19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4160" y="1039680"/>
                <a:ext cx="1043640" cy="826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44444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567360" y="1082160"/>
                <a:ext cx="956880" cy="740520"/>
              </a:xfrm>
              <a:prstGeom prst="bevel">
                <a:avLst>
                  <a:gd name="adj" fmla="val 5921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83838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4560" y="1090080"/>
                <a:ext cx="942480" cy="72576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e7f3f4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73080" y="1837800"/>
                <a:ext cx="131040" cy="14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15800" y="2186640"/>
              <a:ext cx="1311120" cy="167400"/>
              <a:chOff x="415800" y="2186640"/>
              <a:chExt cx="1311120" cy="1674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415800" y="2187000"/>
                <a:ext cx="1311120" cy="167040"/>
                <a:chOff x="415800" y="2187000"/>
                <a:chExt cx="1311120" cy="1670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15800" y="2313000"/>
                  <a:ext cx="131112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415800" y="2187000"/>
                  <a:ext cx="1311120" cy="146880"/>
                </a:xfrm>
                <a:custGeom>
                  <a:avLst/>
                  <a:gdLst>
                    <a:gd name="textAreaLeft" fmla="*/ 131040 w 1311120"/>
                    <a:gd name="textAreaRight" fmla="*/ 1180080 w 1311120"/>
                    <a:gd name="textAreaTop" fmla="*/ 14400 h 146880"/>
                    <a:gd name="textAreaBottom" fmla="*/ 132480 h 14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36680" y="2313000"/>
                  <a:ext cx="126864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57920" y="2186640"/>
                <a:ext cx="1226520" cy="105480"/>
                <a:chOff x="457920" y="2186640"/>
                <a:chExt cx="1226520" cy="10548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45828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51552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7312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63036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70704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76428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82188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87948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95652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101412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107136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112896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120528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126288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132048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37772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145476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151200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156960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1627200" y="2186280"/>
                  <a:ext cx="57240" cy="1908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9080"/>
                    <a:gd name="textAreaBottom" fmla="*/ 16560 h 1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145476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151200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156960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162720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145368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151128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156888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162612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145440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51164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156924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162648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126288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132048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137772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126216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31940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137700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>
                  <a:off x="126252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131976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137736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45864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51588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57348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63108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45792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1516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7276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63000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45828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51552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57312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63036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68796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74556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80280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86040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68724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74448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80208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85932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68760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749880" y="2253960"/>
                  <a:ext cx="167040" cy="38160"/>
                </a:xfrm>
                <a:custGeom>
                  <a:avLst/>
                  <a:gdLst>
                    <a:gd name="textAreaLeft" fmla="*/ 14400 w 167040"/>
                    <a:gd name="textAreaRight" fmla="*/ 152640 w 167040"/>
                    <a:gd name="textAreaTop" fmla="*/ 3240 h 38160"/>
                    <a:gd name="textAreaBottom" fmla="*/ 349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91872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97596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103356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109080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91764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97524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103248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109008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91800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97560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103320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109044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1148760" y="2225520"/>
                  <a:ext cx="57240" cy="1872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2520 h 18720"/>
                    <a:gd name="textAreaBottom" fmla="*/ 16200 h 1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1148040" y="2232360"/>
                  <a:ext cx="57240" cy="2664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3600 h 26640"/>
                    <a:gd name="textAreaBottom" fmla="*/ 2304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1148400" y="2253960"/>
                  <a:ext cx="57240" cy="38160"/>
                </a:xfrm>
                <a:custGeom>
                  <a:avLst/>
                  <a:gdLst>
                    <a:gd name="textAreaLeft" fmla="*/ 7920 w 57240"/>
                    <a:gd name="textAreaRight" fmla="*/ 49320 w 57240"/>
                    <a:gd name="textAreaTop" fmla="*/ 5040 h 38160"/>
                    <a:gd name="textAreaBottom" fmla="*/ 33120 h 3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780920" y="2187000"/>
              <a:ext cx="218880" cy="164880"/>
              <a:chOff x="1780920" y="2187000"/>
              <a:chExt cx="218880" cy="164880"/>
            </a:xfrm>
          </p:grpSpPr>
          <p:sp>
            <p:nvSpPr>
              <p:cNvPr id="276" name=""/>
              <p:cNvSpPr/>
              <p:nvPr/>
            </p:nvSpPr>
            <p:spPr>
              <a:xfrm>
                <a:off x="1783440" y="2190960"/>
                <a:ext cx="213480" cy="16092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80920" y="2187000"/>
                <a:ext cx="218880" cy="1584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707070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797480" y="2187000"/>
                <a:ext cx="185400" cy="11844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c4c4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878840" y="2138040"/>
                <a:ext cx="23040" cy="14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1497" y="250"/>
                      <a:pt x="1393" y="5080"/>
                      <a:pt x="1393" y="10800"/>
                    </a:cubicBezTo>
                    <a:cubicBezTo>
                      <a:pt x="1393" y="16520"/>
                      <a:pt x="11497" y="2135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77760" y="2189160"/>
                <a:ext cx="24840" cy="38160"/>
              </a:xfrm>
              <a:custGeom>
                <a:avLst/>
                <a:gdLst>
                  <a:gd name="textAreaLeft" fmla="*/ 3240 w 24840"/>
                  <a:gd name="textAreaRight" fmla="*/ 21600 w 24840"/>
                  <a:gd name="textAreaTop" fmla="*/ 3240 h 38160"/>
                  <a:gd name="textAreaBottom" fmla="*/ 34920 h 38160"/>
                </a:gdLst>
                <a:ahLst/>
                <a:rect l="textAreaLeft" t="textAreaTop" r="textAreaRight" b="textAreaBottom"/>
                <a:pathLst>
                  <a:path w="21600" h="33017">
                    <a:moveTo>
                      <a:pt x="9672" y="0"/>
                    </a:moveTo>
                    <a:arcTo wR="9672" hR="9672" stAng="16200000" swAng="-5400000"/>
                    <a:lnTo>
                      <a:pt x="0" y="23345"/>
                    </a:lnTo>
                    <a:arcTo wR="9672" hR="9672" stAng="10800000" swAng="-5400000"/>
                    <a:lnTo>
                      <a:pt x="11928" y="33017"/>
                    </a:lnTo>
                    <a:arcTo wR="9672" hR="9672" stAng="5400000" swAng="-5400000"/>
                    <a:lnTo>
                      <a:pt x="21600" y="9672"/>
                    </a:lnTo>
                    <a:arcTo wR="9672" hR="967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c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882080" y="2187000"/>
                <a:ext cx="16560" cy="33480"/>
              </a:xfrm>
              <a:custGeom>
                <a:avLst/>
                <a:gdLst>
                  <a:gd name="textAreaLeft" fmla="*/ 2160 w 16560"/>
                  <a:gd name="textAreaRight" fmla="*/ 14400 w 16560"/>
                  <a:gd name="textAreaTop" fmla="*/ 2160 h 33480"/>
                  <a:gd name="textAreaBottom" fmla="*/ 31320 h 334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10800" y="0"/>
                    </a:moveTo>
                    <a:arcTo wR="10800" hR="10800" stAng="16200000" swAng="-5400000"/>
                    <a:lnTo>
                      <a:pt x="0" y="32400"/>
                    </a:lnTo>
                    <a:arcTo wR="10800" hR="10800" stAng="10800000" swAng="-5400000"/>
                    <a:lnTo>
                      <a:pt x="10800" y="432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289240" y="1177920"/>
            <a:ext cx="1584000" cy="1152000"/>
            <a:chOff x="2289240" y="1177920"/>
            <a:chExt cx="1584000" cy="1152000"/>
          </a:xfrm>
        </p:grpSpPr>
        <p:grpSp>
          <p:nvGrpSpPr>
            <p:cNvPr id="283" name=""/>
            <p:cNvGrpSpPr/>
            <p:nvPr/>
          </p:nvGrpSpPr>
          <p:grpSpPr>
            <a:xfrm>
              <a:off x="2289240" y="2156400"/>
              <a:ext cx="1351080" cy="173520"/>
              <a:chOff x="2289240" y="2156400"/>
              <a:chExt cx="1351080" cy="1735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2289240" y="2156400"/>
                <a:ext cx="1351080" cy="173520"/>
                <a:chOff x="2289240" y="2156400"/>
                <a:chExt cx="1351080" cy="1735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289240" y="2287440"/>
                  <a:ext cx="1351080" cy="42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2289240" y="2156040"/>
                  <a:ext cx="1351080" cy="152280"/>
                </a:xfrm>
                <a:custGeom>
                  <a:avLst/>
                  <a:gdLst>
                    <a:gd name="textAreaLeft" fmla="*/ 135360 w 1351080"/>
                    <a:gd name="textAreaRight" fmla="*/ 1215720 w 1351080"/>
                    <a:gd name="textAreaTop" fmla="*/ 15120 h 152280"/>
                    <a:gd name="textAreaBottom" fmla="*/ 13716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10840" y="2287440"/>
                  <a:ext cx="1307520" cy="21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32800" y="2156400"/>
                <a:ext cx="1263600" cy="109440"/>
                <a:chOff x="2332800" y="2156400"/>
                <a:chExt cx="1263600" cy="10944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233316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239220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245160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251064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258948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264852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270792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276696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284652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290556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296496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302400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310284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316224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322128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328032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335988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341892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347796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3537360" y="2156040"/>
                  <a:ext cx="59040" cy="198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335988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41892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47796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3736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35880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341820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347724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353628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335916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341856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47760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53664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316224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322128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328032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316116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322056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327960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316152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322092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327996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233352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239256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245196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251100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233280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239184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245088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251028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233316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239220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245160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251064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256968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262908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268812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274716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256896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262800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268740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274644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256932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2633760" y="2226240"/>
                  <a:ext cx="172080" cy="39600"/>
                </a:xfrm>
                <a:custGeom>
                  <a:avLst/>
                  <a:gdLst>
                    <a:gd name="textAreaLeft" fmla="*/ 14760 w 172080"/>
                    <a:gd name="textAreaRight" fmla="*/ 157320 w 172080"/>
                    <a:gd name="textAreaTop" fmla="*/ 3240 h 39600"/>
                    <a:gd name="textAreaBottom" fmla="*/ 3636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280728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286668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292572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298512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280656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286560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292500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298404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280692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286632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292536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298440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3044520" y="2196720"/>
                  <a:ext cx="59040" cy="1944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2520 h 19440"/>
                    <a:gd name="textAreaBottom" fmla="*/ 16920 h 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3043800" y="2203200"/>
                  <a:ext cx="59040" cy="2772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3044160" y="2226240"/>
                  <a:ext cx="59040" cy="39600"/>
                </a:xfrm>
                <a:custGeom>
                  <a:avLst/>
                  <a:gdLst>
                    <a:gd name="textAreaLeft" fmla="*/ 7920 w 59040"/>
                    <a:gd name="textAreaRight" fmla="*/ 51120 w 5904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3453480" y="1177920"/>
              <a:ext cx="303480" cy="885240"/>
              <a:chOff x="3453480" y="1177920"/>
              <a:chExt cx="303480" cy="885240"/>
            </a:xfrm>
          </p:grpSpPr>
          <p:sp>
            <p:nvSpPr>
              <p:cNvPr id="368" name=""/>
              <p:cNvSpPr/>
              <p:nvPr/>
            </p:nvSpPr>
            <p:spPr>
              <a:xfrm>
                <a:off x="3453840" y="1177920"/>
                <a:ext cx="201960" cy="885240"/>
              </a:xfrm>
              <a:custGeom>
                <a:avLst/>
                <a:gdLst>
                  <a:gd name="textAreaLeft" fmla="*/ 3600 w 201960"/>
                  <a:gd name="textAreaRight" fmla="*/ 198360 w 201960"/>
                  <a:gd name="textAreaTop" fmla="*/ 3600 h 885240"/>
                  <a:gd name="textAreaBottom" fmla="*/ 881640 h 885240"/>
                </a:gdLst>
                <a:ahLst/>
                <a:rect l="textAreaLeft" t="textAreaTop" r="textAreaRight" b="textAreaBottom"/>
                <a:pathLst>
                  <a:path w="21600" h="94548">
                    <a:moveTo>
                      <a:pt x="1429" y="0"/>
                    </a:moveTo>
                    <a:arcTo wR="1429" hR="1429" stAng="16200000" swAng="-5400000"/>
                    <a:lnTo>
                      <a:pt x="0" y="93119"/>
                    </a:lnTo>
                    <a:arcTo wR="1429" hR="1429" stAng="10800000" swAng="-5400000"/>
                    <a:lnTo>
                      <a:pt x="20171" y="94548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30600" y="1177920"/>
                <a:ext cx="126360" cy="885240"/>
              </a:xfrm>
              <a:custGeom>
                <a:avLst/>
                <a:gdLst>
                  <a:gd name="textAreaLeft" fmla="*/ 2160 w 126360"/>
                  <a:gd name="textAreaRight" fmla="*/ 124200 w 126360"/>
                  <a:gd name="textAreaTop" fmla="*/ 2160 h 885240"/>
                  <a:gd name="textAreaBottom" fmla="*/ 883080 h 885240"/>
                </a:gdLst>
                <a:ahLst/>
                <a:rect l="textAreaLeft" t="textAreaTop" r="textAreaRight" b="textAreaBottom"/>
                <a:pathLst>
                  <a:path w="21600" h="150955">
                    <a:moveTo>
                      <a:pt x="1429" y="0"/>
                    </a:moveTo>
                    <a:arcTo wR="1429" hR="1429" stAng="16200000" swAng="-5400000"/>
                    <a:lnTo>
                      <a:pt x="0" y="149526"/>
                    </a:lnTo>
                    <a:arcTo wR="1429" hR="1429" stAng="10800000" swAng="-5400000"/>
                    <a:lnTo>
                      <a:pt x="20171" y="150955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3479040" y="1405080"/>
                <a:ext cx="126360" cy="252360"/>
                <a:chOff x="3479040" y="1405080"/>
                <a:chExt cx="126360" cy="2523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479040" y="140508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479040" y="142668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9040" y="144828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479040" y="147060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479040" y="149220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479040" y="151416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479040" y="153612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479040" y="155808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479040" y="157968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479040" y="160200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479040" y="162360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79040" y="1645560"/>
                  <a:ext cx="126360" cy="118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693600" y="1272240"/>
                <a:ext cx="49320" cy="50040"/>
                <a:chOff x="3693600" y="1272240"/>
                <a:chExt cx="49320" cy="50040"/>
              </a:xfrm>
            </p:grpSpPr>
            <p:sp>
              <p:nvSpPr>
                <p:cNvPr id="384" name=""/>
                <p:cNvSpPr/>
                <p:nvPr/>
              </p:nvSpPr>
              <p:spPr>
                <a:xfrm rot="10800000">
                  <a:off x="3693600" y="1272240"/>
                  <a:ext cx="4932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98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0800000">
                  <a:off x="3697560" y="1275840"/>
                  <a:ext cx="41760" cy="4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7e7e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 rot="10800000">
                <a:off x="3478680" y="1683000"/>
                <a:ext cx="126360" cy="353880"/>
              </a:xfrm>
              <a:prstGeom prst="bevel">
                <a:avLst>
                  <a:gd name="adj" fmla="val 125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482280" y="1689120"/>
                <a:ext cx="118800" cy="343440"/>
              </a:xfrm>
              <a:prstGeom prst="bevel">
                <a:avLst>
                  <a:gd name="adj" fmla="val 3755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aaaaa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453480" y="1304280"/>
                <a:ext cx="177120" cy="75600"/>
              </a:xfrm>
              <a:prstGeom prst="bevel">
                <a:avLst>
                  <a:gd name="adj" fmla="val 7352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aaaaa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200000">
                <a:off x="3566520" y="1518840"/>
                <a:ext cx="303120" cy="25560"/>
              </a:xfrm>
              <a:prstGeom prst="bevel">
                <a:avLst>
                  <a:gd name="adj" fmla="val 7352"/>
                </a:avLst>
              </a:pr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479040" y="1709280"/>
                <a:ext cx="50040" cy="30312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29080" y="1734120"/>
                <a:ext cx="50400" cy="2530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79040" y="1203120"/>
                <a:ext cx="75600" cy="24840"/>
              </a:xfrm>
              <a:prstGeom prst="rect">
                <a:avLst/>
              </a:prstGeom>
              <a:solidFill>
                <a:srgbClr val="80808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81720" y="2012400"/>
                <a:ext cx="50040" cy="24840"/>
              </a:xfrm>
              <a:prstGeom prst="rect">
                <a:avLst/>
              </a:prstGeom>
              <a:solidFill>
                <a:srgbClr val="c0c0c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681720" y="1759680"/>
                <a:ext cx="50040" cy="500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0265600">
                <a:off x="3688200" y="1764360"/>
                <a:ext cx="35640" cy="24480"/>
              </a:xfrm>
              <a:prstGeom prst="donut">
                <a:avLst>
                  <a:gd name="adj" fmla="val 120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79040" y="1239480"/>
                <a:ext cx="252360" cy="6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630600" y="1177920"/>
                <a:ext cx="0" cy="88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475000" y="1177920"/>
              <a:ext cx="931680" cy="930960"/>
              <a:chOff x="2475000" y="1177920"/>
              <a:chExt cx="931680" cy="930960"/>
            </a:xfrm>
          </p:grpSpPr>
          <p:sp>
            <p:nvSpPr>
              <p:cNvPr id="399" name=""/>
              <p:cNvSpPr/>
              <p:nvPr/>
            </p:nvSpPr>
            <p:spPr>
              <a:xfrm flipV="1">
                <a:off x="2667960" y="2028960"/>
                <a:ext cx="545400" cy="53280"/>
              </a:xfrm>
              <a:custGeom>
                <a:avLst/>
                <a:gdLst>
                  <a:gd name="textAreaLeft" fmla="*/ 56520 w 545400"/>
                  <a:gd name="textAreaRight" fmla="*/ 488880 w 545400"/>
                  <a:gd name="textAreaTop" fmla="*/ 5400 h 53280"/>
                  <a:gd name="textAreaBottom" fmla="*/ 47880 h 5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67960" y="2082240"/>
                <a:ext cx="545400" cy="26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827440" y="1935720"/>
                <a:ext cx="226800" cy="106560"/>
              </a:xfrm>
              <a:custGeom>
                <a:avLst/>
                <a:gdLst>
                  <a:gd name="textAreaLeft" fmla="*/ 23400 w 226800"/>
                  <a:gd name="textAreaRight" fmla="*/ 203400 w 226800"/>
                  <a:gd name="textAreaTop" fmla="*/ 10800 h 106560"/>
                  <a:gd name="textAreaBottom" fmla="*/ 95760 h 10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475000" y="1896480"/>
                <a:ext cx="931680" cy="65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50000">
                    <a:srgbClr val="cfcfc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75000" y="1177920"/>
                <a:ext cx="931680" cy="718560"/>
              </a:xfrm>
              <a:prstGeom prst="roundRect">
                <a:avLst>
                  <a:gd name="adj" fmla="val 2940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0800000">
                <a:off x="2501280" y="1204200"/>
                <a:ext cx="878040" cy="678600"/>
              </a:xfrm>
              <a:prstGeom prst="bevel">
                <a:avLst>
                  <a:gd name="adj" fmla="val 5921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cfcfc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08840" y="1211760"/>
                <a:ext cx="864720" cy="664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e7f3f4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01640" y="1923480"/>
                <a:ext cx="53280" cy="1224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20680" y="1909800"/>
                <a:ext cx="39960" cy="39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d4d4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0800000">
                <a:off x="2927520" y="1915920"/>
                <a:ext cx="25560" cy="2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d4d4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75000" y="1177920"/>
                <a:ext cx="931680" cy="718560"/>
              </a:xfrm>
              <a:prstGeom prst="roundRect">
                <a:avLst>
                  <a:gd name="adj" fmla="val 2940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687480" y="2156760"/>
              <a:ext cx="185760" cy="139680"/>
              <a:chOff x="3687480" y="2156760"/>
              <a:chExt cx="185760" cy="139680"/>
            </a:xfrm>
          </p:grpSpPr>
          <p:sp>
            <p:nvSpPr>
              <p:cNvPr id="411" name=""/>
              <p:cNvSpPr/>
              <p:nvPr/>
            </p:nvSpPr>
            <p:spPr>
              <a:xfrm>
                <a:off x="3689640" y="216000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687480" y="2156760"/>
                <a:ext cx="185760" cy="13428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707070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01520" y="2156760"/>
                <a:ext cx="157320" cy="10044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c8c8c8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5400000">
                <a:off x="3770640" y="2115000"/>
                <a:ext cx="1944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1497" y="250"/>
                      <a:pt x="1393" y="5080"/>
                      <a:pt x="1393" y="10800"/>
                    </a:cubicBezTo>
                    <a:cubicBezTo>
                      <a:pt x="1393" y="16520"/>
                      <a:pt x="11497" y="2135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69560" y="2158560"/>
                <a:ext cx="20880" cy="32400"/>
              </a:xfrm>
              <a:custGeom>
                <a:avLst/>
                <a:gdLst>
                  <a:gd name="textAreaLeft" fmla="*/ 2520 w 20880"/>
                  <a:gd name="textAreaRight" fmla="*/ 18360 w 20880"/>
                  <a:gd name="textAreaTop" fmla="*/ 2520 h 32400"/>
                  <a:gd name="textAreaBottom" fmla="*/ 29880 h 32400"/>
                </a:gdLst>
                <a:ahLst/>
                <a:rect l="textAreaLeft" t="textAreaTop" r="textAreaRight" b="textAreaBottom"/>
                <a:pathLst>
                  <a:path w="21600" h="33315">
                    <a:moveTo>
                      <a:pt x="9672" y="0"/>
                    </a:moveTo>
                    <a:arcTo wR="9672" hR="9672" stAng="16200000" swAng="-5400000"/>
                    <a:lnTo>
                      <a:pt x="0" y="23643"/>
                    </a:lnTo>
                    <a:arcTo wR="9672" hR="9672" stAng="10800000" swAng="-5400000"/>
                    <a:lnTo>
                      <a:pt x="11928" y="33315"/>
                    </a:lnTo>
                    <a:arcTo wR="9672" hR="9672" stAng="5400000" swAng="-5400000"/>
                    <a:lnTo>
                      <a:pt x="21600" y="9672"/>
                    </a:lnTo>
                    <a:arcTo wR="9672" hR="967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c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160" y="2156760"/>
                <a:ext cx="14040" cy="28440"/>
              </a:xfrm>
              <a:custGeom>
                <a:avLst/>
                <a:gdLst>
                  <a:gd name="textAreaLeft" fmla="*/ 1800 w 14040"/>
                  <a:gd name="textAreaRight" fmla="*/ 12240 w 14040"/>
                  <a:gd name="textAreaTop" fmla="*/ 1800 h 28440"/>
                  <a:gd name="textAreaBottom" fmla="*/ 26640 h 2844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10800" y="0"/>
                    </a:moveTo>
                    <a:arcTo wR="10800" hR="10800" stAng="16200000" swAng="-5400000"/>
                    <a:lnTo>
                      <a:pt x="0" y="32400"/>
                    </a:lnTo>
                    <a:arcTo wR="10800" hR="10800" stAng="10800000" swAng="-5400000"/>
                    <a:lnTo>
                      <a:pt x="10800" y="432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6032520" y="1125360"/>
            <a:ext cx="1584000" cy="1160280"/>
            <a:chOff x="6032520" y="1125360"/>
            <a:chExt cx="1584000" cy="1160280"/>
          </a:xfrm>
        </p:grpSpPr>
        <p:grpSp>
          <p:nvGrpSpPr>
            <p:cNvPr id="418" name=""/>
            <p:cNvGrpSpPr/>
            <p:nvPr/>
          </p:nvGrpSpPr>
          <p:grpSpPr>
            <a:xfrm>
              <a:off x="7401240" y="2120400"/>
              <a:ext cx="165240" cy="124200"/>
              <a:chOff x="7401240" y="2120400"/>
              <a:chExt cx="165240" cy="124200"/>
            </a:xfrm>
          </p:grpSpPr>
          <p:sp>
            <p:nvSpPr>
              <p:cNvPr id="419" name=""/>
              <p:cNvSpPr/>
              <p:nvPr/>
            </p:nvSpPr>
            <p:spPr>
              <a:xfrm>
                <a:off x="7403040" y="2123280"/>
                <a:ext cx="160920" cy="12132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01240" y="2120400"/>
                <a:ext cx="165240" cy="11916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707070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13840" y="2120400"/>
                <a:ext cx="140040" cy="8928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c8c8c8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5400000">
                <a:off x="7474680" y="2083320"/>
                <a:ext cx="17280" cy="111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1497" y="250"/>
                      <a:pt x="1393" y="5080"/>
                      <a:pt x="1393" y="10800"/>
                    </a:cubicBezTo>
                    <a:cubicBezTo>
                      <a:pt x="1393" y="16520"/>
                      <a:pt x="11497" y="2135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74320" y="2121840"/>
                <a:ext cx="18720" cy="28800"/>
              </a:xfrm>
              <a:custGeom>
                <a:avLst/>
                <a:gdLst>
                  <a:gd name="textAreaLeft" fmla="*/ 2160 w 18720"/>
                  <a:gd name="textAreaRight" fmla="*/ 16560 w 18720"/>
                  <a:gd name="textAreaTop" fmla="*/ 2160 h 28800"/>
                  <a:gd name="textAreaBottom" fmla="*/ 26640 h 28800"/>
                </a:gdLst>
                <a:ahLst/>
                <a:rect l="textAreaLeft" t="textAreaTop" r="textAreaRight" b="textAreaBottom"/>
                <a:pathLst>
                  <a:path w="21600" h="33011">
                    <a:moveTo>
                      <a:pt x="9672" y="0"/>
                    </a:moveTo>
                    <a:arcTo wR="9672" hR="9672" stAng="16200000" swAng="-5400000"/>
                    <a:lnTo>
                      <a:pt x="0" y="23339"/>
                    </a:lnTo>
                    <a:arcTo wR="9672" hR="9672" stAng="10800000" swAng="-5400000"/>
                    <a:lnTo>
                      <a:pt x="11928" y="33011"/>
                    </a:lnTo>
                    <a:arcTo wR="9672" hR="9672" stAng="5400000" swAng="-5400000"/>
                    <a:lnTo>
                      <a:pt x="21600" y="9672"/>
                    </a:lnTo>
                    <a:arcTo wR="9672" hR="967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c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77560" y="2120400"/>
                <a:ext cx="12600" cy="25200"/>
              </a:xfrm>
              <a:custGeom>
                <a:avLst/>
                <a:gdLst>
                  <a:gd name="textAreaLeft" fmla="*/ 1800 w 12600"/>
                  <a:gd name="textAreaRight" fmla="*/ 10800 w 12600"/>
                  <a:gd name="textAreaTop" fmla="*/ 1800 h 25200"/>
                  <a:gd name="textAreaBottom" fmla="*/ 23400 h 25200"/>
                </a:gdLst>
                <a:ahLst/>
                <a:rect l="textAreaLeft" t="textAreaTop" r="textAreaRight" b="textAreaBottom"/>
                <a:pathLst>
                  <a:path w="21600" h="42600">
                    <a:moveTo>
                      <a:pt x="10800" y="0"/>
                    </a:moveTo>
                    <a:arcTo wR="10800" hR="10800" stAng="16200000" swAng="-5400000"/>
                    <a:lnTo>
                      <a:pt x="0" y="31800"/>
                    </a:lnTo>
                    <a:arcTo wR="10800" hR="10800" stAng="10800000" swAng="-5400000"/>
                    <a:lnTo>
                      <a:pt x="10800" y="426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234560" y="1249560"/>
              <a:ext cx="381960" cy="788400"/>
              <a:chOff x="7234560" y="1249560"/>
              <a:chExt cx="381960" cy="788400"/>
            </a:xfrm>
          </p:grpSpPr>
          <p:sp>
            <p:nvSpPr>
              <p:cNvPr id="426" name=""/>
              <p:cNvSpPr/>
              <p:nvPr/>
            </p:nvSpPr>
            <p:spPr>
              <a:xfrm>
                <a:off x="7234560" y="1249560"/>
                <a:ext cx="381960" cy="788400"/>
              </a:xfrm>
              <a:custGeom>
                <a:avLst/>
                <a:gdLst>
                  <a:gd name="textAreaLeft" fmla="*/ 7200 w 381960"/>
                  <a:gd name="textAreaRight" fmla="*/ 374760 w 381960"/>
                  <a:gd name="textAreaTop" fmla="*/ 7200 h 788400"/>
                  <a:gd name="textAreaBottom" fmla="*/ 781200 h 788400"/>
                </a:gdLst>
                <a:ahLst/>
                <a:rect l="textAreaLeft" t="textAreaTop" r="textAreaRight" b="textAreaBottom"/>
                <a:pathLst>
                  <a:path w="21600" h="44563">
                    <a:moveTo>
                      <a:pt x="1429" y="0"/>
                    </a:moveTo>
                    <a:arcTo wR="1429" hR="1429" stAng="16200000" swAng="-5400000"/>
                    <a:lnTo>
                      <a:pt x="0" y="43134"/>
                    </a:lnTo>
                    <a:arcTo wR="1429" hR="1429" stAng="10800000" swAng="-5400000"/>
                    <a:lnTo>
                      <a:pt x="20171" y="44563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34343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56520" y="1249560"/>
                <a:ext cx="337320" cy="765720"/>
              </a:xfrm>
              <a:custGeom>
                <a:avLst/>
                <a:gdLst>
                  <a:gd name="textAreaLeft" fmla="*/ 6480 w 337320"/>
                  <a:gd name="textAreaRight" fmla="*/ 330840 w 337320"/>
                  <a:gd name="textAreaTop" fmla="*/ 6480 h 765720"/>
                  <a:gd name="textAreaBottom" fmla="*/ 759240 h 765720"/>
                </a:gdLst>
                <a:ahLst/>
                <a:rect l="textAreaLeft" t="textAreaTop" r="textAreaRight" b="textAreaBottom"/>
                <a:pathLst>
                  <a:path w="21600" h="49003">
                    <a:moveTo>
                      <a:pt x="1429" y="0"/>
                    </a:moveTo>
                    <a:arcTo wR="1429" hR="1429" stAng="16200000" swAng="-5400000"/>
                    <a:lnTo>
                      <a:pt x="0" y="47574"/>
                    </a:lnTo>
                    <a:arcTo wR="1429" hR="1429" stAng="10800000" swAng="-5400000"/>
                    <a:lnTo>
                      <a:pt x="20171" y="49003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343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256520" y="1249560"/>
                <a:ext cx="337320" cy="720720"/>
              </a:xfrm>
              <a:custGeom>
                <a:avLst/>
                <a:gdLst>
                  <a:gd name="textAreaLeft" fmla="*/ 6480 w 337320"/>
                  <a:gd name="textAreaRight" fmla="*/ 330840 w 337320"/>
                  <a:gd name="textAreaTop" fmla="*/ 6480 h 720720"/>
                  <a:gd name="textAreaBottom" fmla="*/ 714240 h 720720"/>
                </a:gdLst>
                <a:ahLst/>
                <a:rect l="textAreaLeft" t="textAreaTop" r="textAreaRight" b="textAreaBottom"/>
                <a:pathLst>
                  <a:path w="21600" h="46125">
                    <a:moveTo>
                      <a:pt x="1429" y="0"/>
                    </a:moveTo>
                    <a:arcTo wR="1429" hR="1429" stAng="16200000" swAng="-5400000"/>
                    <a:lnTo>
                      <a:pt x="0" y="44696"/>
                    </a:lnTo>
                    <a:arcTo wR="1429" hR="1429" stAng="10800000" swAng="-5400000"/>
                    <a:lnTo>
                      <a:pt x="20171" y="46125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256520" y="1317240"/>
                <a:ext cx="337320" cy="89640"/>
              </a:xfrm>
              <a:prstGeom prst="roundRect">
                <a:avLst>
                  <a:gd name="adj" fmla="val 6616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56520" y="1407240"/>
                <a:ext cx="337320" cy="89640"/>
              </a:xfrm>
              <a:prstGeom prst="roundRect">
                <a:avLst>
                  <a:gd name="adj" fmla="val 6616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3040" y="1722600"/>
                <a:ext cx="44280" cy="45000"/>
              </a:xfrm>
              <a:custGeom>
                <a:avLst/>
                <a:gdLst>
                  <a:gd name="textAreaLeft" fmla="*/ 720 w 44280"/>
                  <a:gd name="textAreaRight" fmla="*/ 43560 w 44280"/>
                  <a:gd name="textAreaTop" fmla="*/ 720 h 45000"/>
                  <a:gd name="textAreaBottom" fmla="*/ 44280 h 45000"/>
                </a:gdLst>
                <a:ahLst/>
                <a:rect l="textAreaLeft" t="textAreaTop" r="textAreaRight" b="textAreaBottom"/>
                <a:pathLst>
                  <a:path w="21600" h="21948">
                    <a:moveTo>
                      <a:pt x="1429" y="0"/>
                    </a:moveTo>
                    <a:arcTo wR="1429" hR="1429" stAng="16200000" swAng="-5400000"/>
                    <a:lnTo>
                      <a:pt x="0" y="20519"/>
                    </a:lnTo>
                    <a:arcTo wR="1429" hR="1429" stAng="10800000" swAng="-5400000"/>
                    <a:lnTo>
                      <a:pt x="20171" y="21948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50000">
                    <a:srgbClr val="eeeeee"/>
                  </a:gs>
                  <a:gs pos="100000">
                    <a:srgbClr val="eaeaea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7256520" y="1564920"/>
                <a:ext cx="337320" cy="8640"/>
                <a:chOff x="7256520" y="1564920"/>
                <a:chExt cx="337320" cy="86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7256520" y="1564920"/>
                  <a:ext cx="157680" cy="8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414200" y="1564920"/>
                  <a:ext cx="179640" cy="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7389360" y="1524960"/>
                <a:ext cx="52200" cy="8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6032520" y="2079360"/>
              <a:ext cx="1326600" cy="206280"/>
              <a:chOff x="6032520" y="2079360"/>
              <a:chExt cx="1326600" cy="206280"/>
            </a:xfrm>
          </p:grpSpPr>
          <p:sp>
            <p:nvSpPr>
              <p:cNvPr id="437" name=""/>
              <p:cNvSpPr/>
              <p:nvPr/>
            </p:nvSpPr>
            <p:spPr>
              <a:xfrm flipV="1">
                <a:off x="6084000" y="2130480"/>
                <a:ext cx="1223280" cy="86040"/>
              </a:xfrm>
              <a:custGeom>
                <a:avLst/>
                <a:gdLst>
                  <a:gd name="textAreaLeft" fmla="*/ 117000 w 1223280"/>
                  <a:gd name="textAreaRight" fmla="*/ 1106280 w 1223280"/>
                  <a:gd name="textAreaTop" fmla="*/ 7920 h 86040"/>
                  <a:gd name="textAreaBottom" fmla="*/ 78120 h 8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030" y="21600"/>
                    </a:lnTo>
                    <a:lnTo>
                      <a:pt x="57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6118560" y="2096640"/>
                <a:ext cx="51480" cy="17280"/>
              </a:xfrm>
              <a:custGeom>
                <a:avLst/>
                <a:gdLst>
                  <a:gd name="textAreaLeft" fmla="*/ 6840 w 51480"/>
                  <a:gd name="textAreaRight" fmla="*/ 44640 w 5148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536" y="21600"/>
                    </a:lnTo>
                    <a:lnTo>
                      <a:pt x="206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618732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32520" y="2234160"/>
                <a:ext cx="1326600" cy="51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84000" y="2079360"/>
                <a:ext cx="122328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32520" y="2095920"/>
                <a:ext cx="1326600" cy="154440"/>
              </a:xfrm>
              <a:custGeom>
                <a:avLst/>
                <a:gdLst>
                  <a:gd name="textAreaLeft" fmla="*/ 136440 w 1326600"/>
                  <a:gd name="textAreaRight" fmla="*/ 1190160 w 1326600"/>
                  <a:gd name="textAreaTop" fmla="*/ 15840 h 154440"/>
                  <a:gd name="textAreaBottom" fmla="*/ 138600 h 15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46" y="21600"/>
                    </a:lnTo>
                    <a:lnTo>
                      <a:pt x="854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37560" y="2240280"/>
                <a:ext cx="13140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43320" y="2228760"/>
                <a:ext cx="1306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49440" y="2216880"/>
                <a:ext cx="1292040" cy="46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757575">
                      <a:alpha val="6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622188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625608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629064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635976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639432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642852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646308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53184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6566400" y="2096640"/>
                <a:ext cx="34560" cy="17280"/>
              </a:xfrm>
              <a:custGeom>
                <a:avLst/>
                <a:gdLst>
                  <a:gd name="textAreaLeft" fmla="*/ 4320 w 34560"/>
                  <a:gd name="textAreaRight" fmla="*/ 30240 w 3456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600600" y="2096640"/>
                <a:ext cx="34560" cy="17280"/>
              </a:xfrm>
              <a:custGeom>
                <a:avLst/>
                <a:gdLst>
                  <a:gd name="textAreaLeft" fmla="*/ 4320 w 34560"/>
                  <a:gd name="textAreaRight" fmla="*/ 30240 w 3456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63516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670428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6738840" y="2096640"/>
                <a:ext cx="34560" cy="17280"/>
              </a:xfrm>
              <a:custGeom>
                <a:avLst/>
                <a:gdLst>
                  <a:gd name="textAreaLeft" fmla="*/ 4320 w 34560"/>
                  <a:gd name="textAreaRight" fmla="*/ 30240 w 3456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73040" y="2096640"/>
                <a:ext cx="34560" cy="17280"/>
              </a:xfrm>
              <a:custGeom>
                <a:avLst/>
                <a:gdLst>
                  <a:gd name="textAreaLeft" fmla="*/ 4320 w 34560"/>
                  <a:gd name="textAreaRight" fmla="*/ 30240 w 3456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80760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87672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911280" y="2096640"/>
                <a:ext cx="34560" cy="17280"/>
              </a:xfrm>
              <a:custGeom>
                <a:avLst/>
                <a:gdLst>
                  <a:gd name="textAreaLeft" fmla="*/ 4320 w 34560"/>
                  <a:gd name="textAreaRight" fmla="*/ 30240 w 3456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945480" y="2096640"/>
                <a:ext cx="34560" cy="17280"/>
              </a:xfrm>
              <a:custGeom>
                <a:avLst/>
                <a:gdLst>
                  <a:gd name="textAreaLeft" fmla="*/ 4320 w 34560"/>
                  <a:gd name="textAreaRight" fmla="*/ 30240 w 3456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980040" y="2096640"/>
                <a:ext cx="34200" cy="17280"/>
              </a:xfrm>
              <a:custGeom>
                <a:avLst/>
                <a:gdLst>
                  <a:gd name="textAreaLeft" fmla="*/ 4320 w 34200"/>
                  <a:gd name="textAreaRight" fmla="*/ 29880 w 34200"/>
                  <a:gd name="textAreaTop" fmla="*/ 2160 h 17280"/>
                  <a:gd name="textAreaBottom" fmla="*/ 1512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7066440" y="2130840"/>
                <a:ext cx="51480" cy="16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117920" y="2130480"/>
                <a:ext cx="51480" cy="16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169760" y="2130480"/>
                <a:ext cx="51480" cy="16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7221240" y="2130480"/>
                <a:ext cx="51480" cy="16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7083360" y="2148120"/>
                <a:ext cx="51480" cy="16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7135200" y="2147760"/>
                <a:ext cx="51480" cy="16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7186680" y="2147760"/>
                <a:ext cx="51480" cy="16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7238520" y="2147760"/>
                <a:ext cx="51480" cy="16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083360" y="2165400"/>
                <a:ext cx="51480" cy="241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135200" y="2164680"/>
                <a:ext cx="51480" cy="241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7186680" y="2164680"/>
                <a:ext cx="51480" cy="241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7238520" y="2164680"/>
                <a:ext cx="51480" cy="241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083360" y="2183040"/>
                <a:ext cx="51480" cy="25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7135200" y="2182680"/>
                <a:ext cx="51480" cy="25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7186680" y="2182680"/>
                <a:ext cx="51480" cy="25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238520" y="2182680"/>
                <a:ext cx="51480" cy="25920"/>
              </a:xfrm>
              <a:custGeom>
                <a:avLst/>
                <a:gdLst>
                  <a:gd name="textAreaLeft" fmla="*/ 6480 w 51480"/>
                  <a:gd name="textAreaRight" fmla="*/ 45000 w 5148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6282360" y="213084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319800" y="21304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6357960" y="213048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6395400" y="21304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294960" y="214812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6332400" y="214776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370560" y="214776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408000" y="214776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294960" y="216540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332400" y="216468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370560" y="216468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408000" y="216468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313320" y="2184840"/>
                <a:ext cx="348480" cy="23040"/>
              </a:xfrm>
              <a:custGeom>
                <a:avLst/>
                <a:gdLst>
                  <a:gd name="textAreaLeft" fmla="*/ 33480 w 348480"/>
                  <a:gd name="textAreaRight" fmla="*/ 315000 w 348480"/>
                  <a:gd name="textAreaTop" fmla="*/ 2160 h 23040"/>
                  <a:gd name="textAreaBottom" fmla="*/ 20880 h 23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997" y="21600"/>
                    </a:lnTo>
                    <a:lnTo>
                      <a:pt x="60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126480" y="213084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164280" y="21304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202080" y="213048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239880" y="21304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139080" y="214812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176880" y="214776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214680" y="214776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252480" y="214776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139080" y="216540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176880" y="216468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214680" y="216468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252480" y="216468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139080" y="2183040"/>
                <a:ext cx="37440" cy="25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176880" y="2182680"/>
                <a:ext cx="37800" cy="25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214680" y="2182680"/>
                <a:ext cx="37440" cy="25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252480" y="2182680"/>
                <a:ext cx="59400" cy="25920"/>
              </a:xfrm>
              <a:custGeom>
                <a:avLst/>
                <a:gdLst>
                  <a:gd name="textAreaLeft" fmla="*/ 7560 w 59400"/>
                  <a:gd name="textAreaRight" fmla="*/ 51840 w 5940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101280" y="214776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101280" y="216468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101280" y="2182680"/>
                <a:ext cx="37800" cy="25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822000" y="212976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859800" y="212940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65640" y="212940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03440" y="212940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6834600" y="214704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872040" y="21466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6978240" y="214668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015680" y="21466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6834600" y="216396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872040" y="216360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6978240" y="216360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015680" y="216360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6666480" y="212976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703920" y="212940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6742080" y="212940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779520" y="212940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678720" y="214704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716520" y="21466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754320" y="214668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792120" y="21466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678720" y="216396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716520" y="216360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754320" y="216360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6792120" y="216360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841440" y="2181960"/>
                <a:ext cx="37440" cy="25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6879240" y="2181600"/>
                <a:ext cx="52200" cy="24480"/>
              </a:xfrm>
              <a:custGeom>
                <a:avLst/>
                <a:gdLst>
                  <a:gd name="textAreaLeft" fmla="*/ 6480 w 52200"/>
                  <a:gd name="textAreaRight" fmla="*/ 45720 w 52200"/>
                  <a:gd name="textAreaTop" fmla="*/ 2880 h 24480"/>
                  <a:gd name="textAreaBottom" fmla="*/ 21600 h 2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6962760" y="2181600"/>
                <a:ext cx="37440" cy="25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000200" y="2181600"/>
                <a:ext cx="59400" cy="25920"/>
              </a:xfrm>
              <a:custGeom>
                <a:avLst/>
                <a:gdLst>
                  <a:gd name="textAreaLeft" fmla="*/ 7560 w 59400"/>
                  <a:gd name="textAreaRight" fmla="*/ 51840 w 5940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6640920" y="21466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6640920" y="216360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6785280" y="2181600"/>
                <a:ext cx="56160" cy="25920"/>
              </a:xfrm>
              <a:custGeom>
                <a:avLst/>
                <a:gdLst>
                  <a:gd name="textAreaLeft" fmla="*/ 7200 w 56160"/>
                  <a:gd name="textAreaRight" fmla="*/ 48960 w 5616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6721560" y="2182680"/>
                <a:ext cx="56160" cy="25920"/>
              </a:xfrm>
              <a:custGeom>
                <a:avLst/>
                <a:gdLst>
                  <a:gd name="textAreaLeft" fmla="*/ 7200 w 56160"/>
                  <a:gd name="textAreaRight" fmla="*/ 48960 w 5616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6665040" y="2182680"/>
                <a:ext cx="56160" cy="25920"/>
              </a:xfrm>
              <a:custGeom>
                <a:avLst/>
                <a:gdLst>
                  <a:gd name="textAreaLeft" fmla="*/ 7200 w 56160"/>
                  <a:gd name="textAreaRight" fmla="*/ 48960 w 56160"/>
                  <a:gd name="textAreaTop" fmla="*/ 3240 h 25920"/>
                  <a:gd name="textAreaBottom" fmla="*/ 22680 h 2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627240" y="213084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6471360" y="213084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6509160" y="21304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6546960" y="213048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6584760" y="21304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6483960" y="214812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521760" y="214776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6559560" y="2147760"/>
                <a:ext cx="37440" cy="169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6597360" y="214776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6483960" y="216540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6521760" y="216468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6559560" y="2164680"/>
                <a:ext cx="37440" cy="24120"/>
              </a:xfrm>
              <a:custGeom>
                <a:avLst/>
                <a:gdLst>
                  <a:gd name="textAreaLeft" fmla="*/ 4680 w 37440"/>
                  <a:gd name="textAreaRight" fmla="*/ 32760 w 3744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597360" y="216468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446160" y="214776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6446160" y="2164680"/>
                <a:ext cx="37800" cy="241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880 h 24120"/>
                  <a:gd name="textAreaBottom" fmla="*/ 212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6428520" y="2130480"/>
                <a:ext cx="37800" cy="16920"/>
              </a:xfrm>
              <a:custGeom>
                <a:avLst/>
                <a:gdLst>
                  <a:gd name="textAreaLeft" fmla="*/ 4680 w 37800"/>
                  <a:gd name="textAreaRight" fmla="*/ 33120 w 37800"/>
                  <a:gd name="textAreaTop" fmla="*/ 2160 h 16920"/>
                  <a:gd name="textAreaBottom" fmla="*/ 14760 h 1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02" y="21600"/>
                    </a:lnTo>
                    <a:lnTo>
                      <a:pt x="189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073560" y="1125360"/>
              <a:ext cx="1118880" cy="945000"/>
              <a:chOff x="6073560" y="1125360"/>
              <a:chExt cx="1118880" cy="945000"/>
            </a:xfrm>
          </p:grpSpPr>
          <p:sp>
            <p:nvSpPr>
              <p:cNvPr id="563" name=""/>
              <p:cNvSpPr/>
              <p:nvPr/>
            </p:nvSpPr>
            <p:spPr>
              <a:xfrm>
                <a:off x="6444360" y="1972800"/>
                <a:ext cx="368280" cy="9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44360" y="1971360"/>
                <a:ext cx="368280" cy="91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54545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6548040" y="1848240"/>
                <a:ext cx="158040" cy="158040"/>
                <a:chOff x="6548040" y="1848240"/>
                <a:chExt cx="158040" cy="1580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6548040" y="1848240"/>
                  <a:ext cx="158040" cy="158040"/>
                </a:xfrm>
                <a:prstGeom prst="roundRect">
                  <a:avLst>
                    <a:gd name="adj" fmla="val 1084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548040" y="1848240"/>
                  <a:ext cx="26280" cy="158040"/>
                </a:xfrm>
                <a:custGeom>
                  <a:avLst/>
                  <a:gdLst>
                    <a:gd name="textAreaLeft" fmla="*/ 3600 w 26280"/>
                    <a:gd name="textAreaRight" fmla="*/ 22680 w 26280"/>
                    <a:gd name="textAreaTop" fmla="*/ 3600 h 158040"/>
                    <a:gd name="textAreaBottom" fmla="*/ 154440 h 158040"/>
                  </a:gdLst>
                  <a:ahLst/>
                  <a:rect l="textAreaLeft" t="textAreaTop" r="textAreaRight" b="textAreaBottom"/>
                  <a:pathLst>
                    <a:path w="21600" h="128432">
                      <a:moveTo>
                        <a:pt x="10800" y="0"/>
                      </a:moveTo>
                      <a:arcTo wR="10800" hR="10800" stAng="16200000" swAng="-5400000"/>
                      <a:lnTo>
                        <a:pt x="0" y="117632"/>
                      </a:lnTo>
                      <a:arcTo wR="10800" hR="10800" stAng="10800000" swAng="-5400000"/>
                      <a:lnTo>
                        <a:pt x="10800" y="12843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>
                        <a:alpha val="0"/>
                      </a:srgbClr>
                    </a:gs>
                    <a:gs pos="100000">
                      <a:srgbClr val="ffffff">
                        <a:alpha val="60392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679800" y="1848240"/>
                  <a:ext cx="26280" cy="158040"/>
                </a:xfrm>
                <a:custGeom>
                  <a:avLst/>
                  <a:gdLst>
                    <a:gd name="textAreaLeft" fmla="*/ 3600 w 26280"/>
                    <a:gd name="textAreaRight" fmla="*/ 22680 w 26280"/>
                    <a:gd name="textAreaTop" fmla="*/ 3600 h 158040"/>
                    <a:gd name="textAreaBottom" fmla="*/ 154440 h 158040"/>
                  </a:gdLst>
                  <a:ahLst/>
                  <a:rect l="textAreaLeft" t="textAreaTop" r="textAreaRight" b="textAreaBottom"/>
                  <a:pathLst>
                    <a:path w="21600" h="128432">
                      <a:moveTo>
                        <a:pt x="10800" y="0"/>
                      </a:moveTo>
                      <a:arcTo wR="10800" hR="10800" stAng="16200000" swAng="-5400000"/>
                      <a:lnTo>
                        <a:pt x="0" y="117632"/>
                      </a:lnTo>
                      <a:arcTo wR="10800" hR="10800" stAng="10800000" swAng="-5400000"/>
                      <a:lnTo>
                        <a:pt x="10800" y="12843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6073560" y="1125360"/>
                <a:ext cx="1118880" cy="769320"/>
              </a:xfrm>
              <a:prstGeom prst="roundRect">
                <a:avLst>
                  <a:gd name="adj" fmla="val 2005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0800000">
                <a:off x="6099840" y="1151280"/>
                <a:ext cx="1066320" cy="632880"/>
              </a:xfrm>
              <a:prstGeom prst="bevel">
                <a:avLst>
                  <a:gd name="adj" fmla="val 2981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106320" y="1158120"/>
                <a:ext cx="1053000" cy="61956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e7f3f4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99880" y="1870920"/>
                <a:ext cx="52560" cy="13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84720" y="1814400"/>
                <a:ext cx="259920" cy="6768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21360" y="1814400"/>
                <a:ext cx="259920" cy="6768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6367320" y="1814400"/>
                <a:ext cx="531000" cy="45360"/>
                <a:chOff x="6367320" y="1814400"/>
                <a:chExt cx="531000" cy="453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6367320" y="1814400"/>
                  <a:ext cx="531000" cy="4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4747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7" name=""/>
                <p:cNvGrpSpPr/>
                <p:nvPr/>
              </p:nvGrpSpPr>
              <p:grpSpPr>
                <a:xfrm>
                  <a:off x="6527520" y="1828800"/>
                  <a:ext cx="210600" cy="16200"/>
                  <a:chOff x="6527520" y="1828800"/>
                  <a:chExt cx="210600" cy="162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6559920" y="1828800"/>
                    <a:ext cx="16200" cy="1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6592320" y="1828800"/>
                    <a:ext cx="16200" cy="1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6624720" y="1828800"/>
                    <a:ext cx="16200" cy="1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6657120" y="1829160"/>
                    <a:ext cx="16200" cy="1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689520" y="1829160"/>
                    <a:ext cx="16200" cy="1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721920" y="1828800"/>
                    <a:ext cx="16200" cy="1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527520" y="1828800"/>
                    <a:ext cx="16200" cy="1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9d9d9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85" name=""/>
          <p:cNvGrpSpPr/>
          <p:nvPr/>
        </p:nvGrpSpPr>
        <p:grpSpPr>
          <a:xfrm>
            <a:off x="4160880" y="1112760"/>
            <a:ext cx="1584360" cy="1241640"/>
            <a:chOff x="4160880" y="1112760"/>
            <a:chExt cx="1584360" cy="1241640"/>
          </a:xfrm>
        </p:grpSpPr>
        <p:grpSp>
          <p:nvGrpSpPr>
            <p:cNvPr id="586" name=""/>
            <p:cNvGrpSpPr/>
            <p:nvPr/>
          </p:nvGrpSpPr>
          <p:grpSpPr>
            <a:xfrm>
              <a:off x="4160880" y="2196360"/>
              <a:ext cx="1237680" cy="158040"/>
              <a:chOff x="4160880" y="2196360"/>
              <a:chExt cx="1237680" cy="15804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4160880" y="2196360"/>
                <a:ext cx="1237680" cy="158040"/>
                <a:chOff x="4160880" y="2196360"/>
                <a:chExt cx="1237680" cy="1580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4160880" y="2315520"/>
                  <a:ext cx="1237680" cy="388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4160880" y="2196360"/>
                  <a:ext cx="1237680" cy="138960"/>
                </a:xfrm>
                <a:custGeom>
                  <a:avLst/>
                  <a:gdLst>
                    <a:gd name="textAreaLeft" fmla="*/ 123840 w 1237680"/>
                    <a:gd name="textAreaRight" fmla="*/ 1113840 w 1237680"/>
                    <a:gd name="textAreaTop" fmla="*/ 13680 h 138960"/>
                    <a:gd name="textAreaBottom" fmla="*/ 125280 h 13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180680" y="2315520"/>
                  <a:ext cx="1197720" cy="19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4200840" y="2196360"/>
                <a:ext cx="1157760" cy="99360"/>
                <a:chOff x="4200840" y="2196360"/>
                <a:chExt cx="1157760" cy="99360"/>
              </a:xfrm>
            </p:grpSpPr>
            <p:sp>
              <p:nvSpPr>
                <p:cNvPr id="592" name=""/>
                <p:cNvSpPr/>
                <p:nvPr/>
              </p:nvSpPr>
              <p:spPr>
                <a:xfrm flipV="1">
                  <a:off x="420120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425520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430956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436356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>
                  <a:off x="443592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449028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454428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459864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V="1">
                  <a:off x="467172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>
                  <a:off x="472572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478008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483444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490644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496080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501480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506916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514188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519588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525024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5304600" y="219636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514188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519588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525024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>
                  <a:off x="530460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514080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519516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524952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530352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514116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519552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524988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530388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496080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501480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506916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495972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501408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506844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496044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501444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506880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420156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425556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430992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36428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420084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425484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430920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436320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V="1">
                  <a:off x="420120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425520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>
                  <a:off x="430956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436356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441792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447228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452628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458064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441720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447156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452556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457992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441756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4476600" y="2259720"/>
                  <a:ext cx="157680" cy="36000"/>
                </a:xfrm>
                <a:custGeom>
                  <a:avLst/>
                  <a:gdLst>
                    <a:gd name="textAreaLeft" fmla="*/ 13680 w 157680"/>
                    <a:gd name="textAreaRight" fmla="*/ 144000 w 157680"/>
                    <a:gd name="textAreaTop" fmla="*/ 2880 h 36000"/>
                    <a:gd name="textAreaBottom" fmla="*/ 331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463572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468972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474408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479844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V="1">
                  <a:off x="463500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V="1">
                  <a:off x="468900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474336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479772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463536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V="1">
                  <a:off x="468936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V="1">
                  <a:off x="474372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V="1">
                  <a:off x="479808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V="1">
                  <a:off x="4853160" y="2232720"/>
                  <a:ext cx="54000" cy="18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4852080" y="2239200"/>
                  <a:ext cx="54000" cy="252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4852800" y="2259720"/>
                  <a:ext cx="54000" cy="36000"/>
                </a:xfrm>
                <a:custGeom>
                  <a:avLst/>
                  <a:gdLst>
                    <a:gd name="textAreaLeft" fmla="*/ 7200 w 54000"/>
                    <a:gd name="textAreaRight" fmla="*/ 46800 w 5400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0" name=""/>
            <p:cNvGrpSpPr/>
            <p:nvPr/>
          </p:nvGrpSpPr>
          <p:grpSpPr>
            <a:xfrm>
              <a:off x="5294160" y="1163520"/>
              <a:ext cx="451080" cy="929160"/>
              <a:chOff x="5294160" y="1163520"/>
              <a:chExt cx="451080" cy="929160"/>
            </a:xfrm>
          </p:grpSpPr>
          <p:sp>
            <p:nvSpPr>
              <p:cNvPr id="671" name=""/>
              <p:cNvSpPr/>
              <p:nvPr/>
            </p:nvSpPr>
            <p:spPr>
              <a:xfrm>
                <a:off x="5294160" y="1163520"/>
                <a:ext cx="451080" cy="929160"/>
              </a:xfrm>
              <a:custGeom>
                <a:avLst/>
                <a:gdLst>
                  <a:gd name="textAreaLeft" fmla="*/ 8640 w 451080"/>
                  <a:gd name="textAreaRight" fmla="*/ 442440 w 451080"/>
                  <a:gd name="textAreaTop" fmla="*/ 8640 h 929160"/>
                  <a:gd name="textAreaBottom" fmla="*/ 920520 h 929160"/>
                </a:gdLst>
                <a:ahLst/>
                <a:rect l="textAreaLeft" t="textAreaTop" r="textAreaRight" b="textAreaBottom"/>
                <a:pathLst>
                  <a:path w="21600" h="44475">
                    <a:moveTo>
                      <a:pt x="1429" y="0"/>
                    </a:moveTo>
                    <a:arcTo wR="1429" hR="1429" stAng="16200000" swAng="-5400000"/>
                    <a:lnTo>
                      <a:pt x="0" y="43046"/>
                    </a:lnTo>
                    <a:arcTo wR="1429" hR="1429" stAng="10800000" swAng="-5400000"/>
                    <a:lnTo>
                      <a:pt x="20171" y="44475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34343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20440" y="1242720"/>
                <a:ext cx="397800" cy="770040"/>
              </a:xfrm>
              <a:custGeom>
                <a:avLst/>
                <a:gdLst>
                  <a:gd name="textAreaLeft" fmla="*/ 7560 w 397800"/>
                  <a:gd name="textAreaRight" fmla="*/ 390240 w 397800"/>
                  <a:gd name="textAreaTop" fmla="*/ 7560 h 770040"/>
                  <a:gd name="textAreaBottom" fmla="*/ 762480 h 770040"/>
                </a:gdLst>
                <a:ahLst/>
                <a:rect l="textAreaLeft" t="textAreaTop" r="textAreaRight" b="textAreaBottom"/>
                <a:pathLst>
                  <a:path w="21600" h="41794">
                    <a:moveTo>
                      <a:pt x="1429" y="0"/>
                    </a:moveTo>
                    <a:arcTo wR="1429" hR="1429" stAng="16200000" swAng="-5400000"/>
                    <a:lnTo>
                      <a:pt x="0" y="40365"/>
                    </a:lnTo>
                    <a:arcTo wR="1429" hR="1429" stAng="10800000" swAng="-5400000"/>
                    <a:lnTo>
                      <a:pt x="20171" y="41794"/>
                    </a:lnTo>
                    <a:arcTo wR="1429" hR="1429" stAng="5400000" swAng="-5400000"/>
                    <a:lnTo>
                      <a:pt x="21600" y="1429"/>
                    </a:lnTo>
                    <a:arcTo wR="1429" hR="142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50000">
                    <a:srgbClr val="4a4a4a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320440" y="2039400"/>
                <a:ext cx="397800" cy="26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346720" y="1269720"/>
                <a:ext cx="345240" cy="264960"/>
              </a:xfrm>
              <a:prstGeom prst="roundRect">
                <a:avLst>
                  <a:gd name="adj" fmla="val 6370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46720" y="1269720"/>
                <a:ext cx="345240" cy="105840"/>
              </a:xfrm>
              <a:prstGeom prst="roundRect">
                <a:avLst>
                  <a:gd name="adj" fmla="val 6616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346720" y="1375560"/>
                <a:ext cx="345240" cy="105840"/>
              </a:xfrm>
              <a:prstGeom prst="roundRect">
                <a:avLst>
                  <a:gd name="adj" fmla="val 6616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346720" y="1508400"/>
                <a:ext cx="345240" cy="532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06560" y="1562040"/>
                <a:ext cx="26280" cy="45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06560" y="1269720"/>
                <a:ext cx="185400" cy="105840"/>
              </a:xfrm>
              <a:prstGeom prst="roundRect">
                <a:avLst>
                  <a:gd name="adj" fmla="val 6616"/>
                </a:avLst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06560" y="1375560"/>
                <a:ext cx="185400" cy="105840"/>
              </a:xfrm>
              <a:prstGeom prst="roundRect">
                <a:avLst>
                  <a:gd name="adj" fmla="val 6616"/>
                </a:avLst>
              </a:pr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06560" y="1747440"/>
                <a:ext cx="26280" cy="266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06560" y="1800720"/>
                <a:ext cx="26280" cy="266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06560" y="1853280"/>
                <a:ext cx="26280" cy="266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4" name=""/>
              <p:cNvGrpSpPr/>
              <p:nvPr/>
            </p:nvGrpSpPr>
            <p:grpSpPr>
              <a:xfrm>
                <a:off x="5559120" y="1721160"/>
                <a:ext cx="90360" cy="105480"/>
                <a:chOff x="5559120" y="1721160"/>
                <a:chExt cx="90360" cy="10548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5559120" y="1721160"/>
                  <a:ext cx="302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559120" y="1766520"/>
                  <a:ext cx="302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559120" y="1811880"/>
                  <a:ext cx="302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04120" y="1811880"/>
                  <a:ext cx="45360" cy="147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04120" y="1766520"/>
                  <a:ext cx="45360" cy="147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04120" y="1721160"/>
                  <a:ext cx="45360" cy="147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"/>
              <p:cNvSpPr/>
              <p:nvPr/>
            </p:nvSpPr>
            <p:spPr>
              <a:xfrm>
                <a:off x="5346720" y="1588320"/>
                <a:ext cx="132840" cy="26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5665680" y="1190160"/>
                <a:ext cx="37080" cy="37800"/>
                <a:chOff x="5665680" y="1190160"/>
                <a:chExt cx="37080" cy="37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665680" y="1190160"/>
                  <a:ext cx="37080" cy="3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98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70360" y="1194840"/>
                  <a:ext cx="27720" cy="2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77200" y="1202040"/>
                  <a:ext cx="13680" cy="1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9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5320440" y="1163520"/>
                <a:ext cx="0" cy="9291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18240" y="1163520"/>
                <a:ext cx="0" cy="929160"/>
              </a:xfrm>
              <a:prstGeom prst="line">
                <a:avLst/>
              </a:prstGeom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5449680" y="2196360"/>
              <a:ext cx="206640" cy="155520"/>
              <a:chOff x="5449680" y="2196360"/>
              <a:chExt cx="206640" cy="155520"/>
            </a:xfrm>
          </p:grpSpPr>
          <p:sp>
            <p:nvSpPr>
              <p:cNvPr id="699" name=""/>
              <p:cNvSpPr/>
              <p:nvPr/>
            </p:nvSpPr>
            <p:spPr>
              <a:xfrm>
                <a:off x="5451840" y="2199960"/>
                <a:ext cx="201240" cy="15192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49680" y="2196360"/>
                <a:ext cx="206640" cy="1494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707070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65520" y="2196360"/>
                <a:ext cx="174960" cy="11196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c4c4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5400000">
                <a:off x="5541480" y="2149920"/>
                <a:ext cx="21600" cy="139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1497" y="250"/>
                      <a:pt x="1393" y="5080"/>
                      <a:pt x="1393" y="10800"/>
                    </a:cubicBezTo>
                    <a:cubicBezTo>
                      <a:pt x="1393" y="16520"/>
                      <a:pt x="11497" y="2135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41120" y="2198160"/>
                <a:ext cx="23400" cy="36000"/>
              </a:xfrm>
              <a:custGeom>
                <a:avLst/>
                <a:gdLst>
                  <a:gd name="textAreaLeft" fmla="*/ 2880 w 23400"/>
                  <a:gd name="textAreaRight" fmla="*/ 20520 w 23400"/>
                  <a:gd name="textAreaTop" fmla="*/ 2880 h 36000"/>
                  <a:gd name="textAreaBottom" fmla="*/ 33120 h 36000"/>
                </a:gdLst>
                <a:ahLst/>
                <a:rect l="textAreaLeft" t="textAreaTop" r="textAreaRight" b="textAreaBottom"/>
                <a:pathLst>
                  <a:path w="21600" h="33055">
                    <a:moveTo>
                      <a:pt x="9672" y="0"/>
                    </a:moveTo>
                    <a:arcTo wR="9672" hR="9672" stAng="16200000" swAng="-5400000"/>
                    <a:lnTo>
                      <a:pt x="0" y="23383"/>
                    </a:lnTo>
                    <a:arcTo wR="9672" hR="9672" stAng="10800000" swAng="-5400000"/>
                    <a:lnTo>
                      <a:pt x="11928" y="33055"/>
                    </a:lnTo>
                    <a:arcTo wR="9672" hR="9672" stAng="5400000" swAng="-5400000"/>
                    <a:lnTo>
                      <a:pt x="21600" y="9672"/>
                    </a:lnTo>
                    <a:arcTo wR="9672" hR="967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c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45080" y="2196360"/>
                <a:ext cx="15480" cy="31680"/>
              </a:xfrm>
              <a:custGeom>
                <a:avLst/>
                <a:gdLst>
                  <a:gd name="textAreaLeft" fmla="*/ 2160 w 15480"/>
                  <a:gd name="textAreaRight" fmla="*/ 13320 w 15480"/>
                  <a:gd name="textAreaTop" fmla="*/ 2160 h 31680"/>
                  <a:gd name="textAreaBottom" fmla="*/ 29520 h 31680"/>
                </a:gdLst>
                <a:ahLst/>
                <a:rect l="textAreaLeft" t="textAreaTop" r="textAreaRight" b="textAreaBottom"/>
                <a:pathLst>
                  <a:path w="21600" h="43691">
                    <a:moveTo>
                      <a:pt x="10800" y="0"/>
                    </a:moveTo>
                    <a:arcTo wR="10800" hR="10800" stAng="16200000" swAng="-5400000"/>
                    <a:lnTo>
                      <a:pt x="0" y="32891"/>
                    </a:lnTo>
                    <a:arcTo wR="10800" hR="10800" stAng="10800000" swAng="-5400000"/>
                    <a:lnTo>
                      <a:pt x="10800" y="4369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4212000" y="1112760"/>
              <a:ext cx="1030680" cy="1031400"/>
              <a:chOff x="4212000" y="1112760"/>
              <a:chExt cx="1030680" cy="1031400"/>
            </a:xfrm>
          </p:grpSpPr>
          <p:sp>
            <p:nvSpPr>
              <p:cNvPr id="706" name=""/>
              <p:cNvSpPr/>
              <p:nvPr/>
            </p:nvSpPr>
            <p:spPr>
              <a:xfrm flipV="1">
                <a:off x="4425120" y="2055960"/>
                <a:ext cx="603720" cy="59040"/>
              </a:xfrm>
              <a:custGeom>
                <a:avLst/>
                <a:gdLst>
                  <a:gd name="textAreaLeft" fmla="*/ 62640 w 603720"/>
                  <a:gd name="textAreaRight" fmla="*/ 541080 w 603720"/>
                  <a:gd name="textAreaTop" fmla="*/ 6120 h 59040"/>
                  <a:gd name="textAreaBottom" fmla="*/ 52920 h 5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425120" y="2114640"/>
                <a:ext cx="603720" cy="29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4602240" y="1951920"/>
                <a:ext cx="250200" cy="117720"/>
              </a:xfrm>
              <a:custGeom>
                <a:avLst/>
                <a:gdLst>
                  <a:gd name="textAreaLeft" fmla="*/ 25920 w 250200"/>
                  <a:gd name="textAreaRight" fmla="*/ 224280 w 250200"/>
                  <a:gd name="textAreaTop" fmla="*/ 12240 h 117720"/>
                  <a:gd name="textAreaBottom" fmla="*/ 10548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12000" y="1908360"/>
                <a:ext cx="1030680" cy="73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12000" y="1112760"/>
                <a:ext cx="1030680" cy="795600"/>
              </a:xfrm>
              <a:prstGeom prst="roundRect">
                <a:avLst>
                  <a:gd name="adj" fmla="val 294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0800000">
                <a:off x="4241160" y="1141920"/>
                <a:ext cx="971640" cy="751320"/>
              </a:xfrm>
              <a:prstGeom prst="bevel">
                <a:avLst>
                  <a:gd name="adj" fmla="val 5921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83838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48720" y="1149480"/>
                <a:ext cx="956880" cy="7369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e7f3f4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241520" y="1937880"/>
                <a:ext cx="58680" cy="1440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05200" y="1923120"/>
                <a:ext cx="43920" cy="4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0800000">
                <a:off x="4712400" y="1930680"/>
                <a:ext cx="29520" cy="2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74747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212000" y="1112760"/>
                <a:ext cx="1030680" cy="795600"/>
              </a:xfrm>
              <a:prstGeom prst="roundRect">
                <a:avLst>
                  <a:gd name="adj" fmla="val 2940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992160" y="2781360"/>
            <a:ext cx="496800" cy="1584360"/>
            <a:chOff x="992160" y="2781360"/>
            <a:chExt cx="496800" cy="1584360"/>
          </a:xfrm>
        </p:grpSpPr>
        <p:sp>
          <p:nvSpPr>
            <p:cNvPr id="718" name=""/>
            <p:cNvSpPr/>
            <p:nvPr/>
          </p:nvSpPr>
          <p:spPr>
            <a:xfrm>
              <a:off x="992160" y="2781360"/>
              <a:ext cx="496800" cy="1584360"/>
            </a:xfrm>
            <a:custGeom>
              <a:avLst/>
              <a:gdLst>
                <a:gd name="textAreaLeft" fmla="*/ 9360 w 496800"/>
                <a:gd name="textAreaRight" fmla="*/ 487440 w 496800"/>
                <a:gd name="textAreaTop" fmla="*/ 9360 h 1584360"/>
                <a:gd name="textAreaBottom" fmla="*/ 1575000 h 1584360"/>
              </a:gdLst>
              <a:ahLst/>
              <a:rect l="textAreaLeft" t="textAreaTop" r="textAreaRight" b="textAreaBottom"/>
              <a:pathLst>
                <a:path w="21600" h="68851">
                  <a:moveTo>
                    <a:pt x="1429" y="0"/>
                  </a:moveTo>
                  <a:arcTo wR="1429" hR="1429" stAng="16200000" swAng="-5400000"/>
                  <a:lnTo>
                    <a:pt x="0" y="67422"/>
                  </a:lnTo>
                  <a:arcTo wR="1429" hR="1429" stAng="10800000" swAng="-5400000"/>
                  <a:lnTo>
                    <a:pt x="20171" y="68851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059840" y="3550320"/>
              <a:ext cx="361440" cy="722880"/>
              <a:chOff x="1059840" y="3550320"/>
              <a:chExt cx="361440" cy="72288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1059840" y="3550320"/>
                <a:ext cx="361440" cy="45000"/>
                <a:chOff x="1059840" y="3550320"/>
                <a:chExt cx="361440" cy="4500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1059840" y="355032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104840" y="355032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150920" y="355032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197000" y="355032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243080" y="355032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289160" y="355032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335240" y="355032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381320" y="355032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59840" y="3618000"/>
                <a:ext cx="361440" cy="45000"/>
                <a:chOff x="1059840" y="3618000"/>
                <a:chExt cx="361440" cy="4500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059840" y="361800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104840" y="361800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150920" y="361800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197000" y="361800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243080" y="361800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289160" y="361800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335240" y="361800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381320" y="361800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1059840" y="3686040"/>
                <a:ext cx="361440" cy="45000"/>
                <a:chOff x="1059840" y="3686040"/>
                <a:chExt cx="361440" cy="450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1059840" y="36860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104840" y="36860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150920" y="36860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197000" y="368604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243080" y="368604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289160" y="36860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335240" y="36860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381320" y="368604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1059840" y="3753720"/>
                <a:ext cx="361440" cy="44640"/>
                <a:chOff x="1059840" y="3753720"/>
                <a:chExt cx="361440" cy="446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1059840" y="375372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104840" y="375372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150920" y="375372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97000" y="375372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43080" y="375372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289160" y="375372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335240" y="375372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381320" y="375372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59840" y="3821760"/>
                <a:ext cx="361440" cy="44640"/>
                <a:chOff x="1059840" y="3821760"/>
                <a:chExt cx="361440" cy="44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059840" y="38217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104840" y="38217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150920" y="38217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197000" y="382176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243080" y="382176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289160" y="38217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35240" y="38217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81320" y="382176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1059840" y="3889440"/>
                <a:ext cx="361440" cy="44640"/>
                <a:chOff x="1059840" y="3889440"/>
                <a:chExt cx="361440" cy="446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059840" y="388944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104840" y="388944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150920" y="388944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197000" y="388944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43080" y="388944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289160" y="388944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35240" y="388944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81320" y="388944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59840" y="3957480"/>
                <a:ext cx="361440" cy="44640"/>
                <a:chOff x="1059840" y="3957480"/>
                <a:chExt cx="361440" cy="446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059840" y="395748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104840" y="395748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150920" y="395748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197000" y="395748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243080" y="395748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289160" y="395748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5240" y="395748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81320" y="395748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059840" y="4025160"/>
                <a:ext cx="361440" cy="45000"/>
                <a:chOff x="1059840" y="4025160"/>
                <a:chExt cx="361440" cy="450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059840" y="402516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104840" y="402516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150920" y="402516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197000" y="402516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243080" y="402516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289160" y="402516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5240" y="402516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81320" y="402516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1059840" y="4092840"/>
                <a:ext cx="361440" cy="45000"/>
                <a:chOff x="1059840" y="4092840"/>
                <a:chExt cx="361440" cy="4500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1059840" y="40928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104840" y="40928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150920" y="40928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197000" y="409284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243080" y="409284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289160" y="40928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35240" y="409284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81320" y="409284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1059840" y="4160880"/>
                <a:ext cx="361440" cy="45000"/>
                <a:chOff x="1059840" y="4160880"/>
                <a:chExt cx="361440" cy="450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1059840" y="416088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104840" y="416088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150920" y="416088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197000" y="416088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1243080" y="416088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289160" y="416088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335240" y="4160880"/>
                  <a:ext cx="3960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381320" y="4160880"/>
                  <a:ext cx="39960" cy="45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1059840" y="4228560"/>
                <a:ext cx="361440" cy="44640"/>
                <a:chOff x="1059840" y="4228560"/>
                <a:chExt cx="361440" cy="4464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1059840" y="42285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104840" y="42285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150920" y="42285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197000" y="422856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243080" y="422856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289160" y="42285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335240" y="4228560"/>
                  <a:ext cx="396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381320" y="4228560"/>
                  <a:ext cx="3996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9" name=""/>
            <p:cNvGrpSpPr/>
            <p:nvPr/>
          </p:nvGrpSpPr>
          <p:grpSpPr>
            <a:xfrm>
              <a:off x="1172160" y="3732120"/>
              <a:ext cx="134280" cy="136440"/>
              <a:chOff x="1172160" y="3732120"/>
              <a:chExt cx="134280" cy="136440"/>
            </a:xfrm>
          </p:grpSpPr>
          <p:sp>
            <p:nvSpPr>
              <p:cNvPr id="820" name=""/>
              <p:cNvSpPr/>
              <p:nvPr/>
            </p:nvSpPr>
            <p:spPr>
              <a:xfrm>
                <a:off x="1172160" y="3732120"/>
                <a:ext cx="13428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898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82600" y="3742200"/>
                <a:ext cx="113400" cy="11628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7e7e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082520" y="3451680"/>
              <a:ext cx="134280" cy="53640"/>
              <a:chOff x="1082520" y="3451680"/>
              <a:chExt cx="134280" cy="53640"/>
            </a:xfrm>
          </p:grpSpPr>
          <p:sp>
            <p:nvSpPr>
              <p:cNvPr id="823" name=""/>
              <p:cNvSpPr/>
              <p:nvPr/>
            </p:nvSpPr>
            <p:spPr>
              <a:xfrm>
                <a:off x="1153800" y="3451680"/>
                <a:ext cx="26640" cy="5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90160" y="3451680"/>
                <a:ext cx="26640" cy="5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082520" y="3478680"/>
                <a:ext cx="26640" cy="26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118160" y="3478680"/>
                <a:ext cx="26640" cy="26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 rot="10800000">
              <a:off x="1081080" y="2871720"/>
              <a:ext cx="316440" cy="542520"/>
            </a:xfrm>
            <a:prstGeom prst="bevel">
              <a:avLst>
                <a:gd name="adj" fmla="val 346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2160" y="2781360"/>
              <a:ext cx="496800" cy="4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0800000">
              <a:off x="992160" y="4319280"/>
              <a:ext cx="496800" cy="4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992160" y="2781360"/>
              <a:ext cx="44640" cy="1584360"/>
            </a:xfrm>
            <a:custGeom>
              <a:avLst/>
              <a:gdLst>
                <a:gd name="textAreaLeft" fmla="*/ 720 w 44640"/>
                <a:gd name="textAreaRight" fmla="*/ 43920 w 44640"/>
                <a:gd name="textAreaTop" fmla="*/ 720 h 1584360"/>
                <a:gd name="textAreaBottom" fmla="*/ 1583640 h 1584360"/>
              </a:gdLst>
              <a:ahLst/>
              <a:rect l="textAreaLeft" t="textAreaTop" r="textAreaRight" b="textAreaBottom"/>
              <a:pathLst>
                <a:path w="21600" h="760666">
                  <a:moveTo>
                    <a:pt x="1429" y="0"/>
                  </a:moveTo>
                  <a:arcTo wR="1429" hR="1429" stAng="16200000" swAng="-5400000"/>
                  <a:lnTo>
                    <a:pt x="0" y="759237"/>
                  </a:lnTo>
                  <a:arcTo wR="1429" hR="1429" stAng="10800000" swAng="-5400000"/>
                  <a:lnTo>
                    <a:pt x="20171" y="760666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43240" y="2781360"/>
              <a:ext cx="44640" cy="1584360"/>
            </a:xfrm>
            <a:custGeom>
              <a:avLst/>
              <a:gdLst>
                <a:gd name="textAreaLeft" fmla="*/ 720 w 44640"/>
                <a:gd name="textAreaRight" fmla="*/ 43920 w 44640"/>
                <a:gd name="textAreaTop" fmla="*/ 720 h 1584360"/>
                <a:gd name="textAreaBottom" fmla="*/ 1583640 h 1584360"/>
              </a:gdLst>
              <a:ahLst/>
              <a:rect l="textAreaLeft" t="textAreaTop" r="textAreaRight" b="textAreaBottom"/>
              <a:pathLst>
                <a:path w="21600" h="760666">
                  <a:moveTo>
                    <a:pt x="1429" y="0"/>
                  </a:moveTo>
                  <a:arcTo wR="1429" hR="1429" stAng="16200000" swAng="-5400000"/>
                  <a:lnTo>
                    <a:pt x="0" y="759237"/>
                  </a:lnTo>
                  <a:arcTo wR="1429" hR="1429" stAng="10800000" swAng="-5400000"/>
                  <a:lnTo>
                    <a:pt x="20171" y="760666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62880" y="2872080"/>
              <a:ext cx="135000" cy="542520"/>
            </a:xfrm>
            <a:prstGeom prst="bevel">
              <a:avLst>
                <a:gd name="adj" fmla="val 346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0800000">
              <a:off x="1307520" y="3007440"/>
              <a:ext cx="44640" cy="271080"/>
            </a:xfrm>
            <a:prstGeom prst="bevel">
              <a:avLst>
                <a:gd name="adj" fmla="val 6616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07520" y="3324960"/>
              <a:ext cx="26640" cy="536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2160" y="3324960"/>
              <a:ext cx="26640" cy="536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72160" y="2916720"/>
              <a:ext cx="44640" cy="362160"/>
            </a:xfrm>
            <a:prstGeom prst="rect">
              <a:avLst/>
            </a:prstGeom>
            <a:gradFill rotWithShape="0">
              <a:gsLst>
                <a:gs pos="0">
                  <a:srgbClr val="4c4c4c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2792520" y="2781360"/>
            <a:ext cx="543960" cy="1584360"/>
            <a:chOff x="2792520" y="2781360"/>
            <a:chExt cx="543960" cy="1584360"/>
          </a:xfrm>
        </p:grpSpPr>
        <p:sp>
          <p:nvSpPr>
            <p:cNvPr id="838" name=""/>
            <p:cNvSpPr/>
            <p:nvPr/>
          </p:nvSpPr>
          <p:spPr>
            <a:xfrm>
              <a:off x="2793240" y="2781360"/>
              <a:ext cx="361800" cy="1584360"/>
            </a:xfrm>
            <a:custGeom>
              <a:avLst/>
              <a:gdLst>
                <a:gd name="textAreaLeft" fmla="*/ 6840 w 361800"/>
                <a:gd name="textAreaRight" fmla="*/ 354960 w 361800"/>
                <a:gd name="textAreaTop" fmla="*/ 6840 h 1584360"/>
                <a:gd name="textAreaBottom" fmla="*/ 1577520 h 1584360"/>
              </a:gdLst>
              <a:ahLst/>
              <a:rect l="textAreaLeft" t="textAreaTop" r="textAreaRight" b="textAreaBottom"/>
              <a:pathLst>
                <a:path w="21600" h="94516">
                  <a:moveTo>
                    <a:pt x="1429" y="0"/>
                  </a:moveTo>
                  <a:arcTo wR="1429" hR="1429" stAng="16200000" swAng="-5400000"/>
                  <a:lnTo>
                    <a:pt x="0" y="93087"/>
                  </a:lnTo>
                  <a:arcTo wR="1429" hR="1429" stAng="10800000" swAng="-5400000"/>
                  <a:lnTo>
                    <a:pt x="20171" y="94516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0040" y="2781360"/>
              <a:ext cx="226440" cy="1584360"/>
            </a:xfrm>
            <a:custGeom>
              <a:avLst/>
              <a:gdLst>
                <a:gd name="textAreaLeft" fmla="*/ 4320 w 226440"/>
                <a:gd name="textAreaRight" fmla="*/ 222120 w 226440"/>
                <a:gd name="textAreaTop" fmla="*/ 4320 h 1584360"/>
                <a:gd name="textAreaBottom" fmla="*/ 1580040 h 1584360"/>
              </a:gdLst>
              <a:ahLst/>
              <a:rect l="textAreaLeft" t="textAreaTop" r="textAreaRight" b="textAreaBottom"/>
              <a:pathLst>
                <a:path w="21600" h="150926">
                  <a:moveTo>
                    <a:pt x="1429" y="0"/>
                  </a:moveTo>
                  <a:arcTo wR="1429" hR="1429" stAng="16200000" swAng="-5400000"/>
                  <a:lnTo>
                    <a:pt x="0" y="149497"/>
                  </a:lnTo>
                  <a:arcTo wR="1429" hR="1429" stAng="10800000" swAng="-5400000"/>
                  <a:lnTo>
                    <a:pt x="20171" y="150926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2838240" y="3188160"/>
              <a:ext cx="226440" cy="451800"/>
              <a:chOff x="2838240" y="3188160"/>
              <a:chExt cx="226440" cy="451800"/>
            </a:xfrm>
          </p:grpSpPr>
          <p:sp>
            <p:nvSpPr>
              <p:cNvPr id="841" name=""/>
              <p:cNvSpPr/>
              <p:nvPr/>
            </p:nvSpPr>
            <p:spPr>
              <a:xfrm>
                <a:off x="2838240" y="318816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838240" y="322704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838240" y="326592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38240" y="330516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38240" y="334440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38240" y="338364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838240" y="342252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838240" y="346212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838240" y="350100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838240" y="354024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838240" y="357912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838240" y="3618720"/>
                <a:ext cx="226440" cy="2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3223080" y="2950200"/>
              <a:ext cx="88560" cy="89640"/>
              <a:chOff x="3223080" y="2950200"/>
              <a:chExt cx="88560" cy="89640"/>
            </a:xfrm>
          </p:grpSpPr>
          <p:sp>
            <p:nvSpPr>
              <p:cNvPr id="854" name=""/>
              <p:cNvSpPr/>
              <p:nvPr/>
            </p:nvSpPr>
            <p:spPr>
              <a:xfrm rot="10800000">
                <a:off x="3223080" y="2950200"/>
                <a:ext cx="88560" cy="89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898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0800000">
                <a:off x="3229920" y="2957040"/>
                <a:ext cx="74880" cy="763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7e7e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 rot="10800000">
              <a:off x="2837880" y="3686040"/>
              <a:ext cx="226440" cy="633600"/>
            </a:xfrm>
            <a:prstGeom prst="bevel">
              <a:avLst>
                <a:gd name="adj" fmla="val 125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44360" y="3696120"/>
              <a:ext cx="212760" cy="614520"/>
            </a:xfrm>
            <a:prstGeom prst="bevel">
              <a:avLst>
                <a:gd name="adj" fmla="val 3755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aaaaa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2520" y="3007800"/>
              <a:ext cx="317520" cy="135360"/>
            </a:xfrm>
            <a:prstGeom prst="bevel">
              <a:avLst>
                <a:gd name="adj" fmla="val 735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aaaaa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16200000">
              <a:off x="2995560" y="3391200"/>
              <a:ext cx="542520" cy="45720"/>
            </a:xfrm>
            <a:prstGeom prst="bevel">
              <a:avLst>
                <a:gd name="adj" fmla="val 7352"/>
              </a:avLst>
            </a:prstGeom>
            <a:gradFill rotWithShape="0">
              <a:gsLst>
                <a:gs pos="0">
                  <a:srgbClr val="a1a1a1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38240" y="3732120"/>
              <a:ext cx="89640" cy="542520"/>
            </a:xfrm>
            <a:prstGeom prst="rect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28240" y="3776760"/>
              <a:ext cx="90720" cy="452880"/>
            </a:xfrm>
            <a:prstGeom prst="rect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38240" y="2826720"/>
              <a:ext cx="135720" cy="4500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01120" y="4275000"/>
              <a:ext cx="89640" cy="4464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01120" y="3822840"/>
              <a:ext cx="89640" cy="89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0265600">
              <a:off x="3213000" y="3831480"/>
              <a:ext cx="64080" cy="43560"/>
            </a:xfrm>
            <a:prstGeom prst="donut">
              <a:avLst>
                <a:gd name="adj" fmla="val 120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38240" y="2891880"/>
              <a:ext cx="452160" cy="11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110040" y="2781360"/>
              <a:ext cx="0" cy="15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465960" y="2781360"/>
            <a:ext cx="768240" cy="1584360"/>
            <a:chOff x="6465960" y="2781360"/>
            <a:chExt cx="768240" cy="1584360"/>
          </a:xfrm>
        </p:grpSpPr>
        <p:sp>
          <p:nvSpPr>
            <p:cNvPr id="869" name=""/>
            <p:cNvSpPr/>
            <p:nvPr/>
          </p:nvSpPr>
          <p:spPr>
            <a:xfrm>
              <a:off x="6465960" y="2781360"/>
              <a:ext cx="768240" cy="1584360"/>
            </a:xfrm>
            <a:custGeom>
              <a:avLst/>
              <a:gdLst>
                <a:gd name="textAreaLeft" fmla="*/ 14760 w 768240"/>
                <a:gd name="textAreaRight" fmla="*/ 753480 w 768240"/>
                <a:gd name="textAreaTop" fmla="*/ 14760 h 1584360"/>
                <a:gd name="textAreaBottom" fmla="*/ 1569600 h 1584360"/>
              </a:gdLst>
              <a:ahLst/>
              <a:rect l="textAreaLeft" t="textAreaTop" r="textAreaRight" b="textAreaBottom"/>
              <a:pathLst>
                <a:path w="21600" h="44535">
                  <a:moveTo>
                    <a:pt x="1429" y="0"/>
                  </a:moveTo>
                  <a:arcTo wR="1429" hR="1429" stAng="16200000" swAng="-5400000"/>
                  <a:lnTo>
                    <a:pt x="0" y="43106"/>
                  </a:lnTo>
                  <a:arcTo wR="1429" hR="1429" stAng="10800000" swAng="-5400000"/>
                  <a:lnTo>
                    <a:pt x="20171" y="44535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43434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10600" y="2781360"/>
              <a:ext cx="678600" cy="1538280"/>
            </a:xfrm>
            <a:custGeom>
              <a:avLst/>
              <a:gdLst>
                <a:gd name="textAreaLeft" fmla="*/ 12960 w 678600"/>
                <a:gd name="textAreaRight" fmla="*/ 665640 w 678600"/>
                <a:gd name="textAreaTop" fmla="*/ 12960 h 1538280"/>
                <a:gd name="textAreaBottom" fmla="*/ 1525320 h 1538280"/>
              </a:gdLst>
              <a:ahLst/>
              <a:rect l="textAreaLeft" t="textAreaTop" r="textAreaRight" b="textAreaBottom"/>
              <a:pathLst>
                <a:path w="21600" h="48949">
                  <a:moveTo>
                    <a:pt x="1429" y="0"/>
                  </a:moveTo>
                  <a:arcTo wR="1429" hR="1429" stAng="16200000" swAng="-5400000"/>
                  <a:lnTo>
                    <a:pt x="0" y="47520"/>
                  </a:lnTo>
                  <a:arcTo wR="1429" hR="1429" stAng="10800000" swAng="-5400000"/>
                  <a:lnTo>
                    <a:pt x="20171" y="48949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gradFill rotWithShape="0">
              <a:gsLst>
                <a:gs pos="0">
                  <a:srgbClr val="34343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10600" y="2781360"/>
              <a:ext cx="678600" cy="1448640"/>
            </a:xfrm>
            <a:custGeom>
              <a:avLst/>
              <a:gdLst>
                <a:gd name="textAreaLeft" fmla="*/ 12960 w 678600"/>
                <a:gd name="textAreaRight" fmla="*/ 665640 w 678600"/>
                <a:gd name="textAreaTop" fmla="*/ 12960 h 1448640"/>
                <a:gd name="textAreaBottom" fmla="*/ 1435680 h 1448640"/>
              </a:gdLst>
              <a:ahLst/>
              <a:rect l="textAreaLeft" t="textAreaTop" r="textAreaRight" b="textAreaBottom"/>
              <a:pathLst>
                <a:path w="21600" h="46098">
                  <a:moveTo>
                    <a:pt x="1429" y="0"/>
                  </a:moveTo>
                  <a:arcTo wR="1429" hR="1429" stAng="16200000" swAng="-5400000"/>
                  <a:lnTo>
                    <a:pt x="0" y="44669"/>
                  </a:lnTo>
                  <a:arcTo wR="1429" hR="1429" stAng="10800000" swAng="-5400000"/>
                  <a:lnTo>
                    <a:pt x="20171" y="46098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10600" y="2917800"/>
              <a:ext cx="678600" cy="180360"/>
            </a:xfrm>
            <a:prstGeom prst="roundRect">
              <a:avLst>
                <a:gd name="adj" fmla="val 661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444444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10600" y="3098520"/>
              <a:ext cx="678600" cy="180360"/>
            </a:xfrm>
            <a:prstGeom prst="roundRect">
              <a:avLst>
                <a:gd name="adj" fmla="val 661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444444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804720" y="3732120"/>
              <a:ext cx="89640" cy="90720"/>
            </a:xfrm>
            <a:custGeom>
              <a:avLst/>
              <a:gdLst>
                <a:gd name="textAreaLeft" fmla="*/ 1440 w 89640"/>
                <a:gd name="textAreaRight" fmla="*/ 88200 w 89640"/>
                <a:gd name="textAreaTop" fmla="*/ 1440 h 90720"/>
                <a:gd name="textAreaBottom" fmla="*/ 89280 h 90720"/>
              </a:gdLst>
              <a:ahLst/>
              <a:rect l="textAreaLeft" t="textAreaTop" r="textAreaRight" b="textAreaBottom"/>
              <a:pathLst>
                <a:path w="21600" h="21859">
                  <a:moveTo>
                    <a:pt x="1429" y="0"/>
                  </a:moveTo>
                  <a:arcTo wR="1429" hR="1429" stAng="16200000" swAng="-5400000"/>
                  <a:lnTo>
                    <a:pt x="0" y="20430"/>
                  </a:lnTo>
                  <a:arcTo wR="1429" hR="1429" stAng="10800000" swAng="-5400000"/>
                  <a:lnTo>
                    <a:pt x="20171" y="21859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eeeeee"/>
                </a:gs>
                <a:gs pos="100000">
                  <a:srgbClr val="eaeaea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6510600" y="3414960"/>
              <a:ext cx="678240" cy="17640"/>
              <a:chOff x="6510600" y="3414960"/>
              <a:chExt cx="678240" cy="17640"/>
            </a:xfrm>
          </p:grpSpPr>
          <p:sp>
            <p:nvSpPr>
              <p:cNvPr id="876" name=""/>
              <p:cNvSpPr/>
              <p:nvPr/>
            </p:nvSpPr>
            <p:spPr>
              <a:xfrm>
                <a:off x="6510600" y="3414960"/>
                <a:ext cx="31680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827400" y="3414960"/>
                <a:ext cx="36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777720" y="3335040"/>
              <a:ext cx="1054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4592520" y="2781360"/>
            <a:ext cx="768600" cy="1584360"/>
            <a:chOff x="4592520" y="2781360"/>
            <a:chExt cx="768600" cy="1584360"/>
          </a:xfrm>
        </p:grpSpPr>
        <p:sp>
          <p:nvSpPr>
            <p:cNvPr id="880" name=""/>
            <p:cNvSpPr/>
            <p:nvPr/>
          </p:nvSpPr>
          <p:spPr>
            <a:xfrm>
              <a:off x="4592520" y="2781360"/>
              <a:ext cx="768600" cy="1584360"/>
            </a:xfrm>
            <a:custGeom>
              <a:avLst/>
              <a:gdLst>
                <a:gd name="textAreaLeft" fmla="*/ 14760 w 768600"/>
                <a:gd name="textAreaRight" fmla="*/ 753840 w 768600"/>
                <a:gd name="textAreaTop" fmla="*/ 14760 h 1584360"/>
                <a:gd name="textAreaBottom" fmla="*/ 1569600 h 1584360"/>
              </a:gdLst>
              <a:ahLst/>
              <a:rect l="textAreaLeft" t="textAreaTop" r="textAreaRight" b="textAreaBottom"/>
              <a:pathLst>
                <a:path w="21600" h="44515">
                  <a:moveTo>
                    <a:pt x="1429" y="0"/>
                  </a:moveTo>
                  <a:arcTo wR="1429" hR="1429" stAng="16200000" swAng="-5400000"/>
                  <a:lnTo>
                    <a:pt x="0" y="43086"/>
                  </a:lnTo>
                  <a:arcTo wR="1429" hR="1429" stAng="10800000" swAng="-5400000"/>
                  <a:lnTo>
                    <a:pt x="20171" y="44515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43434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37160" y="2916720"/>
              <a:ext cx="677880" cy="1312920"/>
            </a:xfrm>
            <a:custGeom>
              <a:avLst/>
              <a:gdLst>
                <a:gd name="textAreaLeft" fmla="*/ 12960 w 677880"/>
                <a:gd name="textAreaRight" fmla="*/ 664920 w 677880"/>
                <a:gd name="textAreaTop" fmla="*/ 12960 h 1312920"/>
                <a:gd name="textAreaBottom" fmla="*/ 1299960 h 1312920"/>
              </a:gdLst>
              <a:ahLst/>
              <a:rect l="textAreaLeft" t="textAreaTop" r="textAreaRight" b="textAreaBottom"/>
              <a:pathLst>
                <a:path w="21600" h="41824">
                  <a:moveTo>
                    <a:pt x="1429" y="0"/>
                  </a:moveTo>
                  <a:arcTo wR="1429" hR="1429" stAng="16200000" swAng="-5400000"/>
                  <a:lnTo>
                    <a:pt x="0" y="40395"/>
                  </a:lnTo>
                  <a:arcTo wR="1429" hR="1429" stAng="10800000" swAng="-5400000"/>
                  <a:lnTo>
                    <a:pt x="20171" y="41824"/>
                  </a:lnTo>
                  <a:arcTo wR="1429" hR="1429" stAng="5400000" swAng="-5400000"/>
                  <a:lnTo>
                    <a:pt x="21600" y="1429"/>
                  </a:lnTo>
                  <a:arcTo wR="1429" hR="1429" stAng="0" swAng="-5400000"/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50000">
                  <a:srgbClr val="4a4a4a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37160" y="4275000"/>
              <a:ext cx="677880" cy="4464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82160" y="2962800"/>
              <a:ext cx="588240" cy="451800"/>
            </a:xfrm>
            <a:prstGeom prst="roundRect">
              <a:avLst>
                <a:gd name="adj" fmla="val 637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682160" y="2962800"/>
              <a:ext cx="588240" cy="180360"/>
            </a:xfrm>
            <a:prstGeom prst="roundRect">
              <a:avLst>
                <a:gd name="adj" fmla="val 661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444444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82160" y="3143160"/>
              <a:ext cx="588240" cy="180360"/>
            </a:xfrm>
            <a:prstGeom prst="roundRect">
              <a:avLst>
                <a:gd name="adj" fmla="val 661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444444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82160" y="3369600"/>
              <a:ext cx="588240" cy="907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54320" y="3460680"/>
              <a:ext cx="44640" cy="76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54320" y="2962800"/>
              <a:ext cx="316080" cy="180360"/>
            </a:xfrm>
            <a:prstGeom prst="roundRect">
              <a:avLst>
                <a:gd name="adj" fmla="val 6616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54320" y="3143160"/>
              <a:ext cx="316080" cy="180360"/>
            </a:xfrm>
            <a:prstGeom prst="roundRect">
              <a:avLst>
                <a:gd name="adj" fmla="val 6616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54320" y="3776760"/>
              <a:ext cx="44640" cy="45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54320" y="3867840"/>
              <a:ext cx="44640" cy="45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954320" y="3957840"/>
              <a:ext cx="44640" cy="45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043960" y="3732120"/>
              <a:ext cx="154080" cy="180360"/>
              <a:chOff x="5043960" y="3732120"/>
              <a:chExt cx="154080" cy="180360"/>
            </a:xfrm>
          </p:grpSpPr>
          <p:sp>
            <p:nvSpPr>
              <p:cNvPr id="894" name=""/>
              <p:cNvSpPr/>
              <p:nvPr/>
            </p:nvSpPr>
            <p:spPr>
              <a:xfrm>
                <a:off x="5043960" y="3732120"/>
                <a:ext cx="514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43960" y="3809520"/>
                <a:ext cx="514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043960" y="3886920"/>
                <a:ext cx="514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121000" y="3886920"/>
                <a:ext cx="77040" cy="25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121000" y="3809520"/>
                <a:ext cx="77040" cy="25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121000" y="3732120"/>
                <a:ext cx="77040" cy="25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4682160" y="3505680"/>
              <a:ext cx="226080" cy="44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225400" y="2826720"/>
              <a:ext cx="63720" cy="64800"/>
              <a:chOff x="5225400" y="2826720"/>
              <a:chExt cx="63720" cy="64800"/>
            </a:xfrm>
          </p:grpSpPr>
          <p:sp>
            <p:nvSpPr>
              <p:cNvPr id="902" name=""/>
              <p:cNvSpPr/>
              <p:nvPr/>
            </p:nvSpPr>
            <p:spPr>
              <a:xfrm>
                <a:off x="5225400" y="2826720"/>
                <a:ext cx="63720" cy="64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898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233320" y="2834640"/>
                <a:ext cx="47520" cy="4860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245200" y="2846880"/>
                <a:ext cx="23760" cy="24120"/>
              </a:xfrm>
              <a:prstGeom prst="ellipse">
                <a:avLst/>
              </a:prstGeom>
              <a:gradFill rotWithShape="0">
                <a:gsLst>
                  <a:gs pos="0">
                    <a:srgbClr val="d5e998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4637160" y="2781360"/>
              <a:ext cx="0" cy="15843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15040" y="2781360"/>
              <a:ext cx="0" cy="1584360"/>
            </a:xfrm>
            <a:prstGeom prst="line">
              <a:avLst/>
            </a:prstGeom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905600" y="1052640"/>
            <a:ext cx="1584000" cy="1260000"/>
            <a:chOff x="7905600" y="1052640"/>
            <a:chExt cx="1584000" cy="1260000"/>
          </a:xfrm>
        </p:grpSpPr>
        <p:grpSp>
          <p:nvGrpSpPr>
            <p:cNvPr id="908" name=""/>
            <p:cNvGrpSpPr/>
            <p:nvPr/>
          </p:nvGrpSpPr>
          <p:grpSpPr>
            <a:xfrm>
              <a:off x="9219960" y="2125080"/>
              <a:ext cx="180720" cy="135720"/>
              <a:chOff x="9219960" y="2125080"/>
              <a:chExt cx="180720" cy="135720"/>
            </a:xfrm>
          </p:grpSpPr>
          <p:sp>
            <p:nvSpPr>
              <p:cNvPr id="909" name=""/>
              <p:cNvSpPr/>
              <p:nvPr/>
            </p:nvSpPr>
            <p:spPr>
              <a:xfrm>
                <a:off x="9221760" y="212832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9219960" y="2125080"/>
                <a:ext cx="180720" cy="13032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707070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9233640" y="2125080"/>
                <a:ext cx="153000" cy="9756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c4c4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5400000">
                <a:off x="9300600" y="2084400"/>
                <a:ext cx="19080" cy="121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1497" y="250"/>
                      <a:pt x="1393" y="5080"/>
                      <a:pt x="1393" y="10800"/>
                    </a:cubicBezTo>
                    <a:cubicBezTo>
                      <a:pt x="1393" y="16520"/>
                      <a:pt x="11497" y="2135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9299880" y="2126880"/>
                <a:ext cx="20520" cy="31320"/>
              </a:xfrm>
              <a:custGeom>
                <a:avLst/>
                <a:gdLst>
                  <a:gd name="textAreaLeft" fmla="*/ 2520 w 20520"/>
                  <a:gd name="textAreaRight" fmla="*/ 18000 w 20520"/>
                  <a:gd name="textAreaTop" fmla="*/ 2520 h 31320"/>
                  <a:gd name="textAreaBottom" fmla="*/ 28800 h 31320"/>
                </a:gdLst>
                <a:ahLst/>
                <a:rect l="textAreaLeft" t="textAreaTop" r="textAreaRight" b="textAreaBottom"/>
                <a:pathLst>
                  <a:path w="21600" h="32772">
                    <a:moveTo>
                      <a:pt x="9672" y="0"/>
                    </a:moveTo>
                    <a:arcTo wR="9672" hR="9672" stAng="16200000" swAng="-5400000"/>
                    <a:lnTo>
                      <a:pt x="0" y="23100"/>
                    </a:lnTo>
                    <a:arcTo wR="9672" hR="9672" stAng="10800000" swAng="-5400000"/>
                    <a:lnTo>
                      <a:pt x="11928" y="32772"/>
                    </a:lnTo>
                    <a:arcTo wR="9672" hR="9672" stAng="5400000" swAng="-5400000"/>
                    <a:lnTo>
                      <a:pt x="21600" y="9672"/>
                    </a:lnTo>
                    <a:arcTo wR="9672" hR="967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c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9303480" y="2125080"/>
                <a:ext cx="13680" cy="27360"/>
              </a:xfrm>
              <a:custGeom>
                <a:avLst/>
                <a:gdLst>
                  <a:gd name="textAreaLeft" fmla="*/ 1800 w 13680"/>
                  <a:gd name="textAreaRight" fmla="*/ 11880 w 13680"/>
                  <a:gd name="textAreaTop" fmla="*/ 1800 h 27360"/>
                  <a:gd name="textAreaBottom" fmla="*/ 25560 h 27360"/>
                </a:gdLst>
                <a:ahLst/>
                <a:rect l="textAreaLeft" t="textAreaTop" r="textAreaRight" b="textAreaBottom"/>
                <a:pathLst>
                  <a:path w="21600" h="42646">
                    <a:moveTo>
                      <a:pt x="10800" y="0"/>
                    </a:moveTo>
                    <a:arcTo wR="10800" hR="10800" stAng="16200000" swAng="-5400000"/>
                    <a:lnTo>
                      <a:pt x="0" y="31846"/>
                    </a:lnTo>
                    <a:arcTo wR="10800" hR="10800" stAng="10800000" swAng="-5400000"/>
                    <a:lnTo>
                      <a:pt x="10800" y="4264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7905600" y="2125080"/>
              <a:ext cx="1254600" cy="187560"/>
              <a:chOff x="7905600" y="2125080"/>
              <a:chExt cx="1254600" cy="187560"/>
            </a:xfrm>
          </p:grpSpPr>
          <p:sp>
            <p:nvSpPr>
              <p:cNvPr id="916" name=""/>
              <p:cNvSpPr/>
              <p:nvPr/>
            </p:nvSpPr>
            <p:spPr>
              <a:xfrm>
                <a:off x="7905600" y="2232360"/>
                <a:ext cx="1234080" cy="80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905600" y="2245320"/>
                <a:ext cx="125460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7905600" y="2125080"/>
                <a:ext cx="1254600" cy="140400"/>
              </a:xfrm>
              <a:custGeom>
                <a:avLst/>
                <a:gdLst>
                  <a:gd name="textAreaLeft" fmla="*/ 125640 w 1254600"/>
                  <a:gd name="textAreaRight" fmla="*/ 1128960 w 1254600"/>
                  <a:gd name="textAreaTop" fmla="*/ 14040 h 140400"/>
                  <a:gd name="textAreaBottom" fmla="*/ 126360 h 14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55" y="21600"/>
                    </a:lnTo>
                    <a:lnTo>
                      <a:pt x="745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946280" y="2125080"/>
                <a:ext cx="1173240" cy="99720"/>
                <a:chOff x="7946280" y="2125080"/>
                <a:chExt cx="1173240" cy="99720"/>
              </a:xfrm>
            </p:grpSpPr>
            <p:sp>
              <p:nvSpPr>
                <p:cNvPr id="920" name=""/>
                <p:cNvSpPr/>
                <p:nvPr/>
              </p:nvSpPr>
              <p:spPr>
                <a:xfrm flipV="1">
                  <a:off x="794664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V="1">
                  <a:off x="800136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>
                  <a:off x="805644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811116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V="1">
                  <a:off x="818460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823932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V="1">
                  <a:off x="829440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V="1">
                  <a:off x="834948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V="1">
                  <a:off x="842328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V="1">
                  <a:off x="847836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V="1">
                  <a:off x="853308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V="1">
                  <a:off x="858816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866124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871632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V="1">
                  <a:off x="877104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882612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889992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895464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V="1">
                  <a:off x="900972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V="1">
                  <a:off x="9064800" y="212508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V="1">
                  <a:off x="889992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V="1">
                  <a:off x="895464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V="1">
                  <a:off x="900972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906480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889884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V="1">
                  <a:off x="895392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900864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906372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V="1">
                  <a:off x="889920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V="1">
                  <a:off x="895428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V="1">
                  <a:off x="900936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V="1">
                  <a:off x="906408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871632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V="1">
                  <a:off x="877104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V="1">
                  <a:off x="882612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V="1">
                  <a:off x="871560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V="1">
                  <a:off x="877032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V="1">
                  <a:off x="882540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871596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V="1">
                  <a:off x="877068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V="1">
                  <a:off x="882576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794700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V="1">
                  <a:off x="800172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V="1">
                  <a:off x="805680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V="1">
                  <a:off x="811188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V="1">
                  <a:off x="794628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800100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805608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V="1">
                  <a:off x="811080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794664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V="1">
                  <a:off x="800136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805644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V="1">
                  <a:off x="811116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V="1">
                  <a:off x="816624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V="1">
                  <a:off x="822132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827604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833112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V="1">
                  <a:off x="816552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822060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V="1">
                  <a:off x="827532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V="1">
                  <a:off x="833040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816588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V="1">
                  <a:off x="8225640" y="2188080"/>
                  <a:ext cx="159840" cy="36360"/>
                </a:xfrm>
                <a:custGeom>
                  <a:avLst/>
                  <a:gdLst>
                    <a:gd name="textAreaLeft" fmla="*/ 13680 w 159840"/>
                    <a:gd name="textAreaRight" fmla="*/ 146160 w 159840"/>
                    <a:gd name="textAreaTop" fmla="*/ 2880 h 36360"/>
                    <a:gd name="textAreaBottom" fmla="*/ 3348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V="1">
                  <a:off x="838692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844200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849672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V="1">
                  <a:off x="855180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V="1">
                  <a:off x="838620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844128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V="1">
                  <a:off x="849600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V="1">
                  <a:off x="855108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838656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V="1">
                  <a:off x="844164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849636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855144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V="1">
                  <a:off x="8607240" y="2161800"/>
                  <a:ext cx="54720" cy="180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8606520" y="2168280"/>
                  <a:ext cx="54720" cy="2520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8606880" y="2188080"/>
                  <a:ext cx="54720" cy="36360"/>
                </a:xfrm>
                <a:custGeom>
                  <a:avLst/>
                  <a:gdLst>
                    <a:gd name="textAreaLeft" fmla="*/ 7560 w 54720"/>
                    <a:gd name="textAreaRight" fmla="*/ 47160 w 54720"/>
                    <a:gd name="textAreaTop" fmla="*/ 5040 h 36360"/>
                    <a:gd name="textAreaBottom" fmla="*/ 31320 h 3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8" name=""/>
              <p:cNvSpPr/>
              <p:nvPr/>
            </p:nvSpPr>
            <p:spPr>
              <a:xfrm rot="16200000">
                <a:off x="8522640" y="1668240"/>
                <a:ext cx="26280" cy="1206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680" y="1033"/>
                      <a:pt x="5760" y="5080"/>
                      <a:pt x="5760" y="10800"/>
                    </a:cubicBezTo>
                    <a:cubicBezTo>
                      <a:pt x="5760" y="16520"/>
                      <a:pt x="13680" y="2056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9165960" y="1240560"/>
              <a:ext cx="323640" cy="857160"/>
              <a:chOff x="9165960" y="1240560"/>
              <a:chExt cx="323640" cy="857160"/>
            </a:xfrm>
          </p:grpSpPr>
          <p:sp>
            <p:nvSpPr>
              <p:cNvPr id="1000" name=""/>
              <p:cNvSpPr/>
              <p:nvPr/>
            </p:nvSpPr>
            <p:spPr>
              <a:xfrm>
                <a:off x="9165960" y="1240560"/>
                <a:ext cx="323640" cy="857160"/>
              </a:xfrm>
              <a:custGeom>
                <a:avLst/>
                <a:gdLst>
                  <a:gd name="textAreaLeft" fmla="*/ 2520 w 323640"/>
                  <a:gd name="textAreaRight" fmla="*/ 321120 w 323640"/>
                  <a:gd name="textAreaTop" fmla="*/ 2520 h 857160"/>
                  <a:gd name="textAreaBottom" fmla="*/ 854640 h 857160"/>
                </a:gdLst>
                <a:ahLst/>
                <a:rect l="textAreaLeft" t="textAreaTop" r="textAreaRight" b="textAreaBottom"/>
                <a:pathLst>
                  <a:path w="21600" h="57168">
                    <a:moveTo>
                      <a:pt x="588" y="0"/>
                    </a:moveTo>
                    <a:arcTo wR="588" hR="588" stAng="16200000" swAng="-5400000"/>
                    <a:lnTo>
                      <a:pt x="0" y="56580"/>
                    </a:lnTo>
                    <a:arcTo wR="588" hR="588" stAng="10800000" swAng="-5400000"/>
                    <a:lnTo>
                      <a:pt x="21012" y="57168"/>
                    </a:lnTo>
                    <a:arcTo wR="588" hR="588" stAng="5400000" swAng="-5400000"/>
                    <a:lnTo>
                      <a:pt x="21600" y="588"/>
                    </a:lnTo>
                    <a:arcTo wR="588" hR="58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9184680" y="1278720"/>
                <a:ext cx="285840" cy="590400"/>
              </a:xfrm>
              <a:custGeom>
                <a:avLst/>
                <a:gdLst>
                  <a:gd name="textAreaLeft" fmla="*/ 5040 w 285840"/>
                  <a:gd name="textAreaRight" fmla="*/ 280800 w 285840"/>
                  <a:gd name="textAreaTop" fmla="*/ 5040 h 590400"/>
                  <a:gd name="textAreaBottom" fmla="*/ 585360 h 590400"/>
                </a:gdLst>
                <a:ahLst/>
                <a:rect l="textAreaLeft" t="textAreaTop" r="textAreaRight" b="textAreaBottom"/>
                <a:pathLst>
                  <a:path w="21600" h="44586">
                    <a:moveTo>
                      <a:pt x="1300" y="0"/>
                    </a:moveTo>
                    <a:arcTo wR="1300" hR="1300" stAng="16200000" swAng="-5400000"/>
                    <a:lnTo>
                      <a:pt x="0" y="43286"/>
                    </a:lnTo>
                    <a:arcTo wR="1300" hR="1300" stAng="10800000" swAng="-5400000"/>
                    <a:lnTo>
                      <a:pt x="20300" y="44586"/>
                    </a:lnTo>
                    <a:arcTo wR="1300" hR="1300" stAng="5400000" swAng="-5400000"/>
                    <a:lnTo>
                      <a:pt x="21600" y="1300"/>
                    </a:lnTo>
                    <a:arcTo wR="1300" hR="13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204120" y="1240560"/>
                <a:ext cx="247320" cy="838440"/>
              </a:xfrm>
              <a:custGeom>
                <a:avLst/>
                <a:gdLst>
                  <a:gd name="textAreaLeft" fmla="*/ 3960 w 247320"/>
                  <a:gd name="textAreaRight" fmla="*/ 243360 w 247320"/>
                  <a:gd name="textAreaTop" fmla="*/ 3960 h 838440"/>
                  <a:gd name="textAreaBottom" fmla="*/ 834480 h 838440"/>
                </a:gdLst>
                <a:ahLst/>
                <a:rect l="textAreaLeft" t="textAreaTop" r="textAreaRight" b="textAreaBottom"/>
                <a:pathLst>
                  <a:path w="21600" h="73151">
                    <a:moveTo>
                      <a:pt x="1247" y="0"/>
                    </a:moveTo>
                    <a:arcTo wR="1247" hR="1247" stAng="16200000" swAng="-5400000"/>
                    <a:lnTo>
                      <a:pt x="0" y="71904"/>
                    </a:lnTo>
                    <a:arcTo wR="1247" hR="1247" stAng="10800000" swAng="-5400000"/>
                    <a:lnTo>
                      <a:pt x="20353" y="73151"/>
                    </a:lnTo>
                    <a:arcTo wR="1247" hR="1247" stAng="5400000" swAng="-5400000"/>
                    <a:lnTo>
                      <a:pt x="21600" y="1247"/>
                    </a:lnTo>
                    <a:arcTo wR="1247" hR="1247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9222840" y="1259280"/>
                <a:ext cx="20952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81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9213120" y="1297440"/>
                <a:ext cx="228240" cy="704880"/>
              </a:xfrm>
              <a:custGeom>
                <a:avLst/>
                <a:gdLst>
                  <a:gd name="textAreaLeft" fmla="*/ 1440 w 228240"/>
                  <a:gd name="textAreaRight" fmla="*/ 226800 w 228240"/>
                  <a:gd name="textAreaTop" fmla="*/ 1440 h 704880"/>
                  <a:gd name="textAreaBottom" fmla="*/ 703440 h 704880"/>
                </a:gdLst>
                <a:ahLst/>
                <a:rect l="textAreaLeft" t="textAreaTop" r="textAreaRight" b="textAreaBottom"/>
                <a:pathLst>
                  <a:path w="21600" h="66637">
                    <a:moveTo>
                      <a:pt x="556" y="0"/>
                    </a:moveTo>
                    <a:arcTo wR="556" hR="556" stAng="16200000" swAng="-5400000"/>
                    <a:lnTo>
                      <a:pt x="0" y="66081"/>
                    </a:lnTo>
                    <a:arcTo wR="556" hR="556" stAng="10800000" swAng="-5400000"/>
                    <a:lnTo>
                      <a:pt x="21044" y="66637"/>
                    </a:lnTo>
                    <a:arcTo wR="556" hR="556" stAng="5400000" swAng="-5400000"/>
                    <a:lnTo>
                      <a:pt x="21600" y="556"/>
                    </a:lnTo>
                    <a:arcTo wR="556" hR="556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9222480" y="1305360"/>
                <a:ext cx="105120" cy="690480"/>
              </a:xfrm>
              <a:custGeom>
                <a:avLst/>
                <a:gdLst>
                  <a:gd name="textAreaLeft" fmla="*/ 720 w 105120"/>
                  <a:gd name="textAreaRight" fmla="*/ 104400 w 105120"/>
                  <a:gd name="textAreaTop" fmla="*/ 720 h 690480"/>
                  <a:gd name="textAreaBottom" fmla="*/ 689760 h 690480"/>
                </a:gdLst>
                <a:ahLst/>
                <a:rect l="textAreaLeft" t="textAreaTop" r="textAreaRight" b="textAreaBottom"/>
                <a:pathLst>
                  <a:path w="21600" h="141469">
                    <a:moveTo>
                      <a:pt x="556" y="0"/>
                    </a:moveTo>
                    <a:arcTo wR="556" hR="556" stAng="16200000" swAng="-5400000"/>
                    <a:lnTo>
                      <a:pt x="0" y="140913"/>
                    </a:lnTo>
                    <a:arcTo wR="556" hR="556" stAng="10800000" swAng="-5400000"/>
                    <a:lnTo>
                      <a:pt x="21044" y="141469"/>
                    </a:lnTo>
                    <a:arcTo wR="556" hR="556" stAng="5400000" swAng="-5400000"/>
                    <a:lnTo>
                      <a:pt x="21600" y="556"/>
                    </a:lnTo>
                    <a:arcTo wR="556" hR="556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9222840" y="2031120"/>
                <a:ext cx="57240" cy="19080"/>
                <a:chOff x="9222840" y="2031120"/>
                <a:chExt cx="57240" cy="1908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9222840" y="2031120"/>
                  <a:ext cx="57240" cy="19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98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9227160" y="2035800"/>
                  <a:ext cx="47880" cy="9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9375480" y="2021760"/>
                <a:ext cx="38160" cy="38160"/>
                <a:chOff x="9375480" y="2021760"/>
                <a:chExt cx="38160" cy="381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9375480" y="2021760"/>
                  <a:ext cx="38160" cy="3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98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9380160" y="2026440"/>
                  <a:ext cx="28440" cy="2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9387360" y="2033640"/>
                  <a:ext cx="14040" cy="1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9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7932600" y="1052640"/>
              <a:ext cx="1206720" cy="1045080"/>
              <a:chOff x="7932600" y="1052640"/>
              <a:chExt cx="1206720" cy="1045080"/>
            </a:xfrm>
          </p:grpSpPr>
          <p:sp>
            <p:nvSpPr>
              <p:cNvPr id="1014" name=""/>
              <p:cNvSpPr/>
              <p:nvPr/>
            </p:nvSpPr>
            <p:spPr>
              <a:xfrm rot="16200000">
                <a:off x="8481960" y="1802520"/>
                <a:ext cx="106920" cy="428400"/>
              </a:xfrm>
              <a:prstGeom prst="flowChartDelay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321400" y="2071440"/>
                <a:ext cx="428400" cy="2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c7c7c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6" name=""/>
              <p:cNvGrpSpPr/>
              <p:nvPr/>
            </p:nvGrpSpPr>
            <p:grpSpPr>
              <a:xfrm>
                <a:off x="8482320" y="1830600"/>
                <a:ext cx="106920" cy="197640"/>
                <a:chOff x="8482320" y="1830600"/>
                <a:chExt cx="106920" cy="197640"/>
              </a:xfrm>
            </p:grpSpPr>
            <p:grpSp>
              <p:nvGrpSpPr>
                <p:cNvPr id="1017" name=""/>
                <p:cNvGrpSpPr/>
                <p:nvPr/>
              </p:nvGrpSpPr>
              <p:grpSpPr>
                <a:xfrm>
                  <a:off x="8482320" y="1830600"/>
                  <a:ext cx="106920" cy="197640"/>
                  <a:chOff x="8482320" y="1830600"/>
                  <a:chExt cx="106920" cy="19764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8482320" y="1830600"/>
                    <a:ext cx="106920" cy="186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fefefe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8482320" y="2001240"/>
                    <a:ext cx="106920" cy="27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fefefe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0" name=""/>
                <p:cNvSpPr/>
                <p:nvPr/>
              </p:nvSpPr>
              <p:spPr>
                <a:xfrm>
                  <a:off x="8482320" y="1830600"/>
                  <a:ext cx="106920" cy="5292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>
                <a:off x="7932600" y="1052640"/>
                <a:ext cx="1206720" cy="804240"/>
              </a:xfrm>
              <a:prstGeom prst="roundRect">
                <a:avLst>
                  <a:gd name="adj" fmla="val 2569"/>
                </a:avLst>
              </a:prstGeom>
              <a:gradFill rotWithShape="0">
                <a:gsLst>
                  <a:gs pos="0">
                    <a:srgbClr val="4c4c4c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958880" y="1079640"/>
                <a:ext cx="1153800" cy="723240"/>
              </a:xfrm>
              <a:prstGeom prst="roundRect">
                <a:avLst>
                  <a:gd name="adj" fmla="val 1963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c6c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972560" y="1093320"/>
                <a:ext cx="1126800" cy="6966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4" name=""/>
          <p:cNvGrpSpPr/>
          <p:nvPr/>
        </p:nvGrpSpPr>
        <p:grpSpPr>
          <a:xfrm>
            <a:off x="8408880" y="2781360"/>
            <a:ext cx="596880" cy="1584360"/>
            <a:chOff x="8408880" y="2781360"/>
            <a:chExt cx="596880" cy="1584360"/>
          </a:xfrm>
        </p:grpSpPr>
        <p:sp>
          <p:nvSpPr>
            <p:cNvPr id="1025" name=""/>
            <p:cNvSpPr/>
            <p:nvPr/>
          </p:nvSpPr>
          <p:spPr>
            <a:xfrm>
              <a:off x="8408880" y="2781360"/>
              <a:ext cx="596880" cy="1584360"/>
            </a:xfrm>
            <a:custGeom>
              <a:avLst/>
              <a:gdLst>
                <a:gd name="textAreaLeft" fmla="*/ 4680 w 596880"/>
                <a:gd name="textAreaRight" fmla="*/ 592200 w 596880"/>
                <a:gd name="textAreaTop" fmla="*/ 4680 h 1584360"/>
                <a:gd name="textAreaBottom" fmla="*/ 1579680 h 1584360"/>
              </a:gdLst>
              <a:ahLst/>
              <a:rect l="textAreaLeft" t="textAreaTop" r="textAreaRight" b="textAreaBottom"/>
              <a:pathLst>
                <a:path w="21600" h="57314">
                  <a:moveTo>
                    <a:pt x="588" y="0"/>
                  </a:moveTo>
                  <a:arcTo wR="588" hR="588" stAng="16200000" swAng="-5400000"/>
                  <a:lnTo>
                    <a:pt x="0" y="56726"/>
                  </a:lnTo>
                  <a:arcTo wR="588" hR="588" stAng="10800000" swAng="-5400000"/>
                  <a:lnTo>
                    <a:pt x="21012" y="57314"/>
                  </a:lnTo>
                  <a:arcTo wR="588" hR="588" stAng="5400000" swAng="-5400000"/>
                  <a:lnTo>
                    <a:pt x="21600" y="588"/>
                  </a:lnTo>
                  <a:arcTo wR="588" hR="588" stAng="0" swAng="-5400000"/>
                  <a:close/>
                </a:path>
              </a:pathLst>
            </a:custGeom>
            <a:gradFill rotWithShape="0">
              <a:gsLst>
                <a:gs pos="0">
                  <a:srgbClr val="323232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443440" y="2851920"/>
              <a:ext cx="527040" cy="1091520"/>
            </a:xfrm>
            <a:custGeom>
              <a:avLst/>
              <a:gdLst>
                <a:gd name="textAreaLeft" fmla="*/ 9000 w 527040"/>
                <a:gd name="textAreaRight" fmla="*/ 518040 w 527040"/>
                <a:gd name="textAreaTop" fmla="*/ 9000 h 1091520"/>
                <a:gd name="textAreaBottom" fmla="*/ 1082520 h 1091520"/>
              </a:gdLst>
              <a:ahLst/>
              <a:rect l="textAreaLeft" t="textAreaTop" r="textAreaRight" b="textAreaBottom"/>
              <a:pathLst>
                <a:path w="21600" h="44719">
                  <a:moveTo>
                    <a:pt x="1300" y="0"/>
                  </a:moveTo>
                  <a:arcTo wR="1300" hR="1300" stAng="16200000" swAng="-5400000"/>
                  <a:lnTo>
                    <a:pt x="0" y="43419"/>
                  </a:lnTo>
                  <a:arcTo wR="1300" hR="1300" stAng="10800000" swAng="-5400000"/>
                  <a:lnTo>
                    <a:pt x="20300" y="44719"/>
                  </a:lnTo>
                  <a:arcTo wR="1300" hR="1300" stAng="5400000" swAng="-5400000"/>
                  <a:lnTo>
                    <a:pt x="21600" y="1300"/>
                  </a:lnTo>
                  <a:arcTo wR="1300" hR="13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479080" y="2781360"/>
              <a:ext cx="455760" cy="1549440"/>
            </a:xfrm>
            <a:custGeom>
              <a:avLst/>
              <a:gdLst>
                <a:gd name="textAreaLeft" fmla="*/ 7560 w 455760"/>
                <a:gd name="textAreaRight" fmla="*/ 448200 w 455760"/>
                <a:gd name="textAreaTop" fmla="*/ 7560 h 1549440"/>
                <a:gd name="textAreaBottom" fmla="*/ 1541880 h 1549440"/>
              </a:gdLst>
              <a:ahLst/>
              <a:rect l="textAreaLeft" t="textAreaTop" r="textAreaRight" b="textAreaBottom"/>
              <a:pathLst>
                <a:path w="21600" h="73392">
                  <a:moveTo>
                    <a:pt x="1247" y="0"/>
                  </a:moveTo>
                  <a:arcTo wR="1247" hR="1247" stAng="16200000" swAng="-5400000"/>
                  <a:lnTo>
                    <a:pt x="0" y="72145"/>
                  </a:lnTo>
                  <a:arcTo wR="1247" hR="1247" stAng="10800000" swAng="-5400000"/>
                  <a:lnTo>
                    <a:pt x="20353" y="73392"/>
                  </a:lnTo>
                  <a:arcTo wR="1247" hR="1247" stAng="5400000" swAng="-5400000"/>
                  <a:lnTo>
                    <a:pt x="21600" y="1247"/>
                  </a:lnTo>
                  <a:arcTo wR="1247" hR="1247" stAng="0" swAng="-5400000"/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514000" y="2815920"/>
              <a:ext cx="386280" cy="3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3232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496000" y="2886480"/>
              <a:ext cx="421200" cy="1302840"/>
            </a:xfrm>
            <a:custGeom>
              <a:avLst/>
              <a:gdLst>
                <a:gd name="textAreaLeft" fmla="*/ 2880 w 421200"/>
                <a:gd name="textAreaRight" fmla="*/ 418320 w 421200"/>
                <a:gd name="textAreaTop" fmla="*/ 2880 h 1302840"/>
                <a:gd name="textAreaBottom" fmla="*/ 1299960 h 1302840"/>
              </a:gdLst>
              <a:ahLst/>
              <a:rect l="textAreaLeft" t="textAreaTop" r="textAreaRight" b="textAreaBottom"/>
              <a:pathLst>
                <a:path w="21600" h="66774">
                  <a:moveTo>
                    <a:pt x="556" y="0"/>
                  </a:moveTo>
                  <a:arcTo wR="556" hR="556" stAng="16200000" swAng="-5400000"/>
                  <a:lnTo>
                    <a:pt x="0" y="66218"/>
                  </a:lnTo>
                  <a:arcTo wR="556" hR="556" stAng="10800000" swAng="-5400000"/>
                  <a:lnTo>
                    <a:pt x="21044" y="66774"/>
                  </a:lnTo>
                  <a:arcTo wR="556" hR="556" stAng="5400000" swAng="-5400000"/>
                  <a:lnTo>
                    <a:pt x="21600" y="556"/>
                  </a:lnTo>
                  <a:arcTo wR="556" hR="556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513280" y="2901600"/>
              <a:ext cx="194040" cy="1276200"/>
            </a:xfrm>
            <a:custGeom>
              <a:avLst/>
              <a:gdLst>
                <a:gd name="textAreaLeft" fmla="*/ 1440 w 194040"/>
                <a:gd name="textAreaRight" fmla="*/ 192600 w 194040"/>
                <a:gd name="textAreaTop" fmla="*/ 1440 h 1276200"/>
                <a:gd name="textAreaBottom" fmla="*/ 1274760 h 1276200"/>
              </a:gdLst>
              <a:ahLst/>
              <a:rect l="textAreaLeft" t="textAreaTop" r="textAreaRight" b="textAreaBottom"/>
              <a:pathLst>
                <a:path w="21600" h="141840">
                  <a:moveTo>
                    <a:pt x="556" y="0"/>
                  </a:moveTo>
                  <a:arcTo wR="556" hR="556" stAng="16200000" swAng="-5400000"/>
                  <a:lnTo>
                    <a:pt x="0" y="141284"/>
                  </a:lnTo>
                  <a:arcTo wR="556" hR="556" stAng="10800000" swAng="-5400000"/>
                  <a:lnTo>
                    <a:pt x="21044" y="141840"/>
                  </a:lnTo>
                  <a:arcTo wR="556" hR="556" stAng="5400000" swAng="-5400000"/>
                  <a:lnTo>
                    <a:pt x="21600" y="556"/>
                  </a:lnTo>
                  <a:arcTo wR="556" hR="556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8514000" y="4242240"/>
              <a:ext cx="105840" cy="35640"/>
              <a:chOff x="8514000" y="4242240"/>
              <a:chExt cx="105840" cy="35640"/>
            </a:xfrm>
          </p:grpSpPr>
          <p:sp>
            <p:nvSpPr>
              <p:cNvPr id="1032" name=""/>
              <p:cNvSpPr/>
              <p:nvPr/>
            </p:nvSpPr>
            <p:spPr>
              <a:xfrm>
                <a:off x="8514000" y="4242240"/>
                <a:ext cx="105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898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522280" y="4251240"/>
                <a:ext cx="8820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989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8795160" y="4225320"/>
              <a:ext cx="70560" cy="70560"/>
              <a:chOff x="8795160" y="4225320"/>
              <a:chExt cx="70560" cy="70560"/>
            </a:xfrm>
          </p:grpSpPr>
          <p:sp>
            <p:nvSpPr>
              <p:cNvPr id="1035" name=""/>
              <p:cNvSpPr/>
              <p:nvPr/>
            </p:nvSpPr>
            <p:spPr>
              <a:xfrm>
                <a:off x="8795160" y="4225320"/>
                <a:ext cx="70560" cy="70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898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803800" y="4233960"/>
                <a:ext cx="52920" cy="5292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817120" y="4247280"/>
                <a:ext cx="26280" cy="26280"/>
              </a:xfrm>
              <a:prstGeom prst="ellipse">
                <a:avLst/>
              </a:prstGeom>
              <a:gradFill rotWithShape="0">
                <a:gsLst>
                  <a:gs pos="0">
                    <a:srgbClr val="d5e998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8" name=""/>
          <p:cNvGrpSpPr/>
          <p:nvPr/>
        </p:nvGrpSpPr>
        <p:grpSpPr>
          <a:xfrm>
            <a:off x="415800" y="4797360"/>
            <a:ext cx="1584000" cy="1409760"/>
            <a:chOff x="415800" y="4797360"/>
            <a:chExt cx="1584000" cy="1409760"/>
          </a:xfrm>
        </p:grpSpPr>
        <p:grpSp>
          <p:nvGrpSpPr>
            <p:cNvPr id="1039" name=""/>
            <p:cNvGrpSpPr/>
            <p:nvPr/>
          </p:nvGrpSpPr>
          <p:grpSpPr>
            <a:xfrm>
              <a:off x="415800" y="6031440"/>
              <a:ext cx="1365120" cy="175680"/>
              <a:chOff x="415800" y="6031440"/>
              <a:chExt cx="1365120" cy="17568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415800" y="6031800"/>
                <a:ext cx="1365120" cy="175320"/>
                <a:chOff x="415800" y="6031800"/>
                <a:chExt cx="1365120" cy="1753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415800" y="6163920"/>
                  <a:ext cx="136512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V="1">
                  <a:off x="415800" y="6031800"/>
                  <a:ext cx="1365120" cy="154080"/>
                </a:xfrm>
                <a:custGeom>
                  <a:avLst/>
                  <a:gdLst>
                    <a:gd name="textAreaLeft" fmla="*/ 136440 w 1365120"/>
                    <a:gd name="textAreaRight" fmla="*/ 1228680 w 1365120"/>
                    <a:gd name="textAreaTop" fmla="*/ 15120 h 154080"/>
                    <a:gd name="textAreaBottom" fmla="*/ 138960 h 154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37400" y="6163920"/>
                  <a:ext cx="1320840" cy="21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59720" y="6031440"/>
                <a:ext cx="1276920" cy="110160"/>
                <a:chOff x="459720" y="6031440"/>
                <a:chExt cx="1276920" cy="110160"/>
              </a:xfrm>
            </p:grpSpPr>
            <p:sp>
              <p:nvSpPr>
                <p:cNvPr id="1045" name=""/>
                <p:cNvSpPr/>
                <p:nvPr/>
              </p:nvSpPr>
              <p:spPr>
                <a:xfrm flipV="1">
                  <a:off x="46008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V="1">
                  <a:off x="51984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V="1">
                  <a:off x="579600" y="603108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V="1">
                  <a:off x="63936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71892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>
                  <a:off x="77868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V="1">
                  <a:off x="83880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V="1">
                  <a:off x="898560" y="603108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V="1">
                  <a:off x="978840" y="603108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V="1">
                  <a:off x="103860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V="1">
                  <a:off x="109836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1158480" y="603108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123804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1297800" y="603108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135756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141732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V="1">
                  <a:off x="1497600" y="603108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V="1">
                  <a:off x="155736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V="1">
                  <a:off x="161712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V="1">
                  <a:off x="1676880" y="603108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V="1">
                  <a:off x="1497600" y="60714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V="1">
                  <a:off x="155736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V="1">
                  <a:off x="161712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V="1">
                  <a:off x="167688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V="1">
                  <a:off x="149652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1556280" y="607860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161604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167616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149688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155664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1616760" y="6101280"/>
                  <a:ext cx="59400" cy="3996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167652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V="1">
                  <a:off x="1297800" y="60714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135756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V="1">
                  <a:off x="141732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129672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V="1">
                  <a:off x="1356840" y="607860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141660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129744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135720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1416960" y="6101280"/>
                  <a:ext cx="59400" cy="3996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460440" y="60714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52020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57996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>
                  <a:off x="639720" y="60714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459720" y="607860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V="1">
                  <a:off x="51912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>
                  <a:off x="57924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V="1">
                  <a:off x="63900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V="1">
                  <a:off x="46008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V="1">
                  <a:off x="51984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579600" y="6101280"/>
                  <a:ext cx="59400" cy="3996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V="1">
                  <a:off x="63936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69912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758880" y="60714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81864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V="1">
                  <a:off x="87876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69840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75816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V="1">
                  <a:off x="817920" y="607860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V="1">
                  <a:off x="87768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V="1">
                  <a:off x="698760" y="6101280"/>
                  <a:ext cx="59400" cy="3996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763920" y="6101280"/>
                  <a:ext cx="173880" cy="39960"/>
                </a:xfrm>
                <a:custGeom>
                  <a:avLst/>
                  <a:gdLst>
                    <a:gd name="textAreaLeft" fmla="*/ 14760 w 173880"/>
                    <a:gd name="textAreaRight" fmla="*/ 159120 w 173880"/>
                    <a:gd name="textAreaTop" fmla="*/ 3240 h 39960"/>
                    <a:gd name="textAreaBottom" fmla="*/ 3672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V="1">
                  <a:off x="939240" y="60714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V="1">
                  <a:off x="99900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V="1">
                  <a:off x="105876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V="1">
                  <a:off x="111888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V="1">
                  <a:off x="93852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V="1">
                  <a:off x="998280" y="607860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105804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111780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V="1">
                  <a:off x="93888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V="1">
                  <a:off x="99864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V="1">
                  <a:off x="1058400" y="6101280"/>
                  <a:ext cx="59400" cy="3996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V="1">
                  <a:off x="1118160" y="6101280"/>
                  <a:ext cx="59760" cy="3996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V="1">
                  <a:off x="1179000" y="60714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V="1">
                  <a:off x="1178280" y="607860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1178640" y="6101280"/>
                  <a:ext cx="59400" cy="3996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960"/>
                    <a:gd name="textAreaBottom" fmla="*/ 3456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3" name=""/>
            <p:cNvGrpSpPr/>
            <p:nvPr/>
          </p:nvGrpSpPr>
          <p:grpSpPr>
            <a:xfrm>
              <a:off x="1802520" y="6054120"/>
              <a:ext cx="197280" cy="147960"/>
              <a:chOff x="1802520" y="6054120"/>
              <a:chExt cx="197280" cy="147960"/>
            </a:xfrm>
          </p:grpSpPr>
          <p:sp>
            <p:nvSpPr>
              <p:cNvPr id="1124" name=""/>
              <p:cNvSpPr/>
              <p:nvPr/>
            </p:nvSpPr>
            <p:spPr>
              <a:xfrm>
                <a:off x="1804680" y="6057720"/>
                <a:ext cx="192240" cy="14436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802520" y="6054120"/>
                <a:ext cx="197280" cy="1422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707070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817640" y="6054120"/>
                <a:ext cx="167040" cy="1062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c8c8c8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5400000">
                <a:off x="1890000" y="6009840"/>
                <a:ext cx="20880" cy="13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1497" y="250"/>
                      <a:pt x="1393" y="5080"/>
                      <a:pt x="1393" y="10800"/>
                    </a:cubicBezTo>
                    <a:cubicBezTo>
                      <a:pt x="1393" y="16520"/>
                      <a:pt x="11497" y="2135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890000" y="6055920"/>
                <a:ext cx="22320" cy="34200"/>
              </a:xfrm>
              <a:custGeom>
                <a:avLst/>
                <a:gdLst>
                  <a:gd name="textAreaLeft" fmla="*/ 2880 w 22320"/>
                  <a:gd name="textAreaRight" fmla="*/ 19440 w 22320"/>
                  <a:gd name="textAreaTop" fmla="*/ 2880 h 34200"/>
                  <a:gd name="textAreaBottom" fmla="*/ 31320 h 34200"/>
                </a:gdLst>
                <a:ahLst/>
                <a:rect l="textAreaLeft" t="textAreaTop" r="textAreaRight" b="textAreaBottom"/>
                <a:pathLst>
                  <a:path w="21600" h="32914">
                    <a:moveTo>
                      <a:pt x="9672" y="0"/>
                    </a:moveTo>
                    <a:arcTo wR="9672" hR="9672" stAng="16200000" swAng="-5400000"/>
                    <a:lnTo>
                      <a:pt x="0" y="23242"/>
                    </a:lnTo>
                    <a:arcTo wR="9672" hR="9672" stAng="10800000" swAng="-5400000"/>
                    <a:lnTo>
                      <a:pt x="11928" y="32914"/>
                    </a:lnTo>
                    <a:arcTo wR="9672" hR="9672" stAng="5400000" swAng="-5400000"/>
                    <a:lnTo>
                      <a:pt x="21600" y="9672"/>
                    </a:lnTo>
                    <a:arcTo wR="9672" hR="967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c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893600" y="6054120"/>
                <a:ext cx="14760" cy="29880"/>
              </a:xfrm>
              <a:custGeom>
                <a:avLst/>
                <a:gdLst>
                  <a:gd name="textAreaLeft" fmla="*/ 2160 w 14760"/>
                  <a:gd name="textAreaRight" fmla="*/ 12600 w 14760"/>
                  <a:gd name="textAreaTop" fmla="*/ 2160 h 29880"/>
                  <a:gd name="textAreaBottom" fmla="*/ 27720 h 298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10800" y="0"/>
                    </a:moveTo>
                    <a:arcTo wR="10800" hR="10800" stAng="16200000" swAng="-5400000"/>
                    <a:lnTo>
                      <a:pt x="0" y="32400"/>
                    </a:lnTo>
                    <a:arcTo wR="10800" hR="10800" stAng="10800000" swAng="-5400000"/>
                    <a:lnTo>
                      <a:pt x="10800" y="432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459000" y="4797360"/>
              <a:ext cx="1519920" cy="1189800"/>
              <a:chOff x="459000" y="4797360"/>
              <a:chExt cx="1519920" cy="1189800"/>
            </a:xfrm>
          </p:grpSpPr>
          <p:sp>
            <p:nvSpPr>
              <p:cNvPr id="1131" name=""/>
              <p:cNvSpPr/>
              <p:nvPr/>
            </p:nvSpPr>
            <p:spPr>
              <a:xfrm>
                <a:off x="459000" y="5546880"/>
                <a:ext cx="1519560" cy="440280"/>
              </a:xfrm>
              <a:custGeom>
                <a:avLst/>
                <a:gdLst/>
                <a:ahLst/>
                <a:rect l="l" t="t" r="r" b="b"/>
                <a:pathLst>
                  <a:path w="3130" h="907">
                    <a:moveTo>
                      <a:pt x="46" y="0"/>
                    </a:moveTo>
                    <a:lnTo>
                      <a:pt x="46" y="862"/>
                    </a:lnTo>
                    <a:lnTo>
                      <a:pt x="3085" y="862"/>
                    </a:lnTo>
                    <a:lnTo>
                      <a:pt x="3085" y="0"/>
                    </a:lnTo>
                    <a:lnTo>
                      <a:pt x="3130" y="0"/>
                    </a:lnTo>
                    <a:lnTo>
                      <a:pt x="3130" y="907"/>
                    </a:lnTo>
                    <a:lnTo>
                      <a:pt x="0" y="907"/>
                    </a:ln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17"/>
                  </a:gs>
                  <a:gs pos="50000">
                    <a:srgbClr val="333333"/>
                  </a:gs>
                  <a:gs pos="100000">
                    <a:srgbClr val="17171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59000" y="4797360"/>
                <a:ext cx="1519920" cy="105660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7373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9800" y="4807800"/>
                <a:ext cx="1497600" cy="103536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e8e8e8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24880" y="4863240"/>
                <a:ext cx="1387440" cy="90432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163160" y="5789520"/>
                <a:ext cx="110160" cy="21960"/>
              </a:xfrm>
              <a:prstGeom prst="rect">
                <a:avLst/>
              </a:prstGeom>
              <a:solidFill>
                <a:srgbClr val="3333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36040" y="4874760"/>
                <a:ext cx="1365480" cy="88092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7" name=""/>
          <p:cNvGrpSpPr/>
          <p:nvPr/>
        </p:nvGrpSpPr>
        <p:grpSpPr>
          <a:xfrm>
            <a:off x="2289240" y="4797360"/>
            <a:ext cx="1565280" cy="1409760"/>
            <a:chOff x="2289240" y="4797360"/>
            <a:chExt cx="1565280" cy="1409760"/>
          </a:xfrm>
        </p:grpSpPr>
        <p:grpSp>
          <p:nvGrpSpPr>
            <p:cNvPr id="1138" name=""/>
            <p:cNvGrpSpPr/>
            <p:nvPr/>
          </p:nvGrpSpPr>
          <p:grpSpPr>
            <a:xfrm>
              <a:off x="2289240" y="6032160"/>
              <a:ext cx="1365120" cy="174960"/>
              <a:chOff x="2289240" y="6032160"/>
              <a:chExt cx="1365120" cy="17496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2289240" y="6032520"/>
                <a:ext cx="1365120" cy="174600"/>
                <a:chOff x="2289240" y="6032520"/>
                <a:chExt cx="1365120" cy="17460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2289240" y="6164280"/>
                  <a:ext cx="1365120" cy="42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2289240" y="6032520"/>
                  <a:ext cx="1365120" cy="153360"/>
                </a:xfrm>
                <a:custGeom>
                  <a:avLst/>
                  <a:gdLst>
                    <a:gd name="textAreaLeft" fmla="*/ 136440 w 1365120"/>
                    <a:gd name="textAreaRight" fmla="*/ 1228680 w 1365120"/>
                    <a:gd name="textAreaTop" fmla="*/ 15120 h 153360"/>
                    <a:gd name="textAreaBottom" fmla="*/ 138240 h 15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2310840" y="6164280"/>
                  <a:ext cx="1320840" cy="21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2333160" y="6032160"/>
                <a:ext cx="1276920" cy="109800"/>
                <a:chOff x="2333160" y="6032160"/>
                <a:chExt cx="1276920" cy="109800"/>
              </a:xfrm>
            </p:grpSpPr>
            <p:sp>
              <p:nvSpPr>
                <p:cNvPr id="1144" name=""/>
                <p:cNvSpPr/>
                <p:nvPr/>
              </p:nvSpPr>
              <p:spPr>
                <a:xfrm flipV="1">
                  <a:off x="23335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V="1">
                  <a:off x="23932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245304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V="1">
                  <a:off x="25128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25923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V="1">
                  <a:off x="26521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27122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V="1">
                  <a:off x="277200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285228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29120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V="1">
                  <a:off x="29718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V="1">
                  <a:off x="303192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V="1">
                  <a:off x="31114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V="1">
                  <a:off x="317124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32310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V="1">
                  <a:off x="32907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V="1">
                  <a:off x="337104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34308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V="1">
                  <a:off x="34905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V="1">
                  <a:off x="35503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V="1">
                  <a:off x="337104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34308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V="1">
                  <a:off x="34905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V="1">
                  <a:off x="35503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V="1">
                  <a:off x="33699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42972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34894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35496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V="1">
                  <a:off x="33703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V="1">
                  <a:off x="343008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V="1">
                  <a:off x="349020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V="1">
                  <a:off x="354996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V="1">
                  <a:off x="317124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2310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V="1">
                  <a:off x="32907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V="1">
                  <a:off x="31701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V="1">
                  <a:off x="323028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V="1">
                  <a:off x="32900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V="1">
                  <a:off x="317088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V="1">
                  <a:off x="323064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329040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V="1">
                  <a:off x="233388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V="1">
                  <a:off x="23936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V="1">
                  <a:off x="24534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V="1">
                  <a:off x="251316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V="1">
                  <a:off x="233316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V="1">
                  <a:off x="23925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V="1">
                  <a:off x="24526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V="1">
                  <a:off x="25124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V="1">
                  <a:off x="23335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V="1">
                  <a:off x="239328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V="1">
                  <a:off x="245304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V="1">
                  <a:off x="251280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V="1">
                  <a:off x="25725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V="1">
                  <a:off x="263232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V="1">
                  <a:off x="26920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V="1">
                  <a:off x="27522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V="1">
                  <a:off x="25718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V="1">
                  <a:off x="26316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V="1">
                  <a:off x="269136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V="1">
                  <a:off x="27511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257220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2637360" y="6102360"/>
                  <a:ext cx="173880" cy="39600"/>
                </a:xfrm>
                <a:custGeom>
                  <a:avLst/>
                  <a:gdLst>
                    <a:gd name="textAreaLeft" fmla="*/ 14760 w 173880"/>
                    <a:gd name="textAreaRight" fmla="*/ 159120 w 173880"/>
                    <a:gd name="textAreaTop" fmla="*/ 3240 h 39600"/>
                    <a:gd name="textAreaBottom" fmla="*/ 3636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V="1">
                  <a:off x="281268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V="1">
                  <a:off x="28724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flipV="1">
                  <a:off x="29322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V="1">
                  <a:off x="29923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V="1">
                  <a:off x="28119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 flipV="1">
                  <a:off x="287172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V="1">
                  <a:off x="29314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V="1">
                  <a:off x="29912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V="1">
                  <a:off x="28123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V="1">
                  <a:off x="287208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flipV="1">
                  <a:off x="293184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V="1">
                  <a:off x="299160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V="1">
                  <a:off x="30524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30517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305208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2" name=""/>
            <p:cNvGrpSpPr/>
            <p:nvPr/>
          </p:nvGrpSpPr>
          <p:grpSpPr>
            <a:xfrm>
              <a:off x="2332080" y="4797360"/>
              <a:ext cx="1520640" cy="1190520"/>
              <a:chOff x="2332080" y="4797360"/>
              <a:chExt cx="1520640" cy="1190520"/>
            </a:xfrm>
          </p:grpSpPr>
          <p:sp>
            <p:nvSpPr>
              <p:cNvPr id="1223" name=""/>
              <p:cNvSpPr/>
              <p:nvPr/>
            </p:nvSpPr>
            <p:spPr>
              <a:xfrm>
                <a:off x="2332080" y="5547240"/>
                <a:ext cx="1520280" cy="440640"/>
              </a:xfrm>
              <a:custGeom>
                <a:avLst/>
                <a:gdLst/>
                <a:ahLst/>
                <a:rect l="l" t="t" r="r" b="b"/>
                <a:pathLst>
                  <a:path w="3130" h="907">
                    <a:moveTo>
                      <a:pt x="46" y="0"/>
                    </a:moveTo>
                    <a:lnTo>
                      <a:pt x="46" y="862"/>
                    </a:lnTo>
                    <a:lnTo>
                      <a:pt x="3085" y="862"/>
                    </a:lnTo>
                    <a:lnTo>
                      <a:pt x="3085" y="0"/>
                    </a:lnTo>
                    <a:lnTo>
                      <a:pt x="3130" y="0"/>
                    </a:lnTo>
                    <a:lnTo>
                      <a:pt x="3130" y="907"/>
                    </a:lnTo>
                    <a:lnTo>
                      <a:pt x="0" y="907"/>
                    </a:ln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17"/>
                  </a:gs>
                  <a:gs pos="50000">
                    <a:srgbClr val="333333"/>
                  </a:gs>
                  <a:gs pos="100000">
                    <a:srgbClr val="17171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332080" y="4797360"/>
                <a:ext cx="1520640" cy="105696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7373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342880" y="4807800"/>
                <a:ext cx="1498320" cy="103572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fea8a8"/>
                  </a:gs>
                  <a:gs pos="100000">
                    <a:srgbClr val="ff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397960" y="4863240"/>
                <a:ext cx="1388160" cy="90432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36600" y="5789880"/>
                <a:ext cx="110160" cy="21960"/>
              </a:xfrm>
              <a:prstGeom prst="rect">
                <a:avLst/>
              </a:prstGeom>
              <a:solidFill>
                <a:srgbClr val="3333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409120" y="4874760"/>
                <a:ext cx="1366200" cy="88128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3657600" y="6051600"/>
              <a:ext cx="196920" cy="146160"/>
              <a:chOff x="3657600" y="6051600"/>
              <a:chExt cx="196920" cy="146160"/>
            </a:xfrm>
          </p:grpSpPr>
          <p:grpSp>
            <p:nvGrpSpPr>
              <p:cNvPr id="1230" name=""/>
              <p:cNvGrpSpPr/>
              <p:nvPr/>
            </p:nvGrpSpPr>
            <p:grpSpPr>
              <a:xfrm>
                <a:off x="3657600" y="6051600"/>
                <a:ext cx="196920" cy="146160"/>
                <a:chOff x="3657600" y="6051600"/>
                <a:chExt cx="196920" cy="146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3659760" y="6055200"/>
                  <a:ext cx="191880" cy="14256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c4c4c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657600" y="6051600"/>
                  <a:ext cx="196920" cy="14040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50000">
                      <a:srgbClr val="707070"/>
                    </a:gs>
                    <a:gs pos="100000">
                      <a:srgbClr val="3333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3657600" y="6051600"/>
                <a:ext cx="196920" cy="1404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4" name=""/>
              <p:cNvGrpSpPr/>
              <p:nvPr/>
            </p:nvGrpSpPr>
            <p:grpSpPr>
              <a:xfrm>
                <a:off x="3672360" y="6051600"/>
                <a:ext cx="167040" cy="105120"/>
                <a:chOff x="3672360" y="6051600"/>
                <a:chExt cx="167040" cy="10512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3672360" y="6051600"/>
                  <a:ext cx="167040" cy="10512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c8c8c8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rot="5400000">
                  <a:off x="3745080" y="6007320"/>
                  <a:ext cx="20520" cy="13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1497" y="250"/>
                        <a:pt x="1393" y="5080"/>
                        <a:pt x="1393" y="10800"/>
                      </a:cubicBezTo>
                      <a:cubicBezTo>
                        <a:pt x="1393" y="16520"/>
                        <a:pt x="11497" y="2135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744720" y="6053400"/>
                  <a:ext cx="22320" cy="33840"/>
                </a:xfrm>
                <a:custGeom>
                  <a:avLst/>
                  <a:gdLst>
                    <a:gd name="textAreaLeft" fmla="*/ 2880 w 22320"/>
                    <a:gd name="textAreaRight" fmla="*/ 19440 w 22320"/>
                    <a:gd name="textAreaTop" fmla="*/ 2880 h 33840"/>
                    <a:gd name="textAreaBottom" fmla="*/ 30960 h 33840"/>
                  </a:gdLst>
                  <a:ahLst/>
                  <a:rect l="textAreaLeft" t="textAreaTop" r="textAreaRight" b="textAreaBottom"/>
                  <a:pathLst>
                    <a:path w="21600" h="32571">
                      <a:moveTo>
                        <a:pt x="9672" y="0"/>
                      </a:moveTo>
                      <a:arcTo wR="9672" hR="9672" stAng="16200000" swAng="-5400000"/>
                      <a:lnTo>
                        <a:pt x="0" y="22899"/>
                      </a:lnTo>
                      <a:arcTo wR="9672" hR="9672" stAng="10800000" swAng="-5400000"/>
                      <a:lnTo>
                        <a:pt x="11928" y="32571"/>
                      </a:lnTo>
                      <a:arcTo wR="9672" hR="9672" stAng="5400000" swAng="-5400000"/>
                      <a:lnTo>
                        <a:pt x="21600" y="9672"/>
                      </a:lnTo>
                      <a:arcTo wR="9672" hR="967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c3c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3748320" y="6051600"/>
                  <a:ext cx="14760" cy="29520"/>
                </a:xfrm>
                <a:custGeom>
                  <a:avLst/>
                  <a:gdLst>
                    <a:gd name="textAreaLeft" fmla="*/ 2160 w 14760"/>
                    <a:gd name="textAreaRight" fmla="*/ 12600 w 14760"/>
                    <a:gd name="textAreaTop" fmla="*/ 2160 h 29520"/>
                    <a:gd name="textAreaBottom" fmla="*/ 27360 h 29520"/>
                  </a:gdLst>
                  <a:ahLst/>
                  <a:rect l="textAreaLeft" t="textAreaTop" r="textAreaRight" b="textAreaBottom"/>
                  <a:pathLst>
                    <a:path w="21600" h="42686">
                      <a:moveTo>
                        <a:pt x="10800" y="0"/>
                      </a:moveTo>
                      <a:arcTo wR="10800" hR="10800" stAng="16200000" swAng="-5400000"/>
                      <a:lnTo>
                        <a:pt x="0" y="31886"/>
                      </a:lnTo>
                      <a:arcTo wR="10800" hR="10800" stAng="10800000" swAng="-5400000"/>
                      <a:lnTo>
                        <a:pt x="10800" y="4268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9" name=""/>
          <p:cNvGrpSpPr/>
          <p:nvPr/>
        </p:nvGrpSpPr>
        <p:grpSpPr>
          <a:xfrm>
            <a:off x="6033960" y="4797360"/>
            <a:ext cx="1582920" cy="1409760"/>
            <a:chOff x="6033960" y="4797360"/>
            <a:chExt cx="1582920" cy="1409760"/>
          </a:xfrm>
        </p:grpSpPr>
        <p:grpSp>
          <p:nvGrpSpPr>
            <p:cNvPr id="1240" name=""/>
            <p:cNvGrpSpPr/>
            <p:nvPr/>
          </p:nvGrpSpPr>
          <p:grpSpPr>
            <a:xfrm>
              <a:off x="6033960" y="6032160"/>
              <a:ext cx="1365480" cy="174960"/>
              <a:chOff x="6033960" y="6032160"/>
              <a:chExt cx="1365480" cy="17496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6033960" y="6032520"/>
                <a:ext cx="1365480" cy="174600"/>
                <a:chOff x="6033960" y="6032520"/>
                <a:chExt cx="1365480" cy="17460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6033960" y="6164280"/>
                  <a:ext cx="1365480" cy="42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V="1">
                  <a:off x="6033960" y="6032520"/>
                  <a:ext cx="1365480" cy="153360"/>
                </a:xfrm>
                <a:custGeom>
                  <a:avLst/>
                  <a:gdLst>
                    <a:gd name="textAreaLeft" fmla="*/ 136800 w 1365480"/>
                    <a:gd name="textAreaRight" fmla="*/ 1228680 w 1365480"/>
                    <a:gd name="textAreaTop" fmla="*/ 15120 h 153360"/>
                    <a:gd name="textAreaBottom" fmla="*/ 138240 h 15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055560" y="6164280"/>
                  <a:ext cx="1321200" cy="21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6077880" y="6032160"/>
                <a:ext cx="1277280" cy="109800"/>
                <a:chOff x="6077880" y="6032160"/>
                <a:chExt cx="1277280" cy="109800"/>
              </a:xfrm>
            </p:grpSpPr>
            <p:sp>
              <p:nvSpPr>
                <p:cNvPr id="1246" name=""/>
                <p:cNvSpPr/>
                <p:nvPr/>
              </p:nvSpPr>
              <p:spPr>
                <a:xfrm flipV="1">
                  <a:off x="60782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V="1">
                  <a:off x="61380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V="1">
                  <a:off x="619776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62575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V="1">
                  <a:off x="63370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V="1">
                  <a:off x="63972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64569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V="1">
                  <a:off x="651672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V="1">
                  <a:off x="659736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V="1">
                  <a:off x="66571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V="1">
                  <a:off x="67168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V="1">
                  <a:off x="677664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V="1">
                  <a:off x="68562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691632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V="1">
                  <a:off x="69760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V="1">
                  <a:off x="70358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V="1">
                  <a:off x="711576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V="1">
                  <a:off x="71755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72356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72954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V="1">
                  <a:off x="711576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V="1">
                  <a:off x="71755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V="1">
                  <a:off x="72356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V="1">
                  <a:off x="72954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V="1">
                  <a:off x="71150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V="1">
                  <a:off x="717480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V="1">
                  <a:off x="72345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V="1">
                  <a:off x="72943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V="1">
                  <a:off x="711540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V="1">
                  <a:off x="717516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V="1">
                  <a:off x="723528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flipV="1">
                  <a:off x="729504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V="1">
                  <a:off x="691632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V="1">
                  <a:off x="69760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V="1">
                  <a:off x="70358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V="1">
                  <a:off x="69152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V="1">
                  <a:off x="697500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V="1">
                  <a:off x="70347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V="1">
                  <a:off x="691560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V="1">
                  <a:off x="69757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V="1">
                  <a:off x="703548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V="1">
                  <a:off x="607860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V="1">
                  <a:off x="61383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V="1">
                  <a:off x="61981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V="1">
                  <a:off x="625824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607788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V="1">
                  <a:off x="61372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V="1">
                  <a:off x="61974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V="1">
                  <a:off x="62571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V="1">
                  <a:off x="607824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V="1">
                  <a:off x="613800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V="1">
                  <a:off x="619776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62575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V="1">
                  <a:off x="63172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V="1">
                  <a:off x="637740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V="1">
                  <a:off x="64371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V="1">
                  <a:off x="64969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V="1">
                  <a:off x="63165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V="1">
                  <a:off x="63763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V="1">
                  <a:off x="643608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V="1">
                  <a:off x="64958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V="1">
                  <a:off x="631692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V="1">
                  <a:off x="6382080" y="6102360"/>
                  <a:ext cx="173880" cy="39600"/>
                </a:xfrm>
                <a:custGeom>
                  <a:avLst/>
                  <a:gdLst>
                    <a:gd name="textAreaLeft" fmla="*/ 14760 w 173880"/>
                    <a:gd name="textAreaRight" fmla="*/ 159120 w 173880"/>
                    <a:gd name="textAreaTop" fmla="*/ 3240 h 39600"/>
                    <a:gd name="textAreaBottom" fmla="*/ 3636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V="1">
                  <a:off x="655776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V="1">
                  <a:off x="66175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V="1">
                  <a:off x="66772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V="1">
                  <a:off x="67370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V="1">
                  <a:off x="65566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V="1">
                  <a:off x="661644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V="1">
                  <a:off x="66762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flipV="1">
                  <a:off x="67363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V="1">
                  <a:off x="655704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V="1">
                  <a:off x="661716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V="1">
                  <a:off x="667692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V="1">
                  <a:off x="673668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V="1">
                  <a:off x="67975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V="1">
                  <a:off x="67964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V="1">
                  <a:off x="679680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4" name=""/>
            <p:cNvGrpSpPr/>
            <p:nvPr/>
          </p:nvGrpSpPr>
          <p:grpSpPr>
            <a:xfrm>
              <a:off x="6076800" y="4797360"/>
              <a:ext cx="1521000" cy="1190520"/>
              <a:chOff x="6076800" y="4797360"/>
              <a:chExt cx="1521000" cy="1190520"/>
            </a:xfrm>
          </p:grpSpPr>
          <p:sp>
            <p:nvSpPr>
              <p:cNvPr id="1325" name=""/>
              <p:cNvSpPr/>
              <p:nvPr/>
            </p:nvSpPr>
            <p:spPr>
              <a:xfrm>
                <a:off x="6076800" y="5547240"/>
                <a:ext cx="1520640" cy="440640"/>
              </a:xfrm>
              <a:custGeom>
                <a:avLst/>
                <a:gdLst/>
                <a:ahLst/>
                <a:rect l="l" t="t" r="r" b="b"/>
                <a:pathLst>
                  <a:path w="3130" h="907">
                    <a:moveTo>
                      <a:pt x="46" y="0"/>
                    </a:moveTo>
                    <a:lnTo>
                      <a:pt x="46" y="862"/>
                    </a:lnTo>
                    <a:lnTo>
                      <a:pt x="3085" y="862"/>
                    </a:lnTo>
                    <a:lnTo>
                      <a:pt x="3085" y="0"/>
                    </a:lnTo>
                    <a:lnTo>
                      <a:pt x="3130" y="0"/>
                    </a:lnTo>
                    <a:lnTo>
                      <a:pt x="3130" y="907"/>
                    </a:lnTo>
                    <a:lnTo>
                      <a:pt x="0" y="907"/>
                    </a:ln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17"/>
                  </a:gs>
                  <a:gs pos="50000">
                    <a:srgbClr val="333333"/>
                  </a:gs>
                  <a:gs pos="100000">
                    <a:srgbClr val="17171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076800" y="4797360"/>
                <a:ext cx="1521000" cy="105696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7373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087600" y="4807800"/>
                <a:ext cx="1498680" cy="103572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b9b9db"/>
                  </a:gs>
                  <a:gs pos="100000">
                    <a:srgbClr val="33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142680" y="4863240"/>
                <a:ext cx="1388520" cy="90432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81680" y="5789880"/>
                <a:ext cx="110160" cy="21960"/>
              </a:xfrm>
              <a:prstGeom prst="rect">
                <a:avLst/>
              </a:prstGeom>
              <a:solidFill>
                <a:srgbClr val="3333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153840" y="4874760"/>
                <a:ext cx="1366560" cy="88128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7421400" y="6051600"/>
              <a:ext cx="195480" cy="146160"/>
              <a:chOff x="7421400" y="6051600"/>
              <a:chExt cx="195480" cy="146160"/>
            </a:xfrm>
          </p:grpSpPr>
          <p:grpSp>
            <p:nvGrpSpPr>
              <p:cNvPr id="1332" name=""/>
              <p:cNvGrpSpPr/>
              <p:nvPr/>
            </p:nvGrpSpPr>
            <p:grpSpPr>
              <a:xfrm>
                <a:off x="7421400" y="6051600"/>
                <a:ext cx="195480" cy="146160"/>
                <a:chOff x="7421400" y="6051600"/>
                <a:chExt cx="195480" cy="1461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7423560" y="6055200"/>
                  <a:ext cx="190440" cy="14256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c4c4c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7421400" y="6051600"/>
                  <a:ext cx="195480" cy="14040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50000">
                      <a:srgbClr val="707070"/>
                    </a:gs>
                    <a:gs pos="100000">
                      <a:srgbClr val="3333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5" name=""/>
              <p:cNvSpPr/>
              <p:nvPr/>
            </p:nvSpPr>
            <p:spPr>
              <a:xfrm>
                <a:off x="7421400" y="6051600"/>
                <a:ext cx="195480" cy="1404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6" name=""/>
              <p:cNvGrpSpPr/>
              <p:nvPr/>
            </p:nvGrpSpPr>
            <p:grpSpPr>
              <a:xfrm>
                <a:off x="7436160" y="6051600"/>
                <a:ext cx="165600" cy="105120"/>
                <a:chOff x="7436160" y="6051600"/>
                <a:chExt cx="165600" cy="10512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7436160" y="6051600"/>
                  <a:ext cx="165600" cy="10512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c8c8c8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rot="5400000">
                  <a:off x="7508160" y="6007680"/>
                  <a:ext cx="20520" cy="13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1497" y="250"/>
                        <a:pt x="1393" y="5080"/>
                        <a:pt x="1393" y="10800"/>
                      </a:cubicBezTo>
                      <a:cubicBezTo>
                        <a:pt x="1393" y="16520"/>
                        <a:pt x="11497" y="2135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7507800" y="6053400"/>
                  <a:ext cx="21960" cy="33840"/>
                </a:xfrm>
                <a:custGeom>
                  <a:avLst/>
                  <a:gdLst>
                    <a:gd name="textAreaLeft" fmla="*/ 2880 w 21960"/>
                    <a:gd name="textAreaRight" fmla="*/ 19080 w 21960"/>
                    <a:gd name="textAreaTop" fmla="*/ 2880 h 33840"/>
                    <a:gd name="textAreaBottom" fmla="*/ 30960 h 33840"/>
                  </a:gdLst>
                  <a:ahLst/>
                  <a:rect l="textAreaLeft" t="textAreaTop" r="textAreaRight" b="textAreaBottom"/>
                  <a:pathLst>
                    <a:path w="21600" h="33097">
                      <a:moveTo>
                        <a:pt x="9672" y="0"/>
                      </a:moveTo>
                      <a:arcTo wR="9672" hR="9672" stAng="16200000" swAng="-5400000"/>
                      <a:lnTo>
                        <a:pt x="0" y="23425"/>
                      </a:lnTo>
                      <a:arcTo wR="9672" hR="9672" stAng="10800000" swAng="-5400000"/>
                      <a:lnTo>
                        <a:pt x="11928" y="33097"/>
                      </a:lnTo>
                      <a:arcTo wR="9672" hR="9672" stAng="5400000" swAng="-5400000"/>
                      <a:lnTo>
                        <a:pt x="21600" y="9672"/>
                      </a:lnTo>
                      <a:arcTo wR="9672" hR="967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c3c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7511400" y="6051600"/>
                  <a:ext cx="14760" cy="29520"/>
                </a:xfrm>
                <a:custGeom>
                  <a:avLst/>
                  <a:gdLst>
                    <a:gd name="textAreaLeft" fmla="*/ 2160 w 14760"/>
                    <a:gd name="textAreaRight" fmla="*/ 12600 w 14760"/>
                    <a:gd name="textAreaTop" fmla="*/ 2160 h 29520"/>
                    <a:gd name="textAreaBottom" fmla="*/ 27360 h 29520"/>
                  </a:gdLst>
                  <a:ahLst/>
                  <a:rect l="textAreaLeft" t="textAreaTop" r="textAreaRight" b="textAreaBottom"/>
                  <a:pathLst>
                    <a:path w="21600" h="42686">
                      <a:moveTo>
                        <a:pt x="10800" y="0"/>
                      </a:moveTo>
                      <a:arcTo wR="10800" hR="10800" stAng="16200000" swAng="-5400000"/>
                      <a:lnTo>
                        <a:pt x="0" y="31886"/>
                      </a:lnTo>
                      <a:arcTo wR="10800" hR="10800" stAng="10800000" swAng="-5400000"/>
                      <a:lnTo>
                        <a:pt x="10800" y="4268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41" name=""/>
          <p:cNvGrpSpPr/>
          <p:nvPr/>
        </p:nvGrpSpPr>
        <p:grpSpPr>
          <a:xfrm>
            <a:off x="4160880" y="4797360"/>
            <a:ext cx="1563480" cy="1409760"/>
            <a:chOff x="4160880" y="4797360"/>
            <a:chExt cx="1563480" cy="1409760"/>
          </a:xfrm>
        </p:grpSpPr>
        <p:grpSp>
          <p:nvGrpSpPr>
            <p:cNvPr id="1342" name=""/>
            <p:cNvGrpSpPr/>
            <p:nvPr/>
          </p:nvGrpSpPr>
          <p:grpSpPr>
            <a:xfrm>
              <a:off x="4160880" y="6032160"/>
              <a:ext cx="1365120" cy="174960"/>
              <a:chOff x="4160880" y="6032160"/>
              <a:chExt cx="1365120" cy="17496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4160880" y="6032520"/>
                <a:ext cx="1365120" cy="174600"/>
                <a:chOff x="4160880" y="6032520"/>
                <a:chExt cx="1365120" cy="1746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4160880" y="6164280"/>
                  <a:ext cx="1365120" cy="42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V="1">
                  <a:off x="4160880" y="6032520"/>
                  <a:ext cx="1365120" cy="153360"/>
                </a:xfrm>
                <a:custGeom>
                  <a:avLst/>
                  <a:gdLst>
                    <a:gd name="textAreaLeft" fmla="*/ 136440 w 1365120"/>
                    <a:gd name="textAreaRight" fmla="*/ 1228680 w 1365120"/>
                    <a:gd name="textAreaTop" fmla="*/ 15120 h 153360"/>
                    <a:gd name="textAreaBottom" fmla="*/ 138240 h 15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4182480" y="6164280"/>
                  <a:ext cx="1320840" cy="21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4204800" y="6032160"/>
                <a:ext cx="1276920" cy="109800"/>
                <a:chOff x="4204800" y="6032160"/>
                <a:chExt cx="1276920" cy="109800"/>
              </a:xfrm>
            </p:grpSpPr>
            <p:sp>
              <p:nvSpPr>
                <p:cNvPr id="1348" name=""/>
                <p:cNvSpPr/>
                <p:nvPr/>
              </p:nvSpPr>
              <p:spPr>
                <a:xfrm flipV="1">
                  <a:off x="42051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V="1">
                  <a:off x="42649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V="1">
                  <a:off x="432468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V="1">
                  <a:off x="43844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V="1">
                  <a:off x="44640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V="1">
                  <a:off x="45237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V="1">
                  <a:off x="45838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V="1">
                  <a:off x="464364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472392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V="1">
                  <a:off x="47836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48434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V="1">
                  <a:off x="490356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V="1">
                  <a:off x="49831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504288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V="1">
                  <a:off x="51026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V="1">
                  <a:off x="51624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V="1">
                  <a:off x="524268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53024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V="1">
                  <a:off x="53622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V="1">
                  <a:off x="54219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V="1">
                  <a:off x="524268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V="1">
                  <a:off x="53024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53622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V="1">
                  <a:off x="54219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V="1">
                  <a:off x="52416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530136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V="1">
                  <a:off x="53611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V="1">
                  <a:off x="54212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V="1">
                  <a:off x="524196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V="1">
                  <a:off x="53017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V="1">
                  <a:off x="536184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V="1">
                  <a:off x="542160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V="1">
                  <a:off x="504288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V="1">
                  <a:off x="51026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51624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50418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510192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V="1">
                  <a:off x="51616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>
                  <a:off x="50425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V="1">
                  <a:off x="510228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V="1">
                  <a:off x="516204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20552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V="1">
                  <a:off x="42652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V="1">
                  <a:off x="43250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438480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20480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42642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V="1">
                  <a:off x="43243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>
                  <a:off x="43840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V="1">
                  <a:off x="420516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V="1">
                  <a:off x="42649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432468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V="1">
                  <a:off x="438444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V="1">
                  <a:off x="44442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450396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5637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46238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V="1">
                  <a:off x="44434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>
                  <a:off x="45032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V="1">
                  <a:off x="456300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V="1">
                  <a:off x="46227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44384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V="1">
                  <a:off x="4509000" y="6102360"/>
                  <a:ext cx="173880" cy="39600"/>
                </a:xfrm>
                <a:custGeom>
                  <a:avLst/>
                  <a:gdLst>
                    <a:gd name="textAreaLeft" fmla="*/ 14760 w 173880"/>
                    <a:gd name="textAreaRight" fmla="*/ 159120 w 173880"/>
                    <a:gd name="textAreaTop" fmla="*/ 3240 h 39600"/>
                    <a:gd name="textAreaBottom" fmla="*/ 3636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V="1">
                  <a:off x="468432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47440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V="1">
                  <a:off x="48038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48639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V="1">
                  <a:off x="46836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V="1">
                  <a:off x="474336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V="1">
                  <a:off x="48031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V="1">
                  <a:off x="48628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V="1">
                  <a:off x="468396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V="1">
                  <a:off x="47437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V="1">
                  <a:off x="480348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486324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flipV="1">
                  <a:off x="49240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49233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V="1">
                  <a:off x="492372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6" name=""/>
            <p:cNvGrpSpPr/>
            <p:nvPr/>
          </p:nvGrpSpPr>
          <p:grpSpPr>
            <a:xfrm>
              <a:off x="4203720" y="4797360"/>
              <a:ext cx="1520640" cy="1190520"/>
              <a:chOff x="4203720" y="4797360"/>
              <a:chExt cx="1520640" cy="1190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4203720" y="5547240"/>
                <a:ext cx="1520280" cy="440640"/>
              </a:xfrm>
              <a:custGeom>
                <a:avLst/>
                <a:gdLst/>
                <a:ahLst/>
                <a:rect l="l" t="t" r="r" b="b"/>
                <a:pathLst>
                  <a:path w="3130" h="907">
                    <a:moveTo>
                      <a:pt x="46" y="0"/>
                    </a:moveTo>
                    <a:lnTo>
                      <a:pt x="46" y="862"/>
                    </a:lnTo>
                    <a:lnTo>
                      <a:pt x="3085" y="862"/>
                    </a:lnTo>
                    <a:lnTo>
                      <a:pt x="3085" y="0"/>
                    </a:lnTo>
                    <a:lnTo>
                      <a:pt x="3130" y="0"/>
                    </a:lnTo>
                    <a:lnTo>
                      <a:pt x="3130" y="907"/>
                    </a:lnTo>
                    <a:lnTo>
                      <a:pt x="0" y="907"/>
                    </a:ln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17"/>
                  </a:gs>
                  <a:gs pos="50000">
                    <a:srgbClr val="333333"/>
                  </a:gs>
                  <a:gs pos="100000">
                    <a:srgbClr val="17171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203720" y="4797360"/>
                <a:ext cx="1520640" cy="105696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7373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14520" y="4807800"/>
                <a:ext cx="1498320" cy="103572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a8dbdb"/>
                  </a:gs>
                  <a:gs pos="100000">
                    <a:srgbClr val="0099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269600" y="4863240"/>
                <a:ext cx="1388160" cy="90432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908240" y="5789880"/>
                <a:ext cx="110160" cy="21960"/>
              </a:xfrm>
              <a:prstGeom prst="rect">
                <a:avLst/>
              </a:prstGeom>
              <a:solidFill>
                <a:srgbClr val="3333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280760" y="4874760"/>
                <a:ext cx="1366200" cy="88128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5529240" y="6051600"/>
              <a:ext cx="195120" cy="144000"/>
              <a:chOff x="5529240" y="6051600"/>
              <a:chExt cx="195120" cy="144000"/>
            </a:xfrm>
          </p:grpSpPr>
          <p:grpSp>
            <p:nvGrpSpPr>
              <p:cNvPr id="1434" name=""/>
              <p:cNvGrpSpPr/>
              <p:nvPr/>
            </p:nvGrpSpPr>
            <p:grpSpPr>
              <a:xfrm>
                <a:off x="5529240" y="6051600"/>
                <a:ext cx="195120" cy="144000"/>
                <a:chOff x="5529240" y="6051600"/>
                <a:chExt cx="195120" cy="14400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5531400" y="6054840"/>
                  <a:ext cx="190080" cy="14076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c4c4c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529240" y="6051600"/>
                  <a:ext cx="195120" cy="13860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50000">
                      <a:srgbClr val="707070"/>
                    </a:gs>
                    <a:gs pos="100000">
                      <a:srgbClr val="3333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5529240" y="6051600"/>
                <a:ext cx="195120" cy="1386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solidFill>
                <a:srgbClr val="33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5544000" y="6051600"/>
                <a:ext cx="165240" cy="103680"/>
                <a:chOff x="5544000" y="6051600"/>
                <a:chExt cx="165240" cy="10368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5544000" y="6051600"/>
                  <a:ext cx="165240" cy="10368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c8c8c8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rot="5400000">
                  <a:off x="5615640" y="6007320"/>
                  <a:ext cx="20160" cy="13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1497" y="250"/>
                        <a:pt x="1393" y="5080"/>
                        <a:pt x="1393" y="10800"/>
                      </a:cubicBezTo>
                      <a:cubicBezTo>
                        <a:pt x="1393" y="16520"/>
                        <a:pt x="11497" y="2135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615280" y="6053400"/>
                  <a:ext cx="21960" cy="33480"/>
                </a:xfrm>
                <a:custGeom>
                  <a:avLst/>
                  <a:gdLst>
                    <a:gd name="textAreaLeft" fmla="*/ 2880 w 21960"/>
                    <a:gd name="textAreaRight" fmla="*/ 19080 w 21960"/>
                    <a:gd name="textAreaTop" fmla="*/ 2880 h 33480"/>
                    <a:gd name="textAreaBottom" fmla="*/ 30600 h 33480"/>
                  </a:gdLst>
                  <a:ahLst/>
                  <a:rect l="textAreaLeft" t="textAreaTop" r="textAreaRight" b="textAreaBottom"/>
                  <a:pathLst>
                    <a:path w="21600" h="32748">
                      <a:moveTo>
                        <a:pt x="9672" y="0"/>
                      </a:moveTo>
                      <a:arcTo wR="9672" hR="9672" stAng="16200000" swAng="-5400000"/>
                      <a:lnTo>
                        <a:pt x="0" y="23076"/>
                      </a:lnTo>
                      <a:arcTo wR="9672" hR="9672" stAng="10800000" swAng="-5400000"/>
                      <a:lnTo>
                        <a:pt x="11928" y="32748"/>
                      </a:lnTo>
                      <a:arcTo wR="9672" hR="9672" stAng="5400000" swAng="-5400000"/>
                      <a:lnTo>
                        <a:pt x="21600" y="9672"/>
                      </a:lnTo>
                      <a:arcTo wR="9672" hR="967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c3c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619240" y="6051600"/>
                  <a:ext cx="14760" cy="29160"/>
                </a:xfrm>
                <a:custGeom>
                  <a:avLst/>
                  <a:gdLst>
                    <a:gd name="textAreaLeft" fmla="*/ 2160 w 14760"/>
                    <a:gd name="textAreaRight" fmla="*/ 12600 w 14760"/>
                    <a:gd name="textAreaTop" fmla="*/ 2160 h 29160"/>
                    <a:gd name="textAreaBottom" fmla="*/ 27000 h 29160"/>
                  </a:gdLst>
                  <a:ahLst/>
                  <a:rect l="textAreaLeft" t="textAreaTop" r="textAreaRight" b="textAreaBottom"/>
                  <a:pathLst>
                    <a:path w="21600" h="42171">
                      <a:moveTo>
                        <a:pt x="10800" y="0"/>
                      </a:moveTo>
                      <a:arcTo wR="10800" hR="10800" stAng="16200000" swAng="-5400000"/>
                      <a:lnTo>
                        <a:pt x="0" y="31371"/>
                      </a:lnTo>
                      <a:arcTo wR="10800" hR="10800" stAng="10800000" swAng="-5400000"/>
                      <a:lnTo>
                        <a:pt x="10800" y="42171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"/>
          <p:cNvGrpSpPr/>
          <p:nvPr/>
        </p:nvGrpSpPr>
        <p:grpSpPr>
          <a:xfrm>
            <a:off x="7905600" y="4797360"/>
            <a:ext cx="1582920" cy="1409760"/>
            <a:chOff x="7905600" y="4797360"/>
            <a:chExt cx="1582920" cy="1409760"/>
          </a:xfrm>
        </p:grpSpPr>
        <p:grpSp>
          <p:nvGrpSpPr>
            <p:cNvPr id="1444" name=""/>
            <p:cNvGrpSpPr/>
            <p:nvPr/>
          </p:nvGrpSpPr>
          <p:grpSpPr>
            <a:xfrm>
              <a:off x="7905600" y="6032160"/>
              <a:ext cx="1365480" cy="174960"/>
              <a:chOff x="7905600" y="6032160"/>
              <a:chExt cx="1365480" cy="174960"/>
            </a:xfrm>
          </p:grpSpPr>
          <p:grpSp>
            <p:nvGrpSpPr>
              <p:cNvPr id="1445" name=""/>
              <p:cNvGrpSpPr/>
              <p:nvPr/>
            </p:nvGrpSpPr>
            <p:grpSpPr>
              <a:xfrm>
                <a:off x="7905600" y="6032520"/>
                <a:ext cx="1365480" cy="174600"/>
                <a:chOff x="7905600" y="6032520"/>
                <a:chExt cx="1365480" cy="17460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7905600" y="6164280"/>
                  <a:ext cx="1365480" cy="42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V="1">
                  <a:off x="7905600" y="6032520"/>
                  <a:ext cx="1365480" cy="153360"/>
                </a:xfrm>
                <a:custGeom>
                  <a:avLst/>
                  <a:gdLst>
                    <a:gd name="textAreaLeft" fmla="*/ 136800 w 1365480"/>
                    <a:gd name="textAreaRight" fmla="*/ 1228680 w 1365480"/>
                    <a:gd name="textAreaTop" fmla="*/ 15120 h 153360"/>
                    <a:gd name="textAreaBottom" fmla="*/ 138240 h 153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927200" y="6164280"/>
                  <a:ext cx="1321200" cy="21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7949520" y="6032160"/>
                <a:ext cx="1277280" cy="109800"/>
                <a:chOff x="7949520" y="6032160"/>
                <a:chExt cx="1277280" cy="109800"/>
              </a:xfrm>
            </p:grpSpPr>
            <p:sp>
              <p:nvSpPr>
                <p:cNvPr id="1450" name=""/>
                <p:cNvSpPr/>
                <p:nvPr/>
              </p:nvSpPr>
              <p:spPr>
                <a:xfrm flipV="1">
                  <a:off x="79498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V="1">
                  <a:off x="80096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V="1">
                  <a:off x="806940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V="1">
                  <a:off x="81291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V="1">
                  <a:off x="82087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V="1">
                  <a:off x="82688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V="1">
                  <a:off x="832860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838836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V="1">
                  <a:off x="846900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flipV="1">
                  <a:off x="85287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V="1">
                  <a:off x="85885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V="1">
                  <a:off x="864828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V="1">
                  <a:off x="87278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 flipV="1">
                  <a:off x="878796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flipV="1">
                  <a:off x="884772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V="1">
                  <a:off x="89074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V="1">
                  <a:off x="8987400" y="603180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flipV="1">
                  <a:off x="904716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V="1">
                  <a:off x="910728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V="1">
                  <a:off x="9167040" y="603180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flipV="1">
                  <a:off x="898740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flipV="1">
                  <a:off x="90471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flipV="1">
                  <a:off x="91072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flipV="1">
                  <a:off x="916704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V="1">
                  <a:off x="89866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flipV="1">
                  <a:off x="904644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V="1">
                  <a:off x="91062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flipV="1">
                  <a:off x="91659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V="1">
                  <a:off x="898704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V="1">
                  <a:off x="904680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V="1">
                  <a:off x="910692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flipV="1">
                  <a:off x="916668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V="1">
                  <a:off x="878796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V="1">
                  <a:off x="88477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V="1">
                  <a:off x="89074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flipV="1">
                  <a:off x="87868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flipV="1">
                  <a:off x="884664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flipV="1">
                  <a:off x="89064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flipV="1">
                  <a:off x="878724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V="1">
                  <a:off x="884736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V="1">
                  <a:off x="890712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V="1">
                  <a:off x="795024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flipV="1">
                  <a:off x="80100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flipV="1">
                  <a:off x="80697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812988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>
                  <a:off x="794952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flipV="1">
                  <a:off x="80089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flipV="1">
                  <a:off x="80690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flipV="1">
                  <a:off x="81288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flipV="1">
                  <a:off x="794988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flipV="1">
                  <a:off x="800964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flipV="1">
                  <a:off x="806940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flipV="1">
                  <a:off x="812916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flipV="1">
                  <a:off x="81889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flipV="1">
                  <a:off x="824904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flipV="1">
                  <a:off x="830880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flipV="1">
                  <a:off x="83685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flipV="1">
                  <a:off x="818820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V="1">
                  <a:off x="82479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V="1">
                  <a:off x="830772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flipV="1">
                  <a:off x="83674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V="1">
                  <a:off x="818856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V="1">
                  <a:off x="8253720" y="6102360"/>
                  <a:ext cx="173880" cy="39600"/>
                </a:xfrm>
                <a:custGeom>
                  <a:avLst/>
                  <a:gdLst>
                    <a:gd name="textAreaLeft" fmla="*/ 14760 w 173880"/>
                    <a:gd name="textAreaRight" fmla="*/ 159120 w 173880"/>
                    <a:gd name="textAreaTop" fmla="*/ 3240 h 39600"/>
                    <a:gd name="textAreaBottom" fmla="*/ 3636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V="1">
                  <a:off x="8429400" y="6072120"/>
                  <a:ext cx="59400" cy="198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V="1">
                  <a:off x="84891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V="1">
                  <a:off x="854892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V="1">
                  <a:off x="860868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V="1">
                  <a:off x="842832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V="1">
                  <a:off x="8488080" y="6078960"/>
                  <a:ext cx="59400" cy="2772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V="1">
                  <a:off x="854784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V="1">
                  <a:off x="860796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V="1">
                  <a:off x="842868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V="1">
                  <a:off x="848880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V="1">
                  <a:off x="854856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V="1">
                  <a:off x="8608320" y="6102360"/>
                  <a:ext cx="59760" cy="396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V="1">
                  <a:off x="8669160" y="6072120"/>
                  <a:ext cx="59760" cy="1980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2520 h 19800"/>
                    <a:gd name="textAreaBottom" fmla="*/ 1728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V="1">
                  <a:off x="8668080" y="6078960"/>
                  <a:ext cx="59760" cy="27720"/>
                </a:xfrm>
                <a:custGeom>
                  <a:avLst/>
                  <a:gdLst>
                    <a:gd name="textAreaLeft" fmla="*/ 8280 w 59760"/>
                    <a:gd name="textAreaRight" fmla="*/ 51480 w 59760"/>
                    <a:gd name="textAreaTop" fmla="*/ 3600 h 27720"/>
                    <a:gd name="textAreaBottom" fmla="*/ 24120 h 2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V="1">
                  <a:off x="8668440" y="6102360"/>
                  <a:ext cx="59400" cy="3960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5400 h 39600"/>
                    <a:gd name="textAreaBottom" fmla="*/ 34200 h 3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8" name=""/>
            <p:cNvGrpSpPr/>
            <p:nvPr/>
          </p:nvGrpSpPr>
          <p:grpSpPr>
            <a:xfrm>
              <a:off x="7948440" y="4797360"/>
              <a:ext cx="1521000" cy="1190520"/>
              <a:chOff x="7948440" y="4797360"/>
              <a:chExt cx="1521000" cy="1190520"/>
            </a:xfrm>
          </p:grpSpPr>
          <p:sp>
            <p:nvSpPr>
              <p:cNvPr id="1529" name=""/>
              <p:cNvSpPr/>
              <p:nvPr/>
            </p:nvSpPr>
            <p:spPr>
              <a:xfrm>
                <a:off x="7948440" y="5547240"/>
                <a:ext cx="1520640" cy="440640"/>
              </a:xfrm>
              <a:custGeom>
                <a:avLst/>
                <a:gdLst/>
                <a:ahLst/>
                <a:rect l="l" t="t" r="r" b="b"/>
                <a:pathLst>
                  <a:path w="3130" h="907">
                    <a:moveTo>
                      <a:pt x="46" y="0"/>
                    </a:moveTo>
                    <a:lnTo>
                      <a:pt x="46" y="862"/>
                    </a:lnTo>
                    <a:lnTo>
                      <a:pt x="3085" y="862"/>
                    </a:lnTo>
                    <a:lnTo>
                      <a:pt x="3085" y="0"/>
                    </a:lnTo>
                    <a:lnTo>
                      <a:pt x="3130" y="0"/>
                    </a:lnTo>
                    <a:lnTo>
                      <a:pt x="3130" y="907"/>
                    </a:lnTo>
                    <a:lnTo>
                      <a:pt x="0" y="907"/>
                    </a:ln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17"/>
                  </a:gs>
                  <a:gs pos="50000">
                    <a:srgbClr val="333333"/>
                  </a:gs>
                  <a:gs pos="100000">
                    <a:srgbClr val="17171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948440" y="4797360"/>
                <a:ext cx="1521000" cy="105696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7373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959240" y="4807800"/>
                <a:ext cx="1498680" cy="1035720"/>
              </a:xfrm>
              <a:prstGeom prst="roundRect">
                <a:avLst>
                  <a:gd name="adj" fmla="val 3032"/>
                </a:avLst>
              </a:prstGeom>
              <a:gradFill rotWithShape="0">
                <a:gsLst>
                  <a:gs pos="0">
                    <a:srgbClr val="a8a8a8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014320" y="4863240"/>
                <a:ext cx="1388520" cy="90432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653320" y="5789880"/>
                <a:ext cx="110160" cy="21960"/>
              </a:xfrm>
              <a:prstGeom prst="rect">
                <a:avLst/>
              </a:prstGeom>
              <a:solidFill>
                <a:srgbClr val="3333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025480" y="4874760"/>
                <a:ext cx="1366560" cy="881280"/>
              </a:xfrm>
              <a:prstGeom prst="roundRect">
                <a:avLst>
                  <a:gd name="adj" fmla="val 86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9293040" y="6051600"/>
              <a:ext cx="195480" cy="146160"/>
              <a:chOff x="9293040" y="6051600"/>
              <a:chExt cx="195480" cy="146160"/>
            </a:xfrm>
          </p:grpSpPr>
          <p:grpSp>
            <p:nvGrpSpPr>
              <p:cNvPr id="1536" name=""/>
              <p:cNvGrpSpPr/>
              <p:nvPr/>
            </p:nvGrpSpPr>
            <p:grpSpPr>
              <a:xfrm>
                <a:off x="9293040" y="6051600"/>
                <a:ext cx="195480" cy="146160"/>
                <a:chOff x="9293040" y="6051600"/>
                <a:chExt cx="195480" cy="146160"/>
              </a:xfrm>
            </p:grpSpPr>
            <p:sp>
              <p:nvSpPr>
                <p:cNvPr id="1537" name=""/>
                <p:cNvSpPr/>
                <p:nvPr/>
              </p:nvSpPr>
              <p:spPr>
                <a:xfrm>
                  <a:off x="9295200" y="6055200"/>
                  <a:ext cx="190440" cy="14256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c4c4c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9293040" y="6051600"/>
                  <a:ext cx="195480" cy="14040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50000">
                      <a:srgbClr val="707070"/>
                    </a:gs>
                    <a:gs pos="100000">
                      <a:srgbClr val="3333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"/>
              <p:cNvSpPr/>
              <p:nvPr/>
            </p:nvSpPr>
            <p:spPr>
              <a:xfrm>
                <a:off x="9293040" y="6051600"/>
                <a:ext cx="195480" cy="1404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"/>
              <p:cNvGrpSpPr/>
              <p:nvPr/>
            </p:nvGrpSpPr>
            <p:grpSpPr>
              <a:xfrm>
                <a:off x="9307800" y="6051600"/>
                <a:ext cx="165600" cy="105120"/>
                <a:chOff x="9307800" y="6051600"/>
                <a:chExt cx="165600" cy="105120"/>
              </a:xfrm>
            </p:grpSpPr>
            <p:sp>
              <p:nvSpPr>
                <p:cNvPr id="1541" name=""/>
                <p:cNvSpPr/>
                <p:nvPr/>
              </p:nvSpPr>
              <p:spPr>
                <a:xfrm>
                  <a:off x="9307800" y="6051600"/>
                  <a:ext cx="165600" cy="10512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c4c4c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5400000">
                  <a:off x="9379800" y="6007680"/>
                  <a:ext cx="20520" cy="13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1497" y="250"/>
                        <a:pt x="1393" y="5080"/>
                        <a:pt x="1393" y="10800"/>
                      </a:cubicBezTo>
                      <a:cubicBezTo>
                        <a:pt x="1393" y="16520"/>
                        <a:pt x="11497" y="2135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9379440" y="6053400"/>
                  <a:ext cx="21960" cy="33840"/>
                </a:xfrm>
                <a:custGeom>
                  <a:avLst/>
                  <a:gdLst>
                    <a:gd name="textAreaLeft" fmla="*/ 2880 w 21960"/>
                    <a:gd name="textAreaRight" fmla="*/ 19080 w 21960"/>
                    <a:gd name="textAreaTop" fmla="*/ 2880 h 33840"/>
                    <a:gd name="textAreaBottom" fmla="*/ 30960 h 33840"/>
                  </a:gdLst>
                  <a:ahLst/>
                  <a:rect l="textAreaLeft" t="textAreaTop" r="textAreaRight" b="textAreaBottom"/>
                  <a:pathLst>
                    <a:path w="21600" h="33097">
                      <a:moveTo>
                        <a:pt x="9672" y="0"/>
                      </a:moveTo>
                      <a:arcTo wR="9672" hR="9672" stAng="16200000" swAng="-5400000"/>
                      <a:lnTo>
                        <a:pt x="0" y="23425"/>
                      </a:lnTo>
                      <a:arcTo wR="9672" hR="9672" stAng="10800000" swAng="-5400000"/>
                      <a:lnTo>
                        <a:pt x="11928" y="33097"/>
                      </a:lnTo>
                      <a:arcTo wR="9672" hR="9672" stAng="5400000" swAng="-5400000"/>
                      <a:lnTo>
                        <a:pt x="21600" y="9672"/>
                      </a:lnTo>
                      <a:arcTo wR="9672" hR="967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c3c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9383040" y="6051600"/>
                  <a:ext cx="14760" cy="29520"/>
                </a:xfrm>
                <a:custGeom>
                  <a:avLst/>
                  <a:gdLst>
                    <a:gd name="textAreaLeft" fmla="*/ 2160 w 14760"/>
                    <a:gd name="textAreaRight" fmla="*/ 12600 w 14760"/>
                    <a:gd name="textAreaTop" fmla="*/ 2160 h 29520"/>
                    <a:gd name="textAreaBottom" fmla="*/ 27360 h 29520"/>
                  </a:gdLst>
                  <a:ahLst/>
                  <a:rect l="textAreaLeft" t="textAreaTop" r="textAreaRight" b="textAreaBottom"/>
                  <a:pathLst>
                    <a:path w="21600" h="42686">
                      <a:moveTo>
                        <a:pt x="10800" y="0"/>
                      </a:moveTo>
                      <a:arcTo wR="10800" hR="10800" stAng="16200000" swAng="-5400000"/>
                      <a:lnTo>
                        <a:pt x="0" y="31886"/>
                      </a:lnTo>
                      <a:arcTo wR="10800" hR="10800" stAng="10800000" swAng="-5400000"/>
                      <a:lnTo>
                        <a:pt x="10800" y="4268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デスクトップＰＣ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2289240" y="907920"/>
            <a:ext cx="1584360" cy="1466280"/>
            <a:chOff x="2289240" y="907920"/>
            <a:chExt cx="1584360" cy="1466280"/>
          </a:xfrm>
        </p:grpSpPr>
        <p:grpSp>
          <p:nvGrpSpPr>
            <p:cNvPr id="1547" name=""/>
            <p:cNvGrpSpPr/>
            <p:nvPr/>
          </p:nvGrpSpPr>
          <p:grpSpPr>
            <a:xfrm>
              <a:off x="2788560" y="1760760"/>
              <a:ext cx="586080" cy="431280"/>
              <a:chOff x="2788560" y="1760760"/>
              <a:chExt cx="586080" cy="431280"/>
            </a:xfrm>
          </p:grpSpPr>
          <p:sp>
            <p:nvSpPr>
              <p:cNvPr id="1548" name=""/>
              <p:cNvSpPr/>
              <p:nvPr/>
            </p:nvSpPr>
            <p:spPr>
              <a:xfrm rot="5400000">
                <a:off x="3012480" y="1829880"/>
                <a:ext cx="137880" cy="586080"/>
              </a:xfrm>
              <a:prstGeom prst="flowChartDelay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6d6d6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5400000">
                <a:off x="3012480" y="1795320"/>
                <a:ext cx="137880" cy="586080"/>
              </a:xfrm>
              <a:prstGeom prst="flowChartDelay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d6d6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0" name=""/>
              <p:cNvGrpSpPr/>
              <p:nvPr/>
            </p:nvGrpSpPr>
            <p:grpSpPr>
              <a:xfrm>
                <a:off x="2943720" y="1760760"/>
                <a:ext cx="275040" cy="307440"/>
                <a:chOff x="2943720" y="1760760"/>
                <a:chExt cx="275040" cy="30744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2943720" y="1760760"/>
                  <a:ext cx="275040" cy="307440"/>
                </a:xfrm>
                <a:custGeom>
                  <a:avLst/>
                  <a:gdLst>
                    <a:gd name="textAreaLeft" fmla="*/ 8640 w 275040"/>
                    <a:gd name="textAreaRight" fmla="*/ 266400 w 275040"/>
                    <a:gd name="textAreaTop" fmla="*/ 8640 h 307440"/>
                    <a:gd name="textAreaBottom" fmla="*/ 298800 h 307440"/>
                  </a:gdLst>
                  <a:ahLst/>
                  <a:rect l="textAreaLeft" t="textAreaTop" r="textAreaRight" b="textAreaBottom"/>
                  <a:pathLst>
                    <a:path w="21600" h="24141">
                      <a:moveTo>
                        <a:pt x="2343" y="0"/>
                      </a:moveTo>
                      <a:arcTo wR="2343" hR="2343" stAng="16200000" swAng="-5400000"/>
                      <a:lnTo>
                        <a:pt x="0" y="21798"/>
                      </a:lnTo>
                      <a:arcTo wR="2343" hR="2343" stAng="10800000" swAng="-5400000"/>
                      <a:lnTo>
                        <a:pt x="19257" y="24141"/>
                      </a:lnTo>
                      <a:arcTo wR="2343" hR="2343" stAng="5400000" swAng="-5400000"/>
                      <a:lnTo>
                        <a:pt x="21600" y="2343"/>
                      </a:lnTo>
                      <a:arcTo wR="2343" hR="2343" stAng="0" swAng="-5400000"/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2943720" y="1760760"/>
                  <a:ext cx="45720" cy="307440"/>
                </a:xfrm>
                <a:custGeom>
                  <a:avLst/>
                  <a:gdLst>
                    <a:gd name="textAreaLeft" fmla="*/ 6480 w 45720"/>
                    <a:gd name="textAreaRight" fmla="*/ 39240 w 45720"/>
                    <a:gd name="textAreaTop" fmla="*/ 6480 h 307440"/>
                    <a:gd name="textAreaBottom" fmla="*/ 300960 h 307440"/>
                  </a:gdLst>
                  <a:ahLst/>
                  <a:rect l="textAreaLeft" t="textAreaTop" r="textAreaRight" b="textAreaBottom"/>
                  <a:pathLst>
                    <a:path w="21600" h="144281">
                      <a:moveTo>
                        <a:pt x="10800" y="0"/>
                      </a:moveTo>
                      <a:arcTo wR="10800" hR="10800" stAng="16200000" swAng="-5400000"/>
                      <a:lnTo>
                        <a:pt x="0" y="133481"/>
                      </a:lnTo>
                      <a:arcTo wR="10800" hR="10800" stAng="10800000" swAng="-5400000"/>
                      <a:lnTo>
                        <a:pt x="10800" y="144281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>
                        <a:alpha val="0"/>
                      </a:srgbClr>
                    </a:gs>
                    <a:gs pos="100000">
                      <a:srgbClr val="ffffff">
                        <a:alpha val="60392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173040" y="1760760"/>
                  <a:ext cx="45720" cy="307440"/>
                </a:xfrm>
                <a:custGeom>
                  <a:avLst/>
                  <a:gdLst>
                    <a:gd name="textAreaLeft" fmla="*/ 6480 w 45720"/>
                    <a:gd name="textAreaRight" fmla="*/ 39240 w 45720"/>
                    <a:gd name="textAreaTop" fmla="*/ 6480 h 307440"/>
                    <a:gd name="textAreaBottom" fmla="*/ 300960 h 307440"/>
                  </a:gdLst>
                  <a:ahLst/>
                  <a:rect l="textAreaLeft" t="textAreaTop" r="textAreaRight" b="textAreaBottom"/>
                  <a:pathLst>
                    <a:path w="21600" h="144281">
                      <a:moveTo>
                        <a:pt x="10800" y="0"/>
                      </a:moveTo>
                      <a:arcTo wR="10800" hR="10800" stAng="16200000" swAng="-5400000"/>
                      <a:lnTo>
                        <a:pt x="0" y="133481"/>
                      </a:lnTo>
                      <a:arcTo wR="10800" hR="10800" stAng="10800000" swAng="-5400000"/>
                      <a:lnTo>
                        <a:pt x="10800" y="144281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4" name=""/>
            <p:cNvSpPr/>
            <p:nvPr/>
          </p:nvSpPr>
          <p:spPr>
            <a:xfrm>
              <a:off x="2289240" y="987480"/>
              <a:ext cx="1584360" cy="982440"/>
            </a:xfrm>
            <a:prstGeom prst="roundRect">
              <a:avLst>
                <a:gd name="adj" fmla="val 294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716560" y="1843200"/>
              <a:ext cx="729360" cy="95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289240" y="907920"/>
              <a:ext cx="1584360" cy="982440"/>
            </a:xfrm>
            <a:prstGeom prst="roundRect">
              <a:avLst>
                <a:gd name="adj" fmla="val 294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8c8c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0800000">
              <a:off x="2349000" y="975960"/>
              <a:ext cx="1464120" cy="845280"/>
            </a:xfrm>
            <a:prstGeom prst="bevel">
              <a:avLst>
                <a:gd name="adj" fmla="val 391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358360" y="984600"/>
              <a:ext cx="1446480" cy="827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041640" y="1838520"/>
              <a:ext cx="79200" cy="1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0" name=""/>
            <p:cNvGrpSpPr/>
            <p:nvPr/>
          </p:nvGrpSpPr>
          <p:grpSpPr>
            <a:xfrm>
              <a:off x="2416320" y="2224080"/>
              <a:ext cx="1172160" cy="150120"/>
              <a:chOff x="2416320" y="2224080"/>
              <a:chExt cx="1172160" cy="150120"/>
            </a:xfrm>
          </p:grpSpPr>
          <p:grpSp>
            <p:nvGrpSpPr>
              <p:cNvPr id="1561" name=""/>
              <p:cNvGrpSpPr/>
              <p:nvPr/>
            </p:nvGrpSpPr>
            <p:grpSpPr>
              <a:xfrm>
                <a:off x="2416320" y="2224440"/>
                <a:ext cx="1172160" cy="149760"/>
                <a:chOff x="2416320" y="2224440"/>
                <a:chExt cx="1172160" cy="14976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2416320" y="2337480"/>
                  <a:ext cx="117216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2416320" y="2224440"/>
                  <a:ext cx="1172160" cy="131760"/>
                </a:xfrm>
                <a:custGeom>
                  <a:avLst/>
                  <a:gdLst>
                    <a:gd name="textAreaLeft" fmla="*/ 117360 w 1172160"/>
                    <a:gd name="textAreaRight" fmla="*/ 1054800 w 1172160"/>
                    <a:gd name="textAreaTop" fmla="*/ 12960 h 131760"/>
                    <a:gd name="textAreaBottom" fmla="*/ 118800 h 131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b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2435040" y="2337480"/>
                  <a:ext cx="113436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2454120" y="2224080"/>
                <a:ext cx="1096200" cy="94320"/>
                <a:chOff x="2454120" y="2224080"/>
                <a:chExt cx="1096200" cy="94320"/>
              </a:xfrm>
            </p:grpSpPr>
            <p:sp>
              <p:nvSpPr>
                <p:cNvPr id="1566" name=""/>
                <p:cNvSpPr/>
                <p:nvPr/>
              </p:nvSpPr>
              <p:spPr>
                <a:xfrm flipV="1">
                  <a:off x="245412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V="1">
                  <a:off x="250560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V="1">
                  <a:off x="255708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V="1">
                  <a:off x="260820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V="1">
                  <a:off x="267660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V="1">
                  <a:off x="272808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V="1">
                  <a:off x="277956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V="1">
                  <a:off x="283068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V="1">
                  <a:off x="289980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V="1">
                  <a:off x="295128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V="1">
                  <a:off x="300240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305388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V="1">
                  <a:off x="312228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V="1">
                  <a:off x="317376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V="1">
                  <a:off x="322488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V="1">
                  <a:off x="327636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V="1">
                  <a:off x="334512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V="1">
                  <a:off x="339624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V="1">
                  <a:off x="344772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V="1">
                  <a:off x="3499200" y="222372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V="1">
                  <a:off x="334512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339624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V="1">
                  <a:off x="344772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V="1">
                  <a:off x="349920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334440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339552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V="1">
                  <a:off x="344700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V="1">
                  <a:off x="349812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334440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V="1">
                  <a:off x="339588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V="1">
                  <a:off x="344736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V="1">
                  <a:off x="349848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V="1">
                  <a:off x="317376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V="1">
                  <a:off x="322488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V="1">
                  <a:off x="327636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317268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V="1">
                  <a:off x="322416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V="1">
                  <a:off x="327564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V="1">
                  <a:off x="317304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V="1">
                  <a:off x="322452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V="1">
                  <a:off x="327600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V="1">
                  <a:off x="245484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V="1">
                  <a:off x="250596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V="1">
                  <a:off x="255744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V="1">
                  <a:off x="260892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V="1">
                  <a:off x="245412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V="1">
                  <a:off x="250524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V="1">
                  <a:off x="255672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V="1">
                  <a:off x="260784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V="1">
                  <a:off x="245412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V="1">
                  <a:off x="250560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V="1">
                  <a:off x="255708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V="1">
                  <a:off x="260820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V="1">
                  <a:off x="265968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V="1">
                  <a:off x="271116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V="1">
                  <a:off x="276228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V="1">
                  <a:off x="281376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V="1">
                  <a:off x="265896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V="1">
                  <a:off x="271044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V="1">
                  <a:off x="276156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V="1">
                  <a:off x="281304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V="1">
                  <a:off x="265932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V="1">
                  <a:off x="2715120" y="2283840"/>
                  <a:ext cx="149400" cy="34200"/>
                </a:xfrm>
                <a:custGeom>
                  <a:avLst/>
                  <a:gdLst>
                    <a:gd name="textAreaLeft" fmla="*/ 12960 w 149400"/>
                    <a:gd name="textAreaRight" fmla="*/ 136440 w 149400"/>
                    <a:gd name="textAreaTop" fmla="*/ 2880 h 34200"/>
                    <a:gd name="textAreaBottom" fmla="*/ 313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V="1">
                  <a:off x="286596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V="1">
                  <a:off x="291708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V="1">
                  <a:off x="296856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V="1">
                  <a:off x="302004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V="1">
                  <a:off x="286524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V="1">
                  <a:off x="291636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V="1">
                  <a:off x="296784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V="1">
                  <a:off x="301896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V="1">
                  <a:off x="286560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291672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V="1">
                  <a:off x="296820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V="1">
                  <a:off x="301932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V="1">
                  <a:off x="3071520" y="2258280"/>
                  <a:ext cx="51120" cy="1692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2160 h 16920"/>
                    <a:gd name="textAreaBottom" fmla="*/ 14760 h 1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V="1">
                  <a:off x="3070800" y="2265120"/>
                  <a:ext cx="51120" cy="2376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3240 h 23760"/>
                    <a:gd name="textAreaBottom" fmla="*/ 205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V="1">
                  <a:off x="3071160" y="2283840"/>
                  <a:ext cx="51120" cy="34200"/>
                </a:xfrm>
                <a:custGeom>
                  <a:avLst/>
                  <a:gdLst>
                    <a:gd name="textAreaLeft" fmla="*/ 6840 w 51120"/>
                    <a:gd name="textAreaRight" fmla="*/ 44280 w 51120"/>
                    <a:gd name="textAreaTop" fmla="*/ 4680 h 34200"/>
                    <a:gd name="textAreaBottom" fmla="*/ 29520 h 3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4" name=""/>
            <p:cNvGrpSpPr/>
            <p:nvPr/>
          </p:nvGrpSpPr>
          <p:grpSpPr>
            <a:xfrm>
              <a:off x="3620520" y="2224440"/>
              <a:ext cx="145080" cy="109080"/>
              <a:chOff x="3620520" y="2224440"/>
              <a:chExt cx="145080" cy="109080"/>
            </a:xfrm>
          </p:grpSpPr>
          <p:sp>
            <p:nvSpPr>
              <p:cNvPr id="1645" name=""/>
              <p:cNvSpPr/>
              <p:nvPr/>
            </p:nvSpPr>
            <p:spPr>
              <a:xfrm>
                <a:off x="3621960" y="2226960"/>
                <a:ext cx="141480" cy="10656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620520" y="2224440"/>
                <a:ext cx="145080" cy="10476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c8c8c8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631320" y="2224440"/>
                <a:ext cx="122760" cy="7848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c8c8c8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5400000">
                <a:off x="3685320" y="2191680"/>
                <a:ext cx="15120" cy="9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1497" y="250"/>
                      <a:pt x="1393" y="5080"/>
                      <a:pt x="1393" y="10800"/>
                    </a:cubicBezTo>
                    <a:cubicBezTo>
                      <a:pt x="1393" y="16520"/>
                      <a:pt x="11497" y="2135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684600" y="2225880"/>
                <a:ext cx="16560" cy="25200"/>
              </a:xfrm>
              <a:custGeom>
                <a:avLst/>
                <a:gdLst>
                  <a:gd name="textAreaLeft" fmla="*/ 2160 w 16560"/>
                  <a:gd name="textAreaRight" fmla="*/ 14400 w 16560"/>
                  <a:gd name="textAreaTop" fmla="*/ 2160 h 25200"/>
                  <a:gd name="textAreaBottom" fmla="*/ 23040 h 25200"/>
                </a:gdLst>
                <a:ahLst/>
                <a:rect l="textAreaLeft" t="textAreaTop" r="textAreaRight" b="textAreaBottom"/>
                <a:pathLst>
                  <a:path w="21600" h="32630">
                    <a:moveTo>
                      <a:pt x="9672" y="0"/>
                    </a:moveTo>
                    <a:arcTo wR="9672" hR="9672" stAng="16200000" swAng="-5400000"/>
                    <a:lnTo>
                      <a:pt x="0" y="22958"/>
                    </a:lnTo>
                    <a:arcTo wR="9672" hR="9672" stAng="10800000" swAng="-5400000"/>
                    <a:lnTo>
                      <a:pt x="11928" y="32630"/>
                    </a:lnTo>
                    <a:arcTo wR="9672" hR="9672" stAng="5400000" swAng="-5400000"/>
                    <a:lnTo>
                      <a:pt x="21600" y="9672"/>
                    </a:lnTo>
                    <a:arcTo wR="9672" hR="967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c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687480" y="2224440"/>
                <a:ext cx="10800" cy="21960"/>
              </a:xfrm>
              <a:custGeom>
                <a:avLst/>
                <a:gdLst>
                  <a:gd name="textAreaLeft" fmla="*/ 1440 w 10800"/>
                  <a:gd name="textAreaRight" fmla="*/ 9360 w 10800"/>
                  <a:gd name="textAreaTop" fmla="*/ 1440 h 21960"/>
                  <a:gd name="textAreaBottom" fmla="*/ 20520 h 2196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10800" y="0"/>
                    </a:moveTo>
                    <a:arcTo wR="10800" hR="10800" stAng="16200000" swAng="-5400000"/>
                    <a:lnTo>
                      <a:pt x="0" y="32400"/>
                    </a:lnTo>
                    <a:arcTo wR="10800" hR="10800" stAng="10800000" swAng="-5400000"/>
                    <a:lnTo>
                      <a:pt x="10800" y="432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1" name=""/>
          <p:cNvGrpSpPr/>
          <p:nvPr/>
        </p:nvGrpSpPr>
        <p:grpSpPr>
          <a:xfrm>
            <a:off x="415800" y="907920"/>
            <a:ext cx="1586160" cy="1473120"/>
            <a:chOff x="415800" y="907920"/>
            <a:chExt cx="1586160" cy="1473120"/>
          </a:xfrm>
        </p:grpSpPr>
        <p:grpSp>
          <p:nvGrpSpPr>
            <p:cNvPr id="1652" name=""/>
            <p:cNvGrpSpPr/>
            <p:nvPr/>
          </p:nvGrpSpPr>
          <p:grpSpPr>
            <a:xfrm>
              <a:off x="486360" y="2222280"/>
              <a:ext cx="1247760" cy="158760"/>
              <a:chOff x="486360" y="2222280"/>
              <a:chExt cx="1247760" cy="158760"/>
            </a:xfrm>
          </p:grpSpPr>
          <p:grpSp>
            <p:nvGrpSpPr>
              <p:cNvPr id="1653" name=""/>
              <p:cNvGrpSpPr/>
              <p:nvPr/>
            </p:nvGrpSpPr>
            <p:grpSpPr>
              <a:xfrm>
                <a:off x="486360" y="2222280"/>
                <a:ext cx="1247760" cy="158760"/>
                <a:chOff x="486360" y="2222280"/>
                <a:chExt cx="1247760" cy="15876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486360" y="2342160"/>
                  <a:ext cx="1247760" cy="388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V="1">
                  <a:off x="486360" y="2221920"/>
                  <a:ext cx="1247760" cy="139320"/>
                </a:xfrm>
                <a:custGeom>
                  <a:avLst/>
                  <a:gdLst>
                    <a:gd name="textAreaLeft" fmla="*/ 124920 w 1247760"/>
                    <a:gd name="textAreaRight" fmla="*/ 1122840 w 1247760"/>
                    <a:gd name="textAreaTop" fmla="*/ 13680 h 139320"/>
                    <a:gd name="textAreaBottom" fmla="*/ 125640 h 13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506160" y="2342160"/>
                  <a:ext cx="1207440" cy="19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7" name=""/>
              <p:cNvGrpSpPr/>
              <p:nvPr/>
            </p:nvGrpSpPr>
            <p:grpSpPr>
              <a:xfrm>
                <a:off x="526680" y="2222640"/>
                <a:ext cx="1166760" cy="99360"/>
                <a:chOff x="526680" y="2222640"/>
                <a:chExt cx="1166760" cy="99360"/>
              </a:xfrm>
            </p:grpSpPr>
            <p:sp>
              <p:nvSpPr>
                <p:cNvPr id="1658" name=""/>
                <p:cNvSpPr/>
                <p:nvPr/>
              </p:nvSpPr>
              <p:spPr>
                <a:xfrm flipV="1">
                  <a:off x="52704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V="1">
                  <a:off x="58140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V="1">
                  <a:off x="63612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V="1">
                  <a:off x="69084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V="1">
                  <a:off x="76356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V="1">
                  <a:off x="81828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V="1">
                  <a:off x="87300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flipV="1">
                  <a:off x="92772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100116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flipV="1">
                  <a:off x="105588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flipV="1">
                  <a:off x="111060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flipV="1">
                  <a:off x="116532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flipV="1">
                  <a:off x="123804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V="1">
                  <a:off x="129276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V="1">
                  <a:off x="134748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V="1">
                  <a:off x="140184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V="1">
                  <a:off x="147528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152964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V="1">
                  <a:off x="158436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V="1">
                  <a:off x="1639080" y="222264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V="1">
                  <a:off x="147528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V="1">
                  <a:off x="152964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V="1">
                  <a:off x="158436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flipV="1">
                  <a:off x="163908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V="1">
                  <a:off x="147420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V="1">
                  <a:off x="152892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V="1">
                  <a:off x="158364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V="1">
                  <a:off x="163836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147492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152928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V="1">
                  <a:off x="158400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V="1">
                  <a:off x="163872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129276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V="1">
                  <a:off x="134748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V="1">
                  <a:off x="140184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V="1">
                  <a:off x="129204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V="1">
                  <a:off x="134640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140112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V="1">
                  <a:off x="129240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V="1">
                  <a:off x="134676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V="1">
                  <a:off x="140148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V="1">
                  <a:off x="52740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58176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V="1">
                  <a:off x="63648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V="1">
                  <a:off x="69120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V="1">
                  <a:off x="52668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V="1">
                  <a:off x="58104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V="1">
                  <a:off x="63576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V="1">
                  <a:off x="69048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V="1">
                  <a:off x="52704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V="1">
                  <a:off x="58140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V="1">
                  <a:off x="63612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V="1">
                  <a:off x="69084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V="1">
                  <a:off x="74556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V="1">
                  <a:off x="80028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85500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V="1">
                  <a:off x="90972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V="1">
                  <a:off x="74484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V="1">
                  <a:off x="79956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V="1">
                  <a:off x="85428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V="1">
                  <a:off x="90864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V="1">
                  <a:off x="74520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V="1">
                  <a:off x="804600" y="2286000"/>
                  <a:ext cx="159120" cy="36000"/>
                </a:xfrm>
                <a:custGeom>
                  <a:avLst/>
                  <a:gdLst>
                    <a:gd name="textAreaLeft" fmla="*/ 13680 w 159120"/>
                    <a:gd name="textAreaRight" fmla="*/ 145440 w 159120"/>
                    <a:gd name="textAreaTop" fmla="*/ 2880 h 36000"/>
                    <a:gd name="textAreaBottom" fmla="*/ 331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382" y="21600"/>
                      </a:lnTo>
                      <a:lnTo>
                        <a:pt x="21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V="1">
                  <a:off x="96516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V="1">
                  <a:off x="101952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V="1">
                  <a:off x="107424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V="1">
                  <a:off x="112896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V="1">
                  <a:off x="96408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101880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V="1">
                  <a:off x="107352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V="1">
                  <a:off x="112824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V="1">
                  <a:off x="96444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V="1">
                  <a:off x="101916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V="1">
                  <a:off x="107388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V="1">
                  <a:off x="112860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V="1">
                  <a:off x="1184040" y="2259360"/>
                  <a:ext cx="54360" cy="18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2520 h 18000"/>
                    <a:gd name="textAreaBottom" fmla="*/ 15480 h 1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V="1">
                  <a:off x="1183320" y="2265480"/>
                  <a:ext cx="54360" cy="252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V="1">
                  <a:off x="1183680" y="2286000"/>
                  <a:ext cx="54360" cy="36000"/>
                </a:xfrm>
                <a:custGeom>
                  <a:avLst/>
                  <a:gdLst>
                    <a:gd name="textAreaLeft" fmla="*/ 7560 w 54360"/>
                    <a:gd name="textAreaRight" fmla="*/ 46800 w 54360"/>
                    <a:gd name="textAreaTop" fmla="*/ 4680 h 36000"/>
                    <a:gd name="textAreaBottom" fmla="*/ 31320 h 3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364" y="21600"/>
                      </a:lnTo>
                      <a:lnTo>
                        <a:pt x="223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6" name=""/>
            <p:cNvGrpSpPr/>
            <p:nvPr/>
          </p:nvGrpSpPr>
          <p:grpSpPr>
            <a:xfrm>
              <a:off x="1785960" y="2222640"/>
              <a:ext cx="158760" cy="118080"/>
              <a:chOff x="1785960" y="2222640"/>
              <a:chExt cx="158760" cy="118080"/>
            </a:xfrm>
          </p:grpSpPr>
          <p:sp>
            <p:nvSpPr>
              <p:cNvPr id="1737" name=""/>
              <p:cNvSpPr/>
              <p:nvPr/>
            </p:nvSpPr>
            <p:spPr>
              <a:xfrm>
                <a:off x="1787760" y="2225520"/>
                <a:ext cx="154800" cy="1152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c4c4c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785960" y="2222640"/>
                <a:ext cx="158760" cy="11340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707070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797840" y="2222640"/>
                <a:ext cx="134640" cy="84960"/>
              </a:xfrm>
              <a:custGeom>
                <a:avLst/>
                <a:gdLst/>
                <a:ahLst/>
                <a:rect l="l" t="t" r="r" b="b"/>
                <a:pathLst>
                  <a:path w="998" h="423">
                    <a:moveTo>
                      <a:pt x="227" y="408"/>
                    </a:moveTo>
                    <a:cubicBezTo>
                      <a:pt x="355" y="423"/>
                      <a:pt x="643" y="423"/>
                      <a:pt x="771" y="408"/>
                    </a:cubicBezTo>
                    <a:cubicBezTo>
                      <a:pt x="899" y="393"/>
                      <a:pt x="998" y="378"/>
                      <a:pt x="998" y="318"/>
                    </a:cubicBezTo>
                    <a:cubicBezTo>
                      <a:pt x="998" y="258"/>
                      <a:pt x="899" y="90"/>
                      <a:pt x="771" y="45"/>
                    </a:cubicBezTo>
                    <a:cubicBezTo>
                      <a:pt x="643" y="0"/>
                      <a:pt x="355" y="0"/>
                      <a:pt x="227" y="45"/>
                    </a:cubicBezTo>
                    <a:cubicBezTo>
                      <a:pt x="99" y="90"/>
                      <a:pt x="0" y="258"/>
                      <a:pt x="0" y="318"/>
                    </a:cubicBezTo>
                    <a:cubicBezTo>
                      <a:pt x="0" y="378"/>
                      <a:pt x="99" y="393"/>
                      <a:pt x="227" y="4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c4c4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rot="5400000">
                <a:off x="1856520" y="2186640"/>
                <a:ext cx="16560" cy="10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1497" y="250"/>
                      <a:pt x="1393" y="5080"/>
                      <a:pt x="1393" y="10800"/>
                    </a:cubicBezTo>
                    <a:cubicBezTo>
                      <a:pt x="1393" y="16520"/>
                      <a:pt x="11497" y="2135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856160" y="2224080"/>
                <a:ext cx="18000" cy="27360"/>
              </a:xfrm>
              <a:custGeom>
                <a:avLst/>
                <a:gdLst>
                  <a:gd name="textAreaLeft" fmla="*/ 2160 w 18000"/>
                  <a:gd name="textAreaRight" fmla="*/ 15840 w 18000"/>
                  <a:gd name="textAreaTop" fmla="*/ 2160 h 27360"/>
                  <a:gd name="textAreaBottom" fmla="*/ 25200 h 27360"/>
                </a:gdLst>
                <a:ahLst/>
                <a:rect l="textAreaLeft" t="textAreaTop" r="textAreaRight" b="textAreaBottom"/>
                <a:pathLst>
                  <a:path w="21600" h="32612">
                    <a:moveTo>
                      <a:pt x="9672" y="0"/>
                    </a:moveTo>
                    <a:arcTo wR="9672" hR="9672" stAng="16200000" swAng="-5400000"/>
                    <a:lnTo>
                      <a:pt x="0" y="22940"/>
                    </a:lnTo>
                    <a:arcTo wR="9672" hR="9672" stAng="10800000" swAng="-5400000"/>
                    <a:lnTo>
                      <a:pt x="11928" y="32612"/>
                    </a:lnTo>
                    <a:arcTo wR="9672" hR="9672" stAng="5400000" swAng="-5400000"/>
                    <a:lnTo>
                      <a:pt x="21600" y="9672"/>
                    </a:lnTo>
                    <a:arcTo wR="9672" hR="967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c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859400" y="2222640"/>
                <a:ext cx="11880" cy="23760"/>
              </a:xfrm>
              <a:custGeom>
                <a:avLst/>
                <a:gdLst>
                  <a:gd name="textAreaLeft" fmla="*/ 1440 w 11880"/>
                  <a:gd name="textAreaRight" fmla="*/ 10440 w 11880"/>
                  <a:gd name="textAreaTop" fmla="*/ 1440 h 23760"/>
                  <a:gd name="textAreaBottom" fmla="*/ 22320 h 23760"/>
                </a:gdLst>
                <a:ahLst/>
                <a:rect l="textAreaLeft" t="textAreaTop" r="textAreaRight" b="textAreaBottom"/>
                <a:pathLst>
                  <a:path w="21600" h="42565">
                    <a:moveTo>
                      <a:pt x="10800" y="0"/>
                    </a:moveTo>
                    <a:arcTo wR="10800" hR="10800" stAng="16200000" swAng="-5400000"/>
                    <a:lnTo>
                      <a:pt x="0" y="31765"/>
                    </a:lnTo>
                    <a:arcTo wR="10800" hR="10800" stAng="10800000" swAng="-5400000"/>
                    <a:lnTo>
                      <a:pt x="10800" y="4256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915840" y="1761480"/>
              <a:ext cx="586800" cy="431640"/>
              <a:chOff x="915840" y="1761480"/>
              <a:chExt cx="586800" cy="431640"/>
            </a:xfrm>
          </p:grpSpPr>
          <p:sp>
            <p:nvSpPr>
              <p:cNvPr id="1744" name=""/>
              <p:cNvSpPr/>
              <p:nvPr/>
            </p:nvSpPr>
            <p:spPr>
              <a:xfrm rot="5400000">
                <a:off x="1140120" y="1830600"/>
                <a:ext cx="137880" cy="586800"/>
              </a:xfrm>
              <a:prstGeom prst="flowChartDelay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6d6d6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rot="5400000">
                <a:off x="1140120" y="1795680"/>
                <a:ext cx="137880" cy="586800"/>
              </a:xfrm>
              <a:prstGeom prst="flowChartDelay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d6d6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1071360" y="1761480"/>
                <a:ext cx="275760" cy="307800"/>
                <a:chOff x="1071360" y="1761480"/>
                <a:chExt cx="275760" cy="30780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1071360" y="1761480"/>
                  <a:ext cx="275400" cy="307800"/>
                </a:xfrm>
                <a:custGeom>
                  <a:avLst/>
                  <a:gdLst>
                    <a:gd name="textAreaLeft" fmla="*/ 8640 w 275400"/>
                    <a:gd name="textAreaRight" fmla="*/ 266760 w 275400"/>
                    <a:gd name="textAreaTop" fmla="*/ 8640 h 307800"/>
                    <a:gd name="textAreaBottom" fmla="*/ 299160 h 307800"/>
                  </a:gdLst>
                  <a:ahLst/>
                  <a:rect l="textAreaLeft" t="textAreaTop" r="textAreaRight" b="textAreaBottom"/>
                  <a:pathLst>
                    <a:path w="21600" h="24138">
                      <a:moveTo>
                        <a:pt x="2343" y="0"/>
                      </a:moveTo>
                      <a:arcTo wR="2343" hR="2343" stAng="16200000" swAng="-5400000"/>
                      <a:lnTo>
                        <a:pt x="0" y="21795"/>
                      </a:lnTo>
                      <a:arcTo wR="2343" hR="2343" stAng="10800000" swAng="-5400000"/>
                      <a:lnTo>
                        <a:pt x="19257" y="24138"/>
                      </a:lnTo>
                      <a:arcTo wR="2343" hR="2343" stAng="5400000" swAng="-5400000"/>
                      <a:lnTo>
                        <a:pt x="21600" y="2343"/>
                      </a:lnTo>
                      <a:arcTo wR="2343" hR="2343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1071360" y="1761480"/>
                  <a:ext cx="46080" cy="307800"/>
                </a:xfrm>
                <a:custGeom>
                  <a:avLst/>
                  <a:gdLst>
                    <a:gd name="textAreaLeft" fmla="*/ 6480 w 46080"/>
                    <a:gd name="textAreaRight" fmla="*/ 39600 w 46080"/>
                    <a:gd name="textAreaTop" fmla="*/ 6480 h 307800"/>
                    <a:gd name="textAreaBottom" fmla="*/ 301320 h 307800"/>
                  </a:gdLst>
                  <a:ahLst/>
                  <a:rect l="textAreaLeft" t="textAreaTop" r="textAreaRight" b="textAreaBottom"/>
                  <a:pathLst>
                    <a:path w="21600" h="143330">
                      <a:moveTo>
                        <a:pt x="10800" y="0"/>
                      </a:moveTo>
                      <a:arcTo wR="10800" hR="10800" stAng="16200000" swAng="-5400000"/>
                      <a:lnTo>
                        <a:pt x="0" y="132530"/>
                      </a:lnTo>
                      <a:arcTo wR="10800" hR="10800" stAng="10800000" swAng="-5400000"/>
                      <a:lnTo>
                        <a:pt x="10800" y="14333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>
                        <a:alpha val="0"/>
                      </a:srgbClr>
                    </a:gs>
                    <a:gs pos="100000">
                      <a:srgbClr val="ffffff">
                        <a:alpha val="60392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1301040" y="1761480"/>
                  <a:ext cx="46080" cy="307800"/>
                </a:xfrm>
                <a:custGeom>
                  <a:avLst/>
                  <a:gdLst>
                    <a:gd name="textAreaLeft" fmla="*/ 6480 w 46080"/>
                    <a:gd name="textAreaRight" fmla="*/ 39600 w 46080"/>
                    <a:gd name="textAreaTop" fmla="*/ 6480 h 307800"/>
                    <a:gd name="textAreaBottom" fmla="*/ 301320 h 307800"/>
                  </a:gdLst>
                  <a:ahLst/>
                  <a:rect l="textAreaLeft" t="textAreaTop" r="textAreaRight" b="textAreaBottom"/>
                  <a:pathLst>
                    <a:path w="21600" h="143330">
                      <a:moveTo>
                        <a:pt x="10800" y="0"/>
                      </a:moveTo>
                      <a:arcTo wR="10800" hR="10800" stAng="16200000" swAng="-5400000"/>
                      <a:lnTo>
                        <a:pt x="0" y="132530"/>
                      </a:lnTo>
                      <a:arcTo wR="10800" hR="10800" stAng="10800000" swAng="-5400000"/>
                      <a:lnTo>
                        <a:pt x="10800" y="14333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0" name=""/>
            <p:cNvSpPr/>
            <p:nvPr/>
          </p:nvSpPr>
          <p:spPr>
            <a:xfrm>
              <a:off x="415800" y="987480"/>
              <a:ext cx="1586160" cy="982800"/>
            </a:xfrm>
            <a:prstGeom prst="roundRect">
              <a:avLst>
                <a:gd name="adj" fmla="val 294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43840" y="1843920"/>
              <a:ext cx="730080" cy="95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15800" y="907920"/>
              <a:ext cx="1586160" cy="983160"/>
            </a:xfrm>
            <a:prstGeom prst="roundRect">
              <a:avLst>
                <a:gd name="adj" fmla="val 294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2c2c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10800000">
              <a:off x="475560" y="975600"/>
              <a:ext cx="1465920" cy="845640"/>
            </a:xfrm>
            <a:prstGeom prst="bevel">
              <a:avLst>
                <a:gd name="adj" fmla="val 391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4920" y="984600"/>
              <a:ext cx="1448280" cy="82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68920" y="1838880"/>
              <a:ext cx="79560" cy="20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4160880" y="3068640"/>
            <a:ext cx="1584000" cy="1166760"/>
            <a:chOff x="4160880" y="3068640"/>
            <a:chExt cx="1584000" cy="1166760"/>
          </a:xfrm>
        </p:grpSpPr>
        <p:grpSp>
          <p:nvGrpSpPr>
            <p:cNvPr id="1757" name=""/>
            <p:cNvGrpSpPr/>
            <p:nvPr/>
          </p:nvGrpSpPr>
          <p:grpSpPr>
            <a:xfrm>
              <a:off x="5385960" y="3127680"/>
              <a:ext cx="358920" cy="1107360"/>
              <a:chOff x="5385960" y="3127680"/>
              <a:chExt cx="358920" cy="1107360"/>
            </a:xfrm>
          </p:grpSpPr>
          <p:sp>
            <p:nvSpPr>
              <p:cNvPr id="1758" name=""/>
              <p:cNvSpPr/>
              <p:nvPr/>
            </p:nvSpPr>
            <p:spPr>
              <a:xfrm>
                <a:off x="5385960" y="3127680"/>
                <a:ext cx="358920" cy="1107360"/>
              </a:xfrm>
              <a:custGeom>
                <a:avLst/>
                <a:gdLst>
                  <a:gd name="textAreaLeft" fmla="*/ 6480 w 358920"/>
                  <a:gd name="textAreaRight" fmla="*/ 352440 w 358920"/>
                  <a:gd name="textAreaTop" fmla="*/ 6480 h 1107360"/>
                  <a:gd name="textAreaBottom" fmla="*/ 1100880 h 1107360"/>
                </a:gdLst>
                <a:ahLst/>
                <a:rect l="textAreaLeft" t="textAreaTop" r="textAreaRight" b="textAreaBottom"/>
                <a:pathLst>
                  <a:path w="21600" h="66596">
                    <a:moveTo>
                      <a:pt x="1342" y="0"/>
                    </a:moveTo>
                    <a:arcTo wR="1342" hR="1342" stAng="16200000" swAng="-5400000"/>
                    <a:lnTo>
                      <a:pt x="0" y="65254"/>
                    </a:lnTo>
                    <a:arcTo wR="1342" hR="1342" stAng="10800000" swAng="-5400000"/>
                    <a:lnTo>
                      <a:pt x="20258" y="66596"/>
                    </a:lnTo>
                    <a:arcTo wR="1342" hR="1342" stAng="5400000" swAng="-5400000"/>
                    <a:lnTo>
                      <a:pt x="21600" y="1342"/>
                    </a:lnTo>
                    <a:arcTo wR="1342" hR="134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5d5d5d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85960" y="3811320"/>
                <a:ext cx="358920" cy="261360"/>
              </a:xfrm>
              <a:custGeom>
                <a:avLst/>
                <a:gdLst/>
                <a:ahLst/>
                <a:rect l="l" t="t" r="r" b="b"/>
                <a:pathLst>
                  <a:path w="499" h="364">
                    <a:moveTo>
                      <a:pt x="0" y="23"/>
                    </a:moveTo>
                    <a:cubicBezTo>
                      <a:pt x="15" y="0"/>
                      <a:pt x="22" y="60"/>
                      <a:pt x="90" y="68"/>
                    </a:cubicBezTo>
                    <a:cubicBezTo>
                      <a:pt x="158" y="76"/>
                      <a:pt x="340" y="75"/>
                      <a:pt x="408" y="68"/>
                    </a:cubicBezTo>
                    <a:cubicBezTo>
                      <a:pt x="476" y="61"/>
                      <a:pt x="484" y="0"/>
                      <a:pt x="499" y="23"/>
                    </a:cubicBezTo>
                    <a:lnTo>
                      <a:pt x="499" y="205"/>
                    </a:lnTo>
                    <a:cubicBezTo>
                      <a:pt x="499" y="205"/>
                      <a:pt x="370" y="318"/>
                      <a:pt x="317" y="341"/>
                    </a:cubicBezTo>
                    <a:cubicBezTo>
                      <a:pt x="264" y="364"/>
                      <a:pt x="234" y="364"/>
                      <a:pt x="181" y="341"/>
                    </a:cubicBezTo>
                    <a:cubicBezTo>
                      <a:pt x="128" y="318"/>
                      <a:pt x="30" y="258"/>
                      <a:pt x="0" y="205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385960" y="3794760"/>
                <a:ext cx="358920" cy="261360"/>
              </a:xfrm>
              <a:custGeom>
                <a:avLst/>
                <a:gdLst/>
                <a:ahLst/>
                <a:rect l="l" t="t" r="r" b="b"/>
                <a:pathLst>
                  <a:path w="499" h="364">
                    <a:moveTo>
                      <a:pt x="0" y="23"/>
                    </a:moveTo>
                    <a:cubicBezTo>
                      <a:pt x="15" y="0"/>
                      <a:pt x="22" y="60"/>
                      <a:pt x="90" y="68"/>
                    </a:cubicBezTo>
                    <a:cubicBezTo>
                      <a:pt x="158" y="76"/>
                      <a:pt x="340" y="75"/>
                      <a:pt x="408" y="68"/>
                    </a:cubicBezTo>
                    <a:cubicBezTo>
                      <a:pt x="476" y="61"/>
                      <a:pt x="484" y="0"/>
                      <a:pt x="499" y="23"/>
                    </a:cubicBezTo>
                    <a:lnTo>
                      <a:pt x="499" y="205"/>
                    </a:lnTo>
                    <a:cubicBezTo>
                      <a:pt x="499" y="205"/>
                      <a:pt x="370" y="318"/>
                      <a:pt x="317" y="341"/>
                    </a:cubicBezTo>
                    <a:cubicBezTo>
                      <a:pt x="264" y="364"/>
                      <a:pt x="234" y="364"/>
                      <a:pt x="181" y="341"/>
                    </a:cubicBezTo>
                    <a:cubicBezTo>
                      <a:pt x="128" y="318"/>
                      <a:pt x="30" y="258"/>
                      <a:pt x="0" y="205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5508000" y="3876840"/>
                <a:ext cx="114840" cy="114840"/>
                <a:chOff x="5508000" y="3876840"/>
                <a:chExt cx="114840" cy="11484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5508000" y="3876840"/>
                  <a:ext cx="114840" cy="11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b0b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rot="10800000">
                  <a:off x="5524560" y="3893400"/>
                  <a:ext cx="82080" cy="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b0b0b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4" name=""/>
              <p:cNvGrpSpPr/>
              <p:nvPr/>
            </p:nvGrpSpPr>
            <p:grpSpPr>
              <a:xfrm>
                <a:off x="5385960" y="4071960"/>
                <a:ext cx="64440" cy="130680"/>
                <a:chOff x="5385960" y="4071960"/>
                <a:chExt cx="64440" cy="130680"/>
              </a:xfrm>
            </p:grpSpPr>
            <p:sp>
              <p:nvSpPr>
                <p:cNvPr id="1765" name=""/>
                <p:cNvSpPr/>
                <p:nvPr/>
              </p:nvSpPr>
              <p:spPr>
                <a:xfrm>
                  <a:off x="5385960" y="407196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5385960" y="409104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5385960" y="411012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5385960" y="412992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5385960" y="414900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5385960" y="416844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5385960" y="418788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2" name=""/>
              <p:cNvGrpSpPr/>
              <p:nvPr/>
            </p:nvGrpSpPr>
            <p:grpSpPr>
              <a:xfrm>
                <a:off x="5680080" y="4071960"/>
                <a:ext cx="64440" cy="130680"/>
                <a:chOff x="5680080" y="4071960"/>
                <a:chExt cx="64440" cy="13068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5680080" y="407196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5680080" y="409104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5680080" y="411012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5680080" y="412992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5680080" y="414900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5680080" y="416844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680080" y="4187880"/>
                  <a:ext cx="64440" cy="14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0" name=""/>
              <p:cNvSpPr/>
              <p:nvPr/>
            </p:nvSpPr>
            <p:spPr>
              <a:xfrm>
                <a:off x="5544720" y="3258000"/>
                <a:ext cx="33120" cy="520560"/>
              </a:xfrm>
              <a:custGeom>
                <a:avLst/>
                <a:gdLst>
                  <a:gd name="textAreaLeft" fmla="*/ 1440 w 33120"/>
                  <a:gd name="textAreaRight" fmla="*/ 31680 w 33120"/>
                  <a:gd name="textAreaTop" fmla="*/ 1440 h 520560"/>
                  <a:gd name="textAreaBottom" fmla="*/ 519120 h 520560"/>
                </a:gdLst>
                <a:ahLst/>
                <a:rect l="textAreaLeft" t="textAreaTop" r="textAreaRight" b="textAreaBottom"/>
                <a:pathLst>
                  <a:path w="21600" h="336077">
                    <a:moveTo>
                      <a:pt x="3600" y="0"/>
                    </a:moveTo>
                    <a:arcTo wR="3600" hR="3600" stAng="16200000" swAng="-5400000"/>
                    <a:lnTo>
                      <a:pt x="0" y="332477"/>
                    </a:lnTo>
                    <a:arcTo wR="3600" hR="3600" stAng="10800000" swAng="-5400000"/>
                    <a:lnTo>
                      <a:pt x="18000" y="3360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549040" y="3322800"/>
                <a:ext cx="23760" cy="391320"/>
              </a:xfrm>
              <a:custGeom>
                <a:avLst/>
                <a:gdLst>
                  <a:gd name="textAreaLeft" fmla="*/ 3240 w 23760"/>
                  <a:gd name="textAreaRight" fmla="*/ 20520 w 23760"/>
                  <a:gd name="textAreaTop" fmla="*/ 3240 h 391320"/>
                  <a:gd name="textAreaBottom" fmla="*/ 388080 h 391320"/>
                </a:gdLst>
                <a:ahLst/>
                <a:rect l="textAreaLeft" t="textAreaTop" r="textAreaRight" b="textAreaBottom"/>
                <a:pathLst>
                  <a:path w="21600" h="350758">
                    <a:moveTo>
                      <a:pt x="10800" y="0"/>
                    </a:moveTo>
                    <a:arcTo wR="10800" hR="10800" stAng="16200000" swAng="-5400000"/>
                    <a:lnTo>
                      <a:pt x="0" y="339958"/>
                    </a:lnTo>
                    <a:arcTo wR="10800" hR="10800" stAng="10800000" swAng="-5400000"/>
                    <a:lnTo>
                      <a:pt x="10800" y="35075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4160880" y="3068640"/>
              <a:ext cx="1167120" cy="1166760"/>
              <a:chOff x="4160880" y="3068640"/>
              <a:chExt cx="1167120" cy="1166760"/>
            </a:xfrm>
          </p:grpSpPr>
          <p:sp>
            <p:nvSpPr>
              <p:cNvPr id="1783" name=""/>
              <p:cNvSpPr/>
              <p:nvPr/>
            </p:nvSpPr>
            <p:spPr>
              <a:xfrm flipV="1">
                <a:off x="4402080" y="4134600"/>
                <a:ext cx="683640" cy="66600"/>
              </a:xfrm>
              <a:custGeom>
                <a:avLst/>
                <a:gdLst>
                  <a:gd name="textAreaLeft" fmla="*/ 70920 w 683640"/>
                  <a:gd name="textAreaRight" fmla="*/ 612720 w 683640"/>
                  <a:gd name="textAreaTop" fmla="*/ 6840 h 66600"/>
                  <a:gd name="textAreaBottom" fmla="*/ 59760 h 6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402080" y="4201920"/>
                <a:ext cx="683640" cy="33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4602600" y="4018680"/>
                <a:ext cx="283320" cy="133200"/>
              </a:xfrm>
              <a:custGeom>
                <a:avLst/>
                <a:gdLst>
                  <a:gd name="textAreaLeft" fmla="*/ 29520 w 283320"/>
                  <a:gd name="textAreaRight" fmla="*/ 253800 w 283320"/>
                  <a:gd name="textAreaTop" fmla="*/ 13680 h 133200"/>
                  <a:gd name="textAreaBottom" fmla="*/ 119520 h 13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160880" y="3968640"/>
                <a:ext cx="1167120" cy="83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160880" y="3068640"/>
                <a:ext cx="1167120" cy="900000"/>
              </a:xfrm>
              <a:prstGeom prst="roundRect">
                <a:avLst>
                  <a:gd name="adj" fmla="val 294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0800000">
                <a:off x="4194000" y="3101400"/>
                <a:ext cx="1100160" cy="849960"/>
              </a:xfrm>
              <a:prstGeom prst="bevel">
                <a:avLst>
                  <a:gd name="adj" fmla="val 5921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83838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02640" y="3110400"/>
                <a:ext cx="1083600" cy="8334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e7f3f4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194000" y="4002120"/>
                <a:ext cx="66240" cy="1656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719240" y="3985560"/>
                <a:ext cx="49680" cy="49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10800000">
                <a:off x="4727520" y="3993480"/>
                <a:ext cx="33120" cy="33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74747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160880" y="3068640"/>
                <a:ext cx="1167120" cy="900000"/>
              </a:xfrm>
              <a:prstGeom prst="roundRect">
                <a:avLst>
                  <a:gd name="adj" fmla="val 2940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4" name=""/>
          <p:cNvGrpSpPr/>
          <p:nvPr/>
        </p:nvGrpSpPr>
        <p:grpSpPr>
          <a:xfrm>
            <a:off x="7905600" y="2997360"/>
            <a:ext cx="1584360" cy="1210680"/>
            <a:chOff x="7905600" y="2997360"/>
            <a:chExt cx="1584360" cy="1210680"/>
          </a:xfrm>
        </p:grpSpPr>
        <p:grpSp>
          <p:nvGrpSpPr>
            <p:cNvPr id="1795" name=""/>
            <p:cNvGrpSpPr/>
            <p:nvPr/>
          </p:nvGrpSpPr>
          <p:grpSpPr>
            <a:xfrm>
              <a:off x="9176400" y="3058200"/>
              <a:ext cx="313560" cy="1149840"/>
              <a:chOff x="9176400" y="3058200"/>
              <a:chExt cx="313560" cy="1149840"/>
            </a:xfrm>
          </p:grpSpPr>
          <p:sp>
            <p:nvSpPr>
              <p:cNvPr id="1796" name=""/>
              <p:cNvSpPr/>
              <p:nvPr/>
            </p:nvSpPr>
            <p:spPr>
              <a:xfrm>
                <a:off x="9176400" y="3058200"/>
                <a:ext cx="313560" cy="114984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757575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9246240" y="3058200"/>
                <a:ext cx="174240" cy="1149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8" name=""/>
              <p:cNvGrpSpPr/>
              <p:nvPr/>
            </p:nvGrpSpPr>
            <p:grpSpPr>
              <a:xfrm>
                <a:off x="9297720" y="3963960"/>
                <a:ext cx="69840" cy="69840"/>
                <a:chOff x="9297720" y="3963960"/>
                <a:chExt cx="69840" cy="6984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9297720" y="3963960"/>
                  <a:ext cx="69840" cy="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b0b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rot="10800000">
                  <a:off x="9307440" y="3973680"/>
                  <a:ext cx="5004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b0b0b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9297720" y="4068360"/>
                <a:ext cx="69840" cy="69840"/>
                <a:chOff x="9297720" y="4068360"/>
                <a:chExt cx="69840" cy="6984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9297720" y="4068360"/>
                  <a:ext cx="69840" cy="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b0b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rot="10800000">
                  <a:off x="9307440" y="4078080"/>
                  <a:ext cx="5004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b0b0b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9315360" y="3145680"/>
                <a:ext cx="35280" cy="556920"/>
              </a:xfrm>
              <a:custGeom>
                <a:avLst/>
                <a:gdLst>
                  <a:gd name="textAreaLeft" fmla="*/ 1440 w 35280"/>
                  <a:gd name="textAreaRight" fmla="*/ 33840 w 35280"/>
                  <a:gd name="textAreaTop" fmla="*/ 1440 h 556920"/>
                  <a:gd name="textAreaBottom" fmla="*/ 555480 h 556920"/>
                </a:gdLst>
                <a:ahLst/>
                <a:rect l="textAreaLeft" t="textAreaTop" r="textAreaRight" b="textAreaBottom"/>
                <a:pathLst>
                  <a:path w="21600" h="337745">
                    <a:moveTo>
                      <a:pt x="3600" y="0"/>
                    </a:moveTo>
                    <a:arcTo wR="3600" hR="3600" stAng="16200000" swAng="-5400000"/>
                    <a:lnTo>
                      <a:pt x="0" y="334145"/>
                    </a:lnTo>
                    <a:arcTo wR="3600" hR="3600" stAng="10800000" swAng="-5400000"/>
                    <a:lnTo>
                      <a:pt x="18000" y="3377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9320040" y="3214800"/>
                <a:ext cx="25200" cy="418320"/>
              </a:xfrm>
              <a:custGeom>
                <a:avLst/>
                <a:gdLst>
                  <a:gd name="textAreaLeft" fmla="*/ 3600 w 25200"/>
                  <a:gd name="textAreaRight" fmla="*/ 21600 w 25200"/>
                  <a:gd name="textAreaTop" fmla="*/ 3600 h 418320"/>
                  <a:gd name="textAreaBottom" fmla="*/ 414720 h 418320"/>
                </a:gdLst>
                <a:ahLst/>
                <a:rect l="textAreaLeft" t="textAreaTop" r="textAreaRight" b="textAreaBottom"/>
                <a:pathLst>
                  <a:path w="21600" h="353814">
                    <a:moveTo>
                      <a:pt x="10800" y="0"/>
                    </a:moveTo>
                    <a:arcTo wR="10800" hR="10800" stAng="16200000" swAng="-5400000"/>
                    <a:lnTo>
                      <a:pt x="0" y="343014"/>
                    </a:lnTo>
                    <a:arcTo wR="10800" hR="10800" stAng="10800000" swAng="-5400000"/>
                    <a:lnTo>
                      <a:pt x="10800" y="35381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6" name=""/>
            <p:cNvGrpSpPr/>
            <p:nvPr/>
          </p:nvGrpSpPr>
          <p:grpSpPr>
            <a:xfrm>
              <a:off x="7905600" y="2997360"/>
              <a:ext cx="1209600" cy="1208880"/>
              <a:chOff x="7905600" y="2997360"/>
              <a:chExt cx="1209600" cy="1208880"/>
            </a:xfrm>
          </p:grpSpPr>
          <p:sp>
            <p:nvSpPr>
              <p:cNvPr id="1807" name=""/>
              <p:cNvSpPr/>
              <p:nvPr/>
            </p:nvSpPr>
            <p:spPr>
              <a:xfrm flipV="1">
                <a:off x="8156160" y="4102560"/>
                <a:ext cx="708120" cy="69120"/>
              </a:xfrm>
              <a:custGeom>
                <a:avLst/>
                <a:gdLst>
                  <a:gd name="textAreaLeft" fmla="*/ 73440 w 708120"/>
                  <a:gd name="textAreaRight" fmla="*/ 634680 w 708120"/>
                  <a:gd name="textAreaTop" fmla="*/ 7200 h 69120"/>
                  <a:gd name="textAreaBottom" fmla="*/ 61920 h 6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8156160" y="4171680"/>
                <a:ext cx="708120" cy="34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8362800" y="3981240"/>
                <a:ext cx="294480" cy="138240"/>
              </a:xfrm>
              <a:custGeom>
                <a:avLst/>
                <a:gdLst>
                  <a:gd name="textAreaLeft" fmla="*/ 30600 w 294480"/>
                  <a:gd name="textAreaRight" fmla="*/ 263880 w 294480"/>
                  <a:gd name="textAreaTop" fmla="*/ 14400 h 138240"/>
                  <a:gd name="textAreaBottom" fmla="*/ 123840 h 13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05600" y="3930480"/>
                <a:ext cx="1209600" cy="84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50000">
                    <a:srgbClr val="cfcfc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05600" y="2997360"/>
                <a:ext cx="1209600" cy="933120"/>
              </a:xfrm>
              <a:prstGeom prst="roundRect">
                <a:avLst>
                  <a:gd name="adj" fmla="val 2940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10800000">
                <a:off x="7940160" y="3031560"/>
                <a:ext cx="1139760" cy="880920"/>
              </a:xfrm>
              <a:prstGeom prst="bevel">
                <a:avLst>
                  <a:gd name="adj" fmla="val 5921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cfcfc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49520" y="3041280"/>
                <a:ext cx="1122840" cy="862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e7f3f4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40160" y="3965400"/>
                <a:ext cx="69120" cy="1584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8484120" y="3947760"/>
                <a:ext cx="51840" cy="51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d4d4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10800000">
                <a:off x="8493480" y="3955320"/>
                <a:ext cx="33120" cy="34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d4d4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05600" y="2997360"/>
                <a:ext cx="1209600" cy="933120"/>
              </a:xfrm>
              <a:prstGeom prst="roundRect">
                <a:avLst>
                  <a:gd name="adj" fmla="val 2940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8" name=""/>
          <p:cNvGrpSpPr/>
          <p:nvPr/>
        </p:nvGrpSpPr>
        <p:grpSpPr>
          <a:xfrm>
            <a:off x="6032520" y="3068640"/>
            <a:ext cx="1584000" cy="1196640"/>
            <a:chOff x="6032520" y="3068640"/>
            <a:chExt cx="1584000" cy="1196640"/>
          </a:xfrm>
        </p:grpSpPr>
        <p:grpSp>
          <p:nvGrpSpPr>
            <p:cNvPr id="1819" name=""/>
            <p:cNvGrpSpPr/>
            <p:nvPr/>
          </p:nvGrpSpPr>
          <p:grpSpPr>
            <a:xfrm>
              <a:off x="7229520" y="3068640"/>
              <a:ext cx="387000" cy="1195560"/>
              <a:chOff x="7229520" y="3068640"/>
              <a:chExt cx="387000" cy="1195560"/>
            </a:xfrm>
          </p:grpSpPr>
          <p:sp>
            <p:nvSpPr>
              <p:cNvPr id="1820" name=""/>
              <p:cNvSpPr/>
              <p:nvPr/>
            </p:nvSpPr>
            <p:spPr>
              <a:xfrm>
                <a:off x="7229520" y="3068640"/>
                <a:ext cx="387000" cy="1195560"/>
              </a:xfrm>
              <a:custGeom>
                <a:avLst/>
                <a:gdLst>
                  <a:gd name="textAreaLeft" fmla="*/ 6840 w 387000"/>
                  <a:gd name="textAreaRight" fmla="*/ 380160 w 387000"/>
                  <a:gd name="textAreaTop" fmla="*/ 6840 h 1195560"/>
                  <a:gd name="textAreaBottom" fmla="*/ 1188720 h 1195560"/>
                </a:gdLst>
                <a:ahLst/>
                <a:rect l="textAreaLeft" t="textAreaTop" r="textAreaRight" b="textAreaBottom"/>
                <a:pathLst>
                  <a:path w="21600" h="66687">
                    <a:moveTo>
                      <a:pt x="1342" y="0"/>
                    </a:moveTo>
                    <a:arcTo wR="1342" hR="1342" stAng="16200000" swAng="-5400000"/>
                    <a:lnTo>
                      <a:pt x="0" y="65345"/>
                    </a:lnTo>
                    <a:arcTo wR="1342" hR="1342" stAng="10800000" swAng="-5400000"/>
                    <a:lnTo>
                      <a:pt x="20258" y="66687"/>
                    </a:lnTo>
                    <a:arcTo wR="1342" hR="1342" stAng="5400000" swAng="-5400000"/>
                    <a:lnTo>
                      <a:pt x="21600" y="1342"/>
                    </a:lnTo>
                    <a:arcTo wR="1342" hR="134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aaaaaa"/>
                  </a:gs>
                  <a:gs pos="50000">
                    <a:srgbClr val="eaeaea"/>
                  </a:gs>
                  <a:gs pos="100000">
                    <a:srgbClr val="aaaaa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247160" y="3103200"/>
                <a:ext cx="176040" cy="527760"/>
              </a:xfrm>
              <a:custGeom>
                <a:avLst/>
                <a:gdLst>
                  <a:gd name="textAreaLeft" fmla="*/ 2880 w 176040"/>
                  <a:gd name="textAreaRight" fmla="*/ 173160 w 176040"/>
                  <a:gd name="textAreaTop" fmla="*/ 2880 h 527760"/>
                  <a:gd name="textAreaBottom" fmla="*/ 524880 h 527760"/>
                </a:gdLst>
                <a:ahLst/>
                <a:rect l="textAreaLeft" t="textAreaTop" r="textAreaRight" b="textAreaBottom"/>
                <a:pathLst>
                  <a:path w="21600" h="64668">
                    <a:moveTo>
                      <a:pt x="1342" y="0"/>
                    </a:moveTo>
                    <a:arcTo wR="1342" hR="1342" stAng="16200000" swAng="-5400000"/>
                    <a:lnTo>
                      <a:pt x="0" y="63326"/>
                    </a:lnTo>
                    <a:arcTo wR="1342" hR="1342" stAng="10800000" swAng="-5400000"/>
                    <a:lnTo>
                      <a:pt x="20258" y="64668"/>
                    </a:lnTo>
                    <a:arcTo wR="1342" hR="1342" stAng="5400000" swAng="-5400000"/>
                    <a:lnTo>
                      <a:pt x="21600" y="1342"/>
                    </a:lnTo>
                    <a:arcTo wR="1342" hR="134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eaeaea"/>
                  </a:gs>
                </a:gsLst>
                <a:lin ang="108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423200" y="3103200"/>
                <a:ext cx="175320" cy="527760"/>
              </a:xfrm>
              <a:custGeom>
                <a:avLst/>
                <a:gdLst>
                  <a:gd name="textAreaLeft" fmla="*/ 2880 w 175320"/>
                  <a:gd name="textAreaRight" fmla="*/ 172440 w 175320"/>
                  <a:gd name="textAreaTop" fmla="*/ 2880 h 527760"/>
                  <a:gd name="textAreaBottom" fmla="*/ 524880 h 527760"/>
                </a:gdLst>
                <a:ahLst/>
                <a:rect l="textAreaLeft" t="textAreaTop" r="textAreaRight" b="textAreaBottom"/>
                <a:pathLst>
                  <a:path w="21600" h="64933">
                    <a:moveTo>
                      <a:pt x="1342" y="0"/>
                    </a:moveTo>
                    <a:arcTo wR="1342" hR="1342" stAng="16200000" swAng="-5400000"/>
                    <a:lnTo>
                      <a:pt x="0" y="63591"/>
                    </a:lnTo>
                    <a:arcTo wR="1342" hR="1342" stAng="10800000" swAng="-5400000"/>
                    <a:lnTo>
                      <a:pt x="20258" y="64933"/>
                    </a:lnTo>
                    <a:arcTo wR="1342" hR="1342" stAng="5400000" swAng="-5400000"/>
                    <a:lnTo>
                      <a:pt x="21600" y="1342"/>
                    </a:lnTo>
                    <a:arcTo wR="1342" hR="134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50000">
                    <a:srgbClr val="fefefe"/>
                  </a:gs>
                  <a:gs pos="100000">
                    <a:srgbClr val="eaeaea"/>
                  </a:gs>
                </a:gsLst>
                <a:lin ang="108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247160" y="3701160"/>
                <a:ext cx="176040" cy="527760"/>
              </a:xfrm>
              <a:custGeom>
                <a:avLst/>
                <a:gdLst>
                  <a:gd name="textAreaLeft" fmla="*/ 2880 w 176040"/>
                  <a:gd name="textAreaRight" fmla="*/ 173160 w 176040"/>
                  <a:gd name="textAreaTop" fmla="*/ 2880 h 527760"/>
                  <a:gd name="textAreaBottom" fmla="*/ 524880 h 527760"/>
                </a:gdLst>
                <a:ahLst/>
                <a:rect l="textAreaLeft" t="textAreaTop" r="textAreaRight" b="textAreaBottom"/>
                <a:pathLst>
                  <a:path w="21600" h="64668">
                    <a:moveTo>
                      <a:pt x="1342" y="0"/>
                    </a:moveTo>
                    <a:arcTo wR="1342" hR="1342" stAng="16200000" swAng="-5400000"/>
                    <a:lnTo>
                      <a:pt x="0" y="63326"/>
                    </a:lnTo>
                    <a:arcTo wR="1342" hR="1342" stAng="10800000" swAng="-5400000"/>
                    <a:lnTo>
                      <a:pt x="20258" y="64668"/>
                    </a:lnTo>
                    <a:arcTo wR="1342" hR="1342" stAng="5400000" swAng="-5400000"/>
                    <a:lnTo>
                      <a:pt x="21600" y="1342"/>
                    </a:lnTo>
                    <a:arcTo wR="1342" hR="134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eaeaea"/>
                  </a:gs>
                </a:gsLst>
                <a:lin ang="108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3200" y="3701160"/>
                <a:ext cx="175320" cy="527760"/>
              </a:xfrm>
              <a:custGeom>
                <a:avLst/>
                <a:gdLst>
                  <a:gd name="textAreaLeft" fmla="*/ 2880 w 175320"/>
                  <a:gd name="textAreaRight" fmla="*/ 172440 w 175320"/>
                  <a:gd name="textAreaTop" fmla="*/ 2880 h 527760"/>
                  <a:gd name="textAreaBottom" fmla="*/ 524880 h 527760"/>
                </a:gdLst>
                <a:ahLst/>
                <a:rect l="textAreaLeft" t="textAreaTop" r="textAreaRight" b="textAreaBottom"/>
                <a:pathLst>
                  <a:path w="21600" h="64933">
                    <a:moveTo>
                      <a:pt x="1342" y="0"/>
                    </a:moveTo>
                    <a:arcTo wR="1342" hR="1342" stAng="16200000" swAng="-5400000"/>
                    <a:lnTo>
                      <a:pt x="0" y="63591"/>
                    </a:lnTo>
                    <a:arcTo wR="1342" hR="1342" stAng="10800000" swAng="-5400000"/>
                    <a:lnTo>
                      <a:pt x="20258" y="64933"/>
                    </a:lnTo>
                    <a:arcTo wR="1342" hR="1342" stAng="5400000" swAng="-5400000"/>
                    <a:lnTo>
                      <a:pt x="21600" y="1342"/>
                    </a:lnTo>
                    <a:arcTo wR="1342" hR="134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50000">
                    <a:srgbClr val="fefefe"/>
                  </a:gs>
                  <a:gs pos="100000">
                    <a:srgbClr val="eaeaea"/>
                  </a:gs>
                </a:gsLst>
                <a:lin ang="108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5" name=""/>
              <p:cNvGrpSpPr/>
              <p:nvPr/>
            </p:nvGrpSpPr>
            <p:grpSpPr>
              <a:xfrm>
                <a:off x="7475400" y="3174120"/>
                <a:ext cx="70560" cy="70200"/>
                <a:chOff x="7475400" y="3174120"/>
                <a:chExt cx="70560" cy="7020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7475400" y="3174120"/>
                  <a:ext cx="70560" cy="7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b0b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rot="10800000">
                  <a:off x="7485480" y="3183840"/>
                  <a:ext cx="5040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6f6f6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8" name=""/>
            <p:cNvGrpSpPr/>
            <p:nvPr/>
          </p:nvGrpSpPr>
          <p:grpSpPr>
            <a:xfrm>
              <a:off x="6032520" y="3068640"/>
              <a:ext cx="1148040" cy="1196640"/>
              <a:chOff x="6032520" y="3068640"/>
              <a:chExt cx="1148040" cy="1196640"/>
            </a:xfrm>
          </p:grpSpPr>
          <p:grpSp>
            <p:nvGrpSpPr>
              <p:cNvPr id="1829" name=""/>
              <p:cNvGrpSpPr/>
              <p:nvPr/>
            </p:nvGrpSpPr>
            <p:grpSpPr>
              <a:xfrm>
                <a:off x="6291360" y="3974760"/>
                <a:ext cx="630360" cy="290520"/>
                <a:chOff x="6291360" y="3974760"/>
                <a:chExt cx="630360" cy="29052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6291360" y="4136400"/>
                  <a:ext cx="6303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6b6b"/>
                    </a:gs>
                    <a:gs pos="50000">
                      <a:srgbClr val="eaeaea"/>
                    </a:gs>
                    <a:gs pos="100000">
                      <a:srgbClr val="6b6b6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6291360" y="4136400"/>
                  <a:ext cx="630360" cy="11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6b6b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6501240" y="3974760"/>
                  <a:ext cx="210240" cy="210240"/>
                </a:xfrm>
                <a:prstGeom prst="roundRect">
                  <a:avLst>
                    <a:gd name="adj" fmla="val 8644"/>
                  </a:avLst>
                </a:prstGeom>
                <a:gradFill rotWithShape="0">
                  <a:gsLst>
                    <a:gs pos="0">
                      <a:srgbClr val="6b6b6b"/>
                    </a:gs>
                    <a:gs pos="50000">
                      <a:srgbClr val="eaeaea"/>
                    </a:gs>
                    <a:gs pos="100000">
                      <a:srgbClr val="6b6b6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3" name=""/>
              <p:cNvSpPr/>
              <p:nvPr/>
            </p:nvSpPr>
            <p:spPr>
              <a:xfrm>
                <a:off x="6032520" y="3068640"/>
                <a:ext cx="1148040" cy="986760"/>
              </a:xfrm>
              <a:prstGeom prst="roundRect">
                <a:avLst>
                  <a:gd name="adj" fmla="val 2458"/>
                </a:avLst>
              </a:prstGeom>
              <a:gradFill rotWithShape="0">
                <a:gsLst>
                  <a:gs pos="0">
                    <a:srgbClr val="a2a2a2"/>
                  </a:gs>
                  <a:gs pos="50000">
                    <a:srgbClr val="eaeaea"/>
                  </a:gs>
                  <a:gs pos="100000">
                    <a:srgbClr val="a2a2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4" name=""/>
              <p:cNvGrpSpPr/>
              <p:nvPr/>
            </p:nvGrpSpPr>
            <p:grpSpPr>
              <a:xfrm>
                <a:off x="6517440" y="4006800"/>
                <a:ext cx="177840" cy="32400"/>
                <a:chOff x="6517440" y="4006800"/>
                <a:chExt cx="177840" cy="32400"/>
              </a:xfrm>
            </p:grpSpPr>
            <p:sp>
              <p:nvSpPr>
                <p:cNvPr id="1835" name=""/>
                <p:cNvSpPr/>
                <p:nvPr/>
              </p:nvSpPr>
              <p:spPr>
                <a:xfrm>
                  <a:off x="6517440" y="4006800"/>
                  <a:ext cx="32400" cy="3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6565680" y="4006800"/>
                  <a:ext cx="32400" cy="3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614280" y="4006800"/>
                  <a:ext cx="32400" cy="3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6662880" y="4006800"/>
                  <a:ext cx="32400" cy="3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9" name=""/>
              <p:cNvSpPr/>
              <p:nvPr/>
            </p:nvSpPr>
            <p:spPr>
              <a:xfrm>
                <a:off x="6040440" y="3076560"/>
                <a:ext cx="1132200" cy="946440"/>
              </a:xfrm>
              <a:prstGeom prst="roundRect">
                <a:avLst>
                  <a:gd name="adj" fmla="val 2458"/>
                </a:avLst>
              </a:prstGeom>
              <a:gradFill rotWithShape="0">
                <a:gsLst>
                  <a:gs pos="0">
                    <a:srgbClr val="aaaaaa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080760" y="3117240"/>
                <a:ext cx="1050840" cy="857160"/>
              </a:xfrm>
              <a:prstGeom prst="roundRect">
                <a:avLst>
                  <a:gd name="adj" fmla="val 583"/>
                </a:avLst>
              </a:prstGeom>
              <a:gradFill rotWithShape="0">
                <a:gsLst>
                  <a:gs pos="0">
                    <a:srgbClr val="6b6b6b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089040" y="3125520"/>
                <a:ext cx="1034640" cy="840960"/>
              </a:xfrm>
              <a:prstGeom prst="roundRect">
                <a:avLst>
                  <a:gd name="adj" fmla="val 583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7c7c7c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2" name=""/>
          <p:cNvGrpSpPr/>
          <p:nvPr/>
        </p:nvGrpSpPr>
        <p:grpSpPr>
          <a:xfrm>
            <a:off x="4160880" y="1052640"/>
            <a:ext cx="1576080" cy="1267920"/>
            <a:chOff x="4160880" y="1052640"/>
            <a:chExt cx="1576080" cy="1267920"/>
          </a:xfrm>
        </p:grpSpPr>
        <p:grpSp>
          <p:nvGrpSpPr>
            <p:cNvPr id="1843" name=""/>
            <p:cNvGrpSpPr/>
            <p:nvPr/>
          </p:nvGrpSpPr>
          <p:grpSpPr>
            <a:xfrm>
              <a:off x="4160880" y="1052640"/>
              <a:ext cx="1477080" cy="1116000"/>
              <a:chOff x="4160880" y="1052640"/>
              <a:chExt cx="1477080" cy="1116000"/>
            </a:xfrm>
          </p:grpSpPr>
          <p:sp>
            <p:nvSpPr>
              <p:cNvPr id="1844" name=""/>
              <p:cNvSpPr/>
              <p:nvPr/>
            </p:nvSpPr>
            <p:spPr>
              <a:xfrm>
                <a:off x="4160880" y="1052640"/>
                <a:ext cx="1477080" cy="9475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160880" y="1052640"/>
                <a:ext cx="1477080" cy="947520"/>
              </a:xfrm>
              <a:prstGeom prst="roundRect">
                <a:avLst>
                  <a:gd name="adj" fmla="val 0"/>
                </a:avLst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4773240" y="2060640"/>
                <a:ext cx="252360" cy="108000"/>
              </a:xfrm>
              <a:custGeom>
                <a:avLst/>
                <a:gdLst>
                  <a:gd name="textAreaLeft" fmla="*/ 24840 w 252360"/>
                  <a:gd name="textAreaRight" fmla="*/ 227520 w 252360"/>
                  <a:gd name="textAreaTop" fmla="*/ 10440 h 108000"/>
                  <a:gd name="textAreaBottom" fmla="*/ 975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903" y="21600"/>
                    </a:lnTo>
                    <a:lnTo>
                      <a:pt x="69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167360" y="2021760"/>
                <a:ext cx="1463400" cy="58680"/>
              </a:xfrm>
              <a:custGeom>
                <a:avLst/>
                <a:gdLst>
                  <a:gd name="textAreaLeft" fmla="*/ 219600 w 1463400"/>
                  <a:gd name="textAreaRight" fmla="*/ 1243800 w 1463400"/>
                  <a:gd name="textAreaTop" fmla="*/ 8640 h 58680"/>
                  <a:gd name="textAreaBottom" fmla="*/ 50040 h 5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16" y="21600"/>
                    </a:lnTo>
                    <a:lnTo>
                      <a:pt x="26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c8c8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823280" y="1920960"/>
                <a:ext cx="152280" cy="30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6200000">
                <a:off x="4891680" y="1266120"/>
                <a:ext cx="15120" cy="1446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989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160880" y="1067760"/>
                <a:ext cx="147708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1" name=""/>
              <p:cNvGrpSpPr/>
              <p:nvPr/>
            </p:nvGrpSpPr>
            <p:grpSpPr>
              <a:xfrm>
                <a:off x="4197240" y="1100160"/>
                <a:ext cx="1404720" cy="816120"/>
                <a:chOff x="4197240" y="1100160"/>
                <a:chExt cx="1404720" cy="81612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4197240" y="1100160"/>
                  <a:ext cx="1388160" cy="80028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213800" y="1116000"/>
                  <a:ext cx="1355040" cy="768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197240" y="1900440"/>
                  <a:ext cx="140472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5" name=""/>
              <p:cNvSpPr/>
              <p:nvPr/>
            </p:nvSpPr>
            <p:spPr>
              <a:xfrm>
                <a:off x="4160880" y="1989000"/>
                <a:ext cx="1477080" cy="356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4233240" y="2133000"/>
              <a:ext cx="1503720" cy="187560"/>
              <a:chOff x="4233240" y="2133000"/>
              <a:chExt cx="1503720" cy="187560"/>
            </a:xfrm>
          </p:grpSpPr>
          <p:grpSp>
            <p:nvGrpSpPr>
              <p:cNvPr id="1857" name=""/>
              <p:cNvGrpSpPr/>
              <p:nvPr/>
            </p:nvGrpSpPr>
            <p:grpSpPr>
              <a:xfrm>
                <a:off x="5555160" y="2133000"/>
                <a:ext cx="181800" cy="135360"/>
                <a:chOff x="5555160" y="2133000"/>
                <a:chExt cx="181800" cy="13536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5557320" y="2136240"/>
                  <a:ext cx="177120" cy="13212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c4c4c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5555160" y="2133000"/>
                  <a:ext cx="181800" cy="12996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50000">
                      <a:srgbClr val="707070"/>
                    </a:gs>
                    <a:gs pos="100000">
                      <a:srgbClr val="3333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8840" y="2133000"/>
                  <a:ext cx="154080" cy="9720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rot="5400000">
                  <a:off x="5636160" y="2091960"/>
                  <a:ext cx="19080" cy="12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1497" y="250"/>
                        <a:pt x="1393" y="5080"/>
                        <a:pt x="1393" y="10800"/>
                      </a:cubicBezTo>
                      <a:cubicBezTo>
                        <a:pt x="1393" y="16520"/>
                        <a:pt x="11497" y="2135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635800" y="2134800"/>
                  <a:ext cx="20520" cy="31320"/>
                </a:xfrm>
                <a:custGeom>
                  <a:avLst/>
                  <a:gdLst>
                    <a:gd name="textAreaLeft" fmla="*/ 2520 w 20520"/>
                    <a:gd name="textAreaRight" fmla="*/ 18000 w 20520"/>
                    <a:gd name="textAreaTop" fmla="*/ 2520 h 31320"/>
                    <a:gd name="textAreaBottom" fmla="*/ 28800 h 31320"/>
                  </a:gdLst>
                  <a:ahLst/>
                  <a:rect l="textAreaLeft" t="textAreaTop" r="textAreaRight" b="textAreaBottom"/>
                  <a:pathLst>
                    <a:path w="21600" h="32772">
                      <a:moveTo>
                        <a:pt x="9672" y="0"/>
                      </a:moveTo>
                      <a:arcTo wR="9672" hR="9672" stAng="16200000" swAng="-5400000"/>
                      <a:lnTo>
                        <a:pt x="0" y="23100"/>
                      </a:lnTo>
                      <a:arcTo wR="9672" hR="9672" stAng="10800000" swAng="-5400000"/>
                      <a:lnTo>
                        <a:pt x="11928" y="32772"/>
                      </a:lnTo>
                      <a:arcTo wR="9672" hR="9672" stAng="5400000" swAng="-5400000"/>
                      <a:lnTo>
                        <a:pt x="21600" y="9672"/>
                      </a:lnTo>
                      <a:arcTo wR="9672" hR="967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c3c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639040" y="2133000"/>
                  <a:ext cx="13680" cy="27360"/>
                </a:xfrm>
                <a:custGeom>
                  <a:avLst/>
                  <a:gdLst>
                    <a:gd name="textAreaLeft" fmla="*/ 1800 w 13680"/>
                    <a:gd name="textAreaRight" fmla="*/ 11880 w 13680"/>
                    <a:gd name="textAreaTop" fmla="*/ 1800 h 27360"/>
                    <a:gd name="textAreaBottom" fmla="*/ 25560 h 27360"/>
                  </a:gdLst>
                  <a:ahLst/>
                  <a:rect l="textAreaLeft" t="textAreaTop" r="textAreaRight" b="textAreaBottom"/>
                  <a:pathLst>
                    <a:path w="21600" h="42646">
                      <a:moveTo>
                        <a:pt x="10800" y="0"/>
                      </a:moveTo>
                      <a:arcTo wR="10800" hR="10800" stAng="16200000" swAng="-5400000"/>
                      <a:lnTo>
                        <a:pt x="0" y="31846"/>
                      </a:lnTo>
                      <a:arcTo wR="10800" hR="10800" stAng="10800000" swAng="-5400000"/>
                      <a:lnTo>
                        <a:pt x="10800" y="4264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4233240" y="2133000"/>
                <a:ext cx="1261440" cy="187560"/>
                <a:chOff x="4233240" y="2133000"/>
                <a:chExt cx="1261440" cy="18756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4233240" y="2240280"/>
                  <a:ext cx="1240560" cy="80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4233240" y="2253240"/>
                  <a:ext cx="126144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V="1">
                  <a:off x="4233240" y="2133000"/>
                  <a:ext cx="1261440" cy="140400"/>
                </a:xfrm>
                <a:custGeom>
                  <a:avLst/>
                  <a:gdLst>
                    <a:gd name="textAreaLeft" fmla="*/ 126360 w 1261440"/>
                    <a:gd name="textAreaRight" fmla="*/ 1135080 w 1261440"/>
                    <a:gd name="textAreaTop" fmla="*/ 14040 h 140400"/>
                    <a:gd name="textAreaBottom" fmla="*/ 126360 h 140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8" name=""/>
                <p:cNvGrpSpPr/>
                <p:nvPr/>
              </p:nvGrpSpPr>
              <p:grpSpPr>
                <a:xfrm>
                  <a:off x="4273920" y="2133000"/>
                  <a:ext cx="1179360" cy="99720"/>
                  <a:chOff x="4273920" y="2133000"/>
                  <a:chExt cx="1179360" cy="99720"/>
                </a:xfrm>
              </p:grpSpPr>
              <p:sp>
                <p:nvSpPr>
                  <p:cNvPr id="1869" name=""/>
                  <p:cNvSpPr/>
                  <p:nvPr/>
                </p:nvSpPr>
                <p:spPr>
                  <a:xfrm flipV="1">
                    <a:off x="427428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 flipV="1">
                    <a:off x="432936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 flipV="1">
                    <a:off x="438480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 flipV="1">
                    <a:off x="443988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 flipV="1">
                    <a:off x="451332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 flipV="1">
                    <a:off x="456876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 flipV="1">
                    <a:off x="462384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 flipV="1">
                    <a:off x="467928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 flipV="1">
                    <a:off x="475344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 flipV="1">
                    <a:off x="480852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 flipV="1">
                    <a:off x="486396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 flipV="1">
                    <a:off x="491904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 flipV="1">
                    <a:off x="499284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 flipV="1">
                    <a:off x="504792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 flipV="1">
                    <a:off x="510300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 flipV="1">
                    <a:off x="515844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 flipV="1">
                    <a:off x="523224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 flipV="1">
                    <a:off x="528768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 flipV="1">
                    <a:off x="534276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 flipV="1">
                    <a:off x="5398200" y="21330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 flipV="1">
                    <a:off x="523224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 flipV="1">
                    <a:off x="528768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 flipV="1">
                    <a:off x="534276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 flipV="1">
                    <a:off x="539820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 flipV="1">
                    <a:off x="523152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 flipV="1">
                    <a:off x="528696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 flipV="1">
                    <a:off x="534204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 flipV="1">
                    <a:off x="539712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 flipV="1">
                    <a:off x="523188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 flipV="1">
                    <a:off x="528732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 flipV="1">
                    <a:off x="534240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 flipV="1">
                    <a:off x="539748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 flipV="1">
                    <a:off x="504792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 flipV="1">
                    <a:off x="510300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 flipV="1">
                    <a:off x="515844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 flipV="1">
                    <a:off x="504720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 flipV="1">
                    <a:off x="510228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 flipV="1">
                    <a:off x="515772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 flipV="1">
                    <a:off x="504756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 flipV="1">
                    <a:off x="510264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 flipV="1">
                    <a:off x="515808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 flipV="1">
                    <a:off x="427464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 flipV="1">
                    <a:off x="432972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 flipV="1">
                    <a:off x="438516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 flipV="1">
                    <a:off x="444024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 flipV="1">
                    <a:off x="427392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 flipV="1">
                    <a:off x="432900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 flipV="1">
                    <a:off x="438408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 flipV="1">
                    <a:off x="443952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 flipV="1">
                    <a:off x="427428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 flipV="1">
                    <a:off x="432936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 flipV="1">
                    <a:off x="438480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 flipV="1">
                    <a:off x="443988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 flipV="1">
                    <a:off x="449496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 flipV="1">
                    <a:off x="455040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 flipV="1">
                    <a:off x="460548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 flipV="1">
                    <a:off x="466092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 flipV="1">
                    <a:off x="449424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 flipV="1">
                    <a:off x="454968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 flipV="1">
                    <a:off x="460476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 flipV="1">
                    <a:off x="465984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 flipV="1">
                    <a:off x="449460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 flipV="1">
                    <a:off x="4554720" y="2196000"/>
                    <a:ext cx="160560" cy="36360"/>
                  </a:xfrm>
                  <a:custGeom>
                    <a:avLst/>
                    <a:gdLst>
                      <a:gd name="textAreaLeft" fmla="*/ 13680 w 160560"/>
                      <a:gd name="textAreaRight" fmla="*/ 146880 w 160560"/>
                      <a:gd name="textAreaTop" fmla="*/ 2880 h 36360"/>
                      <a:gd name="textAreaBottom" fmla="*/ 3348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382" y="21600"/>
                        </a:lnTo>
                        <a:lnTo>
                          <a:pt x="218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 flipV="1">
                    <a:off x="471708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 flipV="1">
                    <a:off x="477216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 flipV="1">
                    <a:off x="482724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 flipV="1">
                    <a:off x="488268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 flipV="1">
                    <a:off x="471600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 flipV="1">
                    <a:off x="477144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V="1">
                    <a:off x="482652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 flipV="1">
                    <a:off x="488196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 flipV="1">
                    <a:off x="471636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 flipV="1">
                    <a:off x="477180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 flipV="1">
                    <a:off x="482688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 flipV="1">
                    <a:off x="488232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 flipV="1">
                    <a:off x="4938120" y="216972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 flipV="1">
                    <a:off x="4937400" y="217620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 flipV="1">
                    <a:off x="4937760" y="219600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7" name=""/>
                <p:cNvSpPr/>
                <p:nvPr/>
              </p:nvSpPr>
              <p:spPr>
                <a:xfrm rot="16200000">
                  <a:off x="4853880" y="1672920"/>
                  <a:ext cx="26280" cy="121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680" y="1033"/>
                        <a:pt x="5760" y="5080"/>
                        <a:pt x="5760" y="10800"/>
                      </a:cubicBezTo>
                      <a:cubicBezTo>
                        <a:pt x="5760" y="16520"/>
                        <a:pt x="13680" y="2056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48" name=""/>
          <p:cNvGrpSpPr/>
          <p:nvPr/>
        </p:nvGrpSpPr>
        <p:grpSpPr>
          <a:xfrm>
            <a:off x="6032520" y="1052640"/>
            <a:ext cx="1583640" cy="1270800"/>
            <a:chOff x="6032520" y="1052640"/>
            <a:chExt cx="1583640" cy="1270800"/>
          </a:xfrm>
        </p:grpSpPr>
        <p:grpSp>
          <p:nvGrpSpPr>
            <p:cNvPr id="1949" name=""/>
            <p:cNvGrpSpPr/>
            <p:nvPr/>
          </p:nvGrpSpPr>
          <p:grpSpPr>
            <a:xfrm>
              <a:off x="6032520" y="1052640"/>
              <a:ext cx="1476360" cy="1116000"/>
              <a:chOff x="6032520" y="1052640"/>
              <a:chExt cx="1476360" cy="1116000"/>
            </a:xfrm>
          </p:grpSpPr>
          <p:sp>
            <p:nvSpPr>
              <p:cNvPr id="1950" name=""/>
              <p:cNvSpPr/>
              <p:nvPr/>
            </p:nvSpPr>
            <p:spPr>
              <a:xfrm flipV="1">
                <a:off x="6644160" y="2060640"/>
                <a:ext cx="252360" cy="108000"/>
              </a:xfrm>
              <a:custGeom>
                <a:avLst/>
                <a:gdLst>
                  <a:gd name="textAreaLeft" fmla="*/ 24840 w 252360"/>
                  <a:gd name="textAreaRight" fmla="*/ 227520 w 252360"/>
                  <a:gd name="textAreaTop" fmla="*/ 10440 h 108000"/>
                  <a:gd name="textAreaBottom" fmla="*/ 975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903" y="21600"/>
                    </a:lnTo>
                    <a:lnTo>
                      <a:pt x="69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032520" y="1052640"/>
                <a:ext cx="1476360" cy="9475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038640" y="2021760"/>
                <a:ext cx="1462680" cy="58680"/>
              </a:xfrm>
              <a:custGeom>
                <a:avLst/>
                <a:gdLst>
                  <a:gd name="textAreaLeft" fmla="*/ 219240 w 1462680"/>
                  <a:gd name="textAreaRight" fmla="*/ 1243440 w 1462680"/>
                  <a:gd name="textAreaTop" fmla="*/ 8640 h 58680"/>
                  <a:gd name="textAreaBottom" fmla="*/ 50040 h 5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16" y="21600"/>
                    </a:lnTo>
                    <a:lnTo>
                      <a:pt x="26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c8c8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694200" y="1920960"/>
                <a:ext cx="152280" cy="30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16200000">
                <a:off x="6762960" y="1266120"/>
                <a:ext cx="14760" cy="144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989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032520" y="1067760"/>
                <a:ext cx="14763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6" name=""/>
              <p:cNvGrpSpPr/>
              <p:nvPr/>
            </p:nvGrpSpPr>
            <p:grpSpPr>
              <a:xfrm>
                <a:off x="6068880" y="1100160"/>
                <a:ext cx="1404000" cy="816480"/>
                <a:chOff x="6068880" y="1100160"/>
                <a:chExt cx="1404000" cy="81648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6068880" y="1100160"/>
                  <a:ext cx="1387440" cy="8006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085440" y="1116000"/>
                  <a:ext cx="1354320" cy="76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6068880" y="1900800"/>
                  <a:ext cx="14040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0" name=""/>
              <p:cNvSpPr/>
              <p:nvPr/>
            </p:nvSpPr>
            <p:spPr>
              <a:xfrm>
                <a:off x="6032520" y="1989000"/>
                <a:ext cx="1476360" cy="356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6113160" y="2135880"/>
              <a:ext cx="1503000" cy="187560"/>
              <a:chOff x="6113160" y="2135880"/>
              <a:chExt cx="1503000" cy="187560"/>
            </a:xfrm>
          </p:grpSpPr>
          <p:grpSp>
            <p:nvGrpSpPr>
              <p:cNvPr id="1962" name=""/>
              <p:cNvGrpSpPr/>
              <p:nvPr/>
            </p:nvGrpSpPr>
            <p:grpSpPr>
              <a:xfrm>
                <a:off x="7434360" y="2135880"/>
                <a:ext cx="181800" cy="135360"/>
                <a:chOff x="7434360" y="2135880"/>
                <a:chExt cx="181800" cy="1353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7436520" y="2139120"/>
                  <a:ext cx="177120" cy="13212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c4c4c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7434360" y="2135880"/>
                  <a:ext cx="181800" cy="12996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50000">
                      <a:srgbClr val="707070"/>
                    </a:gs>
                    <a:gs pos="100000">
                      <a:srgbClr val="3333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7448040" y="2135880"/>
                  <a:ext cx="154080" cy="9720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rot="5400000">
                  <a:off x="7515360" y="2094840"/>
                  <a:ext cx="19080" cy="12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1497" y="250"/>
                        <a:pt x="1393" y="5080"/>
                        <a:pt x="1393" y="10800"/>
                      </a:cubicBezTo>
                      <a:cubicBezTo>
                        <a:pt x="1393" y="16520"/>
                        <a:pt x="11497" y="2135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7515000" y="2137680"/>
                  <a:ext cx="20520" cy="31320"/>
                </a:xfrm>
                <a:custGeom>
                  <a:avLst/>
                  <a:gdLst>
                    <a:gd name="textAreaLeft" fmla="*/ 2520 w 20520"/>
                    <a:gd name="textAreaRight" fmla="*/ 18000 w 20520"/>
                    <a:gd name="textAreaTop" fmla="*/ 2520 h 31320"/>
                    <a:gd name="textAreaBottom" fmla="*/ 28800 h 31320"/>
                  </a:gdLst>
                  <a:ahLst/>
                  <a:rect l="textAreaLeft" t="textAreaTop" r="textAreaRight" b="textAreaBottom"/>
                  <a:pathLst>
                    <a:path w="21600" h="32772">
                      <a:moveTo>
                        <a:pt x="9672" y="0"/>
                      </a:moveTo>
                      <a:arcTo wR="9672" hR="9672" stAng="16200000" swAng="-5400000"/>
                      <a:lnTo>
                        <a:pt x="0" y="23100"/>
                      </a:lnTo>
                      <a:arcTo wR="9672" hR="9672" stAng="10800000" swAng="-5400000"/>
                      <a:lnTo>
                        <a:pt x="11928" y="32772"/>
                      </a:lnTo>
                      <a:arcTo wR="9672" hR="9672" stAng="5400000" swAng="-5400000"/>
                      <a:lnTo>
                        <a:pt x="21600" y="9672"/>
                      </a:lnTo>
                      <a:arcTo wR="9672" hR="967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c3c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7518240" y="2135880"/>
                  <a:ext cx="13680" cy="27360"/>
                </a:xfrm>
                <a:custGeom>
                  <a:avLst/>
                  <a:gdLst>
                    <a:gd name="textAreaLeft" fmla="*/ 1800 w 13680"/>
                    <a:gd name="textAreaRight" fmla="*/ 11880 w 13680"/>
                    <a:gd name="textAreaTop" fmla="*/ 1800 h 27360"/>
                    <a:gd name="textAreaBottom" fmla="*/ 25560 h 27360"/>
                  </a:gdLst>
                  <a:ahLst/>
                  <a:rect l="textAreaLeft" t="textAreaTop" r="textAreaRight" b="textAreaBottom"/>
                  <a:pathLst>
                    <a:path w="21600" h="42646">
                      <a:moveTo>
                        <a:pt x="10800" y="0"/>
                      </a:moveTo>
                      <a:arcTo wR="10800" hR="10800" stAng="16200000" swAng="-5400000"/>
                      <a:lnTo>
                        <a:pt x="0" y="31846"/>
                      </a:lnTo>
                      <a:arcTo wR="10800" hR="10800" stAng="10800000" swAng="-5400000"/>
                      <a:lnTo>
                        <a:pt x="10800" y="4264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9" name=""/>
              <p:cNvGrpSpPr/>
              <p:nvPr/>
            </p:nvGrpSpPr>
            <p:grpSpPr>
              <a:xfrm>
                <a:off x="6113160" y="2135880"/>
                <a:ext cx="1260720" cy="187560"/>
                <a:chOff x="6113160" y="2135880"/>
                <a:chExt cx="1260720" cy="187560"/>
              </a:xfrm>
            </p:grpSpPr>
            <p:sp>
              <p:nvSpPr>
                <p:cNvPr id="1970" name=""/>
                <p:cNvSpPr/>
                <p:nvPr/>
              </p:nvSpPr>
              <p:spPr>
                <a:xfrm>
                  <a:off x="6113160" y="2243160"/>
                  <a:ext cx="1239840" cy="80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113160" y="2256120"/>
                  <a:ext cx="12607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V="1">
                  <a:off x="6113160" y="2135880"/>
                  <a:ext cx="1260720" cy="140400"/>
                </a:xfrm>
                <a:custGeom>
                  <a:avLst/>
                  <a:gdLst>
                    <a:gd name="textAreaLeft" fmla="*/ 126000 w 1260720"/>
                    <a:gd name="textAreaRight" fmla="*/ 1134720 w 1260720"/>
                    <a:gd name="textAreaTop" fmla="*/ 14040 h 140400"/>
                    <a:gd name="textAreaBottom" fmla="*/ 126360 h 140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6153840" y="2135880"/>
                  <a:ext cx="1179000" cy="99720"/>
                  <a:chOff x="6153840" y="2135880"/>
                  <a:chExt cx="1179000" cy="9972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 flipV="1">
                    <a:off x="615420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flipV="1">
                    <a:off x="620928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V="1">
                    <a:off x="626436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 flipV="1">
                    <a:off x="631980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 flipV="1">
                    <a:off x="63932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V="1">
                    <a:off x="644832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V="1">
                    <a:off x="650376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 flipV="1">
                    <a:off x="65588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flipV="1">
                    <a:off x="663336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 flipV="1">
                    <a:off x="66884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 flipV="1">
                    <a:off x="674352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 flipV="1">
                    <a:off x="679896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 flipV="1">
                    <a:off x="687240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 flipV="1">
                    <a:off x="692748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 flipV="1">
                    <a:off x="698292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 flipV="1">
                    <a:off x="703800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 flipV="1">
                    <a:off x="711216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 flipV="1">
                    <a:off x="71672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 flipV="1">
                    <a:off x="722232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 flipV="1">
                    <a:off x="727776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 flipV="1">
                    <a:off x="711216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 flipV="1">
                    <a:off x="71672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 flipV="1">
                    <a:off x="722232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 flipV="1">
                    <a:off x="727776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 flipV="1">
                    <a:off x="711108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 flipV="1">
                    <a:off x="716652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flipV="1">
                    <a:off x="722160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V="1">
                    <a:off x="727668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 flipV="1">
                    <a:off x="711144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 flipV="1">
                    <a:off x="716688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 flipV="1">
                    <a:off x="722196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 flipV="1">
                    <a:off x="727704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 flipV="1">
                    <a:off x="692748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 flipV="1">
                    <a:off x="698292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V="1">
                    <a:off x="703800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 flipV="1">
                    <a:off x="692676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V="1">
                    <a:off x="698220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V="1">
                    <a:off x="703728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 flipV="1">
                    <a:off x="692712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V="1">
                    <a:off x="698256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V="1">
                    <a:off x="703764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V="1">
                    <a:off x="615456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V="1">
                    <a:off x="62096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>
                    <a:off x="626508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 flipV="1">
                    <a:off x="632016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 flipV="1">
                    <a:off x="615384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 flipV="1">
                    <a:off x="620892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V="1">
                    <a:off x="626400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 flipV="1">
                    <a:off x="631944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 flipV="1">
                    <a:off x="615420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 flipV="1">
                    <a:off x="620928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 flipV="1">
                    <a:off x="626436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 flipV="1">
                    <a:off x="631980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V="1">
                    <a:off x="637488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 flipV="1">
                    <a:off x="643032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 flipV="1">
                    <a:off x="648540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 flipV="1">
                    <a:off x="654048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 flipV="1">
                    <a:off x="637416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 flipV="1">
                    <a:off x="642924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 flipV="1">
                    <a:off x="648468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flipV="1">
                    <a:off x="653976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 flipV="1">
                    <a:off x="637452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 flipV="1">
                    <a:off x="6434640" y="2198880"/>
                    <a:ext cx="160560" cy="36360"/>
                  </a:xfrm>
                  <a:custGeom>
                    <a:avLst/>
                    <a:gdLst>
                      <a:gd name="textAreaLeft" fmla="*/ 13680 w 160560"/>
                      <a:gd name="textAreaRight" fmla="*/ 146880 w 160560"/>
                      <a:gd name="textAreaTop" fmla="*/ 2880 h 36360"/>
                      <a:gd name="textAreaBottom" fmla="*/ 3348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382" y="21600"/>
                        </a:lnTo>
                        <a:lnTo>
                          <a:pt x="218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 flipV="1">
                    <a:off x="65966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 flipV="1">
                    <a:off x="665172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 flipV="1">
                    <a:off x="670716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 flipV="1">
                    <a:off x="67622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 flipV="1">
                    <a:off x="659592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 flipV="1">
                    <a:off x="665100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 flipV="1">
                    <a:off x="670644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 flipV="1">
                    <a:off x="676152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 flipV="1">
                    <a:off x="659628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 flipV="1">
                    <a:off x="665136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 flipV="1">
                    <a:off x="670680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 flipV="1">
                    <a:off x="676188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 flipV="1">
                    <a:off x="68180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 flipV="1">
                    <a:off x="681732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 flipV="1">
                    <a:off x="681768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2" name=""/>
                <p:cNvSpPr/>
                <p:nvPr/>
              </p:nvSpPr>
              <p:spPr>
                <a:xfrm rot="16200000">
                  <a:off x="6733080" y="1676160"/>
                  <a:ext cx="26280" cy="1212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680" y="1033"/>
                        <a:pt x="5760" y="5080"/>
                        <a:pt x="5760" y="10800"/>
                      </a:cubicBezTo>
                      <a:cubicBezTo>
                        <a:pt x="5760" y="16520"/>
                        <a:pt x="13680" y="2056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53" name=""/>
          <p:cNvGrpSpPr/>
          <p:nvPr/>
        </p:nvGrpSpPr>
        <p:grpSpPr>
          <a:xfrm>
            <a:off x="992160" y="4724280"/>
            <a:ext cx="555120" cy="1584360"/>
            <a:chOff x="992160" y="4724280"/>
            <a:chExt cx="555120" cy="1584360"/>
          </a:xfrm>
        </p:grpSpPr>
        <p:sp>
          <p:nvSpPr>
            <p:cNvPr id="2054" name=""/>
            <p:cNvSpPr/>
            <p:nvPr/>
          </p:nvSpPr>
          <p:spPr>
            <a:xfrm>
              <a:off x="992160" y="4724280"/>
              <a:ext cx="554400" cy="1584360"/>
            </a:xfrm>
            <a:prstGeom prst="rect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269720" y="4724280"/>
              <a:ext cx="276840" cy="1584360"/>
            </a:xfrm>
            <a:prstGeom prst="rect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992160" y="5358240"/>
              <a:ext cx="277560" cy="950400"/>
            </a:xfrm>
            <a:custGeom>
              <a:avLst/>
              <a:gdLst/>
              <a:ahLst/>
              <a:rect l="l" t="t" r="r" b="b"/>
              <a:pathLst>
                <a:path w="318" h="1088">
                  <a:moveTo>
                    <a:pt x="0" y="181"/>
                  </a:moveTo>
                  <a:lnTo>
                    <a:pt x="318" y="0"/>
                  </a:lnTo>
                  <a:lnTo>
                    <a:pt x="318" y="1088"/>
                  </a:lnTo>
                  <a:lnTo>
                    <a:pt x="0" y="1088"/>
                  </a:lnTo>
                  <a:lnTo>
                    <a:pt x="0" y="18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269720" y="5358240"/>
              <a:ext cx="277560" cy="950400"/>
            </a:xfrm>
            <a:custGeom>
              <a:avLst/>
              <a:gdLst/>
              <a:ahLst/>
              <a:rect l="l" t="t" r="r" b="b"/>
              <a:pathLst>
                <a:path w="318" h="1088">
                  <a:moveTo>
                    <a:pt x="0" y="181"/>
                  </a:moveTo>
                  <a:lnTo>
                    <a:pt x="318" y="0"/>
                  </a:lnTo>
                  <a:lnTo>
                    <a:pt x="318" y="1088"/>
                  </a:lnTo>
                  <a:lnTo>
                    <a:pt x="0" y="1088"/>
                  </a:lnTo>
                  <a:lnTo>
                    <a:pt x="0" y="18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992160" y="4724280"/>
              <a:ext cx="277560" cy="27756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318" y="0"/>
                  </a:moveTo>
                  <a:lnTo>
                    <a:pt x="0" y="0"/>
                  </a:lnTo>
                  <a:lnTo>
                    <a:pt x="0" y="318"/>
                  </a:lnTo>
                  <a:lnTo>
                    <a:pt x="318" y="181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308960" y="4763160"/>
              <a:ext cx="198000" cy="39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071360" y="4763160"/>
              <a:ext cx="79560" cy="79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69720" y="6071040"/>
              <a:ext cx="276840" cy="237240"/>
            </a:xfrm>
            <a:custGeom>
              <a:avLst/>
              <a:gdLst/>
              <a:ahLst/>
              <a:rect l="l" t="t" r="r" b="b"/>
              <a:pathLst>
                <a:path w="317" h="272">
                  <a:moveTo>
                    <a:pt x="0" y="181"/>
                  </a:moveTo>
                  <a:lnTo>
                    <a:pt x="0" y="272"/>
                  </a:lnTo>
                  <a:lnTo>
                    <a:pt x="317" y="272"/>
                  </a:lnTo>
                  <a:lnTo>
                    <a:pt x="317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92160" y="6071040"/>
              <a:ext cx="276840" cy="237240"/>
            </a:xfrm>
            <a:custGeom>
              <a:avLst/>
              <a:gdLst/>
              <a:ahLst/>
              <a:rect l="l" t="t" r="r" b="b"/>
              <a:pathLst>
                <a:path w="317" h="272">
                  <a:moveTo>
                    <a:pt x="0" y="181"/>
                  </a:moveTo>
                  <a:lnTo>
                    <a:pt x="0" y="272"/>
                  </a:lnTo>
                  <a:lnTo>
                    <a:pt x="317" y="272"/>
                  </a:lnTo>
                  <a:lnTo>
                    <a:pt x="317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032120" y="5041080"/>
              <a:ext cx="38880" cy="31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2792160" y="4724280"/>
            <a:ext cx="752400" cy="1582920"/>
            <a:chOff x="2792160" y="4724280"/>
            <a:chExt cx="752400" cy="1582920"/>
          </a:xfrm>
        </p:grpSpPr>
        <p:sp>
          <p:nvSpPr>
            <p:cNvPr id="2065" name=""/>
            <p:cNvSpPr/>
            <p:nvPr/>
          </p:nvSpPr>
          <p:spPr>
            <a:xfrm>
              <a:off x="2910960" y="4724280"/>
              <a:ext cx="514800" cy="1582920"/>
            </a:xfrm>
            <a:prstGeom prst="rect">
              <a:avLst/>
            </a:prstGeom>
            <a:gradFill rotWithShape="0">
              <a:gsLst>
                <a:gs pos="0">
                  <a:srgbClr val="171717"/>
                </a:gs>
                <a:gs pos="50000">
                  <a:srgbClr val="333333"/>
                </a:gs>
                <a:gs pos="100000">
                  <a:srgbClr val="1717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951280" y="4763160"/>
              <a:ext cx="316080" cy="1504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efefe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307680" y="4961520"/>
              <a:ext cx="79200" cy="79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898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070080" y="5397120"/>
              <a:ext cx="78480" cy="388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3267360" y="5911920"/>
              <a:ext cx="133200" cy="330480"/>
              <a:chOff x="3267360" y="5911920"/>
              <a:chExt cx="133200" cy="330480"/>
            </a:xfrm>
          </p:grpSpPr>
          <p:sp>
            <p:nvSpPr>
              <p:cNvPr id="2070" name=""/>
              <p:cNvSpPr/>
              <p:nvPr/>
            </p:nvSpPr>
            <p:spPr>
              <a:xfrm>
                <a:off x="3267360" y="591192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267360" y="594036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267360" y="596880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267360" y="599760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267360" y="602604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267360" y="605484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267360" y="608328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267360" y="611244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267360" y="614088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267360" y="616968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267360" y="619812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267360" y="6226920"/>
                <a:ext cx="1332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2" name=""/>
            <p:cNvSpPr/>
            <p:nvPr/>
          </p:nvSpPr>
          <p:spPr>
            <a:xfrm>
              <a:off x="3426120" y="6188760"/>
              <a:ext cx="118440" cy="11844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2791800" y="6188760"/>
              <a:ext cx="118440" cy="11844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4668840" y="4724280"/>
            <a:ext cx="514440" cy="1590840"/>
            <a:chOff x="4668840" y="4724280"/>
            <a:chExt cx="514440" cy="1590840"/>
          </a:xfrm>
        </p:grpSpPr>
        <p:sp>
          <p:nvSpPr>
            <p:cNvPr id="2085" name=""/>
            <p:cNvSpPr/>
            <p:nvPr/>
          </p:nvSpPr>
          <p:spPr>
            <a:xfrm>
              <a:off x="4668840" y="4724280"/>
              <a:ext cx="514440" cy="1590840"/>
            </a:xfrm>
            <a:custGeom>
              <a:avLst/>
              <a:gdLst>
                <a:gd name="textAreaLeft" fmla="*/ 9360 w 514440"/>
                <a:gd name="textAreaRight" fmla="*/ 505080 w 514440"/>
                <a:gd name="textAreaTop" fmla="*/ 9360 h 1590840"/>
                <a:gd name="textAreaBottom" fmla="*/ 1581480 h 1590840"/>
              </a:gdLst>
              <a:ahLst/>
              <a:rect l="textAreaLeft" t="textAreaTop" r="textAreaRight" b="textAreaBottom"/>
              <a:pathLst>
                <a:path w="21600" h="66764">
                  <a:moveTo>
                    <a:pt x="1342" y="0"/>
                  </a:moveTo>
                  <a:arcTo wR="1342" hR="1342" stAng="16200000" swAng="-5400000"/>
                  <a:lnTo>
                    <a:pt x="0" y="65422"/>
                  </a:lnTo>
                  <a:arcTo wR="1342" hR="1342" stAng="10800000" swAng="-5400000"/>
                  <a:lnTo>
                    <a:pt x="20258" y="66764"/>
                  </a:lnTo>
                  <a:arcTo wR="1342" hR="1342" stAng="5400000" swAng="-5400000"/>
                  <a:lnTo>
                    <a:pt x="21600" y="1342"/>
                  </a:lnTo>
                  <a:arcTo wR="1342" hR="1342" stAng="0" swAng="-5400000"/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5d5d5d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668840" y="5706360"/>
              <a:ext cx="514440" cy="375480"/>
            </a:xfrm>
            <a:custGeom>
              <a:avLst/>
              <a:gdLst/>
              <a:ahLst/>
              <a:rect l="l" t="t" r="r" b="b"/>
              <a:pathLst>
                <a:path w="499" h="364">
                  <a:moveTo>
                    <a:pt x="0" y="23"/>
                  </a:moveTo>
                  <a:cubicBezTo>
                    <a:pt x="15" y="0"/>
                    <a:pt x="22" y="60"/>
                    <a:pt x="90" y="68"/>
                  </a:cubicBezTo>
                  <a:cubicBezTo>
                    <a:pt x="158" y="76"/>
                    <a:pt x="340" y="75"/>
                    <a:pt x="408" y="68"/>
                  </a:cubicBezTo>
                  <a:cubicBezTo>
                    <a:pt x="476" y="61"/>
                    <a:pt x="484" y="0"/>
                    <a:pt x="499" y="23"/>
                  </a:cubicBezTo>
                  <a:lnTo>
                    <a:pt x="499" y="205"/>
                  </a:lnTo>
                  <a:cubicBezTo>
                    <a:pt x="499" y="205"/>
                    <a:pt x="370" y="318"/>
                    <a:pt x="317" y="341"/>
                  </a:cubicBezTo>
                  <a:cubicBezTo>
                    <a:pt x="264" y="364"/>
                    <a:pt x="234" y="364"/>
                    <a:pt x="181" y="341"/>
                  </a:cubicBezTo>
                  <a:cubicBezTo>
                    <a:pt x="128" y="318"/>
                    <a:pt x="30" y="258"/>
                    <a:pt x="0" y="205"/>
                  </a:cubicBezTo>
                  <a:lnTo>
                    <a:pt x="0" y="2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668840" y="5682600"/>
              <a:ext cx="514440" cy="375480"/>
            </a:xfrm>
            <a:custGeom>
              <a:avLst/>
              <a:gdLst/>
              <a:ahLst/>
              <a:rect l="l" t="t" r="r" b="b"/>
              <a:pathLst>
                <a:path w="499" h="364">
                  <a:moveTo>
                    <a:pt x="0" y="23"/>
                  </a:moveTo>
                  <a:cubicBezTo>
                    <a:pt x="15" y="0"/>
                    <a:pt x="22" y="60"/>
                    <a:pt x="90" y="68"/>
                  </a:cubicBezTo>
                  <a:cubicBezTo>
                    <a:pt x="158" y="76"/>
                    <a:pt x="340" y="75"/>
                    <a:pt x="408" y="68"/>
                  </a:cubicBezTo>
                  <a:cubicBezTo>
                    <a:pt x="476" y="61"/>
                    <a:pt x="484" y="0"/>
                    <a:pt x="499" y="23"/>
                  </a:cubicBezTo>
                  <a:lnTo>
                    <a:pt x="499" y="205"/>
                  </a:lnTo>
                  <a:cubicBezTo>
                    <a:pt x="499" y="205"/>
                    <a:pt x="370" y="318"/>
                    <a:pt x="317" y="341"/>
                  </a:cubicBezTo>
                  <a:cubicBezTo>
                    <a:pt x="264" y="364"/>
                    <a:pt x="234" y="364"/>
                    <a:pt x="181" y="341"/>
                  </a:cubicBezTo>
                  <a:cubicBezTo>
                    <a:pt x="128" y="318"/>
                    <a:pt x="30" y="258"/>
                    <a:pt x="0" y="205"/>
                  </a:cubicBezTo>
                  <a:lnTo>
                    <a:pt x="0" y="2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8" name=""/>
            <p:cNvGrpSpPr/>
            <p:nvPr/>
          </p:nvGrpSpPr>
          <p:grpSpPr>
            <a:xfrm>
              <a:off x="4844160" y="5800320"/>
              <a:ext cx="164880" cy="164880"/>
              <a:chOff x="4844160" y="5800320"/>
              <a:chExt cx="164880" cy="164880"/>
            </a:xfrm>
          </p:grpSpPr>
          <p:sp>
            <p:nvSpPr>
              <p:cNvPr id="2089" name=""/>
              <p:cNvSpPr/>
              <p:nvPr/>
            </p:nvSpPr>
            <p:spPr>
              <a:xfrm>
                <a:off x="4844160" y="5800320"/>
                <a:ext cx="164880" cy="1648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b0b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0800000">
                <a:off x="4867560" y="5823720"/>
                <a:ext cx="117720" cy="11772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b0b0b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"/>
            <p:cNvGrpSpPr/>
            <p:nvPr/>
          </p:nvGrpSpPr>
          <p:grpSpPr>
            <a:xfrm>
              <a:off x="4668840" y="6080760"/>
              <a:ext cx="92520" cy="187560"/>
              <a:chOff x="4668840" y="6080760"/>
              <a:chExt cx="92520" cy="187560"/>
            </a:xfrm>
          </p:grpSpPr>
          <p:sp>
            <p:nvSpPr>
              <p:cNvPr id="2092" name=""/>
              <p:cNvSpPr/>
              <p:nvPr/>
            </p:nvSpPr>
            <p:spPr>
              <a:xfrm>
                <a:off x="4668840" y="608076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4668840" y="610812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4668840" y="613584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668840" y="616392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4668840" y="619128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4668840" y="621936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668840" y="624708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5090400" y="6080760"/>
              <a:ext cx="92520" cy="187560"/>
              <a:chOff x="5090400" y="6080760"/>
              <a:chExt cx="92520" cy="187560"/>
            </a:xfrm>
          </p:grpSpPr>
          <p:sp>
            <p:nvSpPr>
              <p:cNvPr id="2100" name=""/>
              <p:cNvSpPr/>
              <p:nvPr/>
            </p:nvSpPr>
            <p:spPr>
              <a:xfrm>
                <a:off x="5090400" y="608076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090400" y="610812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090400" y="613584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090400" y="616392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090400" y="619128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090400" y="621936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090400" y="6247080"/>
                <a:ext cx="92520" cy="21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7" name=""/>
            <p:cNvSpPr/>
            <p:nvPr/>
          </p:nvSpPr>
          <p:spPr>
            <a:xfrm>
              <a:off x="4896720" y="4911840"/>
              <a:ext cx="47160" cy="748080"/>
            </a:xfrm>
            <a:custGeom>
              <a:avLst/>
              <a:gdLst>
                <a:gd name="textAreaLeft" fmla="*/ 2160 w 47160"/>
                <a:gd name="textAreaRight" fmla="*/ 45000 w 47160"/>
                <a:gd name="textAreaTop" fmla="*/ 2160 h 748080"/>
                <a:gd name="textAreaBottom" fmla="*/ 745920 h 748080"/>
              </a:gdLst>
              <a:ahLst/>
              <a:rect l="textAreaLeft" t="textAreaTop" r="textAreaRight" b="textAreaBottom"/>
              <a:pathLst>
                <a:path w="21600" h="340200">
                  <a:moveTo>
                    <a:pt x="3600" y="0"/>
                  </a:moveTo>
                  <a:arcTo wR="3600" hR="3600" stAng="16200000" swAng="-5400000"/>
                  <a:lnTo>
                    <a:pt x="0" y="336600"/>
                  </a:lnTo>
                  <a:arcTo wR="3600" hR="3600" stAng="10800000" swAng="-5400000"/>
                  <a:lnTo>
                    <a:pt x="18000" y="340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902840" y="5004720"/>
              <a:ext cx="33840" cy="561960"/>
            </a:xfrm>
            <a:custGeom>
              <a:avLst/>
              <a:gdLst>
                <a:gd name="textAreaLeft" fmla="*/ 4680 w 33840"/>
                <a:gd name="textAreaRight" fmla="*/ 29160 w 33840"/>
                <a:gd name="textAreaTop" fmla="*/ 4680 h 561960"/>
                <a:gd name="textAreaBottom" fmla="*/ 557280 h 561960"/>
              </a:gdLst>
              <a:ahLst/>
              <a:rect l="textAreaLeft" t="textAreaTop" r="textAreaRight" b="textAreaBottom"/>
              <a:pathLst>
                <a:path w="21600" h="355149">
                  <a:moveTo>
                    <a:pt x="10800" y="0"/>
                  </a:moveTo>
                  <a:arcTo wR="10800" hR="10800" stAng="16200000" swAng="-5400000"/>
                  <a:lnTo>
                    <a:pt x="0" y="344349"/>
                  </a:lnTo>
                  <a:arcTo wR="10800" hR="10800" stAng="10800000" swAng="-5400000"/>
                  <a:lnTo>
                    <a:pt x="10800" y="35514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9" name=""/>
          <p:cNvGrpSpPr/>
          <p:nvPr/>
        </p:nvGrpSpPr>
        <p:grpSpPr>
          <a:xfrm>
            <a:off x="2360520" y="3068640"/>
            <a:ext cx="1510920" cy="1087200"/>
            <a:chOff x="2360520" y="3068640"/>
            <a:chExt cx="1510920" cy="1087200"/>
          </a:xfrm>
        </p:grpSpPr>
        <p:grpSp>
          <p:nvGrpSpPr>
            <p:cNvPr id="2110" name=""/>
            <p:cNvGrpSpPr/>
            <p:nvPr/>
          </p:nvGrpSpPr>
          <p:grpSpPr>
            <a:xfrm>
              <a:off x="3384360" y="3132000"/>
              <a:ext cx="487080" cy="1023840"/>
              <a:chOff x="3384360" y="3132000"/>
              <a:chExt cx="487080" cy="1023840"/>
            </a:xfrm>
          </p:grpSpPr>
          <p:sp>
            <p:nvSpPr>
              <p:cNvPr id="2111" name=""/>
              <p:cNvSpPr/>
              <p:nvPr/>
            </p:nvSpPr>
            <p:spPr>
              <a:xfrm>
                <a:off x="3461400" y="3132000"/>
                <a:ext cx="333000" cy="1023840"/>
              </a:xfrm>
              <a:prstGeom prst="rect">
                <a:avLst/>
              </a:prstGeom>
              <a:gradFill rotWithShape="0">
                <a:gsLst>
                  <a:gs pos="0">
                    <a:srgbClr val="171717"/>
                  </a:gs>
                  <a:gs pos="50000">
                    <a:srgbClr val="333333"/>
                  </a:gs>
                  <a:gs pos="100000">
                    <a:srgbClr val="17171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487320" y="3157200"/>
                <a:ext cx="204480" cy="9730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fefefe"/>
                  </a:gs>
                  <a:gs pos="100000">
                    <a:srgbClr val="eaea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717720" y="3285360"/>
                <a:ext cx="51120" cy="51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8989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564000" y="3567240"/>
                <a:ext cx="50760" cy="252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5" name=""/>
              <p:cNvGrpSpPr/>
              <p:nvPr/>
            </p:nvGrpSpPr>
            <p:grpSpPr>
              <a:xfrm>
                <a:off x="3691800" y="3900240"/>
                <a:ext cx="86040" cy="213840"/>
                <a:chOff x="3691800" y="3900240"/>
                <a:chExt cx="86040" cy="213840"/>
              </a:xfrm>
            </p:grpSpPr>
            <p:sp>
              <p:nvSpPr>
                <p:cNvPr id="2116" name=""/>
                <p:cNvSpPr/>
                <p:nvPr/>
              </p:nvSpPr>
              <p:spPr>
                <a:xfrm>
                  <a:off x="3691800" y="390024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3691800" y="391860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3691800" y="393696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3691800" y="395568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3691800" y="397404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3691800" y="399276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3691800" y="401112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3691800" y="402984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3691800" y="404820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3691800" y="406692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3691800" y="408528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3691800" y="4104000"/>
                  <a:ext cx="860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8" name=""/>
              <p:cNvSpPr/>
              <p:nvPr/>
            </p:nvSpPr>
            <p:spPr>
              <a:xfrm>
                <a:off x="3794760" y="4079160"/>
                <a:ext cx="76680" cy="76680"/>
              </a:xfrm>
              <a:prstGeom prst="rtTriangl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3384000" y="4079160"/>
                <a:ext cx="76680" cy="76680"/>
              </a:xfrm>
              <a:prstGeom prst="rtTriangl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"/>
            <p:cNvGrpSpPr/>
            <p:nvPr/>
          </p:nvGrpSpPr>
          <p:grpSpPr>
            <a:xfrm>
              <a:off x="2360520" y="3068640"/>
              <a:ext cx="1083240" cy="1084680"/>
              <a:chOff x="2360520" y="3068640"/>
              <a:chExt cx="1083240" cy="1084680"/>
            </a:xfrm>
          </p:grpSpPr>
          <p:sp>
            <p:nvSpPr>
              <p:cNvPr id="2131" name=""/>
              <p:cNvSpPr/>
              <p:nvPr/>
            </p:nvSpPr>
            <p:spPr>
              <a:xfrm flipV="1">
                <a:off x="2584440" y="4060440"/>
                <a:ext cx="634680" cy="61920"/>
              </a:xfrm>
              <a:custGeom>
                <a:avLst/>
                <a:gdLst>
                  <a:gd name="textAreaLeft" fmla="*/ 65880 w 634680"/>
                  <a:gd name="textAreaRight" fmla="*/ 568800 w 634680"/>
                  <a:gd name="textAreaTop" fmla="*/ 6480 h 61920"/>
                  <a:gd name="textAreaBottom" fmla="*/ 55440 h 6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584440" y="4122360"/>
                <a:ext cx="634680" cy="30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V="1">
                <a:off x="2770560" y="3951720"/>
                <a:ext cx="262800" cy="123840"/>
              </a:xfrm>
              <a:custGeom>
                <a:avLst/>
                <a:gdLst>
                  <a:gd name="textAreaLeft" fmla="*/ 27360 w 262800"/>
                  <a:gd name="textAreaRight" fmla="*/ 235440 w 262800"/>
                  <a:gd name="textAreaTop" fmla="*/ 12600 h 123840"/>
                  <a:gd name="textAreaBottom" fmla="*/ 111240 h 12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4" y="21600"/>
                    </a:lnTo>
                    <a:lnTo>
                      <a:pt x="89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360520" y="3905280"/>
                <a:ext cx="1083240" cy="7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360520" y="3068640"/>
                <a:ext cx="1083240" cy="836640"/>
              </a:xfrm>
              <a:prstGeom prst="roundRect">
                <a:avLst>
                  <a:gd name="adj" fmla="val 294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0800000">
                <a:off x="2391120" y="3099240"/>
                <a:ext cx="1021320" cy="790200"/>
              </a:xfrm>
              <a:prstGeom prst="bevel">
                <a:avLst>
                  <a:gd name="adj" fmla="val 5921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83838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399400" y="3107520"/>
                <a:ext cx="1005840" cy="7747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e7f3f4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391480" y="3936240"/>
                <a:ext cx="61560" cy="151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78560" y="3921120"/>
                <a:ext cx="46080" cy="4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10800000">
                <a:off x="2886480" y="3928680"/>
                <a:ext cx="30960" cy="3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74747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360520" y="3068640"/>
                <a:ext cx="1083240" cy="836640"/>
              </a:xfrm>
              <a:prstGeom prst="roundRect">
                <a:avLst>
                  <a:gd name="adj" fmla="val 2940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2" name=""/>
          <p:cNvGrpSpPr/>
          <p:nvPr/>
        </p:nvGrpSpPr>
        <p:grpSpPr>
          <a:xfrm>
            <a:off x="8481960" y="4724280"/>
            <a:ext cx="430200" cy="1582920"/>
            <a:chOff x="8481960" y="4724280"/>
            <a:chExt cx="430200" cy="1582920"/>
          </a:xfrm>
        </p:grpSpPr>
        <p:sp>
          <p:nvSpPr>
            <p:cNvPr id="2143" name=""/>
            <p:cNvSpPr/>
            <p:nvPr/>
          </p:nvSpPr>
          <p:spPr>
            <a:xfrm>
              <a:off x="8481960" y="4724280"/>
              <a:ext cx="430200" cy="15829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757575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577720" y="4724280"/>
              <a:ext cx="239400" cy="158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5" name=""/>
            <p:cNvGrpSpPr/>
            <p:nvPr/>
          </p:nvGrpSpPr>
          <p:grpSpPr>
            <a:xfrm>
              <a:off x="8648280" y="5970960"/>
              <a:ext cx="96120" cy="96120"/>
              <a:chOff x="8648280" y="5970960"/>
              <a:chExt cx="96120" cy="96120"/>
            </a:xfrm>
          </p:grpSpPr>
          <p:sp>
            <p:nvSpPr>
              <p:cNvPr id="2146" name=""/>
              <p:cNvSpPr/>
              <p:nvPr/>
            </p:nvSpPr>
            <p:spPr>
              <a:xfrm>
                <a:off x="8648280" y="5970960"/>
                <a:ext cx="96120" cy="9612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b0b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10800000">
                <a:off x="8661600" y="5984280"/>
                <a:ext cx="68760" cy="6876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b0b0b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8648280" y="6114960"/>
              <a:ext cx="96120" cy="96120"/>
              <a:chOff x="8648280" y="6114960"/>
              <a:chExt cx="96120" cy="96120"/>
            </a:xfrm>
          </p:grpSpPr>
          <p:sp>
            <p:nvSpPr>
              <p:cNvPr id="2149" name=""/>
              <p:cNvSpPr/>
              <p:nvPr/>
            </p:nvSpPr>
            <p:spPr>
              <a:xfrm>
                <a:off x="8648280" y="6114960"/>
                <a:ext cx="96120" cy="9612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b0b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0800000">
                <a:off x="8661600" y="6128280"/>
                <a:ext cx="68760" cy="6876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b0b0b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8672760" y="4844880"/>
              <a:ext cx="48240" cy="766440"/>
            </a:xfrm>
            <a:custGeom>
              <a:avLst/>
              <a:gdLst>
                <a:gd name="textAreaLeft" fmla="*/ 2160 w 48240"/>
                <a:gd name="textAreaRight" fmla="*/ 46080 w 48240"/>
                <a:gd name="textAreaTop" fmla="*/ 2160 h 766440"/>
                <a:gd name="textAreaBottom" fmla="*/ 764280 h 766440"/>
              </a:gdLst>
              <a:ahLst/>
              <a:rect l="textAreaLeft" t="textAreaTop" r="textAreaRight" b="textAreaBottom"/>
              <a:pathLst>
                <a:path w="21600" h="340800">
                  <a:moveTo>
                    <a:pt x="3600" y="0"/>
                  </a:moveTo>
                  <a:arcTo wR="3600" hR="3600" stAng="16200000" swAng="-5400000"/>
                  <a:lnTo>
                    <a:pt x="0" y="337200"/>
                  </a:lnTo>
                  <a:arcTo wR="3600" hR="3600" stAng="10800000" swAng="-5400000"/>
                  <a:lnTo>
                    <a:pt x="18000" y="340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678880" y="4939920"/>
              <a:ext cx="34920" cy="576000"/>
            </a:xfrm>
            <a:custGeom>
              <a:avLst/>
              <a:gdLst>
                <a:gd name="textAreaLeft" fmla="*/ 5040 w 34920"/>
                <a:gd name="textAreaRight" fmla="*/ 29880 w 34920"/>
                <a:gd name="textAreaTop" fmla="*/ 5040 h 576000"/>
                <a:gd name="textAreaBottom" fmla="*/ 570960 h 576000"/>
              </a:gdLst>
              <a:ahLst/>
              <a:rect l="textAreaLeft" t="textAreaTop" r="textAreaRight" b="textAreaBottom"/>
              <a:pathLst>
                <a:path w="21600" h="352873">
                  <a:moveTo>
                    <a:pt x="10800" y="0"/>
                  </a:moveTo>
                  <a:arcTo wR="10800" hR="10800" stAng="16200000" swAng="-5400000"/>
                  <a:lnTo>
                    <a:pt x="0" y="342073"/>
                  </a:lnTo>
                  <a:arcTo wR="10800" hR="10800" stAng="10800000" swAng="-5400000"/>
                  <a:lnTo>
                    <a:pt x="10800" y="35287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6537240" y="4724280"/>
            <a:ext cx="505080" cy="1555920"/>
            <a:chOff x="6537240" y="4724280"/>
            <a:chExt cx="505080" cy="1555920"/>
          </a:xfrm>
        </p:grpSpPr>
        <p:sp>
          <p:nvSpPr>
            <p:cNvPr id="2154" name=""/>
            <p:cNvSpPr/>
            <p:nvPr/>
          </p:nvSpPr>
          <p:spPr>
            <a:xfrm>
              <a:off x="6537240" y="4724280"/>
              <a:ext cx="505080" cy="1555920"/>
            </a:xfrm>
            <a:custGeom>
              <a:avLst/>
              <a:gdLst>
                <a:gd name="textAreaLeft" fmla="*/ 9000 w 505080"/>
                <a:gd name="textAreaRight" fmla="*/ 496080 w 505080"/>
                <a:gd name="textAreaTop" fmla="*/ 9000 h 1555920"/>
                <a:gd name="textAreaBottom" fmla="*/ 1546920 h 1555920"/>
              </a:gdLst>
              <a:ahLst/>
              <a:rect l="textAreaLeft" t="textAreaTop" r="textAreaRight" b="textAreaBottom"/>
              <a:pathLst>
                <a:path w="21600" h="66508">
                  <a:moveTo>
                    <a:pt x="1342" y="0"/>
                  </a:moveTo>
                  <a:arcTo wR="1342" hR="1342" stAng="16200000" swAng="-5400000"/>
                  <a:lnTo>
                    <a:pt x="0" y="65166"/>
                  </a:lnTo>
                  <a:arcTo wR="1342" hR="1342" stAng="10800000" swAng="-5400000"/>
                  <a:lnTo>
                    <a:pt x="20258" y="66508"/>
                  </a:lnTo>
                  <a:arcTo wR="1342" hR="1342" stAng="5400000" swAng="-5400000"/>
                  <a:lnTo>
                    <a:pt x="21600" y="1342"/>
                  </a:lnTo>
                  <a:arcTo wR="1342" hR="1342" stAng="0" swAng="-5400000"/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eaeaea"/>
                </a:gs>
                <a:gs pos="100000">
                  <a:srgbClr val="aaaaa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560280" y="4769280"/>
              <a:ext cx="229680" cy="686880"/>
            </a:xfrm>
            <a:custGeom>
              <a:avLst/>
              <a:gdLst>
                <a:gd name="textAreaLeft" fmla="*/ 3960 w 229680"/>
                <a:gd name="textAreaRight" fmla="*/ 225720 w 229680"/>
                <a:gd name="textAreaTop" fmla="*/ 3960 h 686880"/>
                <a:gd name="textAreaBottom" fmla="*/ 682920 h 686880"/>
              </a:gdLst>
              <a:ahLst/>
              <a:rect l="textAreaLeft" t="textAreaTop" r="textAreaRight" b="textAreaBottom"/>
              <a:pathLst>
                <a:path w="21600" h="64530">
                  <a:moveTo>
                    <a:pt x="1342" y="0"/>
                  </a:moveTo>
                  <a:arcTo wR="1342" hR="1342" stAng="16200000" swAng="-5400000"/>
                  <a:lnTo>
                    <a:pt x="0" y="63188"/>
                  </a:lnTo>
                  <a:arcTo wR="1342" hR="1342" stAng="10800000" swAng="-5400000"/>
                  <a:lnTo>
                    <a:pt x="20258" y="64530"/>
                  </a:lnTo>
                  <a:arcTo wR="1342" hR="1342" stAng="5400000" swAng="-5400000"/>
                  <a:lnTo>
                    <a:pt x="21600" y="1342"/>
                  </a:lnTo>
                  <a:arcTo wR="1342" hR="1342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eaeaea"/>
                </a:gs>
              </a:gsLst>
              <a:lin ang="108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789960" y="4769280"/>
              <a:ext cx="228600" cy="686880"/>
            </a:xfrm>
            <a:custGeom>
              <a:avLst/>
              <a:gdLst>
                <a:gd name="textAreaLeft" fmla="*/ 3960 w 228600"/>
                <a:gd name="textAreaRight" fmla="*/ 224640 w 228600"/>
                <a:gd name="textAreaTop" fmla="*/ 3960 h 686880"/>
                <a:gd name="textAreaBottom" fmla="*/ 682920 h 686880"/>
              </a:gdLst>
              <a:ahLst/>
              <a:rect l="textAreaLeft" t="textAreaTop" r="textAreaRight" b="textAreaBottom"/>
              <a:pathLst>
                <a:path w="21600" h="64834">
                  <a:moveTo>
                    <a:pt x="1342" y="0"/>
                  </a:moveTo>
                  <a:arcTo wR="1342" hR="1342" stAng="16200000" swAng="-5400000"/>
                  <a:lnTo>
                    <a:pt x="0" y="63492"/>
                  </a:lnTo>
                  <a:arcTo wR="1342" hR="1342" stAng="10800000" swAng="-5400000"/>
                  <a:lnTo>
                    <a:pt x="20258" y="64834"/>
                  </a:lnTo>
                  <a:arcTo wR="1342" hR="1342" stAng="5400000" swAng="-5400000"/>
                  <a:lnTo>
                    <a:pt x="21600" y="1342"/>
                  </a:lnTo>
                  <a:arcTo wR="1342" hR="1342" stAng="0" swAng="-5400000"/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fefefe"/>
                </a:gs>
                <a:gs pos="100000">
                  <a:srgbClr val="eaeaea"/>
                </a:gs>
              </a:gsLst>
              <a:lin ang="108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560280" y="5547600"/>
              <a:ext cx="229680" cy="686880"/>
            </a:xfrm>
            <a:custGeom>
              <a:avLst/>
              <a:gdLst>
                <a:gd name="textAreaLeft" fmla="*/ 3960 w 229680"/>
                <a:gd name="textAreaRight" fmla="*/ 225720 w 229680"/>
                <a:gd name="textAreaTop" fmla="*/ 3960 h 686880"/>
                <a:gd name="textAreaBottom" fmla="*/ 682920 h 686880"/>
              </a:gdLst>
              <a:ahLst/>
              <a:rect l="textAreaLeft" t="textAreaTop" r="textAreaRight" b="textAreaBottom"/>
              <a:pathLst>
                <a:path w="21600" h="64530">
                  <a:moveTo>
                    <a:pt x="1342" y="0"/>
                  </a:moveTo>
                  <a:arcTo wR="1342" hR="1342" stAng="16200000" swAng="-5400000"/>
                  <a:lnTo>
                    <a:pt x="0" y="63188"/>
                  </a:lnTo>
                  <a:arcTo wR="1342" hR="1342" stAng="10800000" swAng="-5400000"/>
                  <a:lnTo>
                    <a:pt x="20258" y="64530"/>
                  </a:lnTo>
                  <a:arcTo wR="1342" hR="1342" stAng="5400000" swAng="-5400000"/>
                  <a:lnTo>
                    <a:pt x="21600" y="1342"/>
                  </a:lnTo>
                  <a:arcTo wR="1342" hR="1342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eaeaea"/>
                </a:gs>
              </a:gsLst>
              <a:lin ang="108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789960" y="5547600"/>
              <a:ext cx="228600" cy="686880"/>
            </a:xfrm>
            <a:custGeom>
              <a:avLst/>
              <a:gdLst>
                <a:gd name="textAreaLeft" fmla="*/ 3960 w 228600"/>
                <a:gd name="textAreaRight" fmla="*/ 224640 w 228600"/>
                <a:gd name="textAreaTop" fmla="*/ 3960 h 686880"/>
                <a:gd name="textAreaBottom" fmla="*/ 682920 h 686880"/>
              </a:gdLst>
              <a:ahLst/>
              <a:rect l="textAreaLeft" t="textAreaTop" r="textAreaRight" b="textAreaBottom"/>
              <a:pathLst>
                <a:path w="21600" h="64834">
                  <a:moveTo>
                    <a:pt x="1342" y="0"/>
                  </a:moveTo>
                  <a:arcTo wR="1342" hR="1342" stAng="16200000" swAng="-5400000"/>
                  <a:lnTo>
                    <a:pt x="0" y="63492"/>
                  </a:lnTo>
                  <a:arcTo wR="1342" hR="1342" stAng="10800000" swAng="-5400000"/>
                  <a:lnTo>
                    <a:pt x="20258" y="64834"/>
                  </a:lnTo>
                  <a:arcTo wR="1342" hR="1342" stAng="5400000" swAng="-5400000"/>
                  <a:lnTo>
                    <a:pt x="21600" y="1342"/>
                  </a:lnTo>
                  <a:arcTo wR="1342" hR="1342" stAng="0" swAng="-5400000"/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fefefe"/>
                </a:gs>
                <a:gs pos="100000">
                  <a:srgbClr val="eaeaea"/>
                </a:gs>
              </a:gsLst>
              <a:lin ang="108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9" name=""/>
            <p:cNvGrpSpPr/>
            <p:nvPr/>
          </p:nvGrpSpPr>
          <p:grpSpPr>
            <a:xfrm>
              <a:off x="6858000" y="4861440"/>
              <a:ext cx="91800" cy="91440"/>
              <a:chOff x="6858000" y="4861440"/>
              <a:chExt cx="91800" cy="91440"/>
            </a:xfrm>
          </p:grpSpPr>
          <p:sp>
            <p:nvSpPr>
              <p:cNvPr id="2160" name=""/>
              <p:cNvSpPr/>
              <p:nvPr/>
            </p:nvSpPr>
            <p:spPr>
              <a:xfrm>
                <a:off x="6858000" y="4861440"/>
                <a:ext cx="91800" cy="914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b0b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10800000">
                <a:off x="6870960" y="4874040"/>
                <a:ext cx="65520" cy="651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6f6f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2" name=""/>
          <p:cNvGrpSpPr/>
          <p:nvPr/>
        </p:nvGrpSpPr>
        <p:grpSpPr>
          <a:xfrm>
            <a:off x="415800" y="2997360"/>
            <a:ext cx="1584000" cy="1182240"/>
            <a:chOff x="415800" y="2997360"/>
            <a:chExt cx="1584000" cy="1182240"/>
          </a:xfrm>
        </p:grpSpPr>
        <p:grpSp>
          <p:nvGrpSpPr>
            <p:cNvPr id="2163" name=""/>
            <p:cNvGrpSpPr/>
            <p:nvPr/>
          </p:nvGrpSpPr>
          <p:grpSpPr>
            <a:xfrm>
              <a:off x="1625040" y="3067920"/>
              <a:ext cx="374760" cy="1067760"/>
              <a:chOff x="1625040" y="3067920"/>
              <a:chExt cx="374760" cy="1067760"/>
            </a:xfrm>
          </p:grpSpPr>
          <p:sp>
            <p:nvSpPr>
              <p:cNvPr id="2164" name=""/>
              <p:cNvSpPr/>
              <p:nvPr/>
            </p:nvSpPr>
            <p:spPr>
              <a:xfrm>
                <a:off x="1625040" y="3067920"/>
                <a:ext cx="374040" cy="1067760"/>
              </a:xfrm>
              <a:prstGeom prst="rect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812240" y="3067920"/>
                <a:ext cx="186840" cy="1067760"/>
              </a:xfrm>
              <a:prstGeom prst="rect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625040" y="3495240"/>
                <a:ext cx="187200" cy="640440"/>
              </a:xfrm>
              <a:custGeom>
                <a:avLst/>
                <a:gdLst/>
                <a:ahLst/>
                <a:rect l="l" t="t" r="r" b="b"/>
                <a:pathLst>
                  <a:path w="318" h="1088">
                    <a:moveTo>
                      <a:pt x="0" y="181"/>
                    </a:moveTo>
                    <a:lnTo>
                      <a:pt x="318" y="0"/>
                    </a:lnTo>
                    <a:lnTo>
                      <a:pt x="318" y="1088"/>
                    </a:lnTo>
                    <a:lnTo>
                      <a:pt x="0" y="1088"/>
                    </a:lnTo>
                    <a:lnTo>
                      <a:pt x="0" y="18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812240" y="3495240"/>
                <a:ext cx="187560" cy="640440"/>
              </a:xfrm>
              <a:custGeom>
                <a:avLst/>
                <a:gdLst/>
                <a:ahLst/>
                <a:rect l="l" t="t" r="r" b="b"/>
                <a:pathLst>
                  <a:path w="318" h="1088">
                    <a:moveTo>
                      <a:pt x="0" y="181"/>
                    </a:moveTo>
                    <a:lnTo>
                      <a:pt x="318" y="0"/>
                    </a:lnTo>
                    <a:lnTo>
                      <a:pt x="318" y="1088"/>
                    </a:lnTo>
                    <a:lnTo>
                      <a:pt x="0" y="1088"/>
                    </a:lnTo>
                    <a:lnTo>
                      <a:pt x="0" y="181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625040" y="3067920"/>
                <a:ext cx="187200" cy="186840"/>
              </a:xfrm>
              <a:custGeom>
                <a:avLst/>
                <a:gdLst/>
                <a:ahLst/>
                <a:rect l="l" t="t" r="r" b="b"/>
                <a:pathLst>
                  <a:path w="318" h="318">
                    <a:moveTo>
                      <a:pt x="318" y="0"/>
                    </a:moveTo>
                    <a:lnTo>
                      <a:pt x="0" y="0"/>
                    </a:lnTo>
                    <a:lnTo>
                      <a:pt x="0" y="318"/>
                    </a:lnTo>
                    <a:lnTo>
                      <a:pt x="318" y="181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838880" y="3094200"/>
                <a:ext cx="133560" cy="27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678320" y="3094200"/>
                <a:ext cx="53640" cy="536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812240" y="3975480"/>
                <a:ext cx="186840" cy="159840"/>
              </a:xfrm>
              <a:custGeom>
                <a:avLst/>
                <a:gdLst/>
                <a:ahLst/>
                <a:rect l="l" t="t" r="r" b="b"/>
                <a:pathLst>
                  <a:path w="317" h="272">
                    <a:moveTo>
                      <a:pt x="0" y="181"/>
                    </a:moveTo>
                    <a:lnTo>
                      <a:pt x="0" y="272"/>
                    </a:lnTo>
                    <a:lnTo>
                      <a:pt x="317" y="272"/>
                    </a:lnTo>
                    <a:lnTo>
                      <a:pt x="317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625040" y="3975480"/>
                <a:ext cx="186840" cy="159840"/>
              </a:xfrm>
              <a:custGeom>
                <a:avLst/>
                <a:gdLst/>
                <a:ahLst/>
                <a:rect l="l" t="t" r="r" b="b"/>
                <a:pathLst>
                  <a:path w="317" h="272">
                    <a:moveTo>
                      <a:pt x="0" y="181"/>
                    </a:moveTo>
                    <a:lnTo>
                      <a:pt x="0" y="272"/>
                    </a:lnTo>
                    <a:lnTo>
                      <a:pt x="317" y="272"/>
                    </a:lnTo>
                    <a:lnTo>
                      <a:pt x="317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652040" y="3281400"/>
                <a:ext cx="26280" cy="21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4" name=""/>
            <p:cNvGrpSpPr/>
            <p:nvPr/>
          </p:nvGrpSpPr>
          <p:grpSpPr>
            <a:xfrm>
              <a:off x="415800" y="2997360"/>
              <a:ext cx="1134000" cy="1182240"/>
              <a:chOff x="415800" y="2997360"/>
              <a:chExt cx="1134000" cy="1182240"/>
            </a:xfrm>
          </p:grpSpPr>
          <p:grpSp>
            <p:nvGrpSpPr>
              <p:cNvPr id="2175" name=""/>
              <p:cNvGrpSpPr/>
              <p:nvPr/>
            </p:nvGrpSpPr>
            <p:grpSpPr>
              <a:xfrm>
                <a:off x="671400" y="3892320"/>
                <a:ext cx="622800" cy="287280"/>
                <a:chOff x="671400" y="3892320"/>
                <a:chExt cx="622800" cy="287280"/>
              </a:xfrm>
            </p:grpSpPr>
            <p:sp>
              <p:nvSpPr>
                <p:cNvPr id="2176" name=""/>
                <p:cNvSpPr/>
                <p:nvPr/>
              </p:nvSpPr>
              <p:spPr>
                <a:xfrm>
                  <a:off x="671400" y="4052160"/>
                  <a:ext cx="62280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6b6b"/>
                    </a:gs>
                    <a:gs pos="50000">
                      <a:srgbClr val="eaeaea"/>
                    </a:gs>
                    <a:gs pos="100000">
                      <a:srgbClr val="6b6b6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671400" y="4052160"/>
                  <a:ext cx="622800" cy="11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6b6b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878760" y="3892320"/>
                  <a:ext cx="207720" cy="207720"/>
                </a:xfrm>
                <a:prstGeom prst="roundRect">
                  <a:avLst>
                    <a:gd name="adj" fmla="val 8644"/>
                  </a:avLst>
                </a:prstGeom>
                <a:gradFill rotWithShape="0">
                  <a:gsLst>
                    <a:gs pos="0">
                      <a:srgbClr val="6b6b6b"/>
                    </a:gs>
                    <a:gs pos="50000">
                      <a:srgbClr val="eaeaea"/>
                    </a:gs>
                    <a:gs pos="100000">
                      <a:srgbClr val="6b6b6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9" name=""/>
              <p:cNvSpPr/>
              <p:nvPr/>
            </p:nvSpPr>
            <p:spPr>
              <a:xfrm>
                <a:off x="415800" y="2997360"/>
                <a:ext cx="1134000" cy="974880"/>
              </a:xfrm>
              <a:prstGeom prst="roundRect">
                <a:avLst>
                  <a:gd name="adj" fmla="val 2458"/>
                </a:avLst>
              </a:prstGeom>
              <a:gradFill rotWithShape="0">
                <a:gsLst>
                  <a:gs pos="0">
                    <a:srgbClr val="a2a2a2"/>
                  </a:gs>
                  <a:gs pos="50000">
                    <a:srgbClr val="eaeaea"/>
                  </a:gs>
                  <a:gs pos="100000">
                    <a:srgbClr val="a2a2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894960" y="3924360"/>
                <a:ext cx="175680" cy="32040"/>
                <a:chOff x="894960" y="3924360"/>
                <a:chExt cx="175680" cy="3204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894960" y="3924360"/>
                  <a:ext cx="3204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942840" y="3924360"/>
                  <a:ext cx="3204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990720" y="3924360"/>
                  <a:ext cx="3204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1038600" y="3924360"/>
                  <a:ext cx="3204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5" name=""/>
              <p:cNvSpPr/>
              <p:nvPr/>
            </p:nvSpPr>
            <p:spPr>
              <a:xfrm>
                <a:off x="423720" y="3005280"/>
                <a:ext cx="1118160" cy="934920"/>
              </a:xfrm>
              <a:prstGeom prst="roundRect">
                <a:avLst>
                  <a:gd name="adj" fmla="val 2458"/>
                </a:avLst>
              </a:prstGeom>
              <a:gradFill rotWithShape="0">
                <a:gsLst>
                  <a:gs pos="0">
                    <a:srgbClr val="aaaaaa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63680" y="3045600"/>
                <a:ext cx="1037880" cy="846720"/>
              </a:xfrm>
              <a:prstGeom prst="roundRect">
                <a:avLst>
                  <a:gd name="adj" fmla="val 583"/>
                </a:avLst>
              </a:prstGeom>
              <a:gradFill rotWithShape="0">
                <a:gsLst>
                  <a:gs pos="0">
                    <a:srgbClr val="6b6b6b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71600" y="3053520"/>
                <a:ext cx="1022040" cy="830880"/>
              </a:xfrm>
              <a:prstGeom prst="roundRect">
                <a:avLst>
                  <a:gd name="adj" fmla="val 583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7c7c7c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8" name=""/>
          <p:cNvGrpSpPr/>
          <p:nvPr/>
        </p:nvGrpSpPr>
        <p:grpSpPr>
          <a:xfrm>
            <a:off x="7905600" y="1052640"/>
            <a:ext cx="1583640" cy="1270800"/>
            <a:chOff x="7905600" y="1052640"/>
            <a:chExt cx="1583640" cy="1270800"/>
          </a:xfrm>
        </p:grpSpPr>
        <p:grpSp>
          <p:nvGrpSpPr>
            <p:cNvPr id="2189" name=""/>
            <p:cNvGrpSpPr/>
            <p:nvPr/>
          </p:nvGrpSpPr>
          <p:grpSpPr>
            <a:xfrm>
              <a:off x="7905600" y="1052640"/>
              <a:ext cx="1476360" cy="1116000"/>
              <a:chOff x="7905600" y="1052640"/>
              <a:chExt cx="1476360" cy="1116000"/>
            </a:xfrm>
          </p:grpSpPr>
          <p:sp>
            <p:nvSpPr>
              <p:cNvPr id="2190" name=""/>
              <p:cNvSpPr/>
              <p:nvPr/>
            </p:nvSpPr>
            <p:spPr>
              <a:xfrm flipV="1">
                <a:off x="8517240" y="2060640"/>
                <a:ext cx="252360" cy="108000"/>
              </a:xfrm>
              <a:custGeom>
                <a:avLst/>
                <a:gdLst>
                  <a:gd name="textAreaLeft" fmla="*/ 24840 w 252360"/>
                  <a:gd name="textAreaRight" fmla="*/ 227520 w 252360"/>
                  <a:gd name="textAreaTop" fmla="*/ 10440 h 108000"/>
                  <a:gd name="textAreaBottom" fmla="*/ 975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903" y="21600"/>
                    </a:lnTo>
                    <a:lnTo>
                      <a:pt x="69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905600" y="1052640"/>
                <a:ext cx="1476360" cy="9475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911720" y="2021760"/>
                <a:ext cx="1462680" cy="58680"/>
              </a:xfrm>
              <a:custGeom>
                <a:avLst/>
                <a:gdLst>
                  <a:gd name="textAreaLeft" fmla="*/ 219240 w 1462680"/>
                  <a:gd name="textAreaRight" fmla="*/ 1243440 w 1462680"/>
                  <a:gd name="textAreaTop" fmla="*/ 8640 h 58680"/>
                  <a:gd name="textAreaBottom" fmla="*/ 50040 h 5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16" y="21600"/>
                    </a:lnTo>
                    <a:lnTo>
                      <a:pt x="26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c8c8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8567280" y="1920960"/>
                <a:ext cx="152280" cy="30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6200000">
                <a:off x="8636040" y="1266120"/>
                <a:ext cx="14760" cy="144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989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905600" y="1067760"/>
                <a:ext cx="14763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6" name=""/>
              <p:cNvGrpSpPr/>
              <p:nvPr/>
            </p:nvGrpSpPr>
            <p:grpSpPr>
              <a:xfrm>
                <a:off x="7941960" y="1100160"/>
                <a:ext cx="1404000" cy="816480"/>
                <a:chOff x="7941960" y="1100160"/>
                <a:chExt cx="1404000" cy="816480"/>
              </a:xfrm>
            </p:grpSpPr>
            <p:sp>
              <p:nvSpPr>
                <p:cNvPr id="2197" name=""/>
                <p:cNvSpPr/>
                <p:nvPr/>
              </p:nvSpPr>
              <p:spPr>
                <a:xfrm>
                  <a:off x="7941960" y="1100160"/>
                  <a:ext cx="1387440" cy="8006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958520" y="1116000"/>
                  <a:ext cx="1354320" cy="76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7941960" y="1900800"/>
                  <a:ext cx="14040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0" name=""/>
              <p:cNvSpPr/>
              <p:nvPr/>
            </p:nvSpPr>
            <p:spPr>
              <a:xfrm>
                <a:off x="7905600" y="1989000"/>
                <a:ext cx="1476360" cy="356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1" name=""/>
            <p:cNvGrpSpPr/>
            <p:nvPr/>
          </p:nvGrpSpPr>
          <p:grpSpPr>
            <a:xfrm>
              <a:off x="7986240" y="2135880"/>
              <a:ext cx="1503000" cy="187560"/>
              <a:chOff x="7986240" y="2135880"/>
              <a:chExt cx="1503000" cy="187560"/>
            </a:xfrm>
          </p:grpSpPr>
          <p:grpSp>
            <p:nvGrpSpPr>
              <p:cNvPr id="2202" name=""/>
              <p:cNvGrpSpPr/>
              <p:nvPr/>
            </p:nvGrpSpPr>
            <p:grpSpPr>
              <a:xfrm>
                <a:off x="9307440" y="2135880"/>
                <a:ext cx="181800" cy="135360"/>
                <a:chOff x="9307440" y="2135880"/>
                <a:chExt cx="181800" cy="13536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9309600" y="2139120"/>
                  <a:ext cx="177120" cy="13212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c4c4c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9307440" y="2135880"/>
                  <a:ext cx="181800" cy="12996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50000">
                      <a:srgbClr val="707070"/>
                    </a:gs>
                    <a:gs pos="100000">
                      <a:srgbClr val="3333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9321120" y="2135880"/>
                  <a:ext cx="154080" cy="97200"/>
                </a:xfrm>
                <a:custGeom>
                  <a:avLst/>
                  <a:gdLst/>
                  <a:ahLst/>
                  <a:rect l="l" t="t" r="r" b="b"/>
                  <a:pathLst>
                    <a:path w="998" h="423">
                      <a:moveTo>
                        <a:pt x="227" y="408"/>
                      </a:moveTo>
                      <a:cubicBezTo>
                        <a:pt x="355" y="423"/>
                        <a:pt x="643" y="423"/>
                        <a:pt x="771" y="408"/>
                      </a:cubicBezTo>
                      <a:cubicBezTo>
                        <a:pt x="899" y="393"/>
                        <a:pt x="998" y="378"/>
                        <a:pt x="998" y="318"/>
                      </a:cubicBezTo>
                      <a:cubicBezTo>
                        <a:pt x="998" y="258"/>
                        <a:pt x="899" y="90"/>
                        <a:pt x="771" y="45"/>
                      </a:cubicBezTo>
                      <a:cubicBezTo>
                        <a:pt x="643" y="0"/>
                        <a:pt x="355" y="0"/>
                        <a:pt x="227" y="45"/>
                      </a:cubicBezTo>
                      <a:cubicBezTo>
                        <a:pt x="99" y="90"/>
                        <a:pt x="0" y="258"/>
                        <a:pt x="0" y="318"/>
                      </a:cubicBezTo>
                      <a:cubicBezTo>
                        <a:pt x="0" y="378"/>
                        <a:pt x="99" y="393"/>
                        <a:pt x="227" y="40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c4c4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rot="5400000">
                  <a:off x="9388440" y="2094840"/>
                  <a:ext cx="19080" cy="12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1497" y="250"/>
                        <a:pt x="1393" y="5080"/>
                        <a:pt x="1393" y="10800"/>
                      </a:cubicBezTo>
                      <a:cubicBezTo>
                        <a:pt x="1393" y="16520"/>
                        <a:pt x="11497" y="2135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9388080" y="2137680"/>
                  <a:ext cx="20520" cy="31320"/>
                </a:xfrm>
                <a:custGeom>
                  <a:avLst/>
                  <a:gdLst>
                    <a:gd name="textAreaLeft" fmla="*/ 2520 w 20520"/>
                    <a:gd name="textAreaRight" fmla="*/ 18000 w 20520"/>
                    <a:gd name="textAreaTop" fmla="*/ 2520 h 31320"/>
                    <a:gd name="textAreaBottom" fmla="*/ 28800 h 31320"/>
                  </a:gdLst>
                  <a:ahLst/>
                  <a:rect l="textAreaLeft" t="textAreaTop" r="textAreaRight" b="textAreaBottom"/>
                  <a:pathLst>
                    <a:path w="21600" h="32772">
                      <a:moveTo>
                        <a:pt x="9672" y="0"/>
                      </a:moveTo>
                      <a:arcTo wR="9672" hR="9672" stAng="16200000" swAng="-5400000"/>
                      <a:lnTo>
                        <a:pt x="0" y="23100"/>
                      </a:lnTo>
                      <a:arcTo wR="9672" hR="9672" stAng="10800000" swAng="-5400000"/>
                      <a:lnTo>
                        <a:pt x="11928" y="32772"/>
                      </a:lnTo>
                      <a:arcTo wR="9672" hR="9672" stAng="5400000" swAng="-5400000"/>
                      <a:lnTo>
                        <a:pt x="21600" y="9672"/>
                      </a:lnTo>
                      <a:arcTo wR="9672" hR="967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c3c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9391320" y="2135880"/>
                  <a:ext cx="13680" cy="27360"/>
                </a:xfrm>
                <a:custGeom>
                  <a:avLst/>
                  <a:gdLst>
                    <a:gd name="textAreaLeft" fmla="*/ 1800 w 13680"/>
                    <a:gd name="textAreaRight" fmla="*/ 11880 w 13680"/>
                    <a:gd name="textAreaTop" fmla="*/ 1800 h 27360"/>
                    <a:gd name="textAreaBottom" fmla="*/ 25560 h 27360"/>
                  </a:gdLst>
                  <a:ahLst/>
                  <a:rect l="textAreaLeft" t="textAreaTop" r="textAreaRight" b="textAreaBottom"/>
                  <a:pathLst>
                    <a:path w="21600" h="42646">
                      <a:moveTo>
                        <a:pt x="10800" y="0"/>
                      </a:moveTo>
                      <a:arcTo wR="10800" hR="10800" stAng="16200000" swAng="-5400000"/>
                      <a:lnTo>
                        <a:pt x="0" y="31846"/>
                      </a:lnTo>
                      <a:arcTo wR="10800" hR="10800" stAng="10800000" swAng="-5400000"/>
                      <a:lnTo>
                        <a:pt x="10800" y="4264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"/>
              <p:cNvGrpSpPr/>
              <p:nvPr/>
            </p:nvGrpSpPr>
            <p:grpSpPr>
              <a:xfrm>
                <a:off x="7986240" y="2135880"/>
                <a:ext cx="1260720" cy="187560"/>
                <a:chOff x="7986240" y="2135880"/>
                <a:chExt cx="1260720" cy="18756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7986240" y="2243160"/>
                  <a:ext cx="1239840" cy="80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986240" y="2256120"/>
                  <a:ext cx="12607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flipV="1">
                  <a:off x="7986240" y="2135880"/>
                  <a:ext cx="1260720" cy="140400"/>
                </a:xfrm>
                <a:custGeom>
                  <a:avLst/>
                  <a:gdLst>
                    <a:gd name="textAreaLeft" fmla="*/ 126000 w 1260720"/>
                    <a:gd name="textAreaRight" fmla="*/ 1134720 w 1260720"/>
                    <a:gd name="textAreaTop" fmla="*/ 14040 h 140400"/>
                    <a:gd name="textAreaBottom" fmla="*/ 126360 h 140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855" y="21600"/>
                      </a:lnTo>
                      <a:lnTo>
                        <a:pt x="745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3" name=""/>
                <p:cNvGrpSpPr/>
                <p:nvPr/>
              </p:nvGrpSpPr>
              <p:grpSpPr>
                <a:xfrm>
                  <a:off x="8026920" y="2135880"/>
                  <a:ext cx="1179000" cy="99720"/>
                  <a:chOff x="8026920" y="2135880"/>
                  <a:chExt cx="1179000" cy="99720"/>
                </a:xfrm>
              </p:grpSpPr>
              <p:sp>
                <p:nvSpPr>
                  <p:cNvPr id="2214" name=""/>
                  <p:cNvSpPr/>
                  <p:nvPr/>
                </p:nvSpPr>
                <p:spPr>
                  <a:xfrm flipV="1">
                    <a:off x="802728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V="1">
                    <a:off x="808236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 flipV="1">
                    <a:off x="81374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 flipV="1">
                    <a:off x="819288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 flipV="1">
                    <a:off x="826632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 flipV="1">
                    <a:off x="832140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 flipV="1">
                    <a:off x="83768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 flipV="1">
                    <a:off x="843192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 flipV="1">
                    <a:off x="85064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 flipV="1">
                    <a:off x="856152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 flipV="1">
                    <a:off x="861660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 flipV="1">
                    <a:off x="86720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 flipV="1">
                    <a:off x="874548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 flipV="1">
                    <a:off x="880056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 flipV="1">
                    <a:off x="885600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 flipV="1">
                    <a:off x="891108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 flipV="1">
                    <a:off x="89852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 flipV="1">
                    <a:off x="904032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 flipV="1">
                    <a:off x="909540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 flipV="1">
                    <a:off x="9150840" y="213588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 flipV="1">
                    <a:off x="89852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 flipV="1">
                    <a:off x="904032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 flipV="1">
                    <a:off x="909540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 flipV="1">
                    <a:off x="91508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 flipV="1">
                    <a:off x="898416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 flipV="1">
                    <a:off x="903960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 flipV="1">
                    <a:off x="909468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 flipV="1">
                    <a:off x="914976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 flipV="1">
                    <a:off x="898452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 flipV="1">
                    <a:off x="903996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 flipV="1">
                    <a:off x="909504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 flipV="1">
                    <a:off x="915012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 flipV="1">
                    <a:off x="880056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 flipV="1">
                    <a:off x="885600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 flipV="1">
                    <a:off x="891108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 flipV="1">
                    <a:off x="879984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 flipV="1">
                    <a:off x="885528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 flipV="1">
                    <a:off x="891036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 flipV="1">
                    <a:off x="880020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 flipV="1">
                    <a:off x="885564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 flipV="1">
                    <a:off x="891072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 flipV="1">
                    <a:off x="80276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 flipV="1">
                    <a:off x="808272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 flipV="1">
                    <a:off x="813816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 flipV="1">
                    <a:off x="81932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 flipV="1">
                    <a:off x="802692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 flipV="1">
                    <a:off x="808200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 flipV="1">
                    <a:off x="813708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 flipV="1">
                    <a:off x="819252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 flipV="1">
                    <a:off x="802728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 flipV="1">
                    <a:off x="808236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 flipV="1">
                    <a:off x="813744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 flipV="1">
                    <a:off x="819288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 flipV="1">
                    <a:off x="824796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 flipV="1">
                    <a:off x="830340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 flipV="1">
                    <a:off x="835848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 flipV="1">
                    <a:off x="841356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 flipV="1">
                    <a:off x="824724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 flipV="1">
                    <a:off x="830232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 flipV="1">
                    <a:off x="835776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 flipV="1">
                    <a:off x="841284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 flipV="1">
                    <a:off x="824760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 flipV="1">
                    <a:off x="8307720" y="2198880"/>
                    <a:ext cx="160560" cy="36360"/>
                  </a:xfrm>
                  <a:custGeom>
                    <a:avLst/>
                    <a:gdLst>
                      <a:gd name="textAreaLeft" fmla="*/ 13680 w 160560"/>
                      <a:gd name="textAreaRight" fmla="*/ 146880 w 160560"/>
                      <a:gd name="textAreaTop" fmla="*/ 2880 h 36360"/>
                      <a:gd name="textAreaBottom" fmla="*/ 3348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382" y="21600"/>
                        </a:lnTo>
                        <a:lnTo>
                          <a:pt x="218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 flipV="1">
                    <a:off x="846972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 flipV="1">
                    <a:off x="852480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 flipV="1">
                    <a:off x="858024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 flipV="1">
                    <a:off x="863532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 flipV="1">
                    <a:off x="846900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 flipV="1">
                    <a:off x="852408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V="1">
                    <a:off x="857952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flipV="1">
                    <a:off x="863460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 flipV="1">
                    <a:off x="846936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 flipV="1">
                    <a:off x="852444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 flipV="1">
                    <a:off x="857988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 flipV="1">
                    <a:off x="863496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 flipV="1">
                    <a:off x="8691120" y="2172600"/>
                    <a:ext cx="55080" cy="180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2520 h 18000"/>
                      <a:gd name="textAreaBottom" fmla="*/ 15480 h 18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 flipV="1">
                    <a:off x="8690400" y="2179080"/>
                    <a:ext cx="55080" cy="2520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3240 h 25200"/>
                      <a:gd name="textAreaBottom" fmla="*/ 21960 h 2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 flipV="1">
                    <a:off x="8690760" y="2198880"/>
                    <a:ext cx="55080" cy="36360"/>
                  </a:xfrm>
                  <a:custGeom>
                    <a:avLst/>
                    <a:gdLst>
                      <a:gd name="textAreaLeft" fmla="*/ 7560 w 55080"/>
                      <a:gd name="textAreaRight" fmla="*/ 47520 w 55080"/>
                      <a:gd name="textAreaTop" fmla="*/ 5040 h 36360"/>
                      <a:gd name="textAreaBottom" fmla="*/ 31320 h 3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364" y="21600"/>
                        </a:lnTo>
                        <a:lnTo>
                          <a:pt x="223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4c4c4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92" name=""/>
                <p:cNvSpPr/>
                <p:nvPr/>
              </p:nvSpPr>
              <p:spPr>
                <a:xfrm rot="16200000">
                  <a:off x="8606160" y="1676160"/>
                  <a:ext cx="26280" cy="1212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680" y="1033"/>
                        <a:pt x="5760" y="5080"/>
                        <a:pt x="5760" y="10800"/>
                      </a:cubicBezTo>
                      <a:cubicBezTo>
                        <a:pt x="5760" y="16520"/>
                        <a:pt x="13680" y="2056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/>
  <dcterms:modified xsi:type="dcterms:W3CDTF">2011-02-17T08:13:36Z</dcterms:modified>
  <cp:revision>16</cp:revision>
  <dc:subject>PPT046_デスクトップPC</dc:subject>
  <dc:title>PPT046_デスクトップPC</dc:title>
</cp:coreProperties>
</file>